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F557-8328-461F-90E4-D29CE5BD5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16ED-0190-4850-9BBA-B7F8E5B79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5CA1-0A76-4D8B-A589-CB0152D26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247-136C-4A8A-A7BC-02B1B6B9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5DC-34EB-426E-A2EB-AB1668B2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C70-BB29-40C6-9628-6C92A56F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EEB-771D-42B2-96E7-0B0F3A94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98E-02C5-47A7-8893-4F26A579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ACE-0CA5-4F4D-8394-123FA7A5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8DB-D999-475C-8B91-ECD63EBC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476-C18B-4DEB-82F3-402F094D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7CE-6C38-49D1-8748-AC41A106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DBF-B0E2-472F-9A11-485B826C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CF2-BF36-4BD5-AE88-B7038D01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F44-4EDA-4F3E-9975-167B39C4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657E-9CFE-473A-BA1F-32F399AF2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4" descr="sahara-camel-caravan_365_600x450.jpe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en-US" sz="2000" spc="-1" strike="noStrike" baseline="30000">
                <a:solidFill>
                  <a:srgbClr val="1f497d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Islamic Conference of Environment Minis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ctober 5-6, 2010, Tu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-22860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sert Ecosystems and Livelihoods Program - Harnessing the Value of Dese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7443720" y="6016680"/>
            <a:ext cx="639720" cy="125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99072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Introducing the MENA-DEL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2949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Goal: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capture and harness the value of desert ecosystems in providing goods and services for sustainable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Specific 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assess the value of deserts and identify value hotspo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highlight deserts as a major global natural herit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enhance desert production systems and liveliho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conserve desert bio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generate new opportunities such as renewable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br-img-3.jpg"/>
          <p:cNvPicPr/>
          <p:nvPr/>
        </p:nvPicPr>
        <p:blipFill>
          <a:blip r:embed="rId1"/>
          <a:stretch/>
        </p:blipFill>
        <p:spPr>
          <a:xfrm>
            <a:off x="5029200" y="13860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3" descr="arabian_oryx.jpeg"/>
          <p:cNvPicPr/>
          <p:nvPr/>
        </p:nvPicPr>
        <p:blipFill>
          <a:blip r:embed="rId2"/>
          <a:stretch/>
        </p:blipFill>
        <p:spPr>
          <a:xfrm>
            <a:off x="5029200" y="3962520"/>
            <a:ext cx="3733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Ecosystem Services of the Sahara and Arabian Dese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8288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Brief snapsh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ource of at least 50% of the mineral fertilization of the Amazon rainfor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gricultural heritage systems built over centuries around agro-biodiversity critical for food security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novative water management systems under scarcity and new threats from climat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Home to large fossil aquif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pportunities for desert ecotou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own Arrow 8"/>
          <p:cNvSpPr/>
          <p:nvPr/>
        </p:nvSpPr>
        <p:spPr>
          <a:xfrm rot="16200000">
            <a:off x="4800600" y="55627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omegranates.tif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1"/>
          <p:cNvSpPr/>
          <p:nvPr/>
        </p:nvSpPr>
        <p:spPr>
          <a:xfrm>
            <a:off x="5257800" y="502920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MENA Desert Ecosystems Livelihoods Program (MENA-D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  Four-Pronged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Diagram 7" descr=""/>
          <p:cNvPicPr/>
          <p:nvPr/>
        </p:nvPicPr>
        <p:blipFill>
          <a:blip r:embed="rId1"/>
          <a:stretch/>
        </p:blipFill>
        <p:spPr>
          <a:xfrm>
            <a:off x="669960" y="933480"/>
            <a:ext cx="7883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Valuing Desert Ecosystem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1640" y="1676160"/>
            <a:ext cx="4419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socotra_island3.jpeg"/>
          <p:cNvPicPr/>
          <p:nvPr/>
        </p:nvPicPr>
        <p:blipFill>
          <a:blip r:embed="rId1"/>
          <a:stretch/>
        </p:blipFill>
        <p:spPr>
          <a:xfrm>
            <a:off x="380880" y="1295280"/>
            <a:ext cx="3657600" cy="510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"/>
          <p:cNvSpPr txBox="1"/>
          <p:nvPr/>
        </p:nvSpPr>
        <p:spPr>
          <a:xfrm>
            <a:off x="4267080" y="12189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Opportunity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dentify and measure value hotspots for the Sahara and Arabian Dese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cotour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asis agricul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ind and solar po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Genetic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raditional land u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ater management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Graz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edicinal and aromatic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Dust storm pre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gricultural heritage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ny other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 Partnership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990360"/>
            <a:ext cx="81532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lient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Leadership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atalytic Funding (US$ 25 mill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World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xpanding partnerships, other grant financing, lending and technical assistance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Other financing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Regional Centers of Excell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cluding the World Desert Institute and the Prince Sultan Research Center for Environment, Water and Dese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Other partners - NGOs, private sector and other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871720" y="5407200"/>
            <a:ext cx="1096920" cy="21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800600" y="54100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23:18:45Z</dcterms:created>
  <dc:creator>wb84983</dc:creator>
  <dc:description/>
  <dc:language>en-US</dc:language>
  <cp:lastModifiedBy>Patrizia Cocca</cp:lastModifiedBy>
  <dcterms:modified xsi:type="dcterms:W3CDTF">2010-10-25T15:25:14Z</dcterms:modified>
  <cp:revision>146</cp:revision>
  <dc:subject/>
  <dc:title>Slide 1</dc:title>
</cp:coreProperties>
</file>