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004D-51E7-4B6A-8489-665F14BA2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3535-A718-4A79-BB61-F9A09083A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00D3-C0B6-43A5-9AD3-80782AE30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326-03F8-46B6-B653-8F3A19ED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D902-1C8F-4544-8BD7-C0D136EF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FE3-6394-478F-AABE-CAA22A81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AA6-ED59-4A39-97FE-60288DD0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737A-2942-4999-A965-F10A3B84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C5A-767E-4EC0-8A17-E5436505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287F-B1B7-4A2C-AE0D-D57FA369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5B8-0C8B-44C2-9BF6-1BF96D65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733-E91F-4427-95D0-9C7A610A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41C-4311-4104-903D-A8660E91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BD3-E1DB-47B7-B023-76A793F0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54B-0D5D-43DD-9C92-DFCC5176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384F-E216-4B2F-BD3A-E2F2D8A31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ntent Placeholder 4" descr="sahara-camel-caravan_365_600x450.jpe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5715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en-US" sz="2000" spc="-1" strike="noStrike" baseline="30000">
                <a:solidFill>
                  <a:srgbClr val="1f497d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 Islamic Conference of Environment Minis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ctober 5-6, 2010, Tu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457200" y="-22860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Desert Ecosystems and Livelihoods Program - Harnessing the Value of Dese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7443720" y="6016680"/>
            <a:ext cx="639720" cy="125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99072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Introducing the MENA-DEL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2949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Goal: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capture and harness the value of desert ecosystems in providing goods and services for sustainable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11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Specific 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assess the value of deserts and identify value hotspo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highlight deserts as a major global natural herit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enhance desert production systems and liveliho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conserve desert bio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o generate new opportunities such as renewable energ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br-img-3.jpg"/>
          <p:cNvPicPr/>
          <p:nvPr/>
        </p:nvPicPr>
        <p:blipFill>
          <a:blip r:embed="rId1"/>
          <a:stretch/>
        </p:blipFill>
        <p:spPr>
          <a:xfrm>
            <a:off x="5029200" y="1386000"/>
            <a:ext cx="3733920" cy="250020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3" descr="arabian_oryx.jpeg"/>
          <p:cNvPicPr/>
          <p:nvPr/>
        </p:nvPicPr>
        <p:blipFill>
          <a:blip r:embed="rId2"/>
          <a:stretch/>
        </p:blipFill>
        <p:spPr>
          <a:xfrm>
            <a:off x="5029200" y="3962520"/>
            <a:ext cx="3733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Ecosystem Services of the Sahara and Arabian Dese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8288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Brief snapsh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ource of at least 50% of the mineral fertilization of the Amazon rainfor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gricultural heritage systems built over centuries around agro-biodiversity critical for food security to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novative water management systems under scarcity and new threats from climat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Home to large fossil aquif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Opportunities for desert ecotou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own Arrow 8"/>
          <p:cNvSpPr/>
          <p:nvPr/>
        </p:nvSpPr>
        <p:spPr>
          <a:xfrm rot="16200000">
            <a:off x="4800600" y="556272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pomegranates.tif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2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11"/>
          <p:cNvSpPr/>
          <p:nvPr/>
        </p:nvSpPr>
        <p:spPr>
          <a:xfrm>
            <a:off x="5257800" y="502920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Calibri"/>
              </a:rPr>
              <a:t>MENA Desert Ecosystems Livelihoods Program (MENA-D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  Four-Pronged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Diagram 7" descr=""/>
          <p:cNvPicPr/>
          <p:nvPr/>
        </p:nvPicPr>
        <p:blipFill>
          <a:blip r:embed="rId1"/>
          <a:stretch/>
        </p:blipFill>
        <p:spPr>
          <a:xfrm>
            <a:off x="669960" y="933480"/>
            <a:ext cx="7883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Valuing Desert Ecosystem Servi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1640" y="1676160"/>
            <a:ext cx="44197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socotra_island3.jpeg"/>
          <p:cNvPicPr/>
          <p:nvPr/>
        </p:nvPicPr>
        <p:blipFill>
          <a:blip r:embed="rId1"/>
          <a:stretch/>
        </p:blipFill>
        <p:spPr>
          <a:xfrm>
            <a:off x="380880" y="1295280"/>
            <a:ext cx="3657600" cy="510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7" name=""/>
          <p:cNvSpPr txBox="1"/>
          <p:nvPr/>
        </p:nvSpPr>
        <p:spPr>
          <a:xfrm>
            <a:off x="4267080" y="12189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Opportunity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dentify and measure value hotspots for the Sahara and Arabian Deser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cotouri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Oasis agricul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ind and solar pow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Genetic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raditional land u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Water management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Graz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edicinal and aromatic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Dust storm pre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gricultural heritage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ny other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 Partnership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520" y="990360"/>
            <a:ext cx="815328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Client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Leadership R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G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atalytic Funding (US$ 25 mill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World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xpanding partnerships, other grant financing, lending and technical assistance pro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Other financing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Regional Centers of Excell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cluding the World Desert Institute and the Prince Sultan Research Center for Environment, Water and Dese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Other partners - NGOs, private sector and other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2871720" y="5407200"/>
            <a:ext cx="1096920" cy="210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4800600" y="54100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23:18:45Z</dcterms:created>
  <dc:creator>wb84983</dc:creator>
  <dc:description/>
  <dc:language>en-US</dc:language>
  <cp:lastModifiedBy>Patrizia Cocca</cp:lastModifiedBy>
  <dcterms:modified xsi:type="dcterms:W3CDTF">2010-10-25T15:25:14Z</dcterms:modified>
  <cp:revision>146</cp:revision>
  <dc:subject/>
  <dc:title>Slide 1</dc:title>
</cp:coreProperties>
</file>