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BF4F-8C80-4B05-B59D-6E6DD6184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3879-7D6B-4724-8CA5-B0F8EDD8B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4328-1842-445D-948B-C6F0F77BB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8D4-E189-45E9-8126-F82808A1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690-60CA-49B1-87E3-CF1B8E40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545-4802-408D-9136-9C7EE44E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0D7-C83F-401A-B934-D75FAFBE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260-DFF3-464F-A4A7-D310B039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B9E-19B4-4285-AAF1-D1E8E9E0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A9D-78B6-4D01-816C-CCC95178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F05-F64A-4FE2-B6C8-0D3E1F3F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C50-5B76-48C4-B249-67258E48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8FE-ED43-49DC-8AE6-1AA8D901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CC0-58DD-47E2-905C-C9A6F49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BE9-0C3B-4C8D-B0DA-725F8D5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DBB6-0C0F-4790-BCFB-F31BDA09D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4" descr="sahara-camel-caravan_365_600x450.jpe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en-US" sz="2000" spc="-1" strike="noStrike" baseline="30000">
                <a:solidFill>
                  <a:srgbClr val="1f497d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Islamic Conference of Environment Minis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ctober 5-6, 2010, Tu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-22860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sert Ecosystems and Livelihoods Program - Harnessing the Value of Dese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443720" y="6016680"/>
            <a:ext cx="63972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99072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Introducing the MENA-DEL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2949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Goal: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apture and harness the value of desert ecosystems in providing goods and services for sustainable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Specific 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assess the value of deserts and identify value hotspo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highlight deserts as a major global natural heri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enhance desert production systems and liveliho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onserve desert bio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generate new opportunities such as renewable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br-img-3.jpg"/>
          <p:cNvPicPr/>
          <p:nvPr/>
        </p:nvPicPr>
        <p:blipFill>
          <a:blip r:embed="rId1"/>
          <a:stretch/>
        </p:blipFill>
        <p:spPr>
          <a:xfrm>
            <a:off x="5029200" y="13860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3" descr="arabian_oryx.jpeg"/>
          <p:cNvPicPr/>
          <p:nvPr/>
        </p:nvPicPr>
        <p:blipFill>
          <a:blip r:embed="rId2"/>
          <a:stretch/>
        </p:blipFill>
        <p:spPr>
          <a:xfrm>
            <a:off x="5029200" y="39625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Ecosystem Services of the Sahara and Arabian Dese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Brief snapsh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ource of at least 50% of the mineral fertilization of the Amazon rainfor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gricultural heritage systems built over centuries around agro-biodiversity critical for food security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novative water management systems under scarcity and new threats from climat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ome to large fossil aquif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pportunities for desert ecotou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own Arrow 8"/>
          <p:cNvSpPr/>
          <p:nvPr/>
        </p:nvSpPr>
        <p:spPr>
          <a:xfrm rot="16200000">
            <a:off x="4800600" y="55627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omegranates.tif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1"/>
          <p:cNvSpPr/>
          <p:nvPr/>
        </p:nvSpPr>
        <p:spPr>
          <a:xfrm>
            <a:off x="5257800" y="50292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MENA Desert Ecosystems Livelihoods Program (MENA-D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 Four-Pronged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 7" descr=""/>
          <p:cNvPicPr/>
          <p:nvPr/>
        </p:nvPicPr>
        <p:blipFill>
          <a:blip r:embed="rId1"/>
          <a:stretch/>
        </p:blipFill>
        <p:spPr>
          <a:xfrm>
            <a:off x="669960" y="933480"/>
            <a:ext cx="7883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Valuing Desert Ecosystem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1640" y="1676160"/>
            <a:ext cx="4419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socotra_island3.jpeg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510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"/>
          <p:cNvSpPr txBox="1"/>
          <p:nvPr/>
        </p:nvSpPr>
        <p:spPr>
          <a:xfrm>
            <a:off x="4267080" y="12189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Opportunity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dentify and measure value hotspots for the Sahara and Arabian Dese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cotour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asis agricul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ind and solar po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enetic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raditional land u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ater management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raz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edicinal and aromatic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Dust storm pre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gricultural heritage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ny other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Partnership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990360"/>
            <a:ext cx="81532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lient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eadership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atalytic Funding (US$ 25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xpanding partnerships, other grant financing, lending and technical assistance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financing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gional Centers of Excel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cluding the World Desert Institute and the Prince Sultan Research Center for Environment, Water and Dese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partners - NGOs, private sector and other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871720" y="5407200"/>
            <a:ext cx="1096920" cy="21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800600" y="5410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23:18:45Z</dcterms:created>
  <dc:creator>wb84983</dc:creator>
  <dc:description/>
  <dc:language>en-US</dc:language>
  <cp:lastModifiedBy>Patrizia Cocca</cp:lastModifiedBy>
  <dcterms:modified xsi:type="dcterms:W3CDTF">2010-10-25T15:25:14Z</dcterms:modified>
  <cp:revision>146</cp:revision>
  <dc:subject/>
  <dc:title>Slide 1</dc:title>
</cp:coreProperties>
</file>