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15.wmf" ContentType="image/x-wmf"/>
  <Override PartName="/ppt/media/image6.png" ContentType="image/png"/>
  <Override PartName="/ppt/media/image24.jpeg" ContentType="image/jpeg"/>
  <Override PartName="/ppt/media/image22.png" ContentType="image/png"/>
  <Override PartName="/ppt/media/image23.jpeg" ContentType="image/jpeg"/>
  <Override PartName="/ppt/media/image21.wmf" ContentType="image/x-wmf"/>
  <Override PartName="/ppt/media/image19.wmf" ContentType="image/x-wmf"/>
  <Override PartName="/ppt/media/image14.png" ContentType="image/png"/>
  <Override PartName="/ppt/media/image1.png" ContentType="image/png"/>
  <Override PartName="/ppt/media/image3.wmf" ContentType="image/x-wmf"/>
  <Override PartName="/ppt/media/image5.jpeg" ContentType="image/jpeg"/>
  <Override PartName="/ppt/media/image18.wmf" ContentType="image/x-wmf"/>
  <Override PartName="/ppt/media/image20.wmf" ContentType="image/x-wmf"/>
  <Override PartName="/ppt/media/image2.png" ContentType="image/png"/>
  <Override PartName="/ppt/media/image25.jpeg" ContentType="image/jpe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645516-3771-4FE2-9C61-94929AE974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5680" y="719280"/>
            <a:ext cx="4803840" cy="3601800"/>
          </a:xfrm>
          <a:prstGeom prst="rect">
            <a:avLst/>
          </a:prstGeom>
          <a:ln w="0">
            <a:noFill/>
          </a:ln>
        </p:spPr>
      </p:sp>
      <p:sp>
        <p:nvSpPr>
          <p:cNvPr id="76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F98B7608-A319-4578-BD5C-5CF1F38141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5680" y="719280"/>
            <a:ext cx="4803840" cy="3601800"/>
          </a:xfrm>
          <a:prstGeom prst="rect">
            <a:avLst/>
          </a:prstGeom>
          <a:ln w="0">
            <a:noFill/>
          </a:ln>
        </p:spPr>
      </p:sp>
      <p:sp>
        <p:nvSpPr>
          <p:cNvPr id="77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883F2E7-3FF6-4CBA-AF0D-D0FC1C5E94B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9"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55680" y="719280"/>
            <a:ext cx="4803840" cy="3601800"/>
          </a:xfrm>
          <a:prstGeom prst="rect">
            <a:avLst/>
          </a:prstGeom>
          <a:ln w="0">
            <a:noFill/>
          </a:ln>
        </p:spPr>
      </p:sp>
      <p:sp>
        <p:nvSpPr>
          <p:cNvPr id="78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4C449CF-BB0F-4466-A77E-2592A24A4F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3"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55680" y="719280"/>
            <a:ext cx="4803840" cy="3601800"/>
          </a:xfrm>
          <a:prstGeom prst="rect">
            <a:avLst/>
          </a:prstGeom>
          <a:ln w="0">
            <a:noFill/>
          </a:ln>
        </p:spPr>
      </p:sp>
      <p:sp>
        <p:nvSpPr>
          <p:cNvPr id="78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8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EE4E56FF-C7DD-498D-ABEC-2B2FA368E3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5680" y="719280"/>
            <a:ext cx="4803840" cy="3601800"/>
          </a:xfrm>
          <a:prstGeom prst="rect">
            <a:avLst/>
          </a:prstGeom>
          <a:ln w="0">
            <a:noFill/>
          </a:ln>
        </p:spPr>
      </p:sp>
      <p:sp>
        <p:nvSpPr>
          <p:cNvPr id="78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E974-4B2B-4BE4-B37F-43F128770A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237EB61-FD91-414E-AA39-0AA455238D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1255680" y="719280"/>
            <a:ext cx="4803840" cy="3601800"/>
          </a:xfrm>
          <a:prstGeom prst="rect">
            <a:avLst/>
          </a:prstGeom>
          <a:ln w="0">
            <a:noFill/>
          </a:ln>
        </p:spPr>
      </p:sp>
      <p:sp>
        <p:nvSpPr>
          <p:cNvPr id="79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B2E7D425-3A41-447D-91EE-AF9CEDE8F4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9" name="PlaceHolder 1"/>
          <p:cNvSpPr>
            <a:spLocks noGrp="1"/>
          </p:cNvSpPr>
          <p:nvPr>
            <p:ph type="sldImg"/>
          </p:nvPr>
        </p:nvSpPr>
        <p:spPr>
          <a:xfrm>
            <a:off x="1255680" y="719280"/>
            <a:ext cx="4803840" cy="3601800"/>
          </a:xfrm>
          <a:prstGeom prst="rect">
            <a:avLst/>
          </a:prstGeom>
          <a:ln w="0">
            <a:noFill/>
          </a:ln>
        </p:spPr>
      </p:sp>
      <p:sp>
        <p:nvSpPr>
          <p:cNvPr id="770"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76AA0AB-3CC4-4B9A-BD81-B74170F552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3" name="PlaceHolder 1"/>
          <p:cNvSpPr>
            <a:spLocks noGrp="1"/>
          </p:cNvSpPr>
          <p:nvPr>
            <p:ph type="sldImg"/>
          </p:nvPr>
        </p:nvSpPr>
        <p:spPr>
          <a:xfrm>
            <a:off x="1255680" y="719280"/>
            <a:ext cx="4803840" cy="3601800"/>
          </a:xfrm>
          <a:prstGeom prst="rect">
            <a:avLst/>
          </a:prstGeom>
          <a:ln w="0">
            <a:noFill/>
          </a:ln>
        </p:spPr>
      </p:sp>
      <p:sp>
        <p:nvSpPr>
          <p:cNvPr id="774"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862F3-8247-43AF-9A74-E8C99C43F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79C8B-16A9-47B4-BE3B-F0E48F314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74E13-94E2-40D9-9C2F-FA8B6394B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30D2-FB4B-47A9-A9BB-F12CAFB0B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329E76-B406-499B-AE4F-58FCE15184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D34F4-C16A-492B-A779-20568B4B4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3D742-02B7-461D-B17A-1C7809E11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5640E-FDED-4706-97B5-E1DF610F9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929D7-FB24-4141-A3A8-6D9E35C06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859DC4-D003-4FC4-81F6-96E03ADCF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2A413-327E-47F0-98C5-507077393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B0D44-B1E3-4F36-A48B-B88A7F092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5A01E-742F-421C-8C88-A9EBAA5B9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43B96-CB58-4117-9D79-D95B3B1AE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926DF-85BC-4DA0-8781-0DBCD4FCC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14DA88-7D7E-46AA-992D-3771E58607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B2958-1B34-4295-BC98-42A3BB1BF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8DC4D8-DAC2-43EC-9F41-88DE1F5E0C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6C7795-E750-496C-B47C-87C3E9E0E3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2EABF-5463-4D2D-9562-ABE21B5281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6B145-5156-43B3-8B1F-B2177F2CA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A82D90-AF68-4431-8EE0-AFE0D4930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DEC78-BCF0-41CD-82EE-182CA2FCBB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12773B-9BC2-4556-AC7F-0FC88F0D6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C9620-22A4-4E40-8078-10BA4426F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B1603-434D-47C2-B1C5-359331EDC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C6DDD-46A8-417C-8596-AEE68205C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22AF4-D21B-4E5A-91D6-774467C30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106590-33C6-4356-A365-30046798B9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8C254A-9578-4B88-877E-D873BB87E8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CC5603-7826-41F2-8E98-1B898FB4AC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77022A-BB36-4665-9786-72F837C476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08A660-7D93-471B-91F7-E7CD4C29CD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93E11-2440-4DD0-934C-BF8C6BDCE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2B0A5-48BE-4F97-9168-C1186E80D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BAD3F3-EC52-4F6E-915B-30C754D996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2BAADC-197E-41C8-AE33-8E194F2DA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7C770-4220-45AA-94C6-174DD1B31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6C8C0-68E5-492D-945E-2ED2DC74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CE68B-B905-452A-B4D4-0EB06C7C4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2CD3A-6197-4032-82EF-EE93E998D0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3E0EF-A5D3-48CE-AB4C-4962D2214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741925-CFEE-44EB-92B4-B5B9118114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D2AA9A-C51F-4B29-844B-5F9AECB02A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30DC-0C98-40F4-A839-48DAD1A50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902A1-68DE-4B73-978D-2B665A2D0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0C044-C169-411C-B5A7-0142D9609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0D3D7-17D8-465F-BE92-12FFE42FD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AB214-2F17-4F25-BECF-FE0801E49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C0203-F724-4AE8-B70A-567E01ECF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597BB-5082-473E-93B1-4BE185733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43B0A-A99C-497B-8237-6D4794F0E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C142A-2748-41D1-B647-37040F344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55305-2FF1-41E9-AF3E-CA4FCFA67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99E0C-5780-48F0-90E5-5CFE539BC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586F1-FBF3-4076-83C5-334834FA1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07A4B-0E41-44DD-902F-551A92031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EF148-BF48-4B71-A8DD-EAD0FD644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D1DA9-B5D2-4289-BE48-A1F661D9C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46CC2-18A3-4321-BCD2-19ECBB340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E038-6F41-4A65-9F17-936C5296F0F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3F9E-3E71-471E-9990-1C9755CEF3C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5804-E6E1-4F46-BF7A-2914CA7764F8}"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8967-1270-4797-9583-81DA3C2BE767}"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823A-D845-4194-9AE3-91F759DB5844}"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E291-DE06-4687-BFA0-BD88ECF7E16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076D-08F0-4C99-BAED-744B861926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is the Science and Technology Advisory Panel (STAP)?</a:t>
            </a:r>
            <a:endParaRPr b="1" lang="en-US" sz="3600" spc="-1" strike="noStrike">
              <a:solidFill>
                <a:srgbClr val="ffff00"/>
              </a:solidFill>
              <a:latin typeface="Arial"/>
            </a:endParaRPr>
          </a:p>
        </p:txBody>
      </p:sp>
      <p:sp>
        <p:nvSpPr>
          <p:cNvPr id="743" name=""/>
          <p:cNvSpPr txBox="1"/>
          <p:nvPr/>
        </p:nvSpPr>
        <p:spPr>
          <a:xfrm>
            <a:off x="533520" y="1447560"/>
            <a:ext cx="8229600" cy="4267080"/>
          </a:xfrm>
          <a:prstGeom prst="rect">
            <a:avLst/>
          </a:prstGeom>
          <a:noFill/>
          <a:ln w="0">
            <a:noFill/>
          </a:ln>
        </p:spPr>
        <p:txBody>
          <a:bodyPr anchor="t">
            <a:normAutofit fontScale="99000"/>
          </a:bodyPr>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GEF Science and Technology Advisory Panel, </a:t>
            </a:r>
            <a:r>
              <a:rPr b="0" lang="en-US" sz="2200" spc="-1" strike="noStrike">
                <a:solidFill>
                  <a:srgbClr val="000000"/>
                </a:solidFill>
                <a:latin typeface="Calibri"/>
                <a:ea typeface="Times New Roman"/>
              </a:rPr>
              <a:t>provides independent strategic advice on projects, programs and policies.</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guarantees quality scientific and technical projects and programs financed by the GEF.</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provides advice on the "cutting thematic areas" such as adaptation to climate change, sustainable forest management and chemical management.</a:t>
            </a:r>
            <a:endParaRPr b="1" lang="en-US" sz="22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http://www.unep.org/stap/</a:t>
            </a: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4" name="Picture 3" descr=""/>
          <p:cNvPicPr/>
          <p:nvPr/>
        </p:nvPicPr>
        <p:blipFill>
          <a:blip r:embed="rId1"/>
          <a:stretch/>
        </p:blipFill>
        <p:spPr>
          <a:xfrm>
            <a:off x="0" y="5867280"/>
            <a:ext cx="9144000" cy="99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3" descr=""/>
          <p:cNvPicPr/>
          <p:nvPr/>
        </p:nvPicPr>
        <p:blipFill>
          <a:blip r:embed="rId1"/>
          <a:stretch/>
        </p:blipFill>
        <p:spPr>
          <a:xfrm>
            <a:off x="0" y="5867280"/>
            <a:ext cx="9144000" cy="990720"/>
          </a:xfrm>
          <a:prstGeom prst="rect">
            <a:avLst/>
          </a:prstGeom>
          <a:ln w="0">
            <a:noFill/>
          </a:ln>
        </p:spPr>
      </p:pic>
      <p:sp>
        <p:nvSpPr>
          <p:cNvPr id="74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P - Les conseils stratégiques</a:t>
            </a:r>
            <a:endParaRPr b="1" lang="en-US" sz="3600" spc="-1" strike="noStrike">
              <a:solidFill>
                <a:srgbClr val="ffff00"/>
              </a:solidFill>
              <a:latin typeface="Arial"/>
            </a:endParaRPr>
          </a:p>
        </p:txBody>
      </p:sp>
      <p:sp>
        <p:nvSpPr>
          <p:cNvPr id="747" name=""/>
          <p:cNvSpPr txBox="1"/>
          <p:nvPr/>
        </p:nvSpPr>
        <p:spPr>
          <a:xfrm>
            <a:off x="228600" y="1143000"/>
            <a:ext cx="8763120" cy="4495680"/>
          </a:xfrm>
          <a:prstGeom prst="rect">
            <a:avLst/>
          </a:prstGeom>
          <a:noFill/>
          <a:ln w="0">
            <a:noFill/>
          </a:ln>
        </p:spPr>
        <p:txBody>
          <a:bodyPr anchor="t">
            <a:normAutofit/>
          </a:bodyPr>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STAP </a:t>
            </a:r>
            <a:r>
              <a:rPr b="0" lang="en-US" sz="2200" spc="-1" strike="noStrike">
                <a:solidFill>
                  <a:srgbClr val="000000"/>
                </a:solidFill>
                <a:latin typeface="Calibri"/>
              </a:rPr>
              <a:t>provides strategic advice on </a:t>
            </a:r>
            <a:r>
              <a:rPr b="0" lang="en-US" sz="2200" spc="-1" strike="noStrike">
                <a:solidFill>
                  <a:srgbClr val="c00000"/>
                </a:solidFill>
                <a:latin typeface="Calibri"/>
              </a:rPr>
              <a:t>"How to develop and implement projects or programs on a specific topic supported by the GEF“</a:t>
            </a:r>
            <a:endParaRPr b="1" lang="en-US" sz="22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GB" sz="1800" spc="-1" strike="noStrike">
                <a:solidFill>
                  <a:srgbClr val="000000"/>
                </a:solidFill>
                <a:latin typeface="Calibri"/>
              </a:rPr>
              <a:t>(“Payments for Environmental Services and the Global Environment Facility”)</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examines </a:t>
            </a:r>
            <a:r>
              <a:rPr b="0" lang="en-GB" sz="2200" spc="-1" strike="noStrike">
                <a:solidFill>
                  <a:srgbClr val="c00000"/>
                </a:solidFill>
                <a:latin typeface="Calibri"/>
              </a:rPr>
              <a:t>global issues on environment </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Enhancing resilience to reduce  climate change risks”)</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a:t>
            </a:r>
            <a:r>
              <a:rPr b="0" lang="en-US" sz="2200" spc="-1" strike="noStrike">
                <a:solidFill>
                  <a:srgbClr val="000000"/>
                </a:solidFill>
                <a:latin typeface="Calibri"/>
              </a:rPr>
              <a:t>is developing </a:t>
            </a:r>
            <a:r>
              <a:rPr b="0" lang="en-US" sz="2200" spc="-1" strike="noStrike">
                <a:solidFill>
                  <a:srgbClr val="c00000"/>
                </a:solidFill>
                <a:latin typeface="Calibri"/>
              </a:rPr>
              <a:t>methodologies</a:t>
            </a:r>
            <a:r>
              <a:rPr b="0" lang="en-US" sz="2200" spc="-1" strike="noStrike">
                <a:solidFill>
                  <a:srgbClr val="000000"/>
                </a:solidFill>
                <a:latin typeface="Calibri"/>
              </a:rPr>
              <a:t> for the GEF</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Manual for Calculating Greenhouse Gas Benefits for </a:t>
            </a:r>
            <a:endParaRPr b="1"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GEF Transport Projects”)</a:t>
            </a:r>
            <a:endParaRPr b="1"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libri"/>
              </a:rPr>
              <a:t>http://www.unep.org/stap/</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8"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749"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0" y="5791320"/>
            <a:ext cx="9156600" cy="1066680"/>
          </a:xfrm>
          <a:prstGeom prst="rect">
            <a:avLst/>
          </a:prstGeom>
          <a:ln w="0">
            <a:noFill/>
          </a:ln>
        </p:spPr>
      </p:pic>
      <p:sp>
        <p:nvSpPr>
          <p:cNvPr id="75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5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5F63-B63B-4C16-A20D-1600A0C77D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4"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5" name="Picture 2" descr=""/>
          <p:cNvPicPr/>
          <p:nvPr/>
        </p:nvPicPr>
        <p:blipFill>
          <a:blip r:embed="rId1"/>
          <a:stretch/>
        </p:blipFill>
        <p:spPr>
          <a:xfrm>
            <a:off x="0" y="5791320"/>
            <a:ext cx="9156600" cy="1066680"/>
          </a:xfrm>
          <a:prstGeom prst="rect">
            <a:avLst/>
          </a:prstGeom>
          <a:ln w="0">
            <a:noFill/>
          </a:ln>
        </p:spPr>
      </p:pic>
      <p:sp>
        <p:nvSpPr>
          <p:cNvPr id="756"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57"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F490-82DE-4635-8BD4-388F127DCB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1206-6346-4F2D-A0DF-7843CA9D1D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62"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63"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a:t>
            </a:r>
            <a:r>
              <a:rPr b="1" lang="en-US" sz="2200" spc="-1" strike="noStrike" u="sng">
                <a:solidFill>
                  <a:srgbClr val="000000"/>
                </a:solidFill>
                <a:uFillTx/>
                <a:latin typeface="Calibri"/>
              </a:rPr>
              <a:t>the</a:t>
            </a:r>
            <a:r>
              <a:rPr b="1" lang="en-US" sz="2200" spc="-1" strike="noStrike">
                <a:solidFill>
                  <a:srgbClr val="000000"/>
                </a:solidFill>
                <a:latin typeface="Calibri"/>
              </a:rPr>
              <a:t>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t>
            </a:r>
            <a:r>
              <a:rPr b="1" lang="en-US" sz="2200" spc="-1" strike="noStrike" u="sng">
                <a:solidFill>
                  <a:srgbClr val="000000"/>
                </a:solidFill>
                <a:uFillTx/>
                <a:latin typeface="Calibri"/>
              </a:rPr>
              <a:t>a</a:t>
            </a:r>
            <a:r>
              <a:rPr b="1" lang="en-US" sz="2200" spc="-1" strike="noStrike">
                <a:solidFill>
                  <a:srgbClr val="000000"/>
                </a:solidFill>
                <a:latin typeface="Calibri"/>
              </a:rPr>
              <a:t>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01T20:34:36Z</dcterms:modified>
  <cp:revision>147</cp:revision>
  <dc:subject/>
  <dc:title>GEF Orientation Session for New Council and Alternate Members</dc:title>
</cp:coreProperties>
</file>