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23.jpeg" ContentType="image/jpeg"/>
  <Override PartName="/ppt/media/image21.wmf" ContentType="image/x-wmf"/>
  <Override PartName="/ppt/media/image19.wmf" ContentType="image/x-wmf"/>
  <Override PartName="/ppt/media/image14.png" ContentType="image/png"/>
  <Override PartName="/ppt/media/image7.png" ContentType="image/png"/>
  <Override PartName="/ppt/media/image15.wmf" ContentType="image/x-wmf"/>
  <Override PartName="/ppt/media/image22.jpeg" ContentType="image/jpeg"/>
  <Override PartName="/ppt/media/image1.png" ContentType="image/png"/>
  <Override PartName="/ppt/media/image3.wmf" ContentType="image/x-wmf"/>
  <Override PartName="/ppt/media/image2.png" ContentType="image/png"/>
  <Override PartName="/ppt/media/image4.jpeg" ContentType="image/jpeg"/>
  <Override PartName="/ppt/media/image18.wmf" ContentType="image/x-wmf"/>
  <Override PartName="/ppt/media/image20.wmf" ContentType="image/x-wmf"/>
  <Override PartName="/ppt/media/image5.jpeg" ContentType="image/jpeg"/>
  <Override PartName="/ppt/media/image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191F2C-474D-4F44-A050-CABA0D9781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55680" y="719280"/>
            <a:ext cx="4803840" cy="3601800"/>
          </a:xfrm>
          <a:prstGeom prst="rect">
            <a:avLst/>
          </a:prstGeom>
          <a:ln w="0">
            <a:noFill/>
          </a:ln>
        </p:spPr>
      </p:sp>
      <p:sp>
        <p:nvSpPr>
          <p:cNvPr id="75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425019A-1D5A-474B-9895-26EE98F3C4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59"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255680" y="719280"/>
            <a:ext cx="4803840" cy="3601800"/>
          </a:xfrm>
          <a:prstGeom prst="rect">
            <a:avLst/>
          </a:prstGeom>
          <a:ln w="0">
            <a:noFill/>
          </a:ln>
        </p:spPr>
      </p:sp>
      <p:sp>
        <p:nvSpPr>
          <p:cNvPr id="76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70"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C1EC323-A035-4755-B452-3FDF273B43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255680" y="719280"/>
            <a:ext cx="4803840" cy="3601800"/>
          </a:xfrm>
          <a:prstGeom prst="rect">
            <a:avLst/>
          </a:prstGeom>
          <a:ln w="0">
            <a:noFill/>
          </a:ln>
        </p:spPr>
      </p:sp>
      <p:sp>
        <p:nvSpPr>
          <p:cNvPr id="773"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C7C3-C540-4A7F-BD56-8644446807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680A183A-FF95-4E11-9D99-F7E3740EBE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7" name="PlaceHolder 1"/>
          <p:cNvSpPr>
            <a:spLocks noGrp="1"/>
          </p:cNvSpPr>
          <p:nvPr>
            <p:ph type="sldImg"/>
          </p:nvPr>
        </p:nvSpPr>
        <p:spPr>
          <a:xfrm>
            <a:off x="1255680" y="719280"/>
            <a:ext cx="4803840" cy="3601800"/>
          </a:xfrm>
          <a:prstGeom prst="rect">
            <a:avLst/>
          </a:prstGeom>
          <a:ln w="0">
            <a:noFill/>
          </a:ln>
        </p:spPr>
      </p:sp>
      <p:sp>
        <p:nvSpPr>
          <p:cNvPr id="778"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79"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6626710F-402B-4187-AB6C-69CDA02E1F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1" name="PlaceHolder 1"/>
          <p:cNvSpPr>
            <a:spLocks noGrp="1"/>
          </p:cNvSpPr>
          <p:nvPr>
            <p:ph type="sldImg"/>
          </p:nvPr>
        </p:nvSpPr>
        <p:spPr>
          <a:xfrm>
            <a:off x="1255680" y="719280"/>
            <a:ext cx="4803840" cy="3601800"/>
          </a:xfrm>
          <a:prstGeom prst="rect">
            <a:avLst/>
          </a:prstGeom>
          <a:ln w="0">
            <a:noFill/>
          </a:ln>
        </p:spPr>
      </p:sp>
      <p:sp>
        <p:nvSpPr>
          <p:cNvPr id="762"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63"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365AB5C-48D3-4163-B07B-7EEB3A3D450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5" name="PlaceHolder 1"/>
          <p:cNvSpPr>
            <a:spLocks noGrp="1"/>
          </p:cNvSpPr>
          <p:nvPr>
            <p:ph type="sldImg"/>
          </p:nvPr>
        </p:nvSpPr>
        <p:spPr>
          <a:xfrm>
            <a:off x="1255680" y="719280"/>
            <a:ext cx="4803840" cy="3601800"/>
          </a:xfrm>
          <a:prstGeom prst="rect">
            <a:avLst/>
          </a:prstGeom>
          <a:ln w="0">
            <a:noFill/>
          </a:ln>
        </p:spPr>
      </p:sp>
      <p:sp>
        <p:nvSpPr>
          <p:cNvPr id="766"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8BD14-4C3E-49E5-BAFD-DC9DA831C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71A4B-FFE2-4E3E-8787-7DC9EEE80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F8D75-09A7-40F4-9A63-CB863C7CC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5CF2C-07BA-4A00-BB11-254E533D6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33ECAE-25D6-4321-9FA2-A35E55EB82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7EC93-EC69-4A4B-82E6-379BB2382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B5F85B-5D0F-4A68-AF96-D61444D83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E7511-1A42-4DA3-857A-3450CB6575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1C5B1-4EF7-4BD0-95AC-DF0F5E58E8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CA5EB-C118-46B9-9C2A-159F62FD3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266CA-F980-4C2C-9598-4E7978083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5956A-8283-4011-9B24-0B4EE384D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1016D-38BD-41B7-A1D5-DAFF001A9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E4DB1-088C-4CAD-BE59-6ECC671F5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2FA91-DC9E-4249-A79A-15C97004F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F117CE-5946-45B3-B005-41B487BADB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2D0B9-9AB0-400E-9560-3AB47CBF2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1822BA-9A5B-4DEE-B042-528FF490E7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5A809E-9122-4316-BD0D-FAD90B1F4B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970DF-B011-4FCB-AC0C-17C3518A0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F70F0-855C-484F-BA39-DE339C846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2B827-4588-4856-8A64-34B868D64D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51641-3910-4466-954E-3F7E1B2C9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94B45-3639-4A9C-A73C-B2A3A8A8B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87E29-CB8B-425B-AC82-131F24177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CF0F6-B8A1-44C5-8522-2AA8EC0A8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58652-191E-4547-97FD-99A45BBD9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42A55-4B0B-45FA-8ECB-C90E1E94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765C6-0530-4683-89BC-103FB9CC7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D1D39C-6C51-4465-B317-ACF5ECB024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BF33D2-E30C-4115-BC6C-BD4C7DA783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59A19D-6778-4C73-8CDD-E1A9284CCD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10BB1F-B527-4A7A-85BF-5F2427AEFC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BE5FD-8D27-4F62-A96F-790E2B7782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7DC755-690D-48F3-950A-5313756CE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F33B1B-5C50-47DA-BC43-2E3DC1C13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A79E76-10A8-4521-B5E4-DAE50737B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508C2-EB93-4383-B8DE-0C684EA7E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8601E-3BC7-4E3F-A1B7-85E9B96D6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2B88E-1D89-4811-9603-77A521E46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45184F-A160-44FB-B320-6C0529412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3FE10D-7D85-4F5A-B9AC-10F92722C2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914DD-C931-47B9-8841-3AE5EB9F8D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E7E1FD-701C-4859-922E-B586C23997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5A32-95A8-4A2A-861C-EDF81F175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A5235-878E-4AC9-B77A-C40B607A6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CC3F0-997B-4C2B-AE48-9F79D63DC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4AEE1-5967-48D9-A3F7-AFEA17557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C07DF-4679-4366-9CD2-EF7F65404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2F2DB-4740-458C-A47C-585F02F0E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0B74C-181D-4C2A-8D47-40D07D7FB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6AD28-6717-4514-BDD9-14748E837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7776B-881E-4EAF-9F54-A4DD51B60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A7CB1-E484-4478-B9C9-B85A689FD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A856E-2AC8-4EC7-8DA4-24919E478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EA3B8-082F-48DA-890D-8974F8152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02B7A-87E0-405F-9C07-F1A656AE6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77587-DD20-411F-9F80-C56468191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65428-02A0-4500-A097-3BB0DE495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5C3503-E0AE-4EAB-AE5B-7F663BBE9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1DE3-B0FF-47E6-BF5E-15074A52F16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927E-2670-4803-A41B-9D1521201A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33BD-CA72-455F-9B4C-5ACABD80C0CA}"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45AD-DBFF-4EDA-A3B8-B6B1FBFC9B22}"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4465-0EED-4998-9DDE-86E3BEB9C621}"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0198-D1C7-4A3F-A43E-9EE0D763803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9202-0506-4B5B-817F-FCF950E6F2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5 – 27 October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Nairobi, Kenya</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2" name="Picture 2" descr=""/>
          <p:cNvPicPr/>
          <p:nvPr/>
        </p:nvPicPr>
        <p:blipFill>
          <a:blip r:embed="rId1"/>
          <a:stretch/>
        </p:blipFill>
        <p:spPr>
          <a:xfrm>
            <a:off x="0" y="5791320"/>
            <a:ext cx="9156600" cy="1066680"/>
          </a:xfrm>
          <a:prstGeom prst="rect">
            <a:avLst/>
          </a:prstGeom>
          <a:ln w="0">
            <a:noFill/>
          </a:ln>
        </p:spPr>
      </p:pic>
      <p:sp>
        <p:nvSpPr>
          <p:cNvPr id="743"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44"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F342-0B8B-40F9-B9DF-E9B4A9BBE8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6"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7" name="Picture 2" descr=""/>
          <p:cNvPicPr/>
          <p:nvPr/>
        </p:nvPicPr>
        <p:blipFill>
          <a:blip r:embed="rId1"/>
          <a:stretch/>
        </p:blipFill>
        <p:spPr>
          <a:xfrm>
            <a:off x="0" y="5791320"/>
            <a:ext cx="9156600" cy="1066680"/>
          </a:xfrm>
          <a:prstGeom prst="rect">
            <a:avLst/>
          </a:prstGeom>
          <a:ln w="0">
            <a:noFill/>
          </a:ln>
        </p:spPr>
      </p:pic>
      <p:sp>
        <p:nvSpPr>
          <p:cNvPr id="74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49"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54D7-3492-4B8A-8461-A5F3A4E2BB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58CE-746B-45F7-8AF6-CCE2FABB03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2"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54"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55"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the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17T16:15:39Z</dcterms:modified>
  <cp:revision>152</cp:revision>
  <dc:subject/>
  <dc:title>GEF Orientation Session for New Council and Alternate Members</dc:title>
</cp:coreProperties>
</file>