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1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 type="sldNum" idx="1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C568-C901-47D5-B98B-57195DB94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FDCBCAF-9CC4-42CE-842E-3A3322FA26B4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8CAE304-76F6-4B45-9432-919C328E5838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5D85AEA-9A30-498E-8794-1D0F59321C6B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7EA65B5-FBB1-49C8-A2DA-5B597D600C12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522B8A1-BEF6-48F8-9F5D-09F07B2C6027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5112-55C3-432D-B3DD-8F646F978A99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17873F7-E28C-42EA-83D7-E96E030A7578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7436-EFD2-4ED7-8008-1B475794EE7D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E39C540-856F-454E-BC9F-B04BA259E2F5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1E92-260C-46EC-ADFF-03CE2DA64BD1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DB2DCF7-3FD0-4478-BEE5-CDD5BDF4AE49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8B3F-AFE6-4175-AFFE-7180B8C2AE09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072C62B-BF8E-4C86-9F98-C9613EE9D1B8}" type="slidenum">
              <a:rPr b="0" lang="en-US" sz="1200" spc="-1" strike="noStrike">
                <a:solidFill>
                  <a:srgbClr val="e4dcc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93BF-D8B6-4EBB-B2C7-B91432A8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2E9-2E26-4110-A39D-B5B2763A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EA5-8466-45CA-B42C-904BBB5F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DA1-E2DE-4241-AC08-3D198F68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4359-1F69-4847-BA37-4DBF4F47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4781-746A-4FEF-AE9C-73832D43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E239-8CA1-41E2-8CDE-944F9782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BDB7-AA78-47DF-8CA2-0F570A12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4698-5A31-4ABA-B3E5-2A1371AB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D39A-D7EC-4AB2-9200-EB57932C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2DA0-B667-4E71-A3E3-4BA86997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8585-FBA4-40DA-99C4-8705627A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C437-4B06-4C57-9203-F7094D39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1613-5BD1-4D78-A1DD-C6A8B254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700B-9FAE-4CF6-8B92-7CB8D265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45F3-B025-4275-B733-EE0AEECD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86A9-24BF-4714-A48A-7C320A84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A648-F161-409E-BD04-FAF56C0B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565C0-20DD-415C-A2F2-1E96118A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1EA0D-6CF5-4804-B596-B80838A4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288FD-9758-4902-900E-5CE45ED0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2AF-025F-4D9E-91F5-C6B7D0A4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04028-CDD7-4330-A496-CE7AA3ED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D39AB-9432-46FB-90BC-D61F6460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F38C8-6AC2-4FC4-A4B9-26E90976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2679E-C06F-4124-9DFB-27BEE654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06FE1-BCC3-42CD-8E27-591EE63E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11145-94CD-4DE0-8A5E-2B207393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A9D61-631F-4645-B865-3FF1F3B3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16672-A704-4398-AA56-39FB6C59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A552E-D2D0-42C2-98E5-F117E627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1FA-E2BB-4359-9D29-57D89D50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34C8-A85A-4DAB-9670-AEE3B66A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99947-F499-41B4-8F54-4F6F04F3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93DCC-09C7-4E54-9981-D2110B56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6C7D0-03E6-4D38-A3F2-2EFBE022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F490A-36B6-4691-88CE-E0DA7A93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B2AA9-6521-4F64-840E-DFB5C68B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533160" y="685440"/>
            <a:ext cx="739116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A34EB-1D73-4155-A7A5-2B075E77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BEAD9-2DEF-4913-8FD9-B093BDBD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2D68B-779C-43FF-A8FE-08EF1111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49C9D-B754-4C85-AFC5-CF8B4156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505C-9F85-406D-8AAC-2E8487F9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4683A-F863-478F-8808-98F41B11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D84A4-A412-4A83-8101-53965CE1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18960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997960" y="17524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8088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18960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5997960" y="3329280"/>
            <a:ext cx="26744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38D5C-2AF6-4959-8D30-848E6270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7160" y="33292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8143-D267-4252-A5B4-F0FFB36F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752480"/>
            <a:ext cx="405324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329280"/>
            <a:ext cx="830592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DC5-8764-4266-A2A0-44D82136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61.xml"/><Relationship Id="rId16" Type="http://schemas.openxmlformats.org/officeDocument/2006/relationships/slideLayout" Target="../slideLayouts/slideLayout62.xml"/><Relationship Id="rId17" Type="http://schemas.openxmlformats.org/officeDocument/2006/relationships/slideLayout" Target="../slideLayouts/slideLayout63.xml"/><Relationship Id="rId18" Type="http://schemas.openxmlformats.org/officeDocument/2006/relationships/slideLayout" Target="../slideLayouts/slideLayout64.xml"/><Relationship Id="rId19" Type="http://schemas.openxmlformats.org/officeDocument/2006/relationships/slideLayout" Target="../slideLayouts/slideLayout65.xml"/><Relationship Id="rId20" Type="http://schemas.openxmlformats.org/officeDocument/2006/relationships/slideLayout" Target="../slideLayouts/slideLayout66.xml"/><Relationship Id="rId21" Type="http://schemas.openxmlformats.org/officeDocument/2006/relationships/slideLayout" Target="../slideLayouts/slideLayout67.xml"/><Relationship Id="rId22" Type="http://schemas.openxmlformats.org/officeDocument/2006/relationships/slideLayout" Target="../slideLayouts/slideLayout68.xml"/><Relationship Id="rId23" Type="http://schemas.openxmlformats.org/officeDocument/2006/relationships/slideLayout" Target="../slideLayouts/slideLayout69.xml"/><Relationship Id="rId24" Type="http://schemas.openxmlformats.org/officeDocument/2006/relationships/slideLayout" Target="../slideLayouts/slideLayout70.xml"/><Relationship Id="rId25" Type="http://schemas.openxmlformats.org/officeDocument/2006/relationships/slideLayout" Target="../slideLayouts/slideLayout71.xml"/><Relationship Id="rId2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0" b="9529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424332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AF72-CE4D-4728-8F09-813BDBDD4C32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icture 10"/>
          <p:cNvSpPr/>
          <p:nvPr/>
        </p:nvSpPr>
        <p:spPr>
          <a:xfrm>
            <a:off x="6018120" y="131760"/>
            <a:ext cx="28958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1360440"/>
            <a:ext cx="9144000" cy="0"/>
          </a:xfrm>
          <a:prstGeom prst="line">
            <a:avLst/>
          </a:prstGeom>
          <a:ln w="25560">
            <a:solidFill>
              <a:srgbClr val="7f95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40435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12" name="Picture 10" descr=""/>
          <p:cNvPicPr/>
          <p:nvPr/>
        </p:nvPicPr>
        <p:blipFill>
          <a:blip r:embed="rId3"/>
          <a:stretch/>
        </p:blipFill>
        <p:spPr>
          <a:xfrm>
            <a:off x="6019920" y="152280"/>
            <a:ext cx="289548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50" name="Picture 40" descr=""/>
          <p:cNvPicPr/>
          <p:nvPr/>
        </p:nvPicPr>
        <p:blipFill>
          <a:blip r:embed="rId2"/>
          <a:stretch/>
        </p:blipFill>
        <p:spPr>
          <a:xfrm>
            <a:off x="533520" y="6161040"/>
            <a:ext cx="249120" cy="48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1" descr=""/>
          <p:cNvPicPr/>
          <p:nvPr/>
        </p:nvPicPr>
        <p:blipFill>
          <a:blip r:embed="rId3"/>
          <a:stretch/>
        </p:blipFill>
        <p:spPr>
          <a:xfrm>
            <a:off x="1227240" y="6181560"/>
            <a:ext cx="382320" cy="44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2" descr=""/>
          <p:cNvPicPr/>
          <p:nvPr/>
        </p:nvPicPr>
        <p:blipFill>
          <a:blip r:embed="rId4"/>
          <a:stretch/>
        </p:blipFill>
        <p:spPr>
          <a:xfrm>
            <a:off x="2055960" y="6205680"/>
            <a:ext cx="558720" cy="39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"/>
          <p:cNvPicPr/>
          <p:nvPr/>
        </p:nvPicPr>
        <p:blipFill>
          <a:blip r:embed="rId5"/>
          <a:stretch/>
        </p:blipFill>
        <p:spPr>
          <a:xfrm>
            <a:off x="3062160" y="62024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4" descr=""/>
          <p:cNvPicPr/>
          <p:nvPr/>
        </p:nvPicPr>
        <p:blipFill>
          <a:blip r:embed="rId6"/>
          <a:stretch/>
        </p:blipFill>
        <p:spPr>
          <a:xfrm>
            <a:off x="5835600" y="6257880"/>
            <a:ext cx="293760" cy="295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5" descr=""/>
          <p:cNvPicPr/>
          <p:nvPr/>
        </p:nvPicPr>
        <p:blipFill>
          <a:blip r:embed="rId7"/>
          <a:stretch/>
        </p:blipFill>
        <p:spPr>
          <a:xfrm>
            <a:off x="3911760" y="6238800"/>
            <a:ext cx="606240" cy="33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"/>
          <p:cNvPicPr/>
          <p:nvPr/>
        </p:nvPicPr>
        <p:blipFill>
          <a:blip r:embed="rId8"/>
          <a:stretch/>
        </p:blipFill>
        <p:spPr>
          <a:xfrm>
            <a:off x="8458200" y="6188040"/>
            <a:ext cx="285840" cy="43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"/>
          <p:cNvPicPr/>
          <p:nvPr/>
        </p:nvPicPr>
        <p:blipFill>
          <a:blip r:embed="rId9"/>
          <a:stretch/>
        </p:blipFill>
        <p:spPr>
          <a:xfrm>
            <a:off x="6575400" y="6192720"/>
            <a:ext cx="331920" cy="425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"/>
          <p:cNvPicPr/>
          <p:nvPr/>
        </p:nvPicPr>
        <p:blipFill>
          <a:blip r:embed="rId10"/>
          <a:stretch/>
        </p:blipFill>
        <p:spPr>
          <a:xfrm>
            <a:off x="4962600" y="6229440"/>
            <a:ext cx="426960" cy="352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"/>
          <p:cNvPicPr/>
          <p:nvPr/>
        </p:nvPicPr>
        <p:blipFill>
          <a:blip r:embed="rId11"/>
          <a:stretch/>
        </p:blipFill>
        <p:spPr>
          <a:xfrm>
            <a:off x="7353360" y="6176880"/>
            <a:ext cx="658800" cy="45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1" descr=""/>
          <p:cNvPicPr/>
          <p:nvPr/>
        </p:nvPicPr>
        <p:blipFill>
          <a:blip r:embed="rId12"/>
          <a:stretch/>
        </p:blipFill>
        <p:spPr>
          <a:xfrm>
            <a:off x="3962520" y="304920"/>
            <a:ext cx="4862520" cy="623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3080" y="3940200"/>
            <a:ext cx="8319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2" name="Picture 20" descr="GEF-new_small.jpg"/>
          <p:cNvPicPr/>
          <p:nvPr/>
        </p:nvPicPr>
        <p:blipFill>
          <a:blip r:embed="rId13"/>
          <a:stretch/>
        </p:blipFill>
        <p:spPr>
          <a:xfrm>
            <a:off x="252360" y="119160"/>
            <a:ext cx="81936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1317600" y="3576240"/>
            <a:ext cx="868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regional Workshop for GEF Focal Point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64" name="Picture 16" descr="sunset east africa.jpg"/>
          <p:cNvPicPr/>
          <p:nvPr/>
        </p:nvPicPr>
        <p:blipFill>
          <a:blip r:embed="rId14"/>
          <a:stretch/>
        </p:blipFill>
        <p:spPr>
          <a:xfrm>
            <a:off x="0" y="1071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419040" y="3571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ub-Regional Workshop for GEF Focal Points in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571680" y="2428920"/>
            <a:ext cx="815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Country Support Programme</a:t>
            </a:r>
            <a:endParaRPr b="0" lang="en-US" sz="36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9B43-B7ED-405F-81A9-4D654C957F5A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dc8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05920" cy="301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446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446a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446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44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e4dc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46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3362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200040" y="647712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685764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598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24CA-6844-4CCD-A646-A94A24F2401B}" type="slidenum">
              <a:rPr b="0" lang="en-US" sz="900" spc="-1" strike="noStrike">
                <a:solidFill>
                  <a:srgbClr val="3598d4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5"/>
          <p:cNvSpPr/>
          <p:nvPr/>
        </p:nvSpPr>
        <p:spPr>
          <a:xfrm>
            <a:off x="4043520" y="2843280"/>
            <a:ext cx="914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22" name="Picture 40" descr=""/>
          <p:cNvPicPr/>
          <p:nvPr/>
        </p:nvPicPr>
        <p:blipFill>
          <a:blip r:embed="rId2"/>
          <a:stretch/>
        </p:blipFill>
        <p:spPr>
          <a:xfrm>
            <a:off x="533520" y="6161040"/>
            <a:ext cx="249120" cy="488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1" descr=""/>
          <p:cNvPicPr/>
          <p:nvPr/>
        </p:nvPicPr>
        <p:blipFill>
          <a:blip r:embed="rId3"/>
          <a:stretch/>
        </p:blipFill>
        <p:spPr>
          <a:xfrm>
            <a:off x="1227240" y="6181560"/>
            <a:ext cx="382320" cy="449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2" descr=""/>
          <p:cNvPicPr/>
          <p:nvPr/>
        </p:nvPicPr>
        <p:blipFill>
          <a:blip r:embed="rId4"/>
          <a:stretch/>
        </p:blipFill>
        <p:spPr>
          <a:xfrm>
            <a:off x="2055960" y="6205680"/>
            <a:ext cx="558720" cy="399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3" descr=""/>
          <p:cNvPicPr/>
          <p:nvPr/>
        </p:nvPicPr>
        <p:blipFill>
          <a:blip r:embed="rId5"/>
          <a:stretch/>
        </p:blipFill>
        <p:spPr>
          <a:xfrm>
            <a:off x="3062160" y="6202440"/>
            <a:ext cx="403200" cy="406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4" descr=""/>
          <p:cNvPicPr/>
          <p:nvPr/>
        </p:nvPicPr>
        <p:blipFill>
          <a:blip r:embed="rId6"/>
          <a:stretch/>
        </p:blipFill>
        <p:spPr>
          <a:xfrm>
            <a:off x="5835600" y="6257880"/>
            <a:ext cx="293760" cy="295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5" descr=""/>
          <p:cNvPicPr/>
          <p:nvPr/>
        </p:nvPicPr>
        <p:blipFill>
          <a:blip r:embed="rId7"/>
          <a:stretch/>
        </p:blipFill>
        <p:spPr>
          <a:xfrm>
            <a:off x="3911760" y="6238800"/>
            <a:ext cx="606240" cy="333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6" descr=""/>
          <p:cNvPicPr/>
          <p:nvPr/>
        </p:nvPicPr>
        <p:blipFill>
          <a:blip r:embed="rId8"/>
          <a:stretch/>
        </p:blipFill>
        <p:spPr>
          <a:xfrm>
            <a:off x="8458200" y="6188040"/>
            <a:ext cx="285840" cy="4348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7" descr=""/>
          <p:cNvPicPr/>
          <p:nvPr/>
        </p:nvPicPr>
        <p:blipFill>
          <a:blip r:embed="rId9"/>
          <a:stretch/>
        </p:blipFill>
        <p:spPr>
          <a:xfrm>
            <a:off x="6575400" y="6192720"/>
            <a:ext cx="331920" cy="425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8" descr=""/>
          <p:cNvPicPr/>
          <p:nvPr/>
        </p:nvPicPr>
        <p:blipFill>
          <a:blip r:embed="rId10"/>
          <a:stretch/>
        </p:blipFill>
        <p:spPr>
          <a:xfrm>
            <a:off x="4962600" y="6229440"/>
            <a:ext cx="426960" cy="352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9" descr=""/>
          <p:cNvPicPr/>
          <p:nvPr/>
        </p:nvPicPr>
        <p:blipFill>
          <a:blip r:embed="rId11"/>
          <a:stretch/>
        </p:blipFill>
        <p:spPr>
          <a:xfrm>
            <a:off x="7353360" y="6176880"/>
            <a:ext cx="65880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1" descr=""/>
          <p:cNvPicPr/>
          <p:nvPr/>
        </p:nvPicPr>
        <p:blipFill>
          <a:blip r:embed="rId12"/>
          <a:stretch/>
        </p:blipFill>
        <p:spPr>
          <a:xfrm>
            <a:off x="3962520" y="304920"/>
            <a:ext cx="4862520" cy="6238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4"/>
          <p:cNvSpPr/>
          <p:nvPr/>
        </p:nvSpPr>
        <p:spPr>
          <a:xfrm>
            <a:off x="343080" y="3940200"/>
            <a:ext cx="8319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34" name="Picture 20" descr="GEF-new_small.jpg"/>
          <p:cNvPicPr/>
          <p:nvPr/>
        </p:nvPicPr>
        <p:blipFill>
          <a:blip r:embed="rId13"/>
          <a:stretch/>
        </p:blipFill>
        <p:spPr>
          <a:xfrm>
            <a:off x="252360" y="119160"/>
            <a:ext cx="819360" cy="9525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3"/>
          <p:cNvSpPr/>
          <p:nvPr/>
        </p:nvSpPr>
        <p:spPr>
          <a:xfrm>
            <a:off x="1317600" y="3576240"/>
            <a:ext cx="868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b-regional Workshop for GEF Focal Points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pic>
        <p:nvPicPr>
          <p:cNvPr id="236" name="Picture 16" descr="sunset east africa.jpg"/>
          <p:cNvPicPr/>
          <p:nvPr/>
        </p:nvPicPr>
        <p:blipFill>
          <a:blip r:embed="rId14"/>
          <a:stretch/>
        </p:blipFill>
        <p:spPr>
          <a:xfrm>
            <a:off x="0" y="107172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4"/>
          <p:cNvSpPr/>
          <p:nvPr/>
        </p:nvSpPr>
        <p:spPr>
          <a:xfrm>
            <a:off x="419040" y="35719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ub-Regional Workshop for GEF Focal Points in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Eastern and Southern Africa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Arial"/>
              </a:rPr>
              <a:t>Sandton, South Africa, 3-4 November 2010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571680" y="2428920"/>
            <a:ext cx="81532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Arial"/>
              </a:rPr>
              <a:t>Country Support Programme</a:t>
            </a:r>
            <a:endParaRPr b="0" lang="en-US" sz="36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60563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D531-9EBE-4843-815E-47CE696CFBFE}" type="slidenum">
              <a:rPr b="0" lang="en-US" sz="2400" spc="-1" strike="noStrike">
                <a:solidFill>
                  <a:srgbClr val="60563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5"/>
    <p:sldLayoutId id="2147483715" r:id="rId16"/>
    <p:sldLayoutId id="2147483716" r:id="rId17"/>
    <p:sldLayoutId id="2147483717" r:id="rId18"/>
    <p:sldLayoutId id="2147483718" r:id="rId19"/>
    <p:sldLayoutId id="2147483719" r:id="rId20"/>
    <p:sldLayoutId id="2147483720" r:id="rId21"/>
    <p:sldLayoutId id="2147483721" r:id="rId22"/>
    <p:sldLayoutId id="2147483722" r:id="rId23"/>
    <p:sldLayoutId id="2147483723" r:id="rId24"/>
    <p:sldLayoutId id="2147483724" r:id="rId25"/>
    <p:sldLayoutId id="2147483725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71280" y="1988640"/>
            <a:ext cx="749916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Country Support Programme (CSP)</a:t>
            </a:r>
            <a:br>
              <a:rPr sz="2000"/>
            </a:br>
            <a:endParaRPr b="0" lang="en-US" sz="41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87" name="Subtitle 4"/>
          <p:cNvSpPr/>
          <p:nvPr/>
        </p:nvSpPr>
        <p:spPr>
          <a:xfrm>
            <a:off x="900000" y="3809880"/>
            <a:ext cx="7056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20" name="Rounded Rectangle 4"/>
          <p:cNvSpPr/>
          <p:nvPr/>
        </p:nvSpPr>
        <p:spPr>
          <a:xfrm>
            <a:off x="1835280" y="1844640"/>
            <a:ext cx="5040360" cy="2016000"/>
          </a:xfrm>
          <a:prstGeom prst="roundRect">
            <a:avLst>
              <a:gd name="adj" fmla="val 16667"/>
            </a:avLst>
          </a:prstGeom>
          <a:solidFill>
            <a:srgbClr val="ffc000">
              <a:alpha val="50000"/>
            </a:srgbClr>
          </a:solidFill>
          <a:ln w="9360">
            <a:solidFill>
              <a:srgbClr val="e4dc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For more information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2d"/>
                </a:solidFill>
                <a:latin typeface="Calibri"/>
              </a:rPr>
              <a:t>contact the GEF Secretariat</a:t>
            </a:r>
            <a:endParaRPr b="0" lang="en-US" sz="3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21840" y="1196640"/>
            <a:ext cx="88218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SP provides flexible support to countries (particularly the focal points) so that they 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strengthen their capac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work with the GEF</a:t>
            </a: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aged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by the GEF Secretariat</a:t>
            </a:r>
            <a:endParaRPr b="0" lang="en-US" sz="26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CSP components a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tional Portfolio Formulation Exercise (NPFE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ulti-stakeholder Dialogue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panded Constituency-level Workshops (ECW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stituency Meetings (Council Member support)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rect support to operational focal points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nowledge management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  <a:p>
            <a:pPr lvl="2" marL="743040" indent="-343080">
              <a:lnSpc>
                <a:spcPct val="60000"/>
              </a:lnSpc>
              <a:spcBef>
                <a:spcPts val="624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amiliarization Seminars</a:t>
            </a:r>
            <a:endParaRPr b="0" lang="en-US" sz="25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92468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42d"/>
                </a:solidFill>
                <a:latin typeface="Calibri"/>
              </a:rPr>
              <a:t>Country Support  Progamme </a:t>
            </a:r>
            <a:br>
              <a:rPr sz="3400"/>
            </a:br>
            <a:r>
              <a:rPr b="1" lang="en-US" sz="3400" spc="-1" strike="noStrike">
                <a:solidFill>
                  <a:srgbClr val="00642d"/>
                </a:solidFill>
                <a:latin typeface="Calibri"/>
              </a:rPr>
              <a:t>General Issues</a:t>
            </a:r>
            <a:endParaRPr b="1" lang="en-US" sz="34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189000"/>
            <a:ext cx="876312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1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293" name="Rounded Rectangle 4"/>
          <p:cNvSpPr/>
          <p:nvPr/>
        </p:nvSpPr>
        <p:spPr>
          <a:xfrm>
            <a:off x="179280" y="1484280"/>
            <a:ext cx="7417080" cy="720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Throughout the GEF’s history, country programming has been traditionally mediated by the GEF Agencies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4" name="Rounded Rectangle 5"/>
          <p:cNvSpPr/>
          <p:nvPr/>
        </p:nvSpPr>
        <p:spPr>
          <a:xfrm>
            <a:off x="900000" y="2276640"/>
            <a:ext cx="7993080" cy="105876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furthe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strengthen GEF’s strategic engagement at country-leve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each country can now prepare, with GEF financial support, a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ational Portfolio Formulation Exercise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5" name="Rounded Rectangle 9"/>
          <p:cNvSpPr/>
          <p:nvPr/>
        </p:nvSpPr>
        <p:spPr>
          <a:xfrm>
            <a:off x="900000" y="4724280"/>
            <a:ext cx="8064720" cy="86544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PFE is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not a prerequisite for GEF project funding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296" name="Rounded Rectangle 7"/>
          <p:cNvSpPr/>
          <p:nvPr/>
        </p:nvSpPr>
        <p:spPr>
          <a:xfrm>
            <a:off x="900000" y="3429000"/>
            <a:ext cx="8064720" cy="1224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Covers all relevant focal area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describes how GEF allocations will be programmed with projects/programs that reflect national/regional priorities to benefit the global environment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240" y="260280"/>
            <a:ext cx="853452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National Portfolio Formulation Exercise (2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299" name="Rounded Rectangle 4"/>
          <p:cNvSpPr/>
          <p:nvPr/>
        </p:nvSpPr>
        <p:spPr>
          <a:xfrm>
            <a:off x="1476360" y="1268280"/>
            <a:ext cx="6335640" cy="136872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paration of NPFE should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consultative and participator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coordinated by GEF Operational Focal Points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0" name="Rounded Rectangle 5"/>
          <p:cNvSpPr/>
          <p:nvPr/>
        </p:nvSpPr>
        <p:spPr>
          <a:xfrm>
            <a:off x="179280" y="2708280"/>
            <a:ext cx="403380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shall select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experienced and competen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ional entity to conduct the exercise. 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1" name="Rounded Rectangle 6"/>
          <p:cNvSpPr/>
          <p:nvPr/>
        </p:nvSpPr>
        <p:spPr>
          <a:xfrm>
            <a:off x="4427640" y="2708280"/>
            <a:ext cx="4535280" cy="1440000"/>
          </a:xfrm>
          <a:prstGeom prst="roundRect">
            <a:avLst>
              <a:gd name="adj" fmla="val 16667"/>
            </a:avLst>
          </a:prstGeom>
          <a:solidFill>
            <a:srgbClr val="9c9cdf">
              <a:alpha val="50000"/>
            </a:srgbClr>
          </a:solidFill>
          <a:ln w="9360">
            <a:solidFill>
              <a:srgbClr val="9c9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untries that decide to conduct portfolio exercises will be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granted up to $30,000 USD</a:t>
            </a:r>
            <a:r>
              <a:rPr b="0" lang="en-US" sz="2200" spc="-1" strike="noStrike">
                <a:solidFill>
                  <a:srgbClr val="bf3611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the corporate programs budget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2" name="Rounded Rectangle 7"/>
          <p:cNvSpPr/>
          <p:nvPr/>
        </p:nvSpPr>
        <p:spPr>
          <a:xfrm>
            <a:off x="4356000" y="4292640"/>
            <a:ext cx="4680000" cy="136836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al documents will be shared with respective conventions for </a:t>
            </a: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public disclosure and on the GEF Web site</a:t>
            </a:r>
            <a:endParaRPr b="0" lang="en-US" sz="2200" spc="-1" strike="noStrike">
              <a:solidFill>
                <a:srgbClr val="e4dcc4"/>
              </a:solidFill>
              <a:latin typeface="Arial"/>
            </a:endParaRPr>
          </a:p>
        </p:txBody>
      </p:sp>
      <p:sp>
        <p:nvSpPr>
          <p:cNvPr id="303" name="Rounded Rectangle 8"/>
          <p:cNvSpPr/>
          <p:nvPr/>
        </p:nvSpPr>
        <p:spPr>
          <a:xfrm>
            <a:off x="250920" y="4292640"/>
            <a:ext cx="3816360" cy="1297080"/>
          </a:xfrm>
          <a:prstGeom prst="roundRect">
            <a:avLst>
              <a:gd name="adj" fmla="val 16667"/>
            </a:avLst>
          </a:prstGeom>
          <a:solidFill>
            <a:srgbClr val="72bfc5">
              <a:alpha val="50000"/>
            </a:srgbClr>
          </a:solidFill>
          <a:ln w="93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ed through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direct ac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odality </a:t>
            </a:r>
            <a:endParaRPr b="0" lang="en-US" sz="2000" spc="-1" strike="noStrike">
              <a:solidFill>
                <a:srgbClr val="e4dcc4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0" y="1341360"/>
            <a:ext cx="9144000" cy="448668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dialogue with GEF Secretariat the country prepares the proposal (including the budget). 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The selected national entity must fill out Simplified Financial Management Assessment Report.</a:t>
            </a: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Secretariat clears the proposal and the CEO approves it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gal documents are signed between the country and the GEF CE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ountry undertakes the national portfolio formulation exercise.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ce the national portfolio formulation exercise has been completed, an activity finalization report is submitted to the Secretariat </a:t>
            </a: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Including financial disbursement requirements and audit report</a:t>
            </a:r>
            <a:endParaRPr b="0" lang="en-US" sz="16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56944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600" spc="-1" strike="noStrike">
                <a:solidFill>
                  <a:srgbClr val="00642d"/>
                </a:solidFill>
                <a:latin typeface="Calibri"/>
              </a:rPr>
              <a:t>National Portfolio Formulation Exercise  - Implementation process (3)</a:t>
            </a:r>
            <a:endParaRPr b="1" lang="en-US" sz="2600" spc="-1" strike="noStrike">
              <a:solidFill>
                <a:srgbClr val="eadc8e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39116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 /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Dialogue among multiple interested parties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8920" y="1557360"/>
            <a:ext cx="8425080" cy="4146480"/>
          </a:xfrm>
          <a:prstGeom prst="rect">
            <a:avLst/>
          </a:prstGeom>
          <a:solidFill>
            <a:srgbClr val="c3b17b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dialogue follows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guidelines for the National Dialogue Initiative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rpose is to provid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lexible suppor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convening national meetings, aiming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o share and enrich the 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experiences of the various parties involved in sustainable development activiti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ed to result in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trengthening of donor coordin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clarification of policies and procedur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will b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t the request of the operational focal point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792144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/Expanded Constituency Workshops (ECW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79280" y="1557000"/>
            <a:ext cx="8856720" cy="3988080"/>
          </a:xfrm>
          <a:prstGeom prst="rect">
            <a:avLst/>
          </a:prstGeom>
          <a:solidFill>
            <a:srgbClr val="ccd5cc"/>
          </a:solidFill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Ws are held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ce a yea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order to provide information on the strategies, policies, and procedures of the GEF and to encourage coordination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Ws invite, in addition to the GEF focal points, the convention focal points and civil society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p to 6 participants per country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rganized by the GEF 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The agenda is prepared to reflect participants’ need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46a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number of countries/participants so permits,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ore than one constituency may meet at the same time 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4250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42d"/>
                </a:solidFill>
                <a:latin typeface="Calibri"/>
              </a:rPr>
              <a:t>Country Support Programme (Constituency Meetings and Direct Support for Operational Focal Points)</a:t>
            </a:r>
            <a:endParaRPr b="1" lang="en-US" sz="31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50560" y="1699920"/>
            <a:ext cx="8553240" cy="4450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ariat financ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one Constituency meeting a year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ned by the Council Member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uncil member receive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3,000 for logistic support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purpose of the meeting is to discuss Council meeting documents and agree on a joint position on issues.  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Support for Operational Focal Points i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US$9,00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 year, based on the Annual Work Plan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urpose is to conduct activities that facilitate their work as Operational Focal Point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3915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Country Support Programme</a:t>
            </a:r>
            <a:br>
              <a:rPr sz="2800"/>
            </a:b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(Knowledge Management and Familiarization Seminars</a:t>
            </a:r>
            <a:r>
              <a:rPr b="1" lang="es-ES_tradnl" sz="2800" spc="-1" strike="noStrike">
                <a:solidFill>
                  <a:srgbClr val="00642d"/>
                </a:solidFill>
                <a:latin typeface="Calibri"/>
              </a:rPr>
              <a:t>)</a:t>
            </a:r>
            <a:endParaRPr b="1" lang="en-US" sz="2800" spc="-1" strike="noStrike">
              <a:solidFill>
                <a:srgbClr val="eadc8e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560" y="1643040"/>
            <a:ext cx="8481960" cy="424728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7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owledge Management: This component will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reflect the evolving needs of GEF focal poi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s well as the needs of other relevant stakeholder groups, in particular convention focal point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575"/>
              </a:spcBef>
              <a:buClr>
                <a:srgbClr val="0044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omponent will also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include information on the adaptation fun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dministered by the GEF (Least Developed Countries Fund and  Special Climate Change Fund)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familiarization seminars will be held once a year in Washington, D.C. to train a number of (new) country focal points and GEF Agency staff on GEF strategies, policies and procedures.</a:t>
            </a: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46a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-1260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1:56:14Z</dcterms:created>
  <dc:creator>Seemin Qayum</dc:creator>
  <dc:description/>
  <dc:language>en-US</dc:language>
  <cp:lastModifiedBy>wb350798</cp:lastModifiedBy>
  <dcterms:modified xsi:type="dcterms:W3CDTF">2011-11-01T18:25:13Z</dcterms:modified>
  <cp:revision>491</cp:revision>
  <dc:subject/>
  <dc:title>PowerPoint Presentation</dc:title>
</cp:coreProperties>
</file>