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71D-0467-4BDA-8710-7303902D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7FEE2E8-A8AA-4B0E-ABFE-6D3200F0CB6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4C8B532-878D-412E-A861-D045202CA890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02FC5D-12DE-4ED6-916B-D01F2E72FE8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CADE9DF-5EC6-4015-BD23-A0C054B715F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79EF71-E328-4556-8857-09B4B4DFECCC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0EF1-19F3-4A03-B6C3-2BC8BD5D3E06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9959D1-65DC-49B7-A812-A87738A5C686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166D-A43D-41F0-8773-17871186410F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CAD14F-A723-4D5B-BE30-A3891E4443E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777-6D37-4DC7-86E7-B9CBB96F4B04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FB66D5-C71E-4E6C-B158-FB6ECD369BFE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C88-2D5A-4E18-BAA8-C1F2EBE30B6F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94CDD4-2215-4FFB-99B3-6C7A737A4ABF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E17-A094-4D9A-BFD6-5468B997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D59-A46E-453C-B93A-9280726F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5E2-E9AD-4452-8C36-37ACA8E7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1E4-661F-4B29-BF42-2C222586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863-D7BC-402B-8457-C110A69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545-3AC0-4304-BA40-25DAD0D6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E90-19BB-42DD-B0FB-42F78BBC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34B5-3DC2-406A-A51C-5301EA6E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B063-6073-4C48-AC77-80691106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EB5-086E-4AFF-A192-F40DCB13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8B1-4F7E-45E2-B33D-32711C5B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7ABE-07A6-43FC-B4AF-8505B7D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9BEF-91BF-4DC2-AD2E-1E54055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B205-23E1-4A5E-89D8-2EDACFC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99DF-7999-4DF2-815E-DE42AAE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DAE-1D39-41A3-AB66-74360379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79C1-B5A5-4DF2-B583-888623AA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599-6492-4481-9835-2690297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D537-46C7-40D3-82C1-FB03F59E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F958-144A-4C80-BB35-5E6A17B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6DAE-4291-4A62-8CD1-637114CC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184-831B-4770-9FF2-B7D1F89B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0936-4733-4958-9E9C-B519D71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47C7-8B48-4499-A4D9-176C7DC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4D97-39CC-4955-BA9F-A31F407F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B94A-AB62-4755-B887-5B9831B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BA46-3E0C-45BC-AC24-DA57FF0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E424-5C57-426A-88CB-9C38D5D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5D71-8922-425C-BA5A-ADB9E3A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D4FA-E76E-4E55-A78B-D356F69E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73D9-332D-46D4-9DD0-0605D942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DEE-E0A8-4CAD-ACF9-3EC77020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18-7C38-4A01-81D0-74B3FB8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E142-0E49-4636-8219-45FB7F60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80F3-C75F-480D-971A-C0C8D263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5FC70-53EE-4DAC-BF94-C4BDC22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B6AC-DE95-4EA0-921C-6A7F0960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41D1-224A-4551-ACD7-1C383F1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4635-8545-4347-8D12-94D53D0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417D-6DE5-4BA4-B657-8B014C7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2AAD-1DE7-48B0-8606-F6BB187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155C-79BA-455C-9A27-06A7409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A9D-248C-40C3-9256-DE1802C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0280-81E3-4B13-9B2C-9823F05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D235-347E-4898-9895-3FAC54EE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1BEA-64FD-4AFD-ADCC-C8C977B5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ACC-39FB-4052-876B-1B1E052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2A7-2A25-4F1D-8A8D-B55BA15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E82-31CD-4676-A6AD-363B6819C3CF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211-FDE7-42AC-9795-7BB7EA468972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04D-D8E7-40E7-BD7A-2F8B498D5886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05FB-E346-4A57-9938-07B298E8836D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18:25:13Z</dcterms:modified>
  <cp:revision>491</cp:revision>
  <dc:subject/>
  <dc:title>PowerPoint Presentation</dc:title>
</cp:coreProperties>
</file>