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1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1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87AA-2A12-4D20-8A89-CB1C326B0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B48D940-9167-4439-84CB-6BEB10F2CDFC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7E22FDB-2853-4335-800B-9FB53CAFAC29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E147420-BC27-4D81-BC73-8B0F4E1EEBE6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D32BC82-E5A4-438E-81D9-A1D0657B608C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C99FE3A-15CC-4FA2-8C6D-FEFBBF4C4984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E0E1-94E6-480B-9B23-845A11B3C49D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AEB6FC8-A250-41ED-83A8-F663C95C10F7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5EF7-A806-483D-AE5C-92D37BF8A748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C368893-772F-45E6-9B09-9DBCF92F0B80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382D-5688-4A83-B16C-242F79E92E2C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6E174A3-4C67-4E1A-807D-6C0B09EE35D9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E070-1F3A-4E47-871F-675643C69E3B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0819A49-65F8-4870-802D-6D2405A7D7CE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E8B-08A0-42FC-82C5-50BE9D71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FE5-6E8E-4CD7-9516-39197AA4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0F8-894D-47BA-82D3-2E020ED2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FD0-1ED2-4431-846F-5F58A894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85D-5672-40F6-982B-4D649C30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8C33-2EAD-4638-8824-21BB5512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0EDC-2548-4729-A766-134BE398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5CDD-46CD-469A-9EC6-7A7BD178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9096-E852-4E8C-B22A-55D2E02F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B40E-EEA6-4A3A-A2EA-31DFF366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64C-4122-4260-8FA3-D0690285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4B60-AE03-4025-BD6A-7F6C80AC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65B7-ADB6-4003-B20A-4D44D5A5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8827-D120-47D6-A243-195C0AA7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8806-C663-48EB-899D-99576C5B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C728-9C01-4A00-923C-A23380F4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37B3-8A81-452A-8B82-40A6AB2C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92AD-E5BB-4B36-8BD2-0D3F3C1F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174E-5DFD-4D57-842E-D51A81ED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08E27-1CBF-4576-B07E-B0EB7AC2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EB31-2C4F-4923-8CE3-6FCB75B3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BE6-02C6-4F27-A8F5-68A5D747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D57AB-E56E-46E6-BA7D-F5810F5D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B4A00-57A6-4A5D-9535-8856DF48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437D5-6B61-475B-9E1F-F3662838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FD844-FB95-4B94-8CBD-ABA0407E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7C28D-64F4-4F57-8EBC-685B2B7C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FF701-1543-4F8D-AA28-63474DA8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5A08D-65E6-4699-8162-4E6AD332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736F-9ADC-4C61-B16F-C1429564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60BBB-1632-42BB-BAB8-61532C21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AA0-0A52-4573-A933-EB8CAE2B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BB3-8F9B-4BD6-AE42-38EDB079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9B1DB-41A1-4828-B627-F9477651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BAE6-158B-4E52-93B5-234FDEF4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DED12-BF4C-45D0-A241-9A2526D4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DD651-97DB-47E3-9220-EF929A70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55AD5-A282-4158-8A64-797D361D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03992-40D1-41CE-9B65-4172BDF5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A66A0-D2C7-4DB5-BAD3-22291A74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BC2C8-F77E-44DA-9B01-3AC76966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92480-F8C4-4907-ADE1-0B5C554C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CBC-A49D-4777-946E-CFFAECDB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F96ED-5382-40FD-A17B-5FF702F4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A0CF6-860C-4F4E-8628-BF9246E9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8DE71-BEB1-494B-998A-BD249487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C49-EC70-4F19-BB31-700156C0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F52-408F-4BC9-9C01-F555A710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61.xml"/><Relationship Id="rId16" Type="http://schemas.openxmlformats.org/officeDocument/2006/relationships/slideLayout" Target="../slideLayouts/slideLayout62.xml"/><Relationship Id="rId17" Type="http://schemas.openxmlformats.org/officeDocument/2006/relationships/slideLayout" Target="../slideLayouts/slideLayout63.xml"/><Relationship Id="rId18" Type="http://schemas.openxmlformats.org/officeDocument/2006/relationships/slideLayout" Target="../slideLayouts/slideLayout64.xml"/><Relationship Id="rId19" Type="http://schemas.openxmlformats.org/officeDocument/2006/relationships/slideLayout" Target="../slideLayouts/slideLayout65.xml"/><Relationship Id="rId20" Type="http://schemas.openxmlformats.org/officeDocument/2006/relationships/slideLayout" Target="../slideLayouts/slideLayout66.xml"/><Relationship Id="rId21" Type="http://schemas.openxmlformats.org/officeDocument/2006/relationships/slideLayout" Target="../slideLayouts/slideLayout67.xml"/><Relationship Id="rId22" Type="http://schemas.openxmlformats.org/officeDocument/2006/relationships/slideLayout" Target="../slideLayouts/slideLayout68.xml"/><Relationship Id="rId23" Type="http://schemas.openxmlformats.org/officeDocument/2006/relationships/slideLayout" Target="../slideLayouts/slideLayout69.xml"/><Relationship Id="rId24" Type="http://schemas.openxmlformats.org/officeDocument/2006/relationships/slideLayout" Target="../slideLayouts/slideLayout70.xml"/><Relationship Id="rId25" Type="http://schemas.openxmlformats.org/officeDocument/2006/relationships/slideLayout" Target="../slideLayouts/slideLayout71.xml"/><Relationship Id="rId2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9529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EE7D-9B5F-49D5-816D-BC63AEDA5E9D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icture 10"/>
          <p:cNvSpPr/>
          <p:nvPr/>
        </p:nvSpPr>
        <p:spPr>
          <a:xfrm>
            <a:off x="6018120" y="131760"/>
            <a:ext cx="2895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1360440"/>
            <a:ext cx="9144000" cy="0"/>
          </a:xfrm>
          <a:prstGeom prst="line">
            <a:avLst/>
          </a:prstGeom>
          <a:ln w="25560">
            <a:solidFill>
              <a:srgbClr val="7f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12" name="Picture 10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289548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50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2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4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93D0-3377-45E4-8ECC-BE32AF58A876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3536-EFA4-4F5E-A445-C34D00FDBE0B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22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4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6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0563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5235-B40F-4602-B08E-94488B56A191}" type="slidenum">
              <a:rPr b="0" lang="en-US" sz="2400" spc="-1" strike="noStrike">
                <a:solidFill>
                  <a:srgbClr val="60563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5"/>
    <p:sldLayoutId id="2147483715" r:id="rId16"/>
    <p:sldLayoutId id="2147483716" r:id="rId17"/>
    <p:sldLayoutId id="2147483717" r:id="rId18"/>
    <p:sldLayoutId id="2147483718" r:id="rId19"/>
    <p:sldLayoutId id="2147483719" r:id="rId20"/>
    <p:sldLayoutId id="2147483720" r:id="rId21"/>
    <p:sldLayoutId id="2147483721" r:id="rId22"/>
    <p:sldLayoutId id="2147483722" r:id="rId23"/>
    <p:sldLayoutId id="2147483723" r:id="rId24"/>
    <p:sldLayoutId id="2147483724" r:id="rId25"/>
    <p:sldLayoutId id="2147483725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71280" y="1988640"/>
            <a:ext cx="749916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Country Support Programme (CSP)</a:t>
            </a:r>
            <a:br>
              <a:rPr sz="2000"/>
            </a:b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Subtitle 4"/>
          <p:cNvSpPr/>
          <p:nvPr/>
        </p:nvSpPr>
        <p:spPr>
          <a:xfrm>
            <a:off x="900000" y="3809880"/>
            <a:ext cx="7056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20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For more information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contact the GEF Secretariat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21840" y="1196640"/>
            <a:ext cx="88218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SP provides flexible support to countries (particularly the focal points) so that they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strengthen their capac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work with the GEF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d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by the GEF Secretariat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SP components a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tional Portfolio Formulation Exercise (NPFE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ulti-stakeholder Dialogue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anded Constituency-level Workshops (ECW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ituency Meetings (Council Member support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rect support to operational focal point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miliarization Seminar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Country Support  Progamme </a:t>
            </a:r>
            <a:br>
              <a:rPr sz="3400"/>
            </a:b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General Issues</a:t>
            </a:r>
            <a:endParaRPr b="1" lang="en-US" sz="3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1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93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roughout the GEF’s history, country programming has been traditionally mediated by the GEF Agencie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4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rthe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trengthen GEF’s strategic engagement at country-leve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ach country can now prepare, with GEF financial support, a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ational Portfolio Formulation Exercis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5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PFE is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ot a prerequisite for GEF project funding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6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vers all relevant focal are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describes how GEF allocations will be programmed with projects/programs that reflect national/regional priorities to benefit the global environmen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240" y="260280"/>
            <a:ext cx="853452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2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9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paration of NPFE should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nsultative and participato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coordinated by GEF Operational Focal Point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0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shall select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experienced and compet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ional entity to conduct the exercise.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1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ries that decide to conduct portfolio exercises will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granted up to $30,000 USD</a:t>
            </a:r>
            <a:r>
              <a:rPr b="0" lang="en-US" sz="2200" spc="-1" strike="noStrike">
                <a:solidFill>
                  <a:srgbClr val="bf3611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the corporate programs budge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2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l documents will be shared with respective conventions fo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public disclosure and on the GEF Web sit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3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ed throug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direct ac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dality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0" y="1341360"/>
            <a:ext cx="9144000" cy="44866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dialogue with GEF Secretariat the country prepares the proposal (including the budget).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he selected national entity must fill out Simplified Financial Management Assessment Report.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Secretariat clears the proposal and the CEO approves it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documents are signed between the country and the GEF CE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undertakes the national portfolio formulation exercise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ce the national portfolio formulation exercise has been completed, an activity finalization report is submitted to the Secretariat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Including financial disbursement requirements and audit report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600" spc="-1" strike="noStrike">
                <a:solidFill>
                  <a:srgbClr val="00642d"/>
                </a:solidFill>
                <a:latin typeface="Calibri"/>
              </a:rPr>
              <a:t>National Portfolio Formulation Exercise  - Implementation process (3)</a:t>
            </a:r>
            <a:endParaRPr b="1" lang="en-US" sz="26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391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Dialogue among multiple interested parties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8920" y="1557360"/>
            <a:ext cx="8425080" cy="414648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alogue follows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uidelines for the National Dialogue Initiative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 is to provid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lexible suppo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vening national meetings, aim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 share and enrich th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xperiences of the various parties involved in sustainable development activiti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to result in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ing of donor coord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clarification of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ill b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t the request of the operational focal point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/Expanded Constituency Workshops (ECW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79280" y="1557000"/>
            <a:ext cx="8856720" cy="3988080"/>
          </a:xfrm>
          <a:prstGeom prst="rect">
            <a:avLst/>
          </a:prstGeom>
          <a:solidFill>
            <a:srgbClr val="ccd5cc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ar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ce a yea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provide information on the strategies, policies, and procedures of the GEF and to encourage coordination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invite, in addition to the GEF focal points, the convention focal points and civil society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p to 6 participants per country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rganized by the GEF 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agenda is prepared to reflect participants’ need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number of countries/participants so permits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ore than one constituency may meet at the same time 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 (Constituency Meetings and Direct Support for Operational Focal Points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50560" y="1699920"/>
            <a:ext cx="8553240" cy="4450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ariat financ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e Constituency meeting a yea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ned by the Council Member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ncil member receiv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3,000 for logistic suppor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urpose of the meeting is to discuss Council meeting documents and agree on a joint position on issues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Support for Operational Focal Points i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9,0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year, based on the Annual Work Plan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conduct activities that facilitate their work as Operational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391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Knowledge Management and Familiarization Seminars</a:t>
            </a:r>
            <a:r>
              <a:rPr b="1" lang="es-ES_tradnl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560" y="1643040"/>
            <a:ext cx="8481960" cy="4247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Management: This component will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reflect the evolving needs of GEF focal poi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the needs of other relevant stakeholder groups, in particular convention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75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omponent will also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include information on the adaptation fun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dministered by the GEF (Least Developed Countries Fund and  Special Climate Change Fund)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familiarization seminars will be held once a year in Washington, D.C. to train a number of (new) country focal points and GEF Agency staff on GEF strategies,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wb350798</cp:lastModifiedBy>
  <dcterms:modified xsi:type="dcterms:W3CDTF">2011-11-01T18:25:13Z</dcterms:modified>
  <cp:revision>491</cp:revision>
  <dc:subject/>
  <dc:title>PowerPoint Presentation</dc:title>
</cp:coreProperties>
</file>