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91920"/>
            <a:ext cx="4616640" cy="34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238E-8904-46B5-92A2-2EDDE32D8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584C-5B10-4711-B363-61A4AC29F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B83A-EA9E-45DF-BFCB-E76213DD8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6EE0-5621-41C0-A2AF-664870636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628C-F5C3-4842-A4ED-72F7F9DCA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DA69-AED3-4E38-9A5D-A3259DD8B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0C5C-37B7-4583-9D3B-41476944F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E9A8-D1C3-4115-842C-2EE08A97F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F4E1-1F22-4925-941B-AD2D2B865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2F78-1A6A-4129-818F-BFEEED1C5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EA93-C569-4074-A689-F8EACDEF1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827E-18E5-4FDB-A266-5AABA2B7F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616640" cy="3462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688B-88C1-4619-97B5-FDC83C9FF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A25-737F-4EAA-AED7-83716339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992-BCB1-41FF-B8B7-E898C04A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020-76AD-42A3-BB4E-B1296D95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2F4-BA64-4F6C-B633-FF628CE0F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C50-3030-443F-8A80-3189E93C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271-7862-4873-A7BE-220B5B9D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D6A-D20A-4784-AD3B-E6461886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9C0-1DDE-45E2-9D9C-01E59284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CB4-5699-46FF-85BB-28FF0B8A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1AF-311A-4F5E-AEE3-11B94E0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421-8FBF-4FE7-BD90-EB2DEDF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6E7-4864-4B6E-8C8A-E9A9559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9287-5638-4CFA-9956-3F582C5B5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Программа малых грантов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46080" y="3809880"/>
            <a:ext cx="723924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414360" y="558720"/>
            <a:ext cx="72864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27800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49200" y="4827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58ed5"/>
                </a:solidFill>
                <a:latin typeface="Calibri"/>
              </a:rPr>
              <a:t>Рамки финансирования: ресурсы, выделяемые в рамках системы транспарентного распределения ресурсов (СТАР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380880" y="2351160"/>
            <a:ext cx="8229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ля страновых программ, отнесенных к категориям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I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ны, которым в рамках СТА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бщей сложности ассигновано не боле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, а максимальная совокупная сумма составляет не боле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. В среднем в год может быть ассигновано до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6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л. СШ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ны, которым в рамках СТАР в общей сложности ассигновано более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, лишаются доступа к основному финансированию в рамках ПМГ, и им необходимо финансировать свои проекты за счет средств, выделяемых в рамках СТАР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ая совокупная сумма составляет не более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лн. долл. США. В среднем в год может быть ассигновано до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9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долл. СШ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ана, впервые включенная в ПМГ, которой выделяются средства в рамках СТАР, может заложить в программу пропорциональную сумму средств, выделенных в рамках СТАР. На второй год и впоследствии страна финансируется в изложенном выше стандартном порядк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одзаголовок 2"/>
          <p:cNvSpPr/>
          <p:nvPr/>
        </p:nvSpPr>
        <p:spPr>
          <a:xfrm>
            <a:off x="449280" y="5684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одзаголовок 2"/>
          <p:cNvSpPr/>
          <p:nvPr/>
        </p:nvSpPr>
        <p:spPr>
          <a:xfrm>
            <a:off x="1293840" y="2318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1249200" y="4366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15328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вые страны региона в рамках ГЭФ-5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600"/>
            </a:br>
            <a:br>
              <a:rPr sz="36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осси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уркменист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одзаголовок 2"/>
          <p:cNvSpPr/>
          <p:nvPr/>
        </p:nvSpPr>
        <p:spPr>
          <a:xfrm>
            <a:off x="479520" y="57960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одзаголовок 2"/>
          <p:cNvSpPr/>
          <p:nvPr/>
        </p:nvSpPr>
        <p:spPr>
          <a:xfrm>
            <a:off x="1309680" y="2462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одзаголовок 2"/>
          <p:cNvSpPr/>
          <p:nvPr/>
        </p:nvSpPr>
        <p:spPr>
          <a:xfrm>
            <a:off x="1249200" y="44460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одзаголовок 2"/>
          <p:cNvSpPr/>
          <p:nvPr/>
        </p:nvSpPr>
        <p:spPr>
          <a:xfrm>
            <a:off x="473040" y="5684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130176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одзаголовок 2"/>
          <p:cNvSpPr/>
          <p:nvPr/>
        </p:nvSpPr>
        <p:spPr>
          <a:xfrm>
            <a:off x="1249200" y="45252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Что такое ПМГ ГЭФ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рамках ПМГ поддерживаются инициативы на уровне местных общин по целому ряду глобальных проблем окружающей среды, решением которых занимается ГЭ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МГ основана на принципе "думай в глобальном масштабе, действуй на места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"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"Публичное лицо" ГЭФ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многих случаях ПМГ охвачены наиболее бедные и уязвимые группы населения и общ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чно такие общины не имеют достаточных возможностей для решения глобальных проблем окружающей 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-15228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7" name="Подзаголовок 2"/>
          <p:cNvSpPr/>
          <p:nvPr/>
        </p:nvSpPr>
        <p:spPr>
          <a:xfrm>
            <a:off x="457200" y="4078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273320" y="7632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1265400" y="2840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Как она работает</a:t>
            </a: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Г реализуется ПРОО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глобальном уровне: управляется Центральной группой управления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(CPMT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уровне стран: Национальный координатор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 один помощник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утверждаются только на национальном/субрегиональном уровнях Национальным руководящим комит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став Национального руководящего комитета входя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дставители организаций гражданского общества и местных общественных организаций (всегда в большинстве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редставители государственных органов и учреждений (обычно руководитель специализированного подразделения или уполномоченное им лицо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К действует в качестве секретариата Национального руководящего комите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ПМГ организациям гражданского общества и местным общественным организациям предоставляются малые гранты в размере 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финансируется ГЭФ за счет средств, поступающих в рамках его попол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40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млн. долл. США в рамках ГЭФ-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се страны могут выделять часть ресурсов, предоставленных в рамках СТАР, в соответствии с процедурами, утвержденными Советом в 2009 год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12600" y="-15228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" name="Подзаголовок 2"/>
          <p:cNvSpPr/>
          <p:nvPr/>
        </p:nvSpPr>
        <p:spPr>
          <a:xfrm>
            <a:off x="479520" y="42372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одзаголовок 2"/>
          <p:cNvSpPr/>
          <p:nvPr/>
        </p:nvSpPr>
        <p:spPr>
          <a:xfrm>
            <a:off x="1293840" y="9360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дзаголовок 2"/>
          <p:cNvSpPr/>
          <p:nvPr/>
        </p:nvSpPr>
        <p:spPr>
          <a:xfrm>
            <a:off x="1257480" y="2970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Результаты, достигнутые в рамках ПМГ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233172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а осуществляется с 1992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ервые 18 лет в рамках программы профинансирован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6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ов на уровне общ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ем финансирования — боле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лечено боле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1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л. США в порядке софинансирования в денежной или натуральной фор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-76320"/>
            <a:ext cx="9156600" cy="1067040"/>
          </a:xfrm>
          <a:prstGeom prst="rect">
            <a:avLst/>
          </a:prstGeom>
          <a:ln w="0">
            <a:noFill/>
          </a:ln>
        </p:spPr>
      </p:pic>
      <p:sp>
        <p:nvSpPr>
          <p:cNvPr id="69" name="Подзаголовок 2"/>
          <p:cNvSpPr/>
          <p:nvPr/>
        </p:nvSpPr>
        <p:spPr>
          <a:xfrm>
            <a:off x="465120" y="5000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одзаголовок 2"/>
          <p:cNvSpPr/>
          <p:nvPr/>
        </p:nvSpPr>
        <p:spPr>
          <a:xfrm>
            <a:off x="1293840" y="15228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257480" y="37620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Результаты, достигнутые в рамках ПМГ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066680" y="2438280"/>
          <a:ext cx="6782040" cy="396720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статистические 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е су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су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ек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гран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 163 9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 8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софинансирования в денежн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 382 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 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софинансирования в натуральн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 084 8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 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ая сумма софинанс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 467 5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 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Подзаголовок 2"/>
          <p:cNvSpPr/>
          <p:nvPr/>
        </p:nvSpPr>
        <p:spPr>
          <a:xfrm>
            <a:off x="495360" y="58752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128592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257480" y="466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  <p:sp>
        <p:nvSpPr>
          <p:cNvPr id="81" name="Подзаголовок 2"/>
          <p:cNvSpPr/>
          <p:nvPr/>
        </p:nvSpPr>
        <p:spPr>
          <a:xfrm>
            <a:off x="495360" y="5763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одзаголовок 2"/>
          <p:cNvSpPr/>
          <p:nvPr/>
        </p:nvSpPr>
        <p:spPr>
          <a:xfrm>
            <a:off x="127800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243080" y="4287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  <p:sp>
        <p:nvSpPr>
          <p:cNvPr id="86" name="Подзаголовок 2"/>
          <p:cNvSpPr/>
          <p:nvPr/>
        </p:nvSpPr>
        <p:spPr>
          <a:xfrm>
            <a:off x="487440" y="5763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27800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243080" y="45252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Политика в рамках ГЭФ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страновые программы для МОРГ и НРС и программы, реализация которых продолжалась мене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 ле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страновые программы, осуществляющиеся в течение периода продолжительностью от 5 до 15 лет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ьнейшее подразделение на программы, осуществляющиеся в течение периода продолжительностью 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9 л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ы, осуществляющиеся более 15 лет, но общая сумма грантов, полученных до ГЭФ-5, составляет мене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я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I: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страновые программы, осуществляющиеся более 15 лет, общая сумма грантов на которые до ГЭФ-5 составляет более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лн. долл. СШ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495360" y="5763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1285920" y="22860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дзаголовок 2"/>
          <p:cNvSpPr/>
          <p:nvPr/>
        </p:nvSpPr>
        <p:spPr>
          <a:xfrm>
            <a:off x="1243080" y="4586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Рамки финансирования</a:t>
            </a:r>
            <a:r>
              <a:rPr b="0" lang="en-US" sz="3200" spc="-1" strike="noStrike">
                <a:solidFill>
                  <a:srgbClr val="558ed5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основные 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905120"/>
          <a:ext cx="8001000" cy="414000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мма в долл. СШ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ОРГ/Н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убрегиональные программы для МО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овые программы первого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ановые программы, осуществляющиеся в течение от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до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a (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b (9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л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тегори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(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т и более 15 лет, если общая сумма полученных грантов составляет меньш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лн. долл. СШ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Подзаголовок 2"/>
          <p:cNvSpPr/>
          <p:nvPr/>
        </p:nvSpPr>
        <p:spPr>
          <a:xfrm>
            <a:off x="465120" y="56844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одзаголовок 2"/>
          <p:cNvSpPr/>
          <p:nvPr/>
        </p:nvSpPr>
        <p:spPr>
          <a:xfrm>
            <a:off x="129384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1257480" y="458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3:06:05Z</dcterms:created>
  <dc:creator/>
  <dc:description/>
  <dc:language>en-US</dc:language>
  <cp:lastModifiedBy/>
  <dcterms:modified xsi:type="dcterms:W3CDTF">2011-11-01T21:04:35Z</dcterms:modified>
  <cp:revision>1</cp:revision>
  <dc:subject/>
  <dc:title/>
</cp:coreProperties>
</file>