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F408-2C6C-46D8-A0E2-DC4E47084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6B08-DD1B-4517-AFD2-E30001DE8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83E-89B1-4C22-95BE-07E3A687C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AA8-4624-41BD-A85C-C4E136204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5FC-8A54-4D4F-AD9E-1633E9820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F2B-D660-43BE-9315-99DEF93E1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481-ED2C-4A1C-BDC5-F95280905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200E-7BD8-411E-BDB1-08417A1DB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3A62-71F1-47AD-828C-9072540FE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292D-A3E2-4C36-87EA-3D27367C8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181-018E-4897-86FD-DA683939F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176-68DC-4CD0-BD3A-F28FD0C9A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9AC-49A3-4D8F-9F4E-A292E9416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2F3-6850-4091-A13F-52113459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541-1BC7-4CE7-B5F5-BF06A3A9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93E-2376-486C-A21F-CDE67EA0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A4E-89F2-4E70-BA4F-7BB792BF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8BC-9B07-4CFE-9791-4054D03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962-665F-4FA9-A40B-D5427E1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BEB-5D11-4CB4-9022-AD04FDB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B18-52AB-4FE1-A1F8-18592F71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E47-4A6E-4B20-BFDF-C03D25C4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2C3-D430-4245-8ECD-B4DD486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D1A-F260-4AC6-9B20-20D346AB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A42-EAE2-4B81-8692-630752D5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D1AF-458F-4D60-AC76-0B731ACAD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Программа малых грантов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46080" y="3809880"/>
            <a:ext cx="72392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414360" y="55872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49200" y="4827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58ed5"/>
                </a:solidFill>
                <a:latin typeface="Calibri"/>
              </a:rPr>
              <a:t>Рамки финансирования: ресурсы, выделяемые в рамках системы транспарентного распределения ресурсов (СТАР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80880" y="235116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страновых программ, отнесенных к категориям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ы, которым в рамках СТА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бщей сложности ассигновано не боле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, а максимальная совокупная сумма составляет не боле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. В среднем в год может быть ассигновано до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л. СШ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ы, которым в рамках СТАР в общей сложности ассигновано более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, лишаются доступа к основному финансированию в рамках ПМГ, и им необходимо финансировать свои проекты за счет средств, выделяемых в рамках СТАР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ая совокупная сумма составляет не более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. В среднем в год может быть ассигновано до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9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л. СШ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а, впервые включенная в ПМГ, которой выделяются средства в рамках СТАР, может заложить в программу пропорциональную сумму средств, выделенных в рамках СТАР. На второй год и впоследствии страна финансируется в изложенном выше стандартном поряд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44928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1293840" y="2318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249200" y="4366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5328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вые страны региона в рамках ГЭФ-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br>
              <a:rPr sz="36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сси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уркменис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одзаголовок 2"/>
          <p:cNvSpPr/>
          <p:nvPr/>
        </p:nvSpPr>
        <p:spPr>
          <a:xfrm>
            <a:off x="479520" y="57960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дзаголовок 2"/>
          <p:cNvSpPr/>
          <p:nvPr/>
        </p:nvSpPr>
        <p:spPr>
          <a:xfrm>
            <a:off x="1309680" y="2462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1249200" y="44460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47304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130176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дзаголовок 2"/>
          <p:cNvSpPr/>
          <p:nvPr/>
        </p:nvSpPr>
        <p:spPr>
          <a:xfrm>
            <a:off x="1249200" y="452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Что такое ПМГ ГЭФ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амках ПМГ поддерживаются инициативы на уровне местных общин по целому ряду глобальных проблем окружающей среды, решением которых занимается ГЭ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МГ основана на принципе "думай в глобальном масштабе, действуй на места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"Публичное лицо" ГЭ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многих случаях ПМГ охвачены наиболее бедные и уязвимые группы населения и общ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такие общины не имеют достаточных возможностей для решения глобальных проблем окруж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-15228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2"/>
          <p:cNvSpPr/>
          <p:nvPr/>
        </p:nvSpPr>
        <p:spPr>
          <a:xfrm>
            <a:off x="457200" y="4078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73320" y="763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1265400" y="2840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Как она работает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Г реализуется ПРО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глобальном уровне: управляется Центральной группой управления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CPMT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уровне стран: Национальный координатор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один помощни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утверждаются только на национальном/субрегиональном уровнях Национальным руководящим комит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став Национального руководящего комитета входя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ставители организаций гражданского общества и местных общественных организаций (всегда в большинстве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ставители государственных органов и учреждений (обычно руководитель специализированного подразделения или уполномоченное им лицо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К действует в качестве секретариата Национального руководящего комит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МГ организациям гражданского общества и местным общественным организациям предоставляются малые гранты в размере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финансируется ГЭФ за счет средств, поступающих в рамках его попол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40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лн. долл. США в рамках ГЭФ-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е страны могут выделять часть ресурсов, предоставленных в рамках СТАР, в соответствии с процедурами, утвержденными Советом в 2009 год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12600" y="-15228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Подзаголовок 2"/>
          <p:cNvSpPr/>
          <p:nvPr/>
        </p:nvSpPr>
        <p:spPr>
          <a:xfrm>
            <a:off x="479520" y="42372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293840" y="9360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1257480" y="2970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Результаты, достигнутые в рамках ПМГ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а осуществляется с 199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ервые 18 лет в рамках программы профинансирован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ов на уровне общ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 финансирования — боле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лечено боле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. США в порядке софинансирования в денежной или натуральной фор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-76320"/>
            <a:ext cx="915660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Подзаголовок 2"/>
          <p:cNvSpPr/>
          <p:nvPr/>
        </p:nvSpPr>
        <p:spPr>
          <a:xfrm>
            <a:off x="465120" y="5000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93840" y="1522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257480" y="37620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Результаты, достигнутые в рамках ПМГ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066680" y="2438280"/>
          <a:ext cx="6782040" cy="396720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статистические 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су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су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гра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 163 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 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 в денеж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 382 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 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 в натураль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 084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 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 467 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 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Подзаголовок 2"/>
          <p:cNvSpPr/>
          <p:nvPr/>
        </p:nvSpPr>
        <p:spPr>
          <a:xfrm>
            <a:off x="495360" y="5875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8592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25748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49536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243080" y="4287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48744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243080" y="452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Политика в рамках ГЭФ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 для МОРГ и НРС и программы, реализация которых продолжалась мене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, осуществляющиеся в течение периода продолжительностью от 5 до 15 ле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ьнейшее подразделение на программы, осуществляющиеся в течение периода продолжительностью 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9 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, осуществляющиеся более 15 лет, но общая сумма грантов, полученных до ГЭФ-5, составляет мене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, осуществляющиеся более 15 лет, общая сумма грантов на которые до ГЭФ-5 составляет боле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49536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128592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1243080" y="4586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Рамки финансирования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основ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905120"/>
          <a:ext cx="8001000" cy="414000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мма в долл. СШ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РГ/Н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брегиональные программы для МО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овые программы перв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овые программы, осуществляющиеся в течение от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д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a (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b (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 и более 15 лет, если общая сумма полученных грантов составляет меньш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Подзаголовок 2"/>
          <p:cNvSpPr/>
          <p:nvPr/>
        </p:nvSpPr>
        <p:spPr>
          <a:xfrm>
            <a:off x="46512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29384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1257480" y="458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3:06:05Z</dcterms:created>
  <dc:creator/>
  <dc:description/>
  <dc:language>en-US</dc:language>
  <cp:lastModifiedBy/>
  <dcterms:modified xsi:type="dcterms:W3CDTF">2011-11-01T21:04:35Z</dcterms:modified>
  <cp:revision>1</cp:revision>
  <dc:subject/>
  <dc:title/>
</cp:coreProperties>
</file>