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13D-A6DD-4AD1-B3FF-C01553096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777-DAA0-46FC-83A8-71A17068B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626-83B1-4878-9D9C-CD126C32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6760-F9B1-43F9-A32E-C7EEB5CCD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ED8-E256-43A9-AB2A-3B1CCF100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2A7-33CA-41AE-ABD2-EC35BF226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53F0-3FAC-4A6D-BD17-246D75FB3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AF3-E3B2-4476-B4AC-AFBE50AF2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1E8B-5700-4C61-B9BE-5FBFCC409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78E-6357-4312-A687-B6015942E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568-447E-47B9-A160-CBB3594CB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F5A8-3F7C-48F0-A93E-71D0CB2B2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7FB-D76F-4670-9C30-B8406251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E50-43FA-43CD-A87E-CF288244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A2E-56E7-4397-9BF1-4061B85F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51D-C5FA-4C2A-A868-E7D8A236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9C4-EF04-4C68-A205-7E8926E9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973-B553-4D7D-A2AB-36D46D00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A57-B788-4FB8-9B5A-1968AB29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CA3-8443-4E1A-84E2-76613FE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DC9-251C-4F1D-A7A6-B148AB7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B8B-1771-4F77-83E8-763F580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F5-A6CF-47C1-A64A-94C911D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935-B128-4164-BC3D-D35CDF8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CB0-0458-48A1-B57E-0F2B0FF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6E7C-84A6-4252-85FB-4BE7D83F7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Программа малых грантов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46080" y="3809880"/>
            <a:ext cx="72392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414360" y="55872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49200" y="482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58ed5"/>
                </a:solidFill>
                <a:latin typeface="Calibri"/>
              </a:rPr>
              <a:t>Рамки финансирования: ресурсы, выделяемые в рамках системы транспарентного распределения ресурсов (СТАР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80880" y="235116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страновых программ, отнесенных к категориям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бщей сложности ассигновано не боле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а максимальная совокупная сумма составляет не боле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 в общей сложности ассигновано более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лишаются доступа к основному финансированию в рамках ПМГ, и им необходимо финансировать свои проекты за счет средств, выделяемых в рамках СТАР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ая совокупная сумма составляет не более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9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а, впервые включенная в ПМГ, которой выделяются средства в рамках СТАР, может заложить в программу пропорциональную сумму средств, выделенных в рамках СТАР. На второй год и впоследствии страна финансируется в изложенном выше стандартном поряд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44928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93840" y="231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249200" y="4366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5328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вые страны региона в рамках ГЭФ-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br>
              <a:rPr sz="36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сси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уркменис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одзаголовок 2"/>
          <p:cNvSpPr/>
          <p:nvPr/>
        </p:nvSpPr>
        <p:spPr>
          <a:xfrm>
            <a:off x="479520" y="5796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1309680" y="246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49200" y="4446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47304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30176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дзаголовок 2"/>
          <p:cNvSpPr/>
          <p:nvPr/>
        </p:nvSpPr>
        <p:spPr>
          <a:xfrm>
            <a:off x="124920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Что такое ПМГ ГЭФ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амках ПМГ поддерживаются инициативы на уровне местных общин по целому ряду глобальных проблем окружающей среды, решением которых занимается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МГ основана на принципе "думай в глобальном масштабе, действуй на места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"Публичное лицо"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многих случаях ПМГ охвачены наиболее бедные и уязвимые группы населения и общ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такие общины не имеют достаточных возможностей для решения глобальных проблем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2"/>
          <p:cNvSpPr/>
          <p:nvPr/>
        </p:nvSpPr>
        <p:spPr>
          <a:xfrm>
            <a:off x="457200" y="4078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73320" y="763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265400" y="2840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Как она работает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Г реализуется ПРО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глобальном уровне: управляется Центральной группой управления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CPMT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уровне стран: Национальный координатор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один помощн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утверждаются только на национальном/субрегиональном уровнях Национальным руководящим комит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став Национального руководящего комитета входя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организаций гражданского общества и местных общественных организаций (всегда в большинстве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государственных органов и учреждений (обычно руководитель специализированного подразделения или уполномоченное им лицо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 действует в качестве секретариата Национального руководящего комит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МГ организациям гражданского общества и местным общественным организациям предоставляются малые гранты в размер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финансируется ГЭФ за счет средств, поступающих в рамках его попол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40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лн. долл. США в рамках ГЭФ-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е страны могут выделять часть ресурсов, предоставленных в рамках СТАР, в соответствии с процедурами, утвержденными Советом в 2009 год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Подзаголовок 2"/>
          <p:cNvSpPr/>
          <p:nvPr/>
        </p:nvSpPr>
        <p:spPr>
          <a:xfrm>
            <a:off x="479520" y="4237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93840" y="9360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257480" y="2970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осуществляется с 199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ервые 18 лет в рамках программы профинансирова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ов на уровне общ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 финансирования —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лечено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 в порядке софинансирования в денежной или натуральной фор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-76320"/>
            <a:ext cx="915660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Подзаголовок 2"/>
          <p:cNvSpPr/>
          <p:nvPr/>
        </p:nvSpPr>
        <p:spPr>
          <a:xfrm>
            <a:off x="465120" y="5000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93840" y="1522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257480" y="3762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066680" y="2438280"/>
          <a:ext cx="6782040" cy="396720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татистические 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гра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 163 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 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денеж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 382 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 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натураль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 084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 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 467 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 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Подзаголовок 2"/>
          <p:cNvSpPr/>
          <p:nvPr/>
        </p:nvSpPr>
        <p:spPr>
          <a:xfrm>
            <a:off x="495360" y="587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5748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43080" y="428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48744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24308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Политика в рамках ГЭФ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 для МОРГ и НРС и программы, реализация которых продолжалась мене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в течение периода продолжительностью от 5 до 15 ле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ьнейшее подразделение на программы, осуществляющиеся в течение периода продолжительностью 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9 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, осуществляющиеся более 15 лет, но общая сумма грантов, полученных до ГЭФ-5, составляет мене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более 15 лет, общая сумма грантов на которые до ГЭФ-5 составляет боле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1243080" y="458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Рамки финансирования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основ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905120"/>
          <a:ext cx="8001000" cy="414000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мма в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РГ/Н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брегиональные программы для МО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 перв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, осуществляющиеся в течение о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д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a (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b (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 и более 15 лет, если общая сумма полученных грантов составляет меньш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Подзаголовок 2"/>
          <p:cNvSpPr/>
          <p:nvPr/>
        </p:nvSpPr>
        <p:spPr>
          <a:xfrm>
            <a:off x="46512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29384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1257480" y="458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3:06:05Z</dcterms:created>
  <dc:creator/>
  <dc:description/>
  <dc:language>en-US</dc:language>
  <cp:lastModifiedBy/>
  <dcterms:modified xsi:type="dcterms:W3CDTF">2011-11-01T21:04:35Z</dcterms:modified>
  <cp:revision>1</cp:revision>
  <dc:subject/>
  <dc:title/>
</cp:coreProperties>
</file>