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F25F-C516-453E-902B-AD18F78498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E8B-B947-4C13-85FB-101CB331C5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A4D-510B-4B9D-A279-DD6A3E26E3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5EE-42E1-478C-832B-DD405B43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973-99C3-4994-B9DF-BF496A44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BA1-512E-424D-A02C-469D42E7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9FE-0052-4E7D-815D-62C4F5EB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8C0-0105-4591-9481-E867DD6C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744-6313-44B3-935E-419F16E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91C-0322-4E72-8D55-4D71EF4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E8A-9B59-4D9D-BF8E-2FDB8507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82E-DC70-4E79-859E-B08BBC4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1E9-9A30-4AD3-B322-5AB878E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A68-8A19-4058-8B2C-4FBEFD2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E86-FDB4-4737-BFC7-18023B2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303F-4275-4DDA-B024-48A1F1832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-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ussia and Turkmenista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20:46:42Z</dcterms:modified>
  <cp:revision>62</cp:revision>
  <dc:subject/>
  <dc:title>GEF Small Grants Program</dc:title>
</cp:coreProperties>
</file>