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73A9-07DC-4ACA-8DE7-713D8F34EF5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4D41-2EC8-44CE-AEC9-5CF12AAE74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C50-DAD6-4982-82FC-9C0695ADD9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20D-232F-4BA1-BDCD-3B21E80C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8D4-AF63-4376-826B-A273BB1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F76-75EC-4AD5-A88D-2BD4E4E3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52B-B794-451C-8686-9B285C89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CE6-B4C7-49E9-A480-F5171299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39C-2B6E-4F1F-9065-27CC32EE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C63-4481-448B-AF64-257A12A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198-78D2-4225-B405-A44AA61B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B40-14E0-4BCE-8D27-32D65BC5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49E-697C-4563-B5E6-99ACD8CB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0C2-2F63-4EF4-BCB1-1D3A1280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4AD-37D0-49D1-B67F-CC6A2FA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FED-79D2-421D-83B9-DD87E30D0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-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ussia and Turkmenista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20:46:42Z</dcterms:modified>
  <cp:revision>62</cp:revision>
  <dc:subject/>
  <dc:title>GEF Small Grants Program</dc:title>
</cp:coreProperties>
</file>