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A8BE-C9BD-4240-8EF1-CDA009E5AD9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3B5-B406-4071-AFBD-EFC7435A8E7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7867-9A03-47AE-9852-7B08AFDA47B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1B07-511E-4F36-A9E1-B5346F84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8F3F-6131-41CF-9DBA-1F2DB1BA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EE6-9559-452D-9A3E-20D7560A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101-C0C0-4107-BDA2-7F0B5B2B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BA7-9C21-4817-AE33-D4AB18F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D00-29F7-4625-A467-9A17536B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47F-0981-4E1D-9627-18402F9A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E88-95AE-4509-BFF4-4DDBDCC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147-7AEF-4CBE-AA01-2C8B0111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CCEB-5F1E-4AD1-9C80-94AF407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4D1C-A061-4DA0-A98F-48F962B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A15-FD22-4CEF-9C9A-C511B69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5DD9-D680-4772-B431-F36377772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ussia and Turkmenistan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20:46:42Z</dcterms:modified>
  <cp:revision>62</cp:revision>
  <dc:subject/>
  <dc:title>GEF Small Grants Program</dc:title>
</cp:coreProperties>
</file>