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7700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8DEE-E631-4E04-B9F7-5C1F34D6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F883-6DD3-4136-B730-D414DBC2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A5E4-05F6-4CB3-A566-E2470B8B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43BE-C095-42A0-8E0C-072F85CF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52480" y="7596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F570-B166-4FC5-A6A6-17BB8CC9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80C-7EAA-49FD-84DC-2B438C88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E271-43B1-4F1A-8917-12BD2517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429B-5C71-4310-A8B5-46DC95CD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52480" y="7596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1635-76F1-43D9-995A-B915C8EF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0D67-69FF-4AAF-AF59-1012E9DF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CCA4-392C-49A5-88F4-3F984453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11B5-14EA-4E8A-BFDF-017F001E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"/>
          <p:cNvPicPr/>
          <p:nvPr/>
        </p:nvPicPr>
        <p:blipFill>
          <a:blip r:embed="rId2"/>
          <a:stretch/>
        </p:blipFill>
        <p:spPr>
          <a:xfrm>
            <a:off x="0" y="6705720"/>
            <a:ext cx="9144000" cy="190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1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E1DA-DB54-404D-A377-813E00B9E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7" descr="sgplogo"/>
          <p:cNvPicPr/>
          <p:nvPr/>
        </p:nvPicPr>
        <p:blipFill>
          <a:blip r:embed="rId4"/>
          <a:stretch/>
        </p:blipFill>
        <p:spPr>
          <a:xfrm>
            <a:off x="7924680" y="5943600"/>
            <a:ext cx="106704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6705720"/>
            <a:ext cx="9144000" cy="190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1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4" descr="sgplogo"/>
          <p:cNvPicPr/>
          <p:nvPr/>
        </p:nvPicPr>
        <p:blipFill>
          <a:blip r:embed="rId4"/>
          <a:stretch/>
        </p:blipFill>
        <p:spPr>
          <a:xfrm>
            <a:off x="152280" y="5518080"/>
            <a:ext cx="1828800" cy="1111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7" descr="bundp170mm"/>
          <p:cNvPicPr/>
          <p:nvPr/>
        </p:nvPicPr>
        <p:blipFill>
          <a:blip r:embed="rId5"/>
          <a:stretch/>
        </p:blipFill>
        <p:spPr>
          <a:xfrm>
            <a:off x="8466120" y="138240"/>
            <a:ext cx="52560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8" descr="GEFlogo_short_Green"/>
          <p:cNvPicPr/>
          <p:nvPr/>
        </p:nvPicPr>
        <p:blipFill>
          <a:blip r:embed="rId6"/>
          <a:stretch/>
        </p:blipFill>
        <p:spPr>
          <a:xfrm>
            <a:off x="7315200" y="76320"/>
            <a:ext cx="1035000" cy="1152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7162920" y="0"/>
            <a:ext cx="1143000" cy="1295280"/>
          </a:xfrm>
          <a:prstGeom prst="rect">
            <a:avLst/>
          </a:prstGeom>
          <a:solidFill>
            <a:srgbClr val="feb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762120" y="198108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The GEF Small Grants Program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GEF_seal_20_Final.jpg"/>
          <p:cNvPicPr/>
          <p:nvPr/>
        </p:nvPicPr>
        <p:blipFill>
          <a:blip r:embed="rId1"/>
          <a:stretch/>
        </p:blipFill>
        <p:spPr>
          <a:xfrm>
            <a:off x="7162920" y="1522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SGP PHILLIPIN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920" y="1447560"/>
            <a:ext cx="449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tart up Year: 199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otal Number of Projects: 273 projec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Grant Amount: USD 9.5 mill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 Cash Co-financing and in-kind: more than 9.5 mill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92" name="Straight Arrow Connector 13"/>
          <p:cNvCxnSpPr/>
          <p:nvPr/>
        </p:nvCxnSpPr>
        <p:spPr>
          <a:xfrm flipH="1" flipV="1">
            <a:off x="5866560" y="4190760"/>
            <a:ext cx="25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93" name="Picture 10" descr="D:\2004 Projects\SGP\collage1.jpg"/>
          <p:cNvPicPr/>
          <p:nvPr/>
        </p:nvPicPr>
        <p:blipFill>
          <a:blip r:embed="rId1"/>
          <a:stretch/>
        </p:blipFill>
        <p:spPr>
          <a:xfrm>
            <a:off x="4775040" y="1295280"/>
            <a:ext cx="4368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Grants Portfolio (1992-now)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95" name="Chart 5" descr=""/>
          <p:cNvPicPr/>
          <p:nvPr/>
        </p:nvPicPr>
        <p:blipFill>
          <a:blip r:embed="rId1"/>
          <a:stretch/>
        </p:blipFill>
        <p:spPr>
          <a:xfrm>
            <a:off x="1523880" y="1755720"/>
            <a:ext cx="731520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irect and Indirect accomplish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762120" y="1395360"/>
            <a:ext cx="77724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Improve local level management and policy interven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Resulted in decrease in incidence of hunting/fishing and gathering of threatened species, slowed down habitat destruction, establishment of no-take zon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irect and Indirect accomplish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85800" y="1447920"/>
            <a:ext cx="7772400" cy="33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SGP has supported traditional IP cultu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Many projects have facilitated and sustained multi-stakeholder protection and some levels of law enforcement resulting to slow-down in forest degradation and decreases hunting press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Direct and Indirect accomplishmen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990720" y="1523880"/>
            <a:ext cx="777240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GEF SGP has supported a range of renewable technology op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Piloting and replication of micro-hydro power projects in combination with introduction of watershed an biodiversity conservation management pla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IMG_6340_1.jpg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0" y="12952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7162920" y="0"/>
            <a:ext cx="1143000" cy="1295280"/>
          </a:xfrm>
          <a:prstGeom prst="rect">
            <a:avLst/>
          </a:prstGeom>
          <a:solidFill>
            <a:srgbClr val="feb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  <a:ea typeface="Verdana"/>
              </a:rPr>
              <a:t>GEF SGP Indonesi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05" name="Picture 6" descr="GEF_seal_20_Final.jpg"/>
          <p:cNvPicPr/>
          <p:nvPr/>
        </p:nvPicPr>
        <p:blipFill>
          <a:blip r:embed="rId2"/>
          <a:stretch/>
        </p:blipFill>
        <p:spPr>
          <a:xfrm>
            <a:off x="7162920" y="1522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Indonesia Profil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07" name="Picture 3" descr="/Users/GEF_SGP/Movies/Profil SGP/Community Action Global Impact_GEF_SGP.mp4"/>
          <p:cNvPicPr/>
          <p:nvPr/>
        </p:nvPicPr>
        <p:blipFill>
          <a:blip r:embed="rId1"/>
          <a:stretch/>
        </p:blipFill>
        <p:spPr>
          <a:xfrm>
            <a:off x="-152280" y="1143000"/>
            <a:ext cx="941364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1996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759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  <a:ea typeface="ＭＳ Ｐゴシック"/>
            </a:endParaRPr>
          </a:p>
        </p:txBody>
      </p:sp>
      <p:pic>
        <p:nvPicPr>
          <p:cNvPr id="109" name="Picture 3" descr="DSC_4076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1390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4247280" y="1600200"/>
            <a:ext cx="455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Verdana"/>
                <a:ea typeface="Verdana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10:53:43Z</dcterms:created>
  <dc:creator>Enayet Rasul</dc:creator>
  <dc:description/>
  <dc:language>en-US</dc:language>
  <cp:lastModifiedBy>wb350798</cp:lastModifiedBy>
  <dcterms:modified xsi:type="dcterms:W3CDTF">2011-11-01T18:26:11Z</dcterms:modified>
  <cp:revision>73</cp:revision>
  <dc:subject/>
  <dc:title>Slide 1</dc:title>
</cp:coreProperties>
</file>