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A27-EBF5-4ED1-8C70-035D0736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D4B-EF36-42C1-BB6A-1EF69C4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196-631E-4300-944E-241EAA49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849-768B-48F4-9407-9634D8C1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B7E-6863-4FF4-AB56-33B353AE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136-8EB9-426B-9593-13716D4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813-1652-4716-B7EA-A60BEDC6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873-7803-4965-A09B-27E11B7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7EB-011E-45D8-8BF5-E19A5F3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637-D87A-4A8E-86B2-D38FCBE0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4DD-0E1E-4F4E-8CFA-F9FAB1A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EA1-6EDC-4EC3-9492-C82894E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E4CC-1A1A-4DE1-874D-43A5E1279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sgplogo"/>
          <p:cNvPicPr/>
          <p:nvPr/>
        </p:nvPicPr>
        <p:blipFill>
          <a:blip r:embed="rId4"/>
          <a:stretch/>
        </p:blipFill>
        <p:spPr>
          <a:xfrm>
            <a:off x="7924680" y="5943600"/>
            <a:ext cx="10670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sgplogo"/>
          <p:cNvPicPr/>
          <p:nvPr/>
        </p:nvPicPr>
        <p:blipFill>
          <a:blip r:embed="rId4"/>
          <a:stretch/>
        </p:blipFill>
        <p:spPr>
          <a:xfrm>
            <a:off x="152280" y="5518080"/>
            <a:ext cx="182880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bundp170mm"/>
          <p:cNvPicPr/>
          <p:nvPr/>
        </p:nvPicPr>
        <p:blipFill>
          <a:blip r:embed="rId5"/>
          <a:stretch/>
        </p:blipFill>
        <p:spPr>
          <a:xfrm>
            <a:off x="8466120" y="138240"/>
            <a:ext cx="525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GEFlogo_short_Green"/>
          <p:cNvPicPr/>
          <p:nvPr/>
        </p:nvPicPr>
        <p:blipFill>
          <a:blip r:embed="rId6"/>
          <a:stretch/>
        </p:blipFill>
        <p:spPr>
          <a:xfrm>
            <a:off x="7315200" y="76320"/>
            <a:ext cx="10350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 GEF Small Grants 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EF_seal_20_Final.jpg"/>
          <p:cNvPicPr/>
          <p:nvPr/>
        </p:nvPicPr>
        <p:blipFill>
          <a:blip r:embed="rId1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SGP PHILLIPI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art up Year: 199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otal Number of Projects: 273 pro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rant Amount: USD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Cash Co-financing and in-kind: more than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92" name="Straight Arrow Connector 13"/>
          <p:cNvCxnSpPr/>
          <p:nvPr/>
        </p:nvCxnSpPr>
        <p:spPr>
          <a:xfrm flipH="1" flipV="1">
            <a:off x="5866560" y="419076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3" name="Picture 10" descr="D:\2004 Projects\SGP\collage1.jpg"/>
          <p:cNvPicPr/>
          <p:nvPr/>
        </p:nvPicPr>
        <p:blipFill>
          <a:blip r:embed="rId1"/>
          <a:stretch/>
        </p:blipFill>
        <p:spPr>
          <a:xfrm>
            <a:off x="4775040" y="1295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Grants Portfolio (1992-now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1523880" y="1755720"/>
            <a:ext cx="73152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62120" y="139536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Improve local level management and policy interven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Resulted in decrease in incidence of hunting/fishing and gathering of threatened species, slowed down habitat destruction, establishment of no-take z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1447920"/>
            <a:ext cx="77724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GP has supported traditional IP cul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Many projects have facilitated and sustained multi-stakeholder protection and some levels of law enforcement resulting to slow-down in forest degradation and decreases hunting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90720" y="1523880"/>
            <a:ext cx="77724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GEF SGP has supported a range of renewable technology o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iloting and replication of micro-hydro power projects in combination with introduction of watershed an biodiversity conservation management pla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_6340_1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12952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F SGP Indon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5" name="Picture 6" descr="GEF_seal_20_Final.jpg"/>
          <p:cNvPicPr/>
          <p:nvPr/>
        </p:nvPicPr>
        <p:blipFill>
          <a:blip r:embed="rId2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Indonesia Profi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7" name="Picture 3" descr="/Users/GEF_SGP/Movies/Profil SGP/Community Action Global Impact_GEF_SGP.mp4"/>
          <p:cNvPicPr/>
          <p:nvPr/>
        </p:nvPicPr>
        <p:blipFill>
          <a:blip r:embed="rId1"/>
          <a:stretch/>
        </p:blipFill>
        <p:spPr>
          <a:xfrm>
            <a:off x="-152280" y="1143000"/>
            <a:ext cx="94136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99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  <a:ea typeface="ＭＳ Ｐゴシック"/>
            </a:endParaRPr>
          </a:p>
        </p:txBody>
      </p:sp>
      <p:pic>
        <p:nvPicPr>
          <p:cNvPr id="109" name="Picture 3" descr="DSC_4076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13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247280" y="1600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Verdana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53:43Z</dcterms:created>
  <dc:creator>Enayet Rasul</dc:creator>
  <dc:description/>
  <dc:language>en-US</dc:language>
  <cp:lastModifiedBy>wb350798</cp:lastModifiedBy>
  <dcterms:modified xsi:type="dcterms:W3CDTF">2011-11-01T18:26:11Z</dcterms:modified>
  <cp:revision>73</cp:revision>
  <dc:subject/>
  <dc:title>Slide 1</dc:title>
</cp:coreProperties>
</file>