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FED8-256F-4F94-B25C-6AEC665FDA8A}" type="slidenum">
              <a:rPr b="0" lang="fr-F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EFD7-64BB-422B-97B0-6DD6F9D84FB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7EA3-B1EA-4DBC-887D-2C2BB6AE46D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DEA7-EE7C-4C61-96CB-2ACAF469B82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D319-75C7-48B2-99B3-B9DB759456F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4B2F-8B8E-4BA6-B9D6-0ECB107466F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FFC4-27D5-4CD1-9028-2CC4F967B52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1BE3-5215-4C32-9BC7-9EBA7EC96EA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Header Placeholder 6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</a:rPr>
              <a:t>GEF Expanded Constituency Worksho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28DD-C615-4F2E-A913-6269EDC2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A55-7586-481A-9A13-630511D5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F4F-2AE3-4FF4-8CE5-92D89AE7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641-2A7C-45CE-8E52-FC80EF4C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661-58F6-401B-84D8-029412FD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B28-6007-4104-B00C-7837F4A3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9CF-197E-451F-B4F9-646BE984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BF9-B9C9-4CC1-AB0F-3AB247BA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196-0620-4779-BC09-C3031A80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604-D005-44F3-A13D-14B14AEA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EF7-E82E-47CA-A510-E8AAE0BE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1F4-AFFD-423A-8A49-8436420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F891-5009-4253-99D2-8008679CE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ef.org/gef/csos" TargetMode="External"/><Relationship Id="rId2" Type="http://schemas.openxmlformats.org/officeDocument/2006/relationships/hyperlink" Target="http://www.gefngo.org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42d"/>
                </a:solidFill>
                <a:latin typeface="Calibri"/>
                <a:ea typeface="Arial"/>
              </a:rPr>
              <a:t>GEF’s Partnership with Civil Society Organizations </a:t>
            </a:r>
            <a:br>
              <a:rPr sz="3600"/>
            </a:br>
            <a:br>
              <a:rPr sz="18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  <p:sp>
        <p:nvSpPr>
          <p:cNvPr id="50" name="Subtitle 4"/>
          <p:cNvSpPr/>
          <p:nvPr/>
        </p:nvSpPr>
        <p:spPr>
          <a:xfrm>
            <a:off x="91440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GEF Expanded Constituenc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October 11 – 13,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42d"/>
                </a:solidFill>
                <a:latin typeface="Calibri"/>
                <a:ea typeface="Arial"/>
              </a:rPr>
              <a:t>Tashkent, Uzbekis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64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Civil Society Organizations: 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olicies and Particip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160" y="22860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F actively engages CSOs in its programs, projects and poli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Os participate in GEF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and participation in GEF projects;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olvement in policy processes through the GEF Assembly and the Counci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olicies adopted by the GEF Council, setting the foundation for CSO engagement in GEF activities on two distinct levels, projects and international policy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What is Civil Societ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F recognizes the definition of major groups agreed by Governments at the United Nations Conference on Environment and Development (UNCED) in 1992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ivil society consists of nine major groups: Non-Governmental organizations, farmers, women, the scientific and technological community, youth and children, indigenous peoples and their communities, business and industry, workers and trade unions and local authorities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is context the basic principle, as approved by the GEF Council in 1995 (GEF/C.3/5), is that CSOs/NGOs attending/observing Council meetings are defined as “non-profit organizations whose mandate, experience, expertise and capacity are relevant to the work of the GEF.”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GEF Policies Related to CSO involvement at the Project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ublic involvement in GEF-financed projec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licy approved by the GEF Council in April 19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comprises three related and often overlapping processe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ation dissem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sul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keholder particip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plies to all GEF focal areas programs and project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lls out the rationale, terms and principles for public involve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idifies operational requirement for stakeholder involvement and partnership in the design, implementation, and evaluation of GEF-financed activiti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GEF Policies  - Global Policy Lev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F Council consults with civil society organizations, including indigenous peoples organizations, before every Council including replenishment meeting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be members of CSO NGO network.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1"/>
              </a:rPr>
              <a:t>http://www.thegef.org/gef/cso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nd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gefngo.org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llowing criteria applies to selection of sponsored participa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broad based geographic representation should be ensu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evant competencies for the GEF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alance among international, national and local representatives – and wide range of views and expert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st attendance of CSOs at Council meetings should be considered and rotation among CSOs should be sou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The Rationale for Public Involvement in GEF-financed Proje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21337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blic involvement improves the performance and impact of projects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ing recipient country ownership of, and accountability for, project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dressing the social and economic needs of affected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ing partnerships among project executing agencie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ing use of skills, experiences, and knowledge, specifically of non-governmental organizations (NGOs), community and local groups, and the private sector in the design, implementation and evaluation of project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2600" y="0"/>
            <a:ext cx="9156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7:35:08Z</dcterms:created>
  <dc:creator>wb350798</dc:creator>
  <dc:description/>
  <dc:language>en-US</dc:language>
  <cp:lastModifiedBy>wb350798</cp:lastModifiedBy>
  <dcterms:modified xsi:type="dcterms:W3CDTF">2011-11-01T20:49:49Z</dcterms:modified>
  <cp:revision>72</cp:revision>
  <dc:subject/>
  <dc:title>GEF’s Partnership with Civil Society Organizations</dc:title>
</cp:coreProperties>
</file>