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071-909D-4C0D-B3D5-6AA18AD0DA5B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0A09-3B6B-4ED1-B1D6-E7A721753C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67E-24FA-4390-A52A-6EB82CA544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523-26A8-4CCC-9FED-97F7D4D17C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E0A-A49A-4284-A342-F64449C55D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B32-8CC5-464E-B73E-C4CBD5ECE1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749D-CE05-4FA4-BBF6-8B4D81E5BE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A66-AED4-43D7-8A58-642D8DF37E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BDB-B843-49EB-ADFF-141D7B1C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4EB-591B-4608-A6EF-677E344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357-8A79-4D28-BED5-916F5D1C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5CC-80A5-40B5-9AE4-FA2C23EA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05C-AE79-4835-A567-55E9D32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472-C267-4286-8095-2A49AB69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20D-9690-4A60-9C26-D32C5D1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889-A215-4196-B2B2-0E5631E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0F6-7371-4284-AA80-DE201D0D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F5C-7704-471C-870D-933728B3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A4C-FF2A-4E11-B0BA-87919ED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E47-85F8-4AEC-9094-553B3A4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855-205E-4410-BFC6-46FEC2519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20:49:49Z</dcterms:modified>
  <cp:revision>72</cp:revision>
  <dc:subject/>
  <dc:title>GEF’s Partnership with Civil Society Organizations</dc:title>
</cp:coreProperties>
</file>