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6431-24B5-4286-9F8D-5E69DDEE223E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F662-EC02-46BE-8A61-75F64587E99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6A3C-69FF-4942-BCDE-22F328A7CFA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5949-D476-49E3-8880-3593DE53C0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5F17-0635-4E69-9635-182ECA31C62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CE8F-FD21-41A0-AF14-8C5D612A3A7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C842-8947-4C04-A234-8AF44F597A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BA58-8617-44BF-B0BA-19BEAC9431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9A9-C923-41AC-8023-CED28169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BD2-E411-4E8D-9313-9CC1A775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75F-6C4A-4E87-B8CB-DBB0ABF0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728-EA89-4DBB-AB4D-20F80BB1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0B9-2D32-44C6-A92F-9C3E8969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5D3-BF90-4690-84FC-B0896DEA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5B9-F6A7-4A8C-BC90-0C669CD1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F73-3C08-4C8A-9ACA-1D7684D5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666-954E-43C4-9573-A2E68388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891-F1BE-439B-A0D3-7D2C553E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17A-05D1-4CE9-815E-1798C538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F6D-7A5F-4B0E-8B2B-E507F732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1D9E-0679-462F-83CC-B58542EC9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GEF’s Partnership with Civil Society Organizations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October 11 – 13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ivil Society Organizations: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olicies and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ctively engages CSOs in its programs, projects and poli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Os participate in GEF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and participation in GEF projects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in policy processes through the GEF Assembly and the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olicies adopted by the GEF Council, setting the foundation for CSO engagement in GEF activities on two distinct levels, projects and international policy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at is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recognizes the definition of major groups agreed by Governments at the United Nations Conference on Environment and Development (UNCED) i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society consists of nine major groups: Non-Governmental organizations, farmers, women, the scientific and technological community, youth and children, indigenous peoples and their communities, business and industry, workers and trade unions and local authorit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context the basic principle, as approved by the GEF Council in 1995 (GEF/C.3/5), is that CSOs/NGOs attending/observing Council meetings are defined as “non-profit organizations whose mandate, experience, expertise and capacity are relevant to the work of the GEF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EF Policies Related to CSO involvement at the Project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ublic involvement in GEF-financed projec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approved by the GEF Council in April 199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comprises three related and often overlapping process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disse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keholder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es to all GEF focal areas programs and project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lls out the rationale, terms and principles for public involv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idifies operational requirement for stakeholder involvement and partnership in the design, implementation, and evaluation of GEF-financed activ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EF Policies  - Global Policy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F Council consults with civil society organizations, including indigenous peoples organizations, before every Council including replenishment meet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be members of CSO NGO network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ing criteria applies to selection of sponsored 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broad based geographic representation should be ensu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evant competencies for the GEF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among international, national and local representatives – and wide range of views and expert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t attendance of CSOs at Council meetings should be considered and rotation among CSOs should be sou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The Rationale for Public Involvement in GEF-financed Proje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improves the performance and impact of project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ing recipient country ownership of, and accountability for, project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ing the social and economic needs of affected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artnerships among project executing agencie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use of skills, experiences, and knowledge, specifically of non-governmental organizations (NGOs), community and local groups, and the private sector in the design, implementation and evaluation of project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dcterms:modified xsi:type="dcterms:W3CDTF">2011-11-01T20:49:49Z</dcterms:modified>
  <cp:revision>72</cp:revision>
  <dc:subject/>
  <dc:title>GEF’s Partnership with Civil Society Organizations</dc:title>
</cp:coreProperties>
</file>