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3C25-1116-42C8-B1D6-8C2C8080AD1D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C23A-4569-40AC-9D68-B026471C7A1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1FBF-9874-4A6B-8EA2-3C55B0AB04F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8087-260E-4FC9-A2D6-E9C71FE990A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22A2-81C2-4D29-A451-EDCB0024D03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258D-EC5E-400B-BD17-FE448C18F30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EC81-44DA-4ABB-A191-D54D0FFEF6F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09CE-CD09-4727-8994-CABC10AC28B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CE4-45D1-4ACE-92E0-AB8D6B77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D44A-E479-4BF1-BDCE-51CAA60D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9494-F348-4ABB-8AB0-35B48D4D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F82-2B59-474B-AD39-600474EC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DCD-6D06-453A-82C5-3238ED6B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6A82-3047-4F0A-9812-BC27EF83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95C-6C27-43E8-860C-9E71B216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DED-1153-4DE0-930D-DFBA8082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EA5-1CBD-4596-B9CE-99D1B37D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A429-8CB0-4BE5-B6B9-4B2B4C23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14BE-DB7B-43D0-861A-A5524D22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32E-258D-4E13-8B85-0111439F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34EF-8DD3-4601-AEC2-D006CFD69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642d"/>
                </a:solidFill>
                <a:latin typeface="Calibri"/>
                <a:ea typeface="Arial"/>
              </a:rPr>
              <a:t>Партнерство ГЭФ с организациями гражданского общества </a:t>
            </a:r>
            <a:r>
              <a:rPr b="1" lang="ru-RU" sz="2400" spc="-1" strike="noStrike">
                <a:solidFill>
                  <a:srgbClr val="00642d"/>
                </a:solidFill>
                <a:latin typeface="Calibri"/>
                <a:ea typeface="Arial"/>
              </a:rPr>
              <a:t>(ОГО)</a:t>
            </a:r>
            <a:br>
              <a:rPr sz="1800"/>
            </a:b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1440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  <a:ea typeface="Arial"/>
              </a:rPr>
              <a:t>Семинар для членов ГЭФ в расширенном соста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11–13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  <a:ea typeface="Arial"/>
              </a:rPr>
              <a:t> октября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 2011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  <a:ea typeface="Arial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  <a:ea typeface="Arial"/>
              </a:rPr>
              <a:t>Ташкент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, 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  <a:ea typeface="Arial"/>
              </a:rPr>
              <a:t>Узбекис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0064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-7920" y="-27000"/>
            <a:ext cx="9164520" cy="1066680"/>
          </a:xfrm>
          <a:prstGeom prst="rect">
            <a:avLst/>
          </a:prstGeom>
          <a:ln w="0">
            <a:noFill/>
          </a:ln>
        </p:spPr>
      </p:pic>
      <p:sp>
        <p:nvSpPr>
          <p:cNvPr id="52" name="Подзаголовок 2"/>
          <p:cNvSpPr/>
          <p:nvPr/>
        </p:nvSpPr>
        <p:spPr>
          <a:xfrm>
            <a:off x="506520" y="549360"/>
            <a:ext cx="58392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1339920" y="25236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одзаголовок 2"/>
          <p:cNvSpPr/>
          <p:nvPr/>
        </p:nvSpPr>
        <p:spPr>
          <a:xfrm>
            <a:off x="1214280" y="444600"/>
            <a:ext cx="427680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Организации гражданского общества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политика и участ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160" y="22860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ктивно привлекает ОГО к участию в своих программах, проектах и мерах политик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ГО участвуют в 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ующим образом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влеченность и участие в проектах 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астие в процессах разработки политики в рамках Ассамблеи и Совета 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кретные меры политики, принятые Советом ГЭФ, устанавливающие основы для участия ОГО в деятельност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двух различных уровнях: проекты и международная политик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Подзаголовок 2"/>
          <p:cNvSpPr/>
          <p:nvPr/>
        </p:nvSpPr>
        <p:spPr>
          <a:xfrm>
            <a:off x="506520" y="549360"/>
            <a:ext cx="58392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одзаголовок 2"/>
          <p:cNvSpPr/>
          <p:nvPr/>
        </p:nvSpPr>
        <p:spPr>
          <a:xfrm>
            <a:off x="1339920" y="25236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одзаголовок 2"/>
          <p:cNvSpPr/>
          <p:nvPr/>
        </p:nvSpPr>
        <p:spPr>
          <a:xfrm>
            <a:off x="1214280" y="444600"/>
            <a:ext cx="427680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Что представляет собой гражданское общество</a:t>
            </a: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знает определение основных групп, согласованное правительствами на Конференции Организации Объединенных Наций по окружающей среде и развитию (ЮНСЕД) в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9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год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ажданское общество состоит из девяти основных групп: неправительственные организации, фермеры, женщины, научно-техническое сообщество, молодежь и дети, коренные народы и их общины, деловые и промышленные круги, трудящиеся и профсоюзы,  и местные  органы власти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этом контексте основной принцип, утвержденный Советом ГЭФ в 1995  году (GEF/C.3/5), заключается  в том, что ОГО/НПО, принимающие участие в качестве участников/наблюдателей в заседаниях Совета, определяются  как "некоммерческие организации, задачи, опыт, знания и потенциал которых имеют отношение к работе ГЭФ"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4" name="Подзаголовок 2"/>
          <p:cNvSpPr/>
          <p:nvPr/>
        </p:nvSpPr>
        <p:spPr>
          <a:xfrm>
            <a:off x="506520" y="549360"/>
            <a:ext cx="58392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одзаголовок 2"/>
          <p:cNvSpPr/>
          <p:nvPr/>
        </p:nvSpPr>
        <p:spPr>
          <a:xfrm>
            <a:off x="1339920" y="25236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одзаголовок 2"/>
          <p:cNvSpPr/>
          <p:nvPr/>
        </p:nvSpPr>
        <p:spPr>
          <a:xfrm>
            <a:off x="1214280" y="444600"/>
            <a:ext cx="427680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литика ГЭФ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в отношении вовлечения ОГО в свою деятельность на уровне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35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влечение общественности в процесс реализации финансируемых ГЭФ проектов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итика, утвержденная Советом ГЭФ в апреле 1996 го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влечение общественности  предусматривает три взаимосвязанных и нередко частично совпадающих процес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распространение информац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дение консультац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ие заинтересованных стор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итика относится ко всем программам и проектам в тематических областях деятельности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одержит четко сформул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основания, условия и принципы вовлечения обществ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репляет операционные требования в отношении   вовлечения заинтересованных сторон  и формирования партнерств  при планировании, осуществлении и оценке мероприятий, финансируемых 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0" name="Подзаголовок 2"/>
          <p:cNvSpPr/>
          <p:nvPr/>
        </p:nvSpPr>
        <p:spPr>
          <a:xfrm>
            <a:off x="506520" y="549360"/>
            <a:ext cx="58392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дзаголовок 2"/>
          <p:cNvSpPr/>
          <p:nvPr/>
        </p:nvSpPr>
        <p:spPr>
          <a:xfrm>
            <a:off x="1339920" y="25236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одзаголовок 2"/>
          <p:cNvSpPr/>
          <p:nvPr/>
        </p:nvSpPr>
        <p:spPr>
          <a:xfrm>
            <a:off x="1214280" y="444600"/>
            <a:ext cx="427680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Стратегия ГЭФ – уровень глобальной поли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52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овет ГЭФ проводит консультации с организациями гражданского общества, включая организации коренных народов, перед проведением каждого заседания Совета, в том числе заседаний, посвященных вопросам пополнения средств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еобходимо быть  членами сети ОГО/НПО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http://www.thegef.org/gef/csos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и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www. gefngo.org)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ледующие критерии используются  при отборе  участников, получающих спонсорскую помощь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Широкое географическое представительств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аличие соответствующей компетенции, актуальной в контексте повестки дня ГЭФ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балансированный состав международных, национальных и местных представителей  и широкий спектр мнений и опы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чет участия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ОГО в предыдущих заседаниях Совета  и необходимость ротации ОГ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Подзаголовок 2"/>
          <p:cNvSpPr/>
          <p:nvPr/>
        </p:nvSpPr>
        <p:spPr>
          <a:xfrm>
            <a:off x="506520" y="549360"/>
            <a:ext cx="58392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одзаголовок 2"/>
          <p:cNvSpPr/>
          <p:nvPr/>
        </p:nvSpPr>
        <p:spPr>
          <a:xfrm>
            <a:off x="1339920" y="25236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одзаголовок 2"/>
          <p:cNvSpPr/>
          <p:nvPr/>
        </p:nvSpPr>
        <p:spPr>
          <a:xfrm>
            <a:off x="1214280" y="444600"/>
            <a:ext cx="427680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Обоснование необходимости вовлечения общественности в проекты</a:t>
            </a: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, финансируемые ГЭ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2742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влечение общественности повышает результативность и воздействие проектов благодаря тому, чт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ается заинтересованность страны-реципиента в реализации проекта и ее ответственность за достижение результа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ываются социально-экономические потребности населения, интересы которого оказываются затронутыми в результате реализации 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лаживаются партнерские отношения между учреждениями-исполнителями проекта и заинтересованными сторон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уются навыки, опыт и знания, в частности,  неправительственных организаций (НПО), общин и местных групп, а также частного сектора при разработке, осуществлении и оценке деятельности по реализации проектов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82" name="Подзаголовок 2"/>
          <p:cNvSpPr/>
          <p:nvPr/>
        </p:nvSpPr>
        <p:spPr>
          <a:xfrm>
            <a:off x="506520" y="549360"/>
            <a:ext cx="58392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одзаголовок 2"/>
          <p:cNvSpPr/>
          <p:nvPr/>
        </p:nvSpPr>
        <p:spPr>
          <a:xfrm>
            <a:off x="1339920" y="25236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одзаголовок 2"/>
          <p:cNvSpPr/>
          <p:nvPr/>
        </p:nvSpPr>
        <p:spPr>
          <a:xfrm>
            <a:off x="1214280" y="444600"/>
            <a:ext cx="427680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808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87" name="Подзаголовок 2"/>
          <p:cNvSpPr/>
          <p:nvPr/>
        </p:nvSpPr>
        <p:spPr>
          <a:xfrm>
            <a:off x="506520" y="549360"/>
            <a:ext cx="58392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одзаголовок 2"/>
          <p:cNvSpPr/>
          <p:nvPr/>
        </p:nvSpPr>
        <p:spPr>
          <a:xfrm>
            <a:off x="1339920" y="25236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одзаголовок 2"/>
          <p:cNvSpPr/>
          <p:nvPr/>
        </p:nvSpPr>
        <p:spPr>
          <a:xfrm>
            <a:off x="1214280" y="444600"/>
            <a:ext cx="427680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7:35:08Z</dcterms:created>
  <dc:creator>wb350798</dc:creator>
  <dc:description/>
  <dc:language>en-US</dc:language>
  <cp:lastModifiedBy>wb350798</cp:lastModifiedBy>
  <cp:lastPrinted>2011-09-20T12:58:41Z</cp:lastPrinted>
  <dcterms:modified xsi:type="dcterms:W3CDTF">2011-11-01T21:05:58Z</dcterms:modified>
  <cp:revision>93</cp:revision>
  <dc:subject/>
  <dc:title>GEF’s Partnership with Civil Society Organizations</dc:title>
</cp:coreProperties>
</file>