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847E-39CF-4CC5-A3D3-7412D157D927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F8BB-87AC-4107-9C54-A9423D425B5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445E-CDAD-4CA9-8C4D-5755A44623A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6927-D2BB-43EE-83EE-BCEE7EA47C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0D7D-DE2E-4CC1-9ACB-FB66F3365A8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1B64-D45A-4E1B-87F5-F7970947E1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FBB0-7098-4154-8201-3E3393244C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FA9E-244A-4CE1-A4CD-9EF82457B99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15A-2ABA-44D2-850D-689DD453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D0A-FEF1-4E83-B906-08257F5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C11-3AD9-4246-9B62-71252373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94E-45EE-441F-94A4-4E4A3E10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950-3685-44C7-B545-41F1ECA5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2D2-4B7A-4CBE-BFFD-650A359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B00-E980-4A0D-AE0B-5520C98A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D04-EEC4-48F7-B8D0-7B8AECCC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7EA-41B8-4A01-8E5E-712CB40E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E5E-948C-4F56-84C7-0C99413D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8FAD-36AC-4B11-AFB3-9B24EB8A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B74-5F31-456B-A437-68987F8A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A33A-FFCC-426C-9BB1-D6580E440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42d"/>
                </a:solidFill>
                <a:latin typeface="Calibri"/>
                <a:ea typeface="Arial"/>
              </a:rPr>
              <a:t>Партнерство ГЭФ с организациями гражданского общества </a:t>
            </a:r>
            <a:r>
              <a:rPr b="1" lang="ru-RU" sz="2400" spc="-1" strike="noStrike">
                <a:solidFill>
                  <a:srgbClr val="00642d"/>
                </a:solidFill>
                <a:latin typeface="Calibri"/>
                <a:ea typeface="Arial"/>
              </a:rPr>
              <a:t>(ОГО)</a:t>
            </a:r>
            <a:br>
              <a:rPr sz="18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Семинар для членов ГЭФ в расширенном соста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11–13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октября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 2011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Ташкент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, </a:t>
            </a:r>
            <a:r>
              <a:rPr b="1" lang="ru-RU" sz="2800" spc="-1" strike="noStrike">
                <a:solidFill>
                  <a:srgbClr val="00642d"/>
                </a:solidFill>
                <a:latin typeface="Calibri"/>
                <a:ea typeface="Arial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-7920" y="-27000"/>
            <a:ext cx="916452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рганизации гражданского общества</a:t>
            </a: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: </a:t>
            </a: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олитика и участ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ивно привлекает ОГО к участию в своих программах, проектах и мерах политик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ГО участвуют в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ующим образо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влеченность и участие в проектах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в процессах разработки политики в рамках Ассамблеи и Совета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кретные меры политики, принятые Советом ГЭФ, устанавливающие основы для участия ОГО в деятельности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двух различных уровнях: проекты и международная политик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Что представляет собой гражданское общество</a:t>
            </a: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знает определение основных групп, согласованное правительствами на Конференции Организации Объединенных Наций по окружающей среде и развитию (ЮНСЕД) в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99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год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ражданское общество состоит из девяти основных групп: неправительственные организации, фермеры, женщины, научно-техническое сообщество, молодежь и дети, коренные народы и их общины, деловые и промышленные круги, трудящиеся и профсоюзы,  и местные  органы власти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м контексте основной принцип, утвержденный Советом ГЭФ в 1995  году (GEF/C.3/5), заключается  в том, что ОГО/НПО, принимающие участие в качестве участников/наблюдателей в заседаниях Совета, определяются  как "некоммерческие организации, задачи, опыт, знания и потенциал которых имеют отношение к работе ГЭФ"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литика ГЭФ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 отношении вовлечения ОГО в свою деятельность на уровне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в процесс реализации финансируемых ГЭФ проектов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, утвержденная Советом ГЭФ в апреле 1996 год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влечение общественности  предусматривает три взаимосвязанных и нередко частично совпадающих процесс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распространение информ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дение консультац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заинтересованных стор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итика относится ко всем программам и проектам в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Содержит четко сформул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снования, условия и принципы вовлечения обществ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епляет операционные требования в отношении   вовлечения заинтересованных сторон  и формирования партнерств  при планировании, осуществлении и оценке мероприятий, финансируемых 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0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Стратегия ГЭФ – уровень глобальной полит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вет ГЭФ проводит консультации с организациями гражданского общества, включая организации коренных народов, перед проведением каждого заседания Совета, в том числе заседаний, посвященных вопросам пополнения средст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еобходимо быть  членами сети ОГО/НПО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(http://www.thegef.org/gef/csos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ww. gefngo.org)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ледующие критерии используются  при отборе  участников, получающих спонсорскую помощь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Широкое географическое представительств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Наличие соответствующей компетенции, актуальной в контексте повестки дня ГЭ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балансированный состав международных, национальных и местных представителей  и широкий спектр мнений и опыт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Учет участия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ОГО в предыдущих заседаниях Совета  и необходимость ротации О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Обоснование необходимости вовлечения общественности в проекты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, финансируемые ГЭ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2742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влечение общественности повышает результативность и воздействие проектов благодаря тому, чт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ается заинтересованность страны-реципиента в реализации проекта и ее ответственность за достижение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ываются социально-экономические потребности населения, интересы которого оказываются затронутыми в результате реализации проек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лаживаются партнерские отношения между учреждениями-исполнителями проекта и заинтересованными сторон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ются навыки, опыт и знания, в частности,  неправительственных организаций (НПО), общин и местных групп, а также частного сектора при разработке, осуществлении и оценке деятельности по реализации проекто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2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Подзаголовок 2"/>
          <p:cNvSpPr/>
          <p:nvPr/>
        </p:nvSpPr>
        <p:spPr>
          <a:xfrm>
            <a:off x="506520" y="549360"/>
            <a:ext cx="583920" cy="1238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одзаголовок 2"/>
          <p:cNvSpPr/>
          <p:nvPr/>
        </p:nvSpPr>
        <p:spPr>
          <a:xfrm>
            <a:off x="1339920" y="252360"/>
            <a:ext cx="2900160" cy="162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одзаголовок 2"/>
          <p:cNvSpPr/>
          <p:nvPr/>
        </p:nvSpPr>
        <p:spPr>
          <a:xfrm>
            <a:off x="1214280" y="444600"/>
            <a:ext cx="427680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cp:lastPrinted>2011-09-20T12:58:41Z</cp:lastPrinted>
  <dcterms:modified xsi:type="dcterms:W3CDTF">2011-11-01T21:05:58Z</dcterms:modified>
  <cp:revision>93</cp:revision>
  <dc:subject/>
  <dc:title>GEF’s Partnership with Civil Society Organizations</dc:title>
</cp:coreProperties>
</file>