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B65C-F78D-4B5E-9262-A6E08A8C01F2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EFF1-B57E-4F85-BC61-697D2A2E9AB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C8D7-0594-46DE-9104-CFE4FA08AD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9D18-F7B7-408D-83E5-8B24C92185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84EA-214B-4CAD-8DB3-4E52F8BC3C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0F29-C9C0-4B4F-8784-CA9E90ECA2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F408-749E-4C1A-A51E-F78C2CC62C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B04E-7B38-4052-BC4B-237595B2BD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B84-53B7-4D53-9EDD-D8A2140E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61C-E64B-4E8F-85CC-1AE5D27E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A25-7FD2-479C-8B16-F3750CE5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F23-5970-46A5-977C-991A3291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111-B27D-4F6E-B4B1-E22BE050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A06-19DF-4E96-B70F-E83CBC0E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CF4-FC67-44FF-AC7F-6F79F1EF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393-0F28-4A9D-8D94-BAD93D9E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EB0-5D8E-40DE-ABA6-B6570037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50A-8298-4758-8C4C-B8505ED0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006-4049-4CA1-B55E-726E086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AB5-1C88-490A-BE6A-A0D7C31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AF20-E2D7-4E44-96D0-E15874D2F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  <a:ea typeface="Arial"/>
              </a:rPr>
              <a:t>Партнерство ГЭФ с организациями гражданского общества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Arial"/>
              </a:rPr>
              <a:t>(ОГО)</a:t>
            </a:r>
            <a:br>
              <a:rPr sz="18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-7920" y="-27000"/>
            <a:ext cx="916452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Организации гражданского общества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литика и учас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ивно привлекает ОГО к участию в своих программах, проектах и мерах полити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ГО участвуют в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ующим образо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влеченность и участие в проектах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в процессах разработки политики в рамках Ассамблеи и Совета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кретные меры политики, принятые Советом ГЭФ, устанавливающие основы для участия ОГО в деятельнос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двух различных уровнях: проекты и международная полити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Что представляет собой гражданское общество</a:t>
            </a: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знает определение основных групп, согласованное правительствами на Конференции Организации Объединенных Наций по окружающей среде и развитию (ЮНСЕД) в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9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од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ое общество состоит из девяти основных групп: неправительственные организации, фермеры, женщины, научно-техническое сообщество, молодежь и дети, коренные народы и их общины, деловые и промышленные круги, трудящиеся и профсоюзы,  и местные  органы власти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м контексте основной принцип, утвержденный Советом ГЭФ в 1995  году (GEF/C.3/5), заключается  в том, что ОГО/НПО, принимающие участие в качестве участников/наблюдателей в заседаниях Совета, определяются  как "некоммерческие организации, задачи, опыт, знания и потенциал которых имеют отношение к работе ГЭФ"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литика ГЭФ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 отношении вовлечения ОГО в свою деятельность на уровне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влечение общественности в процесс реализации финансируемых ГЭФ проектов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ка, утвержденная Советом ГЭФ в апреле 1996 г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влечение общественности  предусматривает три взаимосвязанных и нередко частично совпадающих процес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распространение информ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дение консультац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заинтересованных стор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итика относится ко всем программам и проектам в тематических областях деятельност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одержит четко сформул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снования, условия и принципы вовлечения обществ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епляет операционные требования в отношении   вовлечения заинтересованных сторон  и формирования партнерств  при планировании, осуществлении и оценке мероприятий, финансируемых 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Стратегия ГЭФ – уровень глобально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вет ГЭФ проводит консультации с организациями гражданского общества, включая организации коренных народов, перед проведением каждого заседания Совета, в том числе заседаний, посвященных вопросам пополнения средств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обходимо быть  членами сети ОГО/НП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http://www.thegef.org/gef/csos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ww. gefngo.org)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ледующие критерии используются  при отборе  участников, получающих спонсорскую помощь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Широкое географическое представительств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соответствующей компетенции, актуальной в контексте повестки дня ГЭ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балансированный состав международных, национальных и местных представителей  и широкий спектр мнений и опы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ет участия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ОГО в предыдущих заседаниях Совета  и необходимость ротации О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Обоснование необходимости вовлечения общественности в проекты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, финансируемые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2742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влечение общественности повышает результативность и воздействие проектов благодаря тому, чт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ается заинтересованность страны-реципиента в реализации проекта и ее ответственность за достижение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ываются социально-экономические потребности населения, интересы которого оказываются затронутыми в результате реализации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лаживаются партнерские отношения между учреждениями-исполнителями проекта и заинтересованными сторон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ются навыки, опыт и знания, в частности,  неправительственных организаций (НПО), общин и местных групп, а также частного сектора при разработке, осуществлении и оценке деятельности по реализации проекто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2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cp:lastPrinted>2011-09-20T12:58:41Z</cp:lastPrinted>
  <dcterms:modified xsi:type="dcterms:W3CDTF">2011-11-01T21:05:58Z</dcterms:modified>
  <cp:revision>93</cp:revision>
  <dc:subject/>
  <dc:title>GEF’s Partnership with Civil Society Organizations</dc:title>
</cp:coreProperties>
</file>