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CC14-13E7-487C-B091-4AB6B7879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6B45-7AA3-47B8-9678-BF87F1B0C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00F5-8CF4-45EE-B3CE-8142C812B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5FB-4ACE-4F05-AB25-FF778EA8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964-A433-405E-9278-EFA6D2D2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534-DF09-4C7C-B558-07D369AB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F57-490B-40F0-B6A1-1108CF6A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696-6799-4AED-8C0A-99A32C4A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E8D-CA5A-46EC-81A6-4D946921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030-28D1-4890-B568-A8D4B6AD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AC8-A102-44BC-8AFC-3C823E6B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AF2E-BA24-4FED-AD81-A27470EA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3B7-5CA9-4976-90B4-FF15741F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040-4286-40FF-9DB8-523AEF0B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6BA-CBEA-4D2A-9F89-25802A10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C9A0-C065-4B3F-8387-6FF5EEF20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mall Grant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098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STAR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380880" y="19051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country programs in Category I and Category 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up to $15 million, a maximum cumulative amount total of $2.4 million, with an average of up to $600,000 per year can be alloca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more than $15 million will no longer be able to access the SGP’s core funding and will need to finance their projects from their STAR allocations. A maximum cumulative amount of up to $3.6 million, with an average up to $900,000 per year can be allo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new country entering the SGP with an indicative STAR country allocation can program a matching amount of STAR funds. For the second year and thereafter, the country will follow the standard guidelines abov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w Countries for GEF-5 in the region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imor Lest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ope of GEF SG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GP operationalizes the maxim “think globally, act locally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public face” of the GEF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ave low levels of capacity to adequately address global environmental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it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GP is implemented by UNDP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al level - managed by a Central Management Team (CPMT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untry level - National Coordinator (NC) and one assis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jects approved only at national/subregional level by National Steering Committe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ational Steering Committee composed of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civil society and community based organizations (always in major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government (usually OFP or his/her delega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C serves as secretariat for National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GP provides small grants up to $50,000 USD to civil society and community based organiz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program is funded by the GEF from its replenishment agreemen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0 million USD in GEF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ll countries could allocate certain STAR resources using framework adopted by the Council in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has been operational since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its first 18 years, SGP has suppor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,776 community-level 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$300.3 million in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over $414.2 million in cash and in-kind co-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066680" y="2438280"/>
          <a:ext cx="6782040" cy="3589560"/>
        </p:xfrm>
        <a:graphic>
          <a:graphicData uri="http://schemas.openxmlformats.org/drawingml/2006/table">
            <a:tbl>
              <a:tblPr/>
              <a:tblGrid>
                <a:gridCol w="2895840"/>
                <a:gridCol w="2209680"/>
                <a:gridCol w="1676520"/>
              </a:tblGrid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St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in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22,163,94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3,860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ash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6,382,767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,026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Kind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0,084,832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,18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56,467,59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1,21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Chart 5" descr=""/>
          <p:cNvPicPr/>
          <p:nvPr/>
        </p:nvPicPr>
        <p:blipFill>
          <a:blip r:embed="rId2"/>
          <a:stretch/>
        </p:blipFill>
        <p:spPr>
          <a:xfrm>
            <a:off x="530280" y="1444680"/>
            <a:ext cx="78580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Chart 4" descr=""/>
          <p:cNvPicPr/>
          <p:nvPr/>
        </p:nvPicPr>
        <p:blipFill>
          <a:blip r:embed="rId2"/>
          <a:stretch/>
        </p:blipFill>
        <p:spPr>
          <a:xfrm>
            <a:off x="225360" y="987480"/>
            <a:ext cx="87724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licy for GEF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: All SIDS and LDC country programmes and country programmes that have been in operation for fewer than 5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: All country programmes that have been in operation between 5 and 15 year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subdivided into those in operation between 5 and 9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and 12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and 15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se in operation more than 15 years but with cumulative grants received of less than $6 million before GEF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I: All country programmes that have been in operation for more than 15 years and have been able to access a cumulative total of more than $6 million in grants received before GEF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Cor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90512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ount in US$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DS/LD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-regional SID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st Year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5 Years Old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a (5-9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b (9-12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c (12-15 years, and more than 15 years with accumulated grants amount lower than $6 m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wb350798</cp:lastModifiedBy>
  <dcterms:modified xsi:type="dcterms:W3CDTF">2011-11-01T18:25:39Z</dcterms:modified>
  <cp:revision>61</cp:revision>
  <dc:subject/>
  <dc:title>GEF Small Grants Program</dc:title>
</cp:coreProperties>
</file>