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9E24-7C4B-4C01-A111-1C3CA14AE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F898-7330-4959-99D4-21EAB3B01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is predicated on the idea that community-driven, stakeholder owned, civil society and community led initiatives that generate local as well as global benefits are among the most effective ways to address global environmental challen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ffect, SGP operationalizes the maxim “think globally, act locally,” and has, based on its effectiveness at the community-level, become the “public face” of the GEF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, and participation, corporate management, democracy, flexibility, and transparency are cornerstones of the SGP appro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, and typically have low levels of capacity to adequately address global environmental proble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D321-2DED-4A94-94BC-1C583018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743-4010-4B1B-AB44-3F459760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BF89-8103-430F-BB53-94C28C16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101-5351-4058-BB60-FFCA0E7B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AD5-9435-4EE1-95CD-718B847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6A2-479A-4C0E-BCEC-9B2FEF7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4F4-3A6D-4AFD-967F-B5C6FF3F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3CF0-F9D7-4840-B5AF-71494E67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7BF-0016-4175-8572-66D483DB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C90-654C-4CC8-A4A0-7CF9002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CE4B-7E15-441F-9FF9-E6A5F73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45C1-0266-4DA8-91B0-8C034B7E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764-21B2-4A92-BA79-F5E46F62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CFFA-B164-4F34-B87B-D88DDC315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GEF Small Grants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STAR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380880" y="190512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r country programs in Category I and Category I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up to $15 million, a maximum cumulative amount total of $2.4 million, with an average of up to $600,000 per year can be allocate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untries which have an indicative overall STAR country allocation of more than $15 million will no longer be able to access the SGP’s core funding and will need to finance their projects from their STAR allocations. A maximum cumulative amount of up to $3.6 million, with an average up to $900,000 per year can be alloca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new country entering the SGP with an indicative STAR country allocation can program a matching amount of STAR funds. For the second year and thereafter, the country will follow the standard guidelines above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8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w Countries for GEF-5 in the reg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imor Lest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cope of GEF SG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GP supports community-level initiatives across the range of global environmental issues addressed by the G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GP operationalizes the maxim “think globally, act locally”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“public face” of the GEF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munities targeted by SGP are often the poorest and most vulner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ypically have low levels of capacity to adequately address global environmental problem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How it work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520" y="1905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SGP is implemented by UNDP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lobal level - managed by a Central Management Team (CPMT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untry level - National Coordinator (NC) and one assistan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ojects approved only at national/subregional level by National Steering Committe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National Steering Committee composed of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civil society and community based organizations (always in majority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atives from government (usually OFP or his/her delegat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C serves as secretariat for National Steering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GP provides small grants up to $50,000 USD to civil society and community based organization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program is funded by the GEF from its replenishment agreement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40 million USD in GEF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ll countries could allocate certain STAR resources using framework adopted by the Council in 200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gram has been operational since 19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its first 18 years, SGP has suppor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,776 community-level proje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$300.3 million in 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raging over $414.2 million in cash and in-kind co-financ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Results achieved by GEF SG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1066680" y="2438280"/>
          <a:ext cx="6782040" cy="3589560"/>
        </p:xfrm>
        <a:graphic>
          <a:graphicData uri="http://schemas.openxmlformats.org/drawingml/2006/table">
            <a:tbl>
              <a:tblPr/>
              <a:tblGrid>
                <a:gridCol w="2895840"/>
                <a:gridCol w="2209680"/>
                <a:gridCol w="1676520"/>
              </a:tblGrid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 St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Amou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in Gr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22,163,94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3,860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ash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16,382,767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,026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Kind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40,084,832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,18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mount of Co-financ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556,467,598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1,214 US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Chart 5" descr=""/>
          <p:cNvPicPr/>
          <p:nvPr/>
        </p:nvPicPr>
        <p:blipFill>
          <a:blip r:embed="rId2"/>
          <a:stretch/>
        </p:blipFill>
        <p:spPr>
          <a:xfrm>
            <a:off x="530280" y="1444680"/>
            <a:ext cx="78580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67" name="Chart 4" descr=""/>
          <p:cNvPicPr/>
          <p:nvPr/>
        </p:nvPicPr>
        <p:blipFill>
          <a:blip r:embed="rId2"/>
          <a:stretch/>
        </p:blipFill>
        <p:spPr>
          <a:xfrm>
            <a:off x="225360" y="987480"/>
            <a:ext cx="877248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Policy for GEF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8288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: All SIDS and LDC country programmes and country programmes that have been in operation for fewer than 5 yea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: All country programmes that have been in operation between 5 and 15 year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rther subdivided into those in operation between 5 and 9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9 and 12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 and 15 years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se in operation more than 15 years but with cumulative grants received of less than $6 million before GEF-5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egory III: All country programmes that have been in operation for more than 15 years and have been able to access a cumulative total of more than $6 million in grants received before GEF-5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Financial Framework: Cor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520" y="1905120"/>
          <a:ext cx="8001000" cy="4038480"/>
        </p:xfrm>
        <a:graphic>
          <a:graphicData uri="http://schemas.openxmlformats.org/drawingml/2006/table">
            <a:tbl>
              <a:tblPr/>
              <a:tblGrid>
                <a:gridCol w="5715000"/>
                <a:gridCol w="2286000"/>
              </a:tblGrid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mount in US$/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IDS/LD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b-regional SID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st Year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-5 Years Old Country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a (5-9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b (9-12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tegory IIc (12-15 years, and more than 15 years with accumulated grants amount lower than $6 mill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21:07:46Z</dcterms:created>
  <dc:creator>wb336064</dc:creator>
  <dc:description/>
  <dc:language>en-US</dc:language>
  <cp:lastModifiedBy>wb350798</cp:lastModifiedBy>
  <dcterms:modified xsi:type="dcterms:W3CDTF">2011-11-01T18:25:39Z</dcterms:modified>
  <cp:revision>61</cp:revision>
  <dc:subject/>
  <dc:title>GEF Small Grants Program</dc:title>
</cp:coreProperties>
</file>