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BF3E-AD82-474A-B9CD-DAF4B9AD8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78E3-D31B-4F20-95DD-6F0E92223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is predicated on the idea that community-driven, stakeholder owned, civil society and community led initiatives that generate local as well as global benefits are among the most effective ways to address global environment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ffect, SGP operationalizes the maxim “think globally, act locally,” and has, based on its effectiveness at the community-level, become the “public face” of the GEF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, and participation, corporate management, democracy, flexibility, and transparency are cornerstones of the SGP appro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, and typically have low levels of capacity to adequately address global environmental probl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6AB8-4BF2-45FF-93A3-485947409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399-FED1-4596-A2DF-D55D0C94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937-DC0C-4A55-B0D4-ADB79244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1A9-9D3A-45CB-8AF6-5490B04B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A19-EA4B-47F3-9144-90E47719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2E9A-3B74-4955-B7F4-F95B04A4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9F06-3EE9-42AB-B7DA-96F3663E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7A2-63DF-4C90-A47C-222E686B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C30-2E1F-456C-B5A2-9E7B1CC4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FDF3-0073-4FE5-87F8-77ED2FA8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2F1-9FA9-4C29-BEAB-B29BA579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81BA-AD13-4448-BA9D-C6BB7538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B2A-7E2A-4267-83EC-F330DCE9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6252-7D8E-4962-897E-9C876EABA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mall Grants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098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STAR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380880" y="19051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country programs in Category I and Category I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up to $15 million, a maximum cumulative amount total of $2.4 million, with an average of up to $600,000 per year can be allocat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more than $15 million will no longer be able to access the SGP’s core funding and will need to finance their projects from their STAR allocations. A maximum cumulative amount of up to $3.6 million, with an average up to $900,000 per year can be alloc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new country entering the SGP with an indicative STAR country allocation can program a matching amount of STAR funds. For the second year and thereafter, the country will follow the standard guidelines above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w Countries for GEF-5 in the region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imor Lest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cope of GEF SG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GP operationalizes the maxim “think globally, act locally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public face” of the GEF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ically have low levels of capacity to adequately address global environmental proble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How it wor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SGP is implemented by UNDP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al level - managed by a Central Management Team (CPMT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untry level - National Coordinator (NC) and one assista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jects approved only at national/subregional level by National Steering Committe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ational Steering Committee composed of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civil society and community based organizations (always in major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government (usually OFP or his/her delegat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C serves as secretariat for National Steering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GP provides small grants up to $50,000 USD to civil society and community based organiz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program is funded by the GEF from its replenishment agreement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0 million USD in GEF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ll countries could allocate certain STAR resources using framework adopted by the Council in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 has been operational since 19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its first 18 years, SGP has suppor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,776 community-level proj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$300.3 million in f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ing over $414.2 million in cash and in-kind co-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066680" y="2438280"/>
          <a:ext cx="6782040" cy="3589560"/>
        </p:xfrm>
        <a:graphic>
          <a:graphicData uri="http://schemas.openxmlformats.org/drawingml/2006/table">
            <a:tbl>
              <a:tblPr/>
              <a:tblGrid>
                <a:gridCol w="2895840"/>
                <a:gridCol w="2209680"/>
                <a:gridCol w="1676520"/>
              </a:tblGrid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St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in Gr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22,163,94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3,860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ash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16,382,767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,026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Kind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40,084,832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,18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56,467,59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1,21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Chart 5" descr=""/>
          <p:cNvPicPr/>
          <p:nvPr/>
        </p:nvPicPr>
        <p:blipFill>
          <a:blip r:embed="rId2"/>
          <a:stretch/>
        </p:blipFill>
        <p:spPr>
          <a:xfrm>
            <a:off x="530280" y="1444680"/>
            <a:ext cx="78580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Chart 4" descr=""/>
          <p:cNvPicPr/>
          <p:nvPr/>
        </p:nvPicPr>
        <p:blipFill>
          <a:blip r:embed="rId2"/>
          <a:stretch/>
        </p:blipFill>
        <p:spPr>
          <a:xfrm>
            <a:off x="225360" y="987480"/>
            <a:ext cx="87724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olicy for GEF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: All SIDS and LDC country programmes and country programmes that have been in operation for fewer than 5 yea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: All country programmes that have been in operation between 5 and 15 year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rther subdivided into those in operation between 5 and 9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9 and 12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and 15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se in operation more than 15 years but with cumulative grants received of less than $6 million before GEF-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I: All country programmes that have been in operation for more than 15 years and have been able to access a cumulative total of more than $6 million in grants received before GEF-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Core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1905120"/>
          <a:ext cx="8001000" cy="403848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ount in US$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DS/LD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b-regional SIDS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st Year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-5 Years Old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a (5-9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b (9-12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c (12-15 years, and more than 15 years with accumulated grants amount lower than $6 m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1:07:46Z</dcterms:created>
  <dc:creator>wb336064</dc:creator>
  <dc:description/>
  <dc:language>en-US</dc:language>
  <cp:lastModifiedBy>wb350798</cp:lastModifiedBy>
  <dcterms:modified xsi:type="dcterms:W3CDTF">2011-11-01T18:25:39Z</dcterms:modified>
  <cp:revision>61</cp:revision>
  <dc:subject/>
  <dc:title>GEF Small Grants Program</dc:title>
</cp:coreProperties>
</file>