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A5A8-372E-4C72-A597-2C9AC287CA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1A45-11AB-44E1-AAAA-7B329BCA50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0DDC-6F45-464B-A07C-98161ED3916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F7C3-6735-40A7-B18A-0F767181BB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5A69-702C-4653-B8EB-F02C7BFCA5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8AA7-043A-4B3A-B173-346822A771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639-4FC6-46A6-A652-159E9FD417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Grant and Co-financing based on PMIS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s Projects with the status “dropped” or “canceled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FABA-B0B9-4409-A10B-39565E855DE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3.4 billion dollars in funding South Pacific nations, for national projects, close to 95% goes to the Philippines and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3C66-2EC0-403A-8D17-DB30F99698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F3F-C85A-4CA7-8E1A-8D2C2BA946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BE9-87AF-4218-B66F-DD3DF14B02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A133-D36A-47BC-9161-B421F02DB4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011-5622-4406-88B0-70E0657CF9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3645-5E67-4EDC-9C0C-02B0BD6756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470-3A24-4E66-8775-615541AAF7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773F-2F16-4CF4-9D10-DFF7354A53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D64-7EA2-4B88-8B6C-CB9670111E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EA04-CA4C-4DD3-8FEF-8555D3246A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D3C-490F-44F7-9AD4-4888AEEE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D53-7741-4A3E-9EAB-85325C08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644-FAF0-44C3-8316-2B68BE54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49D-7E69-4478-A75F-EBFA83C0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70B4-6849-4617-998D-F600DD07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9F85-9C04-4820-87D6-BB6CA7BE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710-FCF2-42DA-AF8A-CCDDF09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ECC7-C07E-4022-8B7C-33E4F30A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043C-D595-42C2-8FF1-99D19EEB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B86-3C8D-4F2F-A6F2-CF70A586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90A6-4DB2-4EAE-91B7-C240B9F9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717-B66D-45CF-8BA7-999A78E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CBA0-C180-40F9-B1CA-9F58464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41FC-9887-49FB-A0BB-D01F0E8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99C9-6E78-499B-A714-06A1E30D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79F4-DBC2-44EF-BD04-A051001C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3A8C-548E-4E67-8EAC-3221AD43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0A468-A5D9-43C7-92E5-B5C6122B15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4F3A1-0802-40BD-ABB0-1E3A59D620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E467A-8A14-4721-92B0-4F5ECDF085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5553D-764B-4D73-AB59-38ADB8A985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39EAC-5337-468B-A6A3-7F1E48160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F61-11B1-444D-A8F9-08009669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E67DB-876D-4F0A-9FC4-63F94F8393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7DE65-29EE-4823-A4D2-8392948752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3AFF1-CB64-4517-9E3B-58092865D2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2B4FB-E2CF-42C4-B6C3-E31E454591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505F9-6CB4-4338-B2B6-29958FEB92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4FAED-CD13-4A55-B3F0-1C77AC389C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3F890-6080-4A49-9C8C-3E8201C4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7B6-9D4D-4A9C-A980-F51A874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DB9-DA50-47E1-A917-98C4EC44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72B-A44A-437B-9813-55960B6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953-AD4F-494D-9C60-7D354EE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735-8F38-4243-97F8-58393C7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B3F-7630-4302-AA8B-F578475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1D22-C867-4042-A755-B0ED494F81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7D9-BD7C-4D95-9DFD-D60F8667B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C612-969A-402D-9F95-912EE92E2D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4DE-340F-4BBF-BCF4-A83C8FB7D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08EB-EAA4-4A7C-85C0-3B14DB88D14B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hyperlink" Target="http://www.gefeo.org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16765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bert van den Be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irector,  Evalu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7 - 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872-3C03-4992-9A7F-1A59FB679A3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54AA-CBF6-452A-84F6-D3C7429F796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847-0DE1-4DE1-B1C2-89B418A931C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36E-4B79-4C61-ACF2-1B0DEED5283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2AC-F9CD-4131-8B9E-D62D6246C84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173-5081-4670-964E-F56423FF961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541-ACB0-4B9B-A34C-9783C3D152F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3110-B3B2-41A6-87E6-3E4F6E73E04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D5A-CF8A-44D4-A8D4-B880B45F180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97D-F632-4821-A8A8-73A3966C463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-based management (RBM), and Monitoring and evaluation (M&amp;E) in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CFEB-C3C1-41A8-9C6F-61D269036D2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987480" y="231840"/>
            <a:ext cx="8163000" cy="1249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218960" y="17524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o NCSAs was one of the approaches to implement the GEF capacity development strategy and UN conventions guidance to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SA aimed to identify country level priorities and needs for capacity development to address global environmental issues, holistic and long-term approach, country driven and 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is ongoing; next week the consultant will be in Dakar and Banjul; the report expected for the November 2011 GEF Counc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2FF5-61CA-413E-A267-A6EAFC7E1B9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901-1D9F-404D-AD88-F7F5102B231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3360" y="1295280"/>
          <a:ext cx="7107120" cy="4997520"/>
        </p:xfrm>
        <a:graphic>
          <a:graphicData uri="http://schemas.openxmlformats.org/drawingml/2006/table">
            <a:tbl>
              <a:tblPr/>
              <a:tblGrid>
                <a:gridCol w="1378080"/>
                <a:gridCol w="1522440"/>
                <a:gridCol w="512640"/>
                <a:gridCol w="352440"/>
                <a:gridCol w="1368360"/>
                <a:gridCol w="1973160"/>
              </a:tblGrid>
              <a:tr h="39096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BD, 85 CC, 20 IW, 16 LD, 39 MF, 25 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6 Active, 66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2940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8 Active, 4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4706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393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2.98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9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02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1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BD, 11 CC, 15 IW, 7 MF, 5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12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Co Financing   $39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 BD, 12 CC, 2 IW, 8 MF, 3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5"/>
          <p:cNvSpPr/>
          <p:nvPr/>
        </p:nvSpPr>
        <p:spPr>
          <a:xfrm>
            <a:off x="1981080" y="714240"/>
            <a:ext cx="640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k Islands, Fiji, Indonesia, Kiribati, Marshall Islands, Micronesia, Nauru, Niue, Palau, Papua New Guinea, Philippines, Samoa, Solomon Islands, Timor Leste, Tonga, Tuvalu, and Vanu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2CFD-2150-4B0E-BF12-C9ECE11E125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682800" cy="2997000"/>
          </a:xfrm>
          <a:prstGeom prst="rect">
            <a:avLst/>
          </a:prstGeom>
          <a:ln w="0">
            <a:noFill/>
          </a:ln>
        </p:spPr>
      </p:pic>
      <p:pic>
        <p:nvPicPr>
          <p:cNvPr id="237" name="Chart 6" descr=""/>
          <p:cNvPicPr/>
          <p:nvPr/>
        </p:nvPicPr>
        <p:blipFill>
          <a:blip r:embed="rId3"/>
          <a:stretch/>
        </p:blipFill>
        <p:spPr>
          <a:xfrm>
            <a:off x="1092240" y="4444920"/>
            <a:ext cx="292104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2" descr=""/>
          <p:cNvPicPr/>
          <p:nvPr/>
        </p:nvPicPr>
        <p:blipFill>
          <a:blip r:embed="rId4"/>
          <a:stretch/>
        </p:blipFill>
        <p:spPr>
          <a:xfrm>
            <a:off x="3301920" y="4444920"/>
            <a:ext cx="2921040" cy="2311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219320" y="4038480"/>
            <a:ext cx="4114800" cy="25146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795320" y="40528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Active &amp; Completed Nation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5" descr=""/>
          <p:cNvPicPr/>
          <p:nvPr/>
        </p:nvPicPr>
        <p:blipFill>
          <a:blip r:embed="rId5"/>
          <a:stretch/>
        </p:blipFill>
        <p:spPr>
          <a:xfrm>
            <a:off x="4521240" y="787320"/>
            <a:ext cx="452124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3FB6-3913-4D2C-BDCE-E551886C346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45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46" name="Chart 17" descr=""/>
          <p:cNvPicPr/>
          <p:nvPr/>
        </p:nvPicPr>
        <p:blipFill>
          <a:blip r:embed="rId4"/>
          <a:stretch/>
        </p:blipFill>
        <p:spPr>
          <a:xfrm>
            <a:off x="1816200" y="3624120"/>
            <a:ext cx="6578640" cy="314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1522440" y="11509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247176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3538440" y="1371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5105520" y="990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72200" y="262080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71200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1811160" y="403848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2852640" y="40384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6348240" y="5189400"/>
            <a:ext cx="5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7391520" y="53276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1292400" y="219240"/>
            <a:ext cx="7553160" cy="10062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E45-B5B5-478C-9FD6-B98C7D3F5CF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228600" y="186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ation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0" y="375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58720" y="53341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Chart 16" descr=""/>
          <p:cNvPicPr/>
          <p:nvPr/>
        </p:nvPicPr>
        <p:blipFill>
          <a:blip r:embed="rId2"/>
          <a:stretch/>
        </p:blipFill>
        <p:spPr>
          <a:xfrm>
            <a:off x="1114560" y="1015920"/>
            <a:ext cx="2288880" cy="2463840"/>
          </a:xfrm>
          <a:prstGeom prst="rect">
            <a:avLst/>
          </a:prstGeom>
          <a:ln w="0">
            <a:noFill/>
          </a:ln>
        </p:spPr>
      </p:pic>
      <p:pic>
        <p:nvPicPr>
          <p:cNvPr id="263" name="Chart 17" descr=""/>
          <p:cNvPicPr/>
          <p:nvPr/>
        </p:nvPicPr>
        <p:blipFill>
          <a:blip r:embed="rId3"/>
          <a:stretch/>
        </p:blipFill>
        <p:spPr>
          <a:xfrm>
            <a:off x="1397160" y="337824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4" name="Chart 18" descr=""/>
          <p:cNvPicPr/>
          <p:nvPr/>
        </p:nvPicPr>
        <p:blipFill>
          <a:blip r:embed="rId4"/>
          <a:stretch/>
        </p:blipFill>
        <p:spPr>
          <a:xfrm>
            <a:off x="1320840" y="513072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9" descr=""/>
          <p:cNvPicPr/>
          <p:nvPr/>
        </p:nvPicPr>
        <p:blipFill>
          <a:blip r:embed="rId5"/>
          <a:stretch/>
        </p:blipFill>
        <p:spPr>
          <a:xfrm>
            <a:off x="3301920" y="1015920"/>
            <a:ext cx="3073320" cy="2463840"/>
          </a:xfrm>
          <a:prstGeom prst="rect">
            <a:avLst/>
          </a:prstGeom>
          <a:ln w="0">
            <a:noFill/>
          </a:ln>
        </p:spPr>
      </p:pic>
      <p:pic>
        <p:nvPicPr>
          <p:cNvPr id="266" name="Chart 20" descr=""/>
          <p:cNvPicPr/>
          <p:nvPr/>
        </p:nvPicPr>
        <p:blipFill>
          <a:blip r:embed="rId6"/>
          <a:stretch/>
        </p:blipFill>
        <p:spPr>
          <a:xfrm>
            <a:off x="6121440" y="1004760"/>
            <a:ext cx="3225600" cy="2463840"/>
          </a:xfrm>
          <a:prstGeom prst="rect">
            <a:avLst/>
          </a:prstGeom>
          <a:ln w="0">
            <a:noFill/>
          </a:ln>
        </p:spPr>
      </p:pic>
      <p:pic>
        <p:nvPicPr>
          <p:cNvPr id="267" name="Chart 21" descr=""/>
          <p:cNvPicPr/>
          <p:nvPr/>
        </p:nvPicPr>
        <p:blipFill>
          <a:blip r:embed="rId7"/>
          <a:stretch/>
        </p:blipFill>
        <p:spPr>
          <a:xfrm>
            <a:off x="3530520" y="336708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8" name="Chart 22" descr=""/>
          <p:cNvPicPr/>
          <p:nvPr/>
        </p:nvPicPr>
        <p:blipFill>
          <a:blip r:embed="rId8"/>
          <a:stretch/>
        </p:blipFill>
        <p:spPr>
          <a:xfrm>
            <a:off x="3530520" y="505476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9" name="Chart 23" descr=""/>
          <p:cNvPicPr/>
          <p:nvPr/>
        </p:nvPicPr>
        <p:blipFill>
          <a:blip r:embed="rId9"/>
          <a:stretch/>
        </p:blipFill>
        <p:spPr>
          <a:xfrm>
            <a:off x="6426360" y="3378240"/>
            <a:ext cx="2311200" cy="1865160"/>
          </a:xfrm>
          <a:prstGeom prst="rect">
            <a:avLst/>
          </a:prstGeom>
          <a:ln w="0">
            <a:noFill/>
          </a:ln>
        </p:spPr>
      </p:pic>
      <p:pic>
        <p:nvPicPr>
          <p:cNvPr id="270" name="Chart 24" descr=""/>
          <p:cNvPicPr/>
          <p:nvPr/>
        </p:nvPicPr>
        <p:blipFill>
          <a:blip r:embed="rId10"/>
          <a:stretch/>
        </p:blipFill>
        <p:spPr>
          <a:xfrm>
            <a:off x="6350040" y="5043600"/>
            <a:ext cx="2311200" cy="186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057400" y="2017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1981080" y="3583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552920" y="37688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,2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F EO CPE web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hegef.org/gef/node/78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Evaluation Offic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9586-B353-4AAD-A638-9ED7E8E9819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CA30-AFE0-4C39-A517-605EB193E28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952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2949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partners involved in GE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7CA4-F3CB-4A09-94DE-893653D631B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C9C-000E-4B6D-8622-C2CE5004DEB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390800" cy="4874400"/>
            <a:chOff x="1295280" y="1447920"/>
            <a:chExt cx="7390800" cy="4874400"/>
          </a:xfrm>
        </p:grpSpPr>
        <p:sp>
          <p:nvSpPr>
            <p:cNvPr id="158" name="Text Box 56"/>
            <p:cNvSpPr/>
            <p:nvPr/>
          </p:nvSpPr>
          <p:spPr>
            <a:xfrm>
              <a:off x="1295280" y="481536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24240" y="2375280"/>
              <a:ext cx="124524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544560" y="1447920"/>
              <a:ext cx="5141520" cy="4799520"/>
              <a:chOff x="3544560" y="1447920"/>
              <a:chExt cx="5141520" cy="479952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544560" y="1447920"/>
                <a:ext cx="5141520" cy="47995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553720" y="5223960"/>
                <a:ext cx="122652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332680" y="3215880"/>
                <a:ext cx="157572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638320" y="1887120"/>
                <a:ext cx="9154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722840" y="41004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536800" y="4352760"/>
                <a:ext cx="12438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4124880" y="5110560"/>
                <a:ext cx="39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369040" y="2836800"/>
                <a:ext cx="14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81360" y="2362680"/>
              <a:ext cx="180720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655080" y="4190400"/>
              <a:ext cx="18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655080" y="3112920"/>
              <a:ext cx="1800" cy="6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741400" y="2075400"/>
              <a:ext cx="321120" cy="119988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3120 h 1199880"/>
                <a:gd name="textAreaBottom" fmla="*/ 1166760 h 11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741400" y="4327560"/>
              <a:ext cx="321120" cy="149976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9600 h 1499760"/>
                <a:gd name="textAreaBottom" fmla="*/ 1460160 h 14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379-2002-4711-AF1D-D7887D8CB50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7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F6BB-865C-4F8D-A80E-8E31E5B1B3A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A1FA-D59D-409E-BDD1-2CBCE0C0308D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239-0962-4C6A-8C7E-75C2A8354CB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18:27:44Z</dcterms:modified>
  <cp:revision>224</cp:revision>
  <dc:subject/>
  <dc:title>Slide 1</dc:title>
</cp:coreProperties>
</file>