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6F7-9878-4DE9-8995-10B3317C52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335-6A49-4D5B-8B6F-A6FFCC689F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D65-36E2-4CF9-A6C7-99B45B2AD4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9F4-6D37-4E02-8679-D1DE8447DD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4349-1BCB-4A49-80CD-DAA6574DF8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CCFE-6D4A-4F2F-8C40-8184C18A28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59E-0CCB-4A1F-9A75-32BD7C9181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Grant and Co-financing based on PMIS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s Projects with the status “dropped” or “cancele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BF1-16F5-4A45-A4BC-9D75FAF494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3.4 billion dollars in funding South Pacific nations, for national projects, close to 95% goes to the Philippines and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38F-4207-4081-A5FD-4C4C537122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1DA-0F85-402F-A77C-3BABA91FB2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7841-85D9-4175-9B69-1A5D6C4050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D90-0F9F-4BA0-B033-A1B741DB16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C020-0409-4C27-95BB-8CB98AF070B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996-C187-4954-9CAB-6EB29B96BB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4E2F-18D9-4972-969A-262F876DCF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F94-EC92-4E60-82EA-F17BD0483A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01FC-D60B-4CCC-B588-F1DB69BDF51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91FA-46E5-4FDA-8CDB-20FE42CB60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3B9-19AC-46ED-B757-7F4FC395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36B-9939-4ABB-B334-7457D27B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640-839F-4C08-BEEE-3F0AA0A6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CDC-5D67-4E73-907D-C3547B63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2ED-EB22-41FA-B727-1FC89A33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C66-C1A3-4B56-81E5-7207689D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1A5-02F2-45E9-8FAF-8929D4FB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CF97-75E7-4717-B2B7-1F7B0E5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4DE5-A09A-4697-9FA2-730A3DC3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201-9CE9-44F9-A3B5-B9A8326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CC6-6489-4BB3-A7BA-574F418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688-38F6-4CF4-934D-5DD218A5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AE2-3D4F-4E13-B653-C988716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FC5E-9667-4690-AC32-FE5A2D1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1584-C3D6-43EB-BB08-76DF2DC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B26F-49DA-4E8E-BDFF-FB7D73D4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75C9-3484-470F-A782-C5F6AD00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06F25-DBD6-42F1-AC56-06B3B83C13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339AD-6E1A-41B2-993F-6586A4188D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285C0-C1FB-48DF-95D1-D0C3B4B7A4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C1103-0C9F-42CC-93F7-36596E9E52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F318F-6C46-40A9-98CA-C8A9B3BEA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AE9-0CC5-4F0C-86B3-37870A0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4893E-F7EE-4AC6-BE85-B8FA3662CF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34B35-AA9D-4D06-B548-1C71DE7CA6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24E74-AD77-4F3E-8EE5-F9F5654A08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54B9E-2FF0-4CAB-8BE0-07A1101CF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DD81A-F21F-42E5-8B10-921EF3D31D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3227A-80C2-45A0-8154-EF421BBEEB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7110-EC77-45C2-B3FC-C341A4A69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4AC-3291-4706-A086-23070826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ABF-C8E3-4AF6-8B2C-D239C879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BA7-891D-4B8B-AF16-DC0D3CB6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0D2-9714-40E0-8E58-394D868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3E6-3B17-4C39-B4E9-DDD83A6D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FD5-B45C-4A33-88AE-5E47D7F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083-F9C3-46F6-96D5-792DBF19A9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F27-2D33-4E9D-A63B-B4F0A7A37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E156-496A-4EE9-BC52-2AB6FDDA3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88A6-43D2-443E-A6FE-7036F45AB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BCC-FB4A-4A76-8907-68ABFB393B94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hyperlink" Target="http://www.gefeo.or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16765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bert van den Be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irector,  Evalu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7 - 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80B-F60C-4644-8CC5-B4AE24FB846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FFC-87A4-47EC-85E4-45D76A0CF4E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484C-3182-44D3-B805-0600DD9AB5C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04A-DE65-4DA3-94EC-20C4683DAA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941-486D-4C75-A29B-89AA1506C55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8A48-678C-4942-98F8-21318CCEEA6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690C-8621-440B-A527-B53FB8D345D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8BD5-4829-4FF8-BC5F-46B3AEDF02B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01A-E000-4EED-9944-05FFE108113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7F2-4E3E-4C64-8DC8-4183A5DD4CE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-based management (RBM), and Monitoring and evaluation (M&amp;E) in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5573-2334-4565-B780-3C02CCE349D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987480" y="231840"/>
            <a:ext cx="8163000" cy="1249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218960" y="17524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o NCSAs was one of the approaches to implement the GEF capacity development strategy and UN conventions guidance to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SA aimed to identify country level priorities and needs for capacity development to address global environmental issues, holistic and long-term approach, country driven and 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is ongoing; next week the consultant will be in Dakar and Banjul; the report expected for the November 2011 GEF Coun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56A-0954-4D5C-89A4-11D4694C7F2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2531-DE71-4588-AB0A-566481BC705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3360" y="1295280"/>
          <a:ext cx="7107120" cy="4997520"/>
        </p:xfrm>
        <a:graphic>
          <a:graphicData uri="http://schemas.openxmlformats.org/drawingml/2006/table">
            <a:tbl>
              <a:tblPr/>
              <a:tblGrid>
                <a:gridCol w="1378080"/>
                <a:gridCol w="1522440"/>
                <a:gridCol w="512640"/>
                <a:gridCol w="352440"/>
                <a:gridCol w="1368360"/>
                <a:gridCol w="1973160"/>
              </a:tblGrid>
              <a:tr h="39096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BD, 85 CC, 20 IW, 16 LD, 39 MF, 25 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 Active, 66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2940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8 Active, 4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4706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393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2.98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9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02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1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BD, 11 CC, 15 IW, 7 MF, 5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12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Co Financing   $39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 BD, 12 CC, 2 IW, 8 MF, 3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5"/>
          <p:cNvSpPr/>
          <p:nvPr/>
        </p:nvSpPr>
        <p:spPr>
          <a:xfrm>
            <a:off x="1981080" y="714240"/>
            <a:ext cx="640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k Islands, Fiji, Indonesia, Kiribati, Marshall Islands, Micronesia, Nauru, Niue, Palau, Papua New Guinea, Philippines, Samoa, Solomon Islands, Timor Leste, Tonga, Tuvalu, and Vanu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EA1-DE62-4B20-8E89-63E1BAE2837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682800" cy="2997000"/>
          </a:xfrm>
          <a:prstGeom prst="rect">
            <a:avLst/>
          </a:prstGeom>
          <a:ln w="0">
            <a:noFill/>
          </a:ln>
        </p:spPr>
      </p:pic>
      <p:pic>
        <p:nvPicPr>
          <p:cNvPr id="237" name="Chart 6" descr=""/>
          <p:cNvPicPr/>
          <p:nvPr/>
        </p:nvPicPr>
        <p:blipFill>
          <a:blip r:embed="rId3"/>
          <a:stretch/>
        </p:blipFill>
        <p:spPr>
          <a:xfrm>
            <a:off x="1092240" y="4444920"/>
            <a:ext cx="292104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2" descr=""/>
          <p:cNvPicPr/>
          <p:nvPr/>
        </p:nvPicPr>
        <p:blipFill>
          <a:blip r:embed="rId4"/>
          <a:stretch/>
        </p:blipFill>
        <p:spPr>
          <a:xfrm>
            <a:off x="3301920" y="4444920"/>
            <a:ext cx="2921040" cy="2311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219320" y="4038480"/>
            <a:ext cx="4114800" cy="25146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795320" y="40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Active &amp; Completed Nation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5" descr=""/>
          <p:cNvPicPr/>
          <p:nvPr/>
        </p:nvPicPr>
        <p:blipFill>
          <a:blip r:embed="rId5"/>
          <a:stretch/>
        </p:blipFill>
        <p:spPr>
          <a:xfrm>
            <a:off x="4521240" y="787320"/>
            <a:ext cx="45212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E5FB-D76B-4A99-97D6-F85C9AF831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45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46" name="Chart 17" descr=""/>
          <p:cNvPicPr/>
          <p:nvPr/>
        </p:nvPicPr>
        <p:blipFill>
          <a:blip r:embed="rId4"/>
          <a:stretch/>
        </p:blipFill>
        <p:spPr>
          <a:xfrm>
            <a:off x="1816200" y="3624120"/>
            <a:ext cx="6578640" cy="314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1522440" y="1150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247176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3538440" y="1371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5105520" y="990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72200" y="26208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71200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1811160" y="403848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2852640" y="40384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348240" y="51894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7391520" y="53276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1292400" y="219240"/>
            <a:ext cx="7553160" cy="10062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0BC-0DE5-43BD-8C8C-149A390E326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228600" y="186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ation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0" y="375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58720" y="53341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Chart 16" descr=""/>
          <p:cNvPicPr/>
          <p:nvPr/>
        </p:nvPicPr>
        <p:blipFill>
          <a:blip r:embed="rId2"/>
          <a:stretch/>
        </p:blipFill>
        <p:spPr>
          <a:xfrm>
            <a:off x="1114560" y="1015920"/>
            <a:ext cx="2288880" cy="2463840"/>
          </a:xfrm>
          <a:prstGeom prst="rect">
            <a:avLst/>
          </a:prstGeom>
          <a:ln w="0">
            <a:noFill/>
          </a:ln>
        </p:spPr>
      </p:pic>
      <p:pic>
        <p:nvPicPr>
          <p:cNvPr id="263" name="Chart 17" descr=""/>
          <p:cNvPicPr/>
          <p:nvPr/>
        </p:nvPicPr>
        <p:blipFill>
          <a:blip r:embed="rId3"/>
          <a:stretch/>
        </p:blipFill>
        <p:spPr>
          <a:xfrm>
            <a:off x="1397160" y="337824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4" name="Chart 18" descr=""/>
          <p:cNvPicPr/>
          <p:nvPr/>
        </p:nvPicPr>
        <p:blipFill>
          <a:blip r:embed="rId4"/>
          <a:stretch/>
        </p:blipFill>
        <p:spPr>
          <a:xfrm>
            <a:off x="1320840" y="513072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9" descr=""/>
          <p:cNvPicPr/>
          <p:nvPr/>
        </p:nvPicPr>
        <p:blipFill>
          <a:blip r:embed="rId5"/>
          <a:stretch/>
        </p:blipFill>
        <p:spPr>
          <a:xfrm>
            <a:off x="3301920" y="1015920"/>
            <a:ext cx="3073320" cy="2463840"/>
          </a:xfrm>
          <a:prstGeom prst="rect">
            <a:avLst/>
          </a:prstGeom>
          <a:ln w="0">
            <a:noFill/>
          </a:ln>
        </p:spPr>
      </p:pic>
      <p:pic>
        <p:nvPicPr>
          <p:cNvPr id="266" name="Chart 20" descr=""/>
          <p:cNvPicPr/>
          <p:nvPr/>
        </p:nvPicPr>
        <p:blipFill>
          <a:blip r:embed="rId6"/>
          <a:stretch/>
        </p:blipFill>
        <p:spPr>
          <a:xfrm>
            <a:off x="6121440" y="1004760"/>
            <a:ext cx="3225600" cy="2463840"/>
          </a:xfrm>
          <a:prstGeom prst="rect">
            <a:avLst/>
          </a:prstGeom>
          <a:ln w="0">
            <a:noFill/>
          </a:ln>
        </p:spPr>
      </p:pic>
      <p:pic>
        <p:nvPicPr>
          <p:cNvPr id="267" name="Chart 21" descr=""/>
          <p:cNvPicPr/>
          <p:nvPr/>
        </p:nvPicPr>
        <p:blipFill>
          <a:blip r:embed="rId7"/>
          <a:stretch/>
        </p:blipFill>
        <p:spPr>
          <a:xfrm>
            <a:off x="3530520" y="336708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8" name="Chart 22" descr=""/>
          <p:cNvPicPr/>
          <p:nvPr/>
        </p:nvPicPr>
        <p:blipFill>
          <a:blip r:embed="rId8"/>
          <a:stretch/>
        </p:blipFill>
        <p:spPr>
          <a:xfrm>
            <a:off x="3530520" y="505476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9" name="Chart 23" descr=""/>
          <p:cNvPicPr/>
          <p:nvPr/>
        </p:nvPicPr>
        <p:blipFill>
          <a:blip r:embed="rId9"/>
          <a:stretch/>
        </p:blipFill>
        <p:spPr>
          <a:xfrm>
            <a:off x="6426360" y="3378240"/>
            <a:ext cx="2311200" cy="1865160"/>
          </a:xfrm>
          <a:prstGeom prst="rect">
            <a:avLst/>
          </a:prstGeom>
          <a:ln w="0">
            <a:noFill/>
          </a:ln>
        </p:spPr>
      </p:pic>
      <p:pic>
        <p:nvPicPr>
          <p:cNvPr id="270" name="Chart 24" descr=""/>
          <p:cNvPicPr/>
          <p:nvPr/>
        </p:nvPicPr>
        <p:blipFill>
          <a:blip r:embed="rId10"/>
          <a:stretch/>
        </p:blipFill>
        <p:spPr>
          <a:xfrm>
            <a:off x="6350040" y="5043600"/>
            <a:ext cx="2311200" cy="186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057400" y="2017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1981080" y="358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552920" y="37688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,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F EO CPE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hegef.org/gef/node/78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Evaluation Offi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E31-0790-44C5-96DC-CBC268877BE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6DC-DB12-4288-83DF-034070F2D5A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952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2949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partners involved in GE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EDF3-6A09-4886-9A0A-339A9960470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A662-6D89-446D-9BB8-403BCBF375E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390800" cy="4874400"/>
            <a:chOff x="1295280" y="1447920"/>
            <a:chExt cx="7390800" cy="4874400"/>
          </a:xfrm>
        </p:grpSpPr>
        <p:sp>
          <p:nvSpPr>
            <p:cNvPr id="158" name="Text Box 56"/>
            <p:cNvSpPr/>
            <p:nvPr/>
          </p:nvSpPr>
          <p:spPr>
            <a:xfrm>
              <a:off x="1295280" y="481536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24240" y="2375280"/>
              <a:ext cx="124524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544560" y="1447920"/>
              <a:ext cx="5141520" cy="4799520"/>
              <a:chOff x="3544560" y="1447920"/>
              <a:chExt cx="5141520" cy="479952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544560" y="1447920"/>
                <a:ext cx="5141520" cy="47995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553720" y="5223960"/>
                <a:ext cx="122652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332680" y="3215880"/>
                <a:ext cx="157572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638320" y="1887120"/>
                <a:ext cx="915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722840" y="41004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536800" y="4352760"/>
                <a:ext cx="12438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4124880" y="5110560"/>
                <a:ext cx="39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369040" y="28368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81360" y="2362680"/>
              <a:ext cx="180720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655080" y="4190400"/>
              <a:ext cx="18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655080" y="3112920"/>
              <a:ext cx="1800" cy="6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741400" y="2075400"/>
              <a:ext cx="321120" cy="119988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3120 h 1199880"/>
                <a:gd name="textAreaBottom" fmla="*/ 1166760 h 11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741400" y="4327560"/>
              <a:ext cx="321120" cy="149976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9600 h 1499760"/>
                <a:gd name="textAreaBottom" fmla="*/ 1460160 h 14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F6CE-BBC7-4DD4-B770-416680A8A4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7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51B-C062-475A-9E83-6392A794070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2EE-3BED-409B-8D31-73B02B33555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FCCF-2614-4294-A6C6-6ECD24AB694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18:27:44Z</dcterms:modified>
  <cp:revision>224</cp:revision>
  <dc:subject/>
  <dc:title>Slide 1</dc:title>
</cp:coreProperties>
</file>