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9.png" ContentType="image/png"/>
  <Override PartName="/ppt/media/image27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6.jpeg" ContentType="image/jpeg"/>
  <Override PartName="/ppt/media/image16.png" ContentType="image/png"/>
  <Override PartName="/ppt/media/image14.png" ContentType="image/png"/>
  <Override PartName="/ppt/media/image1.wmf" ContentType="image/x-wmf"/>
  <Override PartName="/ppt/media/image28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5.png" ContentType="image/png"/>
  <Override PartName="/ppt/media/image34.png" ContentType="image/png"/>
  <Override PartName="/ppt/media/image17.wmf" ContentType="image/x-wmf"/>
  <Override PartName="/ppt/media/image9.png" ContentType="image/png"/>
  <Override PartName="/ppt/media/image39.png" ContentType="image/png"/>
  <Override PartName="/ppt/media/image41.png" ContentType="image/png"/>
  <Override PartName="/ppt/media/image11.png" ContentType="image/png"/>
  <Override PartName="/ppt/media/image46.png" ContentType="image/png"/>
  <Override PartName="/ppt/media/image36.png" ContentType="image/png"/>
  <Override PartName="/ppt/media/image30.png" ContentType="image/png"/>
  <Override PartName="/ppt/media/image42.png" ContentType="image/png"/>
  <Override PartName="/ppt/media/image31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15.wmf" ContentType="image/x-wmf"/>
  <Override PartName="/ppt/media/image13.png" ContentType="image/png"/>
  <Override PartName="/ppt/media/image38.png" ContentType="image/png"/>
  <Override PartName="/ppt/media/image8.png" ContentType="image/png"/>
  <Override PartName="/ppt/media/image5.png" ContentType="image/png"/>
  <Override PartName="/ppt/media/image35.png" ContentType="image/png"/>
  <Override PartName="/ppt/media/image40.png" ContentType="image/png"/>
  <Override PartName="/ppt/media/image4.jpeg" ContentType="image/jpeg"/>
  <Override PartName="/ppt/media/image32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comments/comment2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Pallavi Nuka" initials="PN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presProps" Target="presProps.xml"/><Relationship Id="rId32" Type="http://schemas.openxmlformats.org/officeDocument/2006/relationships/commentAuthors" Target="commentAuthors.xml"/>
</Relationships>
</file>

<file path=ppt/comments/comment21.xml><?xml version="1.0" encoding="utf-8"?>
<p:cmLst xmlns:p="http://schemas.openxmlformats.org/presentationml/2006/main">
  <p:cm authorId="0" dt="2011-09-21T11:41:17.755000000" idx="1">
    <p:pos x="5461" y="1692"/>
    <p:text>sort order from biggest $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dt" idx="9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65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ftr" idx="10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 type="sldNum" idx="11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ED4BC-7726-4CC7-AC26-BB69FDDA8DF4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E9388-4DB7-4B57-95C7-338A64369DAE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Header Placeholder 6"/>
          <p:cNvSpPr/>
          <p:nvPr/>
        </p:nvSpPr>
        <p:spPr>
          <a:xfrm>
            <a:off x="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Date Placeholder 7"/>
          <p:cNvSpPr/>
          <p:nvPr/>
        </p:nvSpPr>
        <p:spPr>
          <a:xfrm>
            <a:off x="388476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EFEB3-70E0-4BCA-99BF-0183B81DF9AB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Header Placeholder 6"/>
          <p:cNvSpPr/>
          <p:nvPr/>
        </p:nvSpPr>
        <p:spPr>
          <a:xfrm>
            <a:off x="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Date Placeholder 7"/>
          <p:cNvSpPr/>
          <p:nvPr/>
        </p:nvSpPr>
        <p:spPr>
          <a:xfrm>
            <a:off x="388476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9FB8E-B8E9-421F-AA16-89DC862CABA7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Header Placeholder 6"/>
          <p:cNvSpPr/>
          <p:nvPr/>
        </p:nvSpPr>
        <p:spPr>
          <a:xfrm>
            <a:off x="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Date Placeholder 7"/>
          <p:cNvSpPr/>
          <p:nvPr/>
        </p:nvSpPr>
        <p:spPr>
          <a:xfrm>
            <a:off x="388476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E4AB8-A8F4-4312-89FF-53E488B2283D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Header Placeholder 6"/>
          <p:cNvSpPr/>
          <p:nvPr/>
        </p:nvSpPr>
        <p:spPr>
          <a:xfrm>
            <a:off x="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Date Placeholder 7"/>
          <p:cNvSpPr/>
          <p:nvPr/>
        </p:nvSpPr>
        <p:spPr>
          <a:xfrm>
            <a:off x="388476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CEE63-A5FF-432A-8F45-C73236FA5678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Header Placeholder 6"/>
          <p:cNvSpPr/>
          <p:nvPr/>
        </p:nvSpPr>
        <p:spPr>
          <a:xfrm>
            <a:off x="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Date Placeholder 7"/>
          <p:cNvSpPr/>
          <p:nvPr/>
        </p:nvSpPr>
        <p:spPr>
          <a:xfrm>
            <a:off x="388476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77DA4-BF92-414E-ABD9-B9310AC4BFE0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Header Placeholder 6"/>
          <p:cNvSpPr/>
          <p:nvPr/>
        </p:nvSpPr>
        <p:spPr>
          <a:xfrm>
            <a:off x="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Date Placeholder 7"/>
          <p:cNvSpPr/>
          <p:nvPr/>
        </p:nvSpPr>
        <p:spPr>
          <a:xfrm>
            <a:off x="388476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F Grant and Co-financing based on PMIS databa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cludes Projects with the status “dropped” or “canceled”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Header Placeholder 3"/>
          <p:cNvSpPr/>
          <p:nvPr/>
        </p:nvSpPr>
        <p:spPr>
          <a:xfrm>
            <a:off x="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Date Placeholder 4"/>
          <p:cNvSpPr/>
          <p:nvPr/>
        </p:nvSpPr>
        <p:spPr>
          <a:xfrm>
            <a:off x="388476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Slide Number Placeholder 5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B261D-54DB-48E4-8600-A51B29990EC9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 the 3.4 billion dollars in funding South Pacific nations, for national projects, close to 95% goes to the Philippines and Indonesi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Header Placeholder 3"/>
          <p:cNvSpPr/>
          <p:nvPr/>
        </p:nvSpPr>
        <p:spPr>
          <a:xfrm>
            <a:off x="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Date Placeholder 4"/>
          <p:cNvSpPr/>
          <p:nvPr/>
        </p:nvSpPr>
        <p:spPr>
          <a:xfrm>
            <a:off x="388476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Slide Number Placeholder 5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818B0-99DC-4BCC-8ECE-04BA8B347E03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Header Placeholder 3"/>
          <p:cNvSpPr/>
          <p:nvPr/>
        </p:nvSpPr>
        <p:spPr>
          <a:xfrm>
            <a:off x="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Date Placeholder 4"/>
          <p:cNvSpPr/>
          <p:nvPr/>
        </p:nvSpPr>
        <p:spPr>
          <a:xfrm>
            <a:off x="388476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Slide Number Placeholder 5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6F1DA-3089-4E57-9662-F04617C36DB5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Header Placeholder 3"/>
          <p:cNvSpPr/>
          <p:nvPr/>
        </p:nvSpPr>
        <p:spPr>
          <a:xfrm>
            <a:off x="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Date Placeholder 4"/>
          <p:cNvSpPr/>
          <p:nvPr/>
        </p:nvSpPr>
        <p:spPr>
          <a:xfrm>
            <a:off x="388476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Slide Number Placeholder 5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1C9AF-4C13-4981-8263-1C2184528333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EF2B0-B311-40B0-9726-6D53A349BD26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Header Placeholder 6"/>
          <p:cNvSpPr/>
          <p:nvPr/>
        </p:nvSpPr>
        <p:spPr>
          <a:xfrm>
            <a:off x="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Date Placeholder 7"/>
          <p:cNvSpPr/>
          <p:nvPr/>
        </p:nvSpPr>
        <p:spPr>
          <a:xfrm>
            <a:off x="388476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16E84-5669-4886-A96E-5F923F906DDD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Header Placeholder 6"/>
          <p:cNvSpPr/>
          <p:nvPr/>
        </p:nvSpPr>
        <p:spPr>
          <a:xfrm>
            <a:off x="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Date Placeholder 7"/>
          <p:cNvSpPr/>
          <p:nvPr/>
        </p:nvSpPr>
        <p:spPr>
          <a:xfrm>
            <a:off x="388476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22F33-77F4-4D99-9305-541E99F72805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Header Placeholder 6"/>
          <p:cNvSpPr/>
          <p:nvPr/>
        </p:nvSpPr>
        <p:spPr>
          <a:xfrm>
            <a:off x="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Date Placeholder 7"/>
          <p:cNvSpPr/>
          <p:nvPr/>
        </p:nvSpPr>
        <p:spPr>
          <a:xfrm>
            <a:off x="388476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96F65-D450-4BBF-96EA-26D123CDB035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Header Placeholder 6"/>
          <p:cNvSpPr/>
          <p:nvPr/>
        </p:nvSpPr>
        <p:spPr>
          <a:xfrm>
            <a:off x="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Date Placeholder 7"/>
          <p:cNvSpPr/>
          <p:nvPr/>
        </p:nvSpPr>
        <p:spPr>
          <a:xfrm>
            <a:off x="388476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05168-06C3-4E2A-8A67-6917994DAAB7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Header Placeholder 6"/>
          <p:cNvSpPr/>
          <p:nvPr/>
        </p:nvSpPr>
        <p:spPr>
          <a:xfrm>
            <a:off x="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Date Placeholder 7"/>
          <p:cNvSpPr/>
          <p:nvPr/>
        </p:nvSpPr>
        <p:spPr>
          <a:xfrm>
            <a:off x="388476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E5BAD-41FF-412C-BDA0-47F2BB22310E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Header Placeholder 6"/>
          <p:cNvSpPr/>
          <p:nvPr/>
        </p:nvSpPr>
        <p:spPr>
          <a:xfrm>
            <a:off x="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Date Placeholder 7"/>
          <p:cNvSpPr/>
          <p:nvPr/>
        </p:nvSpPr>
        <p:spPr>
          <a:xfrm>
            <a:off x="388476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F6FD5-3165-4971-850E-D3DA1364A26C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Header Placeholder 6"/>
          <p:cNvSpPr/>
          <p:nvPr/>
        </p:nvSpPr>
        <p:spPr>
          <a:xfrm>
            <a:off x="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Date Placeholder 7"/>
          <p:cNvSpPr/>
          <p:nvPr/>
        </p:nvSpPr>
        <p:spPr>
          <a:xfrm>
            <a:off x="388476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B3379-D133-4144-B7A9-417499AA1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6F083-F42E-4181-8328-D464926E9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9AABC-C1FF-45E1-B618-AC573C04F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51E61-5363-4C54-AF93-A55D1278D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923D4-FF59-4D88-A83B-0F10E9DDE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783E5-455B-465D-AB8A-5BF779E2F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4D4E7-214F-4756-8143-8F08D2274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47A9F-6744-4998-BEB8-DCA71E3F2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3AC53-D543-4A23-8235-48D685C28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391E3-2BE2-4BAC-A87E-AA363C867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4EBF2-DBF8-4892-8314-D4E3EE523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AF617-7BB0-4883-BFB6-D97AD4C5A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E9B9E-7D0B-4731-AAE8-41C59F55B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56A2F-B6F7-4D9A-8924-B523E48C6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41CD4-B664-4904-B87B-99314DA2B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2B99A-97BB-4109-8D3D-7E857D96B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BA557-CD28-4163-B0EF-38F03CB98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4F39D98-068A-42AA-B963-D52D21F2E31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B210558-2DF8-4AE8-B5E0-CDBF8BE323B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0B4879A-6DB2-4761-90F6-74B2B72566D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97BB91C-FD62-4CEB-A803-53546FDDDDC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70EE55A-9518-4E46-8A27-7596BCCD8B8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C7E21-3C14-48D9-A298-14CBED156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E3D5D77-9A0C-4627-BE41-8042A8EB6C3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B9141CE-DC2D-4ACE-A262-69F2A36E7BB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311E1B4-BFCB-4946-AB2E-308BDD7869A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E446198-E429-4E03-9077-35BFE3DE9A6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40957A6-6D01-497D-8DB5-4504AF4DB8D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5FA6346-BAC4-43EC-8D34-D46C273AC95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35426A3-8FFF-4096-9416-12D9285D6C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2F8E0-EAB0-4238-861A-7C7AFAD72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B2179-B1DF-4CE1-9A92-2483568C4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B4796-96DF-45E6-B3E3-1EE6476E9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7D59E-1543-4BBC-9253-7570722F7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C8A1D-6648-43F8-9D19-9F36BCEAB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378F5-B4C1-497C-8D78-DDB739682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61E00-29E2-496C-8006-0EB629EEE5E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D2304-B50D-4AE1-A813-97A0CEDD80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D27EF-2D2B-4EEE-8F5E-2A4E7E5C538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73F8C-FB3E-4591-9304-3EACC2228A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Box 6"/>
          <p:cNvSpPr/>
          <p:nvPr/>
        </p:nvSpPr>
        <p:spPr>
          <a:xfrm>
            <a:off x="0" y="0"/>
            <a:ext cx="16002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2"/>
          <a:stretch/>
        </p:blipFill>
        <p:spPr>
          <a:xfrm>
            <a:off x="-6480" y="-6480"/>
            <a:ext cx="1231920" cy="6870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" descr=""/>
          <p:cNvPicPr/>
          <p:nvPr/>
        </p:nvPicPr>
        <p:blipFill>
          <a:blip r:embed="rId3"/>
          <a:stretch/>
        </p:blipFill>
        <p:spPr>
          <a:xfrm>
            <a:off x="0" y="6321600"/>
            <a:ext cx="1219320" cy="53640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9"/>
          <p:cNvSpPr/>
          <p:nvPr/>
        </p:nvSpPr>
        <p:spPr>
          <a:xfrm>
            <a:off x="0" y="0"/>
            <a:ext cx="1219320" cy="152280"/>
          </a:xfrm>
          <a:prstGeom prst="rect">
            <a:avLst/>
          </a:prstGeom>
          <a:solidFill>
            <a:srgbClr val="502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Straight Connector 10"/>
          <p:cNvSpPr/>
          <p:nvPr/>
        </p:nvSpPr>
        <p:spPr>
          <a:xfrm>
            <a:off x="0" y="228600"/>
            <a:ext cx="1219320" cy="1440"/>
          </a:xfrm>
          <a:prstGeom prst="line">
            <a:avLst/>
          </a:prstGeom>
          <a:ln w="31680">
            <a:solidFill>
              <a:srgbClr val="502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1"/>
          <p:cNvSpPr/>
          <p:nvPr/>
        </p:nvSpPr>
        <p:spPr>
          <a:xfrm>
            <a:off x="1219320" y="0"/>
            <a:ext cx="7924680" cy="15228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traight Connector 12"/>
          <p:cNvSpPr/>
          <p:nvPr/>
        </p:nvSpPr>
        <p:spPr>
          <a:xfrm>
            <a:off x="990720" y="228600"/>
            <a:ext cx="8153280" cy="1440"/>
          </a:xfrm>
          <a:prstGeom prst="line">
            <a:avLst/>
          </a:prstGeom>
          <a:ln w="28440">
            <a:solidFill>
              <a:srgbClr val="502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ftr" idx="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sldNum" idx="8"/>
          </p:nvPr>
        </p:nvSpPr>
        <p:spPr>
          <a:xfrm>
            <a:off x="655272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5028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27FCB-0DC9-4ABC-BFAC-E2DE83072EDF}" type="slidenum">
              <a:rPr b="1" lang="en-US" sz="24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25.xml"/><Relationship Id="rId3" Type="http://schemas.openxmlformats.org/officeDocument/2006/relationships/comments" Target="../comments/comment2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image" Target="../media/image42.png"/><Relationship Id="rId6" Type="http://schemas.openxmlformats.org/officeDocument/2006/relationships/image" Target="../media/image43.png"/><Relationship Id="rId7" Type="http://schemas.openxmlformats.org/officeDocument/2006/relationships/image" Target="../media/image44.png"/><Relationship Id="rId8" Type="http://schemas.openxmlformats.org/officeDocument/2006/relationships/image" Target="../media/image45.png"/><Relationship Id="rId9" Type="http://schemas.openxmlformats.org/officeDocument/2006/relationships/image" Target="../media/image46.png"/><Relationship Id="rId10" Type="http://schemas.openxmlformats.org/officeDocument/2006/relationships/image" Target="../media/image47.png"/><Relationship Id="rId11" Type="http://schemas.openxmlformats.org/officeDocument/2006/relationships/slideLayout" Target="../slideLayouts/slideLayout25.xml"/><Relationship Id="rId1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www.gefeo.org/" TargetMode="External"/><Relationship Id="rId2" Type="http://schemas.openxmlformats.org/officeDocument/2006/relationships/hyperlink" Target="http://www.gefeo.org/" TargetMode="External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057400" y="1676520"/>
            <a:ext cx="54100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en-US" sz="5400" spc="-1" strike="noStrike">
                <a:solidFill>
                  <a:srgbClr val="376b4c"/>
                </a:solidFill>
                <a:latin typeface="Calibri"/>
              </a:rPr>
              <a:t>M&amp;E in the GEF</a:t>
            </a: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	</a:t>
            </a:r>
            <a:br>
              <a:rPr sz="4000"/>
            </a:br>
            <a:br>
              <a:rPr sz="40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447920" y="2971440"/>
            <a:ext cx="586728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Robert van den Ber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Director,  Evaluation Offi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27 - 29 September 201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Honiara, Solomon Islan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Picture 2" descr=""/>
          <p:cNvPicPr/>
          <p:nvPr/>
        </p:nvPicPr>
        <p:blipFill>
          <a:blip r:embed="rId2"/>
          <a:stretch/>
        </p:blipFill>
        <p:spPr>
          <a:xfrm>
            <a:off x="285840" y="112680"/>
            <a:ext cx="1923840" cy="1716120"/>
          </a:xfrm>
          <a:prstGeom prst="rect">
            <a:avLst/>
          </a:prstGeom>
          <a:ln w="0">
            <a:noFill/>
          </a:ln>
        </p:spPr>
      </p:pic>
      <p:sp>
        <p:nvSpPr>
          <p:cNvPr id="140" name="TextBox 4"/>
          <p:cNvSpPr/>
          <p:nvPr/>
        </p:nvSpPr>
        <p:spPr>
          <a:xfrm>
            <a:off x="7696080" y="0"/>
            <a:ext cx="25909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2" descr=""/>
          <p:cNvPicPr/>
          <p:nvPr/>
        </p:nvPicPr>
        <p:blipFill>
          <a:blip r:embed="rId3"/>
          <a:stretch/>
        </p:blipFill>
        <p:spPr>
          <a:xfrm>
            <a:off x="5181480" y="271440"/>
            <a:ext cx="3581640" cy="11001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Title 1" descr=""/>
          <p:cNvPicPr/>
          <p:nvPr/>
        </p:nvPicPr>
        <p:blipFill>
          <a:blip r:embed="rId1"/>
          <a:stretch/>
        </p:blipFill>
        <p:spPr>
          <a:xfrm>
            <a:off x="1212840" y="268200"/>
            <a:ext cx="7937640" cy="804960"/>
          </a:xfrm>
          <a:prstGeom prst="rect">
            <a:avLst/>
          </a:prstGeom>
          <a:ln w="0">
            <a:noFill/>
          </a:ln>
        </p:spPr>
      </p:pic>
      <p:sp>
        <p:nvSpPr>
          <p:cNvPr id="198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7B12C-491C-4E2C-B498-9B812DEA8873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Content Placeholder 4" descr=""/>
          <p:cNvPicPr/>
          <p:nvPr/>
        </p:nvPicPr>
        <p:blipFill>
          <a:blip r:embed="rId2"/>
          <a:stretch/>
        </p:blipFill>
        <p:spPr>
          <a:xfrm>
            <a:off x="1219320" y="914400"/>
            <a:ext cx="7391160" cy="57913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Title 1" descr=""/>
          <p:cNvPicPr/>
          <p:nvPr/>
        </p:nvPicPr>
        <p:blipFill>
          <a:blip r:embed="rId1"/>
          <a:stretch/>
        </p:blipFill>
        <p:spPr>
          <a:xfrm>
            <a:off x="1212840" y="268200"/>
            <a:ext cx="7937640" cy="80496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 txBox="1"/>
          <p:nvPr/>
        </p:nvSpPr>
        <p:spPr>
          <a:xfrm>
            <a:off x="1218960" y="1494000"/>
            <a:ext cx="79246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management response is required for all evaluations and performance reports presented to the GEF Council by the GEF E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EF Council takes into account both the evaluation and the management response when taking a decis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EF EO reports on implementation of decisions annually (Management Action Record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 the case of Country Portfolio Evaluations countries have the opportunity to provide their perspective to Council as wel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C599A-74CE-4E31-B6F6-9F64FE077205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Title 1" descr=""/>
          <p:cNvPicPr/>
          <p:nvPr/>
        </p:nvPicPr>
        <p:blipFill>
          <a:blip r:embed="rId1"/>
          <a:stretch/>
        </p:blipFill>
        <p:spPr>
          <a:xfrm>
            <a:off x="1212840" y="268200"/>
            <a:ext cx="7937640" cy="80496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 txBox="1"/>
          <p:nvPr/>
        </p:nvSpPr>
        <p:spPr>
          <a:xfrm>
            <a:off x="1218960" y="1143000"/>
            <a:ext cx="79246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1880" indent="-461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esign of M&amp;E Pla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crete and fully budgeted M&amp;E plan by CEO endorsement for FSP and CEO approval for MSP. Project logical frameworks should align with GEF focal area results frameworks. M&amp;E Plan should includ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buClr>
                <a:srgbClr val="25695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Calibri"/>
              </a:rPr>
              <a:t>SMART indic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buClr>
                <a:srgbClr val="25695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Calibri"/>
              </a:rPr>
              <a:t>Baseline data for M&amp;E by CEO endors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buClr>
                <a:srgbClr val="25695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Calibri"/>
              </a:rPr>
              <a:t>Mid Term Reviews (where required or foreseen) and Terminal Evaluations included in pl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buClr>
                <a:srgbClr val="25695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Calibri"/>
              </a:rPr>
              <a:t>Organizational set up and budget for M&amp;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CF89B-9A6B-4886-AE26-CFA8D37E048A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Title 1" descr=""/>
          <p:cNvPicPr/>
          <p:nvPr/>
        </p:nvPicPr>
        <p:blipFill>
          <a:blip r:embed="rId1"/>
          <a:stretch/>
        </p:blipFill>
        <p:spPr>
          <a:xfrm>
            <a:off x="1212840" y="268200"/>
            <a:ext cx="7937640" cy="80496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 txBox="1"/>
          <p:nvPr/>
        </p:nvSpPr>
        <p:spPr>
          <a:xfrm>
            <a:off x="1218960" y="1447560"/>
            <a:ext cx="792468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1880" indent="-461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mplementation of M&amp;E Plan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61880" indent="-461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ject/program monitoring and supervision will include execution of the M&amp;E plan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-457200">
              <a:buClr>
                <a:srgbClr val="006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-457200">
              <a:buClr>
                <a:srgbClr val="006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Calibri"/>
              </a:rPr>
              <a:t>Use of SMART indicators for process and implement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-457200">
              <a:buClr>
                <a:srgbClr val="006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Calibri"/>
              </a:rPr>
              <a:t>Use of SMART indicators for resul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-457200">
              <a:buClr>
                <a:srgbClr val="006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Calibri"/>
              </a:rPr>
              <a:t>Baseline for the project is fully established and data are compiled to review progr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-457200">
              <a:buClr>
                <a:srgbClr val="006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Calibri"/>
              </a:rPr>
              <a:t>Organizational set up for M&amp;E is operational and its budget is spent as plann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2DBC7-662B-43DE-8E30-D744A9DE7B72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1218960" y="1142640"/>
            <a:ext cx="79246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1880" indent="-461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roject/Program Evaluations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61880" indent="-461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Calibri"/>
              </a:rPr>
              <a:t>All full sized projects and programs will be evaluated at the end of implement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61880" indent="-461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Calibri"/>
              </a:rPr>
              <a:t>Evaluations should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568440" indent="-333360">
              <a:lnSpc>
                <a:spcPct val="90000"/>
              </a:lnSpc>
              <a:buClr>
                <a:srgbClr val="25695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e independent of project management or reviewed by GEF Agency evaluation uni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568440" indent="-333360">
              <a:lnSpc>
                <a:spcPct val="90000"/>
              </a:lnSpc>
              <a:buClr>
                <a:srgbClr val="25695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pply evaluation norms and standards of the GEF Agenc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568440" indent="-333360">
              <a:lnSpc>
                <a:spcPct val="90000"/>
              </a:lnSpc>
              <a:buClr>
                <a:srgbClr val="25695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ssess, as a minimum, outputs and outcomes, likelihood of sustainability, compliance with Minimum Requirements 1 &amp; 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568440" indent="-333360">
              <a:lnSpc>
                <a:spcPct val="90000"/>
              </a:lnSpc>
              <a:buClr>
                <a:srgbClr val="25695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ain basic project data and lessons on the evaluation itself (including TOR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568440" indent="-333360">
              <a:lnSpc>
                <a:spcPct val="90000"/>
              </a:lnSpc>
              <a:buClr>
                <a:srgbClr val="25695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hould be sent to GEF EO within 12 months of completion of project/progra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9800" indent="-396720"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39800" indent="-3967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Guidelines for evaluating MSPs/EAs will be develop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43D18-BCBA-484D-8A6D-257E8169C005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Title 1" descr=""/>
          <p:cNvPicPr/>
          <p:nvPr/>
        </p:nvPicPr>
        <p:blipFill>
          <a:blip r:embed="rId1"/>
          <a:stretch/>
        </p:blipFill>
        <p:spPr>
          <a:xfrm>
            <a:off x="1212840" y="298440"/>
            <a:ext cx="7937640" cy="8049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Title 1" descr=""/>
          <p:cNvPicPr/>
          <p:nvPr/>
        </p:nvPicPr>
        <p:blipFill>
          <a:blip r:embed="rId1"/>
          <a:stretch/>
        </p:blipFill>
        <p:spPr>
          <a:xfrm>
            <a:off x="1212840" y="268200"/>
            <a:ext cx="7937640" cy="80496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 txBox="1"/>
          <p:nvPr/>
        </p:nvSpPr>
        <p:spPr>
          <a:xfrm>
            <a:off x="1219320" y="1143000"/>
            <a:ext cx="76960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Engagement of Operational Focal Poi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0360" indent="-630360">
              <a:lnSpc>
                <a:spcPct val="90000"/>
              </a:lnSpc>
              <a:spcBef>
                <a:spcPts val="451"/>
              </a:spcBef>
              <a:buClr>
                <a:srgbClr val="25695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30360" indent="-630360">
              <a:lnSpc>
                <a:spcPct val="90000"/>
              </a:lnSpc>
              <a:spcBef>
                <a:spcPts val="700"/>
              </a:spcBef>
              <a:buClr>
                <a:srgbClr val="25695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Calibri"/>
              </a:rPr>
              <a:t>M&amp;E plans should include how OFPs will be engag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0360" indent="-630360">
              <a:lnSpc>
                <a:spcPct val="90000"/>
              </a:lnSpc>
              <a:spcBef>
                <a:spcPts val="700"/>
              </a:spcBef>
              <a:buClr>
                <a:srgbClr val="25695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Calibri"/>
              </a:rPr>
              <a:t>OFPs to be informed on M&amp;E activities, including Mid Term Reviews and Terminal Evaluations, receiving drafts for comments and final repor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0360" indent="-630360">
              <a:lnSpc>
                <a:spcPct val="90000"/>
              </a:lnSpc>
              <a:spcBef>
                <a:spcPts val="700"/>
              </a:spcBef>
              <a:buClr>
                <a:srgbClr val="25695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Calibri"/>
              </a:rPr>
              <a:t>OFPs invited to contribute to the management response (where applicab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0360" indent="-630360">
              <a:lnSpc>
                <a:spcPct val="90000"/>
              </a:lnSpc>
              <a:spcBef>
                <a:spcPts val="700"/>
              </a:spcBef>
              <a:buClr>
                <a:srgbClr val="25695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Calibri"/>
              </a:rPr>
              <a:t>GEF Agencies keep track of the application of this requirement in their GEF financed projects and progra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74CC6-7810-4FA4-B829-7155E41D37AC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Title 1" descr=""/>
          <p:cNvPicPr/>
          <p:nvPr/>
        </p:nvPicPr>
        <p:blipFill>
          <a:blip r:embed="rId1"/>
          <a:stretch/>
        </p:blipFill>
        <p:spPr>
          <a:xfrm>
            <a:off x="1212840" y="268200"/>
            <a:ext cx="7937640" cy="80496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 txBox="1"/>
          <p:nvPr/>
        </p:nvSpPr>
        <p:spPr>
          <a:xfrm>
            <a:off x="1218960" y="1066680"/>
            <a:ext cx="79246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Keep track of GEF suppor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t the national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Keep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takeholders informed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onsulted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n plans, implementation and results of GEF activities in the count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isseminate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&amp;E information, promoting use of evaluation recommendations and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lessons learn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ssist the Evaluation Offic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as the first point of entry into a country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0960" indent="-254160"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identify major relevant stakehold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60960" indent="-254160"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coordinate meeting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60960" indent="-254160"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assist with agend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60960" indent="-254160"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coordinate country responses to these evalua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5B72A-DC88-401D-BE5F-85408D0B9128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Title 1" descr=""/>
          <p:cNvPicPr/>
          <p:nvPr/>
        </p:nvPicPr>
        <p:blipFill>
          <a:blip r:embed="rId1"/>
          <a:stretch/>
        </p:blipFill>
        <p:spPr>
          <a:xfrm>
            <a:off x="1212840" y="268200"/>
            <a:ext cx="7937640" cy="80496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 txBox="1"/>
          <p:nvPr/>
        </p:nvSpPr>
        <p:spPr>
          <a:xfrm>
            <a:off x="1218960" y="1143000"/>
            <a:ext cx="79246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EF-5 cross-cutting capacity development strategy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Fifth component: enhancing capacities to monitor and evaluate environmental impacts and trends. This should be identified as a priority in the NCSA capacity development action p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The capacity development plan should be formulated as a medium size project, or it should be integrated into a broader proposal that would be formulated as MSP or FSP – if MSP it should have 1:1 cofund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Development of regional partnerships could be consider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Funding from $44m set-aside for capacity develop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AF60D-E8AA-498C-8584-F2C035CABBE0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Slide Number Placeholder 5"/>
          <p:cNvSpPr/>
          <p:nvPr/>
        </p:nvSpPr>
        <p:spPr>
          <a:xfrm>
            <a:off x="8001000" y="6230880"/>
            <a:ext cx="5875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D4790-6109-4912-8A7B-CC028AD41628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Rectangle 2" descr=""/>
          <p:cNvPicPr/>
          <p:nvPr/>
        </p:nvPicPr>
        <p:blipFill>
          <a:blip r:embed="rId1"/>
          <a:stretch/>
        </p:blipFill>
        <p:spPr>
          <a:xfrm>
            <a:off x="1444680" y="201600"/>
            <a:ext cx="7705800" cy="749160"/>
          </a:xfrm>
          <a:prstGeom prst="rect">
            <a:avLst/>
          </a:prstGeom>
          <a:ln w="0">
            <a:noFill/>
          </a:ln>
        </p:spPr>
      </p:pic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1295280" y="1218960"/>
            <a:ext cx="78487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solidation and strengthening of the four streams of evaluative evidenc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Calibri"/>
              </a:rPr>
              <a:t>Country Portfolio Evaluations</a:t>
            </a: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: up to 15 during GEF-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Calibri"/>
              </a:rPr>
              <a:t>Impact Evaluations</a:t>
            </a: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: International Waters, Climate Change and other focal are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Calibri"/>
              </a:rPr>
              <a:t>Performance Evaluations</a:t>
            </a: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: APR continued and strengthened as well as independent process review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Calibri"/>
              </a:rPr>
              <a:t>Thematic Evaluations</a:t>
            </a: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: focal area strategies and adapt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Title 1" descr=""/>
          <p:cNvPicPr/>
          <p:nvPr/>
        </p:nvPicPr>
        <p:blipFill>
          <a:blip r:embed="rId1"/>
          <a:stretch/>
        </p:blipFill>
        <p:spPr>
          <a:xfrm>
            <a:off x="1212840" y="268200"/>
            <a:ext cx="7937640" cy="80496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 txBox="1"/>
          <p:nvPr/>
        </p:nvSpPr>
        <p:spPr>
          <a:xfrm>
            <a:off x="1218960" y="1143000"/>
            <a:ext cx="79246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erification and ratings of outcome and progress toward impa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verage of the reform process: GEF project cycle and modalities, direct access, STAR, paragraph 28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reased attention to the catalytic role of the GE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rends in ownership and country drivenn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rends in global environmental problems and relevance of the GEF to the conven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re in-depth look at the focal area strategies, including sustainable forestry manag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etter understanding of the longer term impact of the GE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7238880" y="624852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61590-CAF0-4E4D-9676-72807A4F784E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Title 1" descr=""/>
          <p:cNvPicPr/>
          <p:nvPr/>
        </p:nvPicPr>
        <p:blipFill>
          <a:blip r:embed="rId1"/>
          <a:stretch/>
        </p:blipFill>
        <p:spPr>
          <a:xfrm>
            <a:off x="1212840" y="152280"/>
            <a:ext cx="7937640" cy="92088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 txBox="1"/>
          <p:nvPr/>
        </p:nvSpPr>
        <p:spPr>
          <a:xfrm>
            <a:off x="1218960" y="14479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68440" indent="-568440"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Results-based management (RBM), and Monitoring and evaluation (M&amp;E) in GEF-5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M&amp;E policy for GEF-5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M&amp;E Minimum Requiremen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Involvement of focal poin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68440" indent="-568440"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Evaluation planning for GEF-5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02D9E-2999-4A60-9E61-EFCF86631F07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Title 1" descr=""/>
          <p:cNvPicPr/>
          <p:nvPr/>
        </p:nvPicPr>
        <p:blipFill>
          <a:blip r:embed="rId1"/>
          <a:stretch/>
        </p:blipFill>
        <p:spPr>
          <a:xfrm>
            <a:off x="987480" y="231840"/>
            <a:ext cx="8163000" cy="124920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 txBox="1"/>
          <p:nvPr/>
        </p:nvSpPr>
        <p:spPr>
          <a:xfrm>
            <a:off x="1218960" y="1752480"/>
            <a:ext cx="79246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pport to NCSAs was one of the approaches to implement the GEF capacity development strategy and UN conventions guidance to GE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CSA aimed to identify country level priorities and needs for capacity development to address global environmental issues, holistic and long-term approach, country driven and l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valuation is ongoing; next week the consultant will be in Dakar and Banjul; the report expected for the November 2011 GEF Counci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B1FCD-7523-44B4-8DA2-621B3145D5A4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Title 1" descr=""/>
          <p:cNvPicPr/>
          <p:nvPr/>
        </p:nvPicPr>
        <p:blipFill>
          <a:blip r:embed="rId1"/>
          <a:stretch/>
        </p:blipFill>
        <p:spPr>
          <a:xfrm>
            <a:off x="1212840" y="212760"/>
            <a:ext cx="7937640" cy="708120"/>
          </a:xfrm>
          <a:prstGeom prst="rect">
            <a:avLst/>
          </a:prstGeom>
          <a:ln w="0">
            <a:noFill/>
          </a:ln>
        </p:spPr>
      </p:pic>
      <p:sp>
        <p:nvSpPr>
          <p:cNvPr id="231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D4A29-9F04-4C87-9E5D-B413423ED353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1503360" y="1295280"/>
          <a:ext cx="7107120" cy="4997520"/>
        </p:xfrm>
        <a:graphic>
          <a:graphicData uri="http://schemas.openxmlformats.org/drawingml/2006/table">
            <a:tbl>
              <a:tblPr/>
              <a:tblGrid>
                <a:gridCol w="1378080"/>
                <a:gridCol w="1522440"/>
                <a:gridCol w="512640"/>
                <a:gridCol w="352440"/>
                <a:gridCol w="1368360"/>
                <a:gridCol w="1973160"/>
              </a:tblGrid>
              <a:tr h="390960">
                <a:tc gridSpan="6">
                  <a:txBody>
                    <a:bodyPr lIns="87120" rIns="87120" tIns="42840" bIns="4284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Projects Approved: Active and Complet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7120" marR="87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6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74280">
                <a:tc>
                  <a:txBody>
                    <a:bodyPr lIns="87120" rIns="87120" tIns="42840" bIns="4284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7120" marR="871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7120" rIns="87120" tIns="42840" bIns="428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72 Projec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7120" marR="871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gridSpan="4">
                  <a:txBody>
                    <a:bodyPr lIns="87120" rIns="87120" tIns="42840" bIns="428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87 BD, 85 CC, 20 IW, 16 LD, 39 MF, 25 POP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06 Active, 66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7120" marR="871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cfbf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360">
                <a:tc>
                  <a:txBody>
                    <a:bodyPr lIns="87120" rIns="87120" tIns="42840" bIns="4284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NATION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7120" marR="871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87120" rIns="87120" tIns="42840" bIns="4284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85 Projec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7120" marR="87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7e4bd"/>
                    </a:solidFill>
                  </a:tcPr>
                </a:tc>
                <a:tc gridSpan="2">
                  <a:txBody>
                    <a:bodyPr lIns="87120" rIns="87120" tIns="42840" bIns="4284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mb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7120" marR="87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7e4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7120" rIns="87120" tIns="42840" bIns="4284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cal  Are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7120" marR="87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87120" rIns="87120" tIns="42840" bIns="4284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ant and Co-finanic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7120" marR="871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7e4bd"/>
                    </a:solidFill>
                  </a:tcPr>
                </a:tc>
              </a:tr>
              <a:tr h="329400">
                <a:tc gridSpan="2">
                  <a:txBody>
                    <a:bodyPr lIns="87120" rIns="87120" tIns="42840" bIns="42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38 Active, 47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120" marR="871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7e4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87120" rIns="87120" tIns="42840" bIns="428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7120" marR="87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7e4b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87120" rIns="87120" tIns="42840" bIns="4284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W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P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7120" marR="87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7e4bd"/>
                    </a:solidFill>
                  </a:tcPr>
                </a:tc>
                <a:tc rowSpan="2">
                  <a:txBody>
                    <a:bodyPr lIns="87120" rIns="87120" tIns="42840" bIns="428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25 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45 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14 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2 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1 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 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7120" marR="871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7e4bd"/>
                    </a:solidFill>
                  </a:tcPr>
                </a:tc>
              </a:tr>
              <a:tr h="1470600">
                <a:tc>
                  <a:txBody>
                    <a:bodyPr lIns="87120" rIns="87120"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GEF Grant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    $393  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120" marR="871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87120" rIns="87120"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o Financing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  $2.98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120" marR="87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7e4bd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71920">
                <a:tc gridSpan="3">
                  <a:txBody>
                    <a:bodyPr lIns="87120" rIns="87120" tIns="42840" bIns="428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EGIONAL   49 Projec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       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GEF Grant    $302 M   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     Co Financing   $1.4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1 BD, 11 CC, 15 IW, 7 MF, 5 POP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7120" marR="871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4bd9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87120" rIns="87120" tIns="42840" bIns="428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GLOBAL   38 Projec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        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GEF Grant    $312 M 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      Co Financing   $390 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3 BD, 12 CC, 2 IW, 8 MF, 3 POP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7120" marR="871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33" name="TextBox 5"/>
          <p:cNvSpPr/>
          <p:nvPr/>
        </p:nvSpPr>
        <p:spPr>
          <a:xfrm>
            <a:off x="1981080" y="714240"/>
            <a:ext cx="6400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ok Islands, Fiji, Indonesia, Kiribati, Marshall Islands, Micronesia, Nauru, Niue, Palau, Papua New Guinea, Philippines, Samoa, Solomon Islands, Timor Leste, Tonga, Tuvalu, and Vanuat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Title 1" descr=""/>
          <p:cNvPicPr/>
          <p:nvPr/>
        </p:nvPicPr>
        <p:blipFill>
          <a:blip r:embed="rId1"/>
          <a:stretch/>
        </p:blipFill>
        <p:spPr>
          <a:xfrm>
            <a:off x="1212840" y="208080"/>
            <a:ext cx="7785000" cy="590400"/>
          </a:xfrm>
          <a:prstGeom prst="rect">
            <a:avLst/>
          </a:prstGeom>
          <a:ln w="0">
            <a:noFill/>
          </a:ln>
        </p:spPr>
      </p:pic>
      <p:sp>
        <p:nvSpPr>
          <p:cNvPr id="235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1629E-C8C2-4267-B971-D0785453F0E9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Chart 2" descr=""/>
          <p:cNvPicPr/>
          <p:nvPr/>
        </p:nvPicPr>
        <p:blipFill>
          <a:blip r:embed="rId2"/>
          <a:stretch/>
        </p:blipFill>
        <p:spPr>
          <a:xfrm>
            <a:off x="1168560" y="863640"/>
            <a:ext cx="3682800" cy="2997000"/>
          </a:xfrm>
          <a:prstGeom prst="rect">
            <a:avLst/>
          </a:prstGeom>
          <a:ln w="0">
            <a:noFill/>
          </a:ln>
        </p:spPr>
      </p:pic>
      <p:pic>
        <p:nvPicPr>
          <p:cNvPr id="237" name="Chart 6" descr=""/>
          <p:cNvPicPr/>
          <p:nvPr/>
        </p:nvPicPr>
        <p:blipFill>
          <a:blip r:embed="rId3"/>
          <a:stretch/>
        </p:blipFill>
        <p:spPr>
          <a:xfrm>
            <a:off x="1092240" y="4444920"/>
            <a:ext cx="2921040" cy="2235240"/>
          </a:xfrm>
          <a:prstGeom prst="rect">
            <a:avLst/>
          </a:prstGeom>
          <a:ln w="0">
            <a:noFill/>
          </a:ln>
        </p:spPr>
      </p:pic>
      <p:pic>
        <p:nvPicPr>
          <p:cNvPr id="238" name="Chart 12" descr=""/>
          <p:cNvPicPr/>
          <p:nvPr/>
        </p:nvPicPr>
        <p:blipFill>
          <a:blip r:embed="rId4"/>
          <a:stretch/>
        </p:blipFill>
        <p:spPr>
          <a:xfrm>
            <a:off x="3301920" y="4444920"/>
            <a:ext cx="2921040" cy="2311560"/>
          </a:xfrm>
          <a:prstGeom prst="rect">
            <a:avLst/>
          </a:prstGeom>
          <a:ln w="0">
            <a:noFill/>
          </a:ln>
        </p:spPr>
      </p:pic>
      <p:sp>
        <p:nvSpPr>
          <p:cNvPr id="239" name="Rectangle 8"/>
          <p:cNvSpPr/>
          <p:nvPr/>
        </p:nvSpPr>
        <p:spPr>
          <a:xfrm>
            <a:off x="1219320" y="4038480"/>
            <a:ext cx="4114800" cy="2514600"/>
          </a:xfrm>
          <a:prstGeom prst="rect">
            <a:avLst/>
          </a:prstGeom>
          <a:noFill/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4"/>
          <p:cNvSpPr/>
          <p:nvPr/>
        </p:nvSpPr>
        <p:spPr>
          <a:xfrm>
            <a:off x="1795320" y="4052880"/>
            <a:ext cx="3048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0000"/>
                </a:solidFill>
                <a:latin typeface="Calibri"/>
              </a:rPr>
              <a:t>Active &amp; Completed National Proje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Chart 5" descr=""/>
          <p:cNvPicPr/>
          <p:nvPr/>
        </p:nvPicPr>
        <p:blipFill>
          <a:blip r:embed="rId5"/>
          <a:stretch/>
        </p:blipFill>
        <p:spPr>
          <a:xfrm>
            <a:off x="4521240" y="787320"/>
            <a:ext cx="4521240" cy="42544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Title 1" descr=""/>
          <p:cNvPicPr/>
          <p:nvPr/>
        </p:nvPicPr>
        <p:blipFill>
          <a:blip r:embed="rId1"/>
          <a:stretch/>
        </p:blipFill>
        <p:spPr>
          <a:xfrm>
            <a:off x="1212840" y="268200"/>
            <a:ext cx="7937640" cy="731880"/>
          </a:xfrm>
          <a:prstGeom prst="rect">
            <a:avLst/>
          </a:prstGeom>
          <a:ln w="0">
            <a:noFill/>
          </a:ln>
        </p:spPr>
      </p:pic>
      <p:sp>
        <p:nvSpPr>
          <p:cNvPr id="243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72745-B948-4EDA-8AF8-ED41575C257A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Chart 2" descr=""/>
          <p:cNvPicPr/>
          <p:nvPr/>
        </p:nvPicPr>
        <p:blipFill>
          <a:blip r:embed="rId2"/>
          <a:stretch/>
        </p:blipFill>
        <p:spPr>
          <a:xfrm>
            <a:off x="939960" y="787320"/>
            <a:ext cx="3835080" cy="3073320"/>
          </a:xfrm>
          <a:prstGeom prst="rect">
            <a:avLst/>
          </a:prstGeom>
          <a:ln w="0">
            <a:noFill/>
          </a:ln>
        </p:spPr>
      </p:pic>
      <p:pic>
        <p:nvPicPr>
          <p:cNvPr id="245" name="Chart 16" descr=""/>
          <p:cNvPicPr/>
          <p:nvPr/>
        </p:nvPicPr>
        <p:blipFill>
          <a:blip r:embed="rId3"/>
          <a:stretch/>
        </p:blipFill>
        <p:spPr>
          <a:xfrm>
            <a:off x="4978440" y="939960"/>
            <a:ext cx="3835440" cy="2920680"/>
          </a:xfrm>
          <a:prstGeom prst="rect">
            <a:avLst/>
          </a:prstGeom>
          <a:ln w="0">
            <a:noFill/>
          </a:ln>
        </p:spPr>
      </p:pic>
      <p:pic>
        <p:nvPicPr>
          <p:cNvPr id="246" name="Chart 17" descr=""/>
          <p:cNvPicPr/>
          <p:nvPr/>
        </p:nvPicPr>
        <p:blipFill>
          <a:blip r:embed="rId4"/>
          <a:stretch/>
        </p:blipFill>
        <p:spPr>
          <a:xfrm>
            <a:off x="1816200" y="3624120"/>
            <a:ext cx="6578640" cy="3149640"/>
          </a:xfrm>
          <a:prstGeom prst="rect">
            <a:avLst/>
          </a:prstGeom>
          <a:ln w="0">
            <a:noFill/>
          </a:ln>
        </p:spPr>
      </p:pic>
      <p:sp>
        <p:nvSpPr>
          <p:cNvPr id="247" name="TextBox 4"/>
          <p:cNvSpPr/>
          <p:nvPr/>
        </p:nvSpPr>
        <p:spPr>
          <a:xfrm>
            <a:off x="1522440" y="1150920"/>
            <a:ext cx="57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7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Box 18"/>
          <p:cNvSpPr/>
          <p:nvPr/>
        </p:nvSpPr>
        <p:spPr>
          <a:xfrm>
            <a:off x="2471760" y="182880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4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Box 19"/>
          <p:cNvSpPr/>
          <p:nvPr/>
        </p:nvSpPr>
        <p:spPr>
          <a:xfrm>
            <a:off x="3538440" y="137160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6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Box 20"/>
          <p:cNvSpPr/>
          <p:nvPr/>
        </p:nvSpPr>
        <p:spPr>
          <a:xfrm>
            <a:off x="5105520" y="990720"/>
            <a:ext cx="80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1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21"/>
          <p:cNvSpPr/>
          <p:nvPr/>
        </p:nvSpPr>
        <p:spPr>
          <a:xfrm>
            <a:off x="6172200" y="2620800"/>
            <a:ext cx="48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2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Box 22"/>
          <p:cNvSpPr/>
          <p:nvPr/>
        </p:nvSpPr>
        <p:spPr>
          <a:xfrm>
            <a:off x="7120080" y="2209680"/>
            <a:ext cx="57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4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Box 24"/>
          <p:cNvSpPr/>
          <p:nvPr/>
        </p:nvSpPr>
        <p:spPr>
          <a:xfrm>
            <a:off x="1811160" y="4038480"/>
            <a:ext cx="50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Box 25"/>
          <p:cNvSpPr/>
          <p:nvPr/>
        </p:nvSpPr>
        <p:spPr>
          <a:xfrm>
            <a:off x="2852640" y="4038480"/>
            <a:ext cx="50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6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Box 26"/>
          <p:cNvSpPr/>
          <p:nvPr/>
        </p:nvSpPr>
        <p:spPr>
          <a:xfrm>
            <a:off x="6348240" y="5189400"/>
            <a:ext cx="509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2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Box 27"/>
          <p:cNvSpPr/>
          <p:nvPr/>
        </p:nvSpPr>
        <p:spPr>
          <a:xfrm>
            <a:off x="7391520" y="5327640"/>
            <a:ext cx="50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1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Title 1" descr=""/>
          <p:cNvPicPr/>
          <p:nvPr/>
        </p:nvPicPr>
        <p:blipFill>
          <a:blip r:embed="rId1"/>
          <a:stretch/>
        </p:blipFill>
        <p:spPr>
          <a:xfrm>
            <a:off x="1292400" y="219240"/>
            <a:ext cx="7553160" cy="1006200"/>
          </a:xfrm>
          <a:prstGeom prst="rect">
            <a:avLst/>
          </a:prstGeom>
          <a:ln w="0">
            <a:noFill/>
          </a:ln>
        </p:spPr>
      </p:pic>
      <p:sp>
        <p:nvSpPr>
          <p:cNvPr id="258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85E53-60F0-4506-95E2-13DA35596119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Box 13"/>
          <p:cNvSpPr/>
          <p:nvPr/>
        </p:nvSpPr>
        <p:spPr>
          <a:xfrm>
            <a:off x="228600" y="1863720"/>
            <a:ext cx="106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Calibri"/>
              </a:rPr>
              <a:t>National Portfol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Box 14"/>
          <p:cNvSpPr/>
          <p:nvPr/>
        </p:nvSpPr>
        <p:spPr>
          <a:xfrm>
            <a:off x="0" y="375300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Calibri"/>
              </a:rPr>
              <a:t>Indonesia &amp; Philipp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15"/>
          <p:cNvSpPr/>
          <p:nvPr/>
        </p:nvSpPr>
        <p:spPr>
          <a:xfrm>
            <a:off x="558720" y="533412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Calibri"/>
              </a:rPr>
              <a:t>SI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Chart 16" descr=""/>
          <p:cNvPicPr/>
          <p:nvPr/>
        </p:nvPicPr>
        <p:blipFill>
          <a:blip r:embed="rId2"/>
          <a:stretch/>
        </p:blipFill>
        <p:spPr>
          <a:xfrm>
            <a:off x="1114560" y="1015920"/>
            <a:ext cx="2288880" cy="2463840"/>
          </a:xfrm>
          <a:prstGeom prst="rect">
            <a:avLst/>
          </a:prstGeom>
          <a:ln w="0">
            <a:noFill/>
          </a:ln>
        </p:spPr>
      </p:pic>
      <p:pic>
        <p:nvPicPr>
          <p:cNvPr id="263" name="Chart 17" descr=""/>
          <p:cNvPicPr/>
          <p:nvPr/>
        </p:nvPicPr>
        <p:blipFill>
          <a:blip r:embed="rId3"/>
          <a:stretch/>
        </p:blipFill>
        <p:spPr>
          <a:xfrm>
            <a:off x="1397160" y="3378240"/>
            <a:ext cx="2082600" cy="1576440"/>
          </a:xfrm>
          <a:prstGeom prst="rect">
            <a:avLst/>
          </a:prstGeom>
          <a:ln w="0">
            <a:noFill/>
          </a:ln>
        </p:spPr>
      </p:pic>
      <p:pic>
        <p:nvPicPr>
          <p:cNvPr id="264" name="Chart 18" descr=""/>
          <p:cNvPicPr/>
          <p:nvPr/>
        </p:nvPicPr>
        <p:blipFill>
          <a:blip r:embed="rId4"/>
          <a:stretch/>
        </p:blipFill>
        <p:spPr>
          <a:xfrm>
            <a:off x="1320840" y="5130720"/>
            <a:ext cx="2082600" cy="1576440"/>
          </a:xfrm>
          <a:prstGeom prst="rect">
            <a:avLst/>
          </a:prstGeom>
          <a:ln w="0">
            <a:noFill/>
          </a:ln>
        </p:spPr>
      </p:pic>
      <p:pic>
        <p:nvPicPr>
          <p:cNvPr id="265" name="Chart 19" descr=""/>
          <p:cNvPicPr/>
          <p:nvPr/>
        </p:nvPicPr>
        <p:blipFill>
          <a:blip r:embed="rId5"/>
          <a:stretch/>
        </p:blipFill>
        <p:spPr>
          <a:xfrm>
            <a:off x="3301920" y="1015920"/>
            <a:ext cx="3073320" cy="2463840"/>
          </a:xfrm>
          <a:prstGeom prst="rect">
            <a:avLst/>
          </a:prstGeom>
          <a:ln w="0">
            <a:noFill/>
          </a:ln>
        </p:spPr>
      </p:pic>
      <p:pic>
        <p:nvPicPr>
          <p:cNvPr id="266" name="Chart 20" descr=""/>
          <p:cNvPicPr/>
          <p:nvPr/>
        </p:nvPicPr>
        <p:blipFill>
          <a:blip r:embed="rId6"/>
          <a:stretch/>
        </p:blipFill>
        <p:spPr>
          <a:xfrm>
            <a:off x="6121440" y="1004760"/>
            <a:ext cx="3225600" cy="2463840"/>
          </a:xfrm>
          <a:prstGeom prst="rect">
            <a:avLst/>
          </a:prstGeom>
          <a:ln w="0">
            <a:noFill/>
          </a:ln>
        </p:spPr>
      </p:pic>
      <p:pic>
        <p:nvPicPr>
          <p:cNvPr id="267" name="Chart 21" descr=""/>
          <p:cNvPicPr/>
          <p:nvPr/>
        </p:nvPicPr>
        <p:blipFill>
          <a:blip r:embed="rId7"/>
          <a:stretch/>
        </p:blipFill>
        <p:spPr>
          <a:xfrm>
            <a:off x="3530520" y="3367080"/>
            <a:ext cx="2387520" cy="1701720"/>
          </a:xfrm>
          <a:prstGeom prst="rect">
            <a:avLst/>
          </a:prstGeom>
          <a:ln w="0">
            <a:noFill/>
          </a:ln>
        </p:spPr>
      </p:pic>
      <p:pic>
        <p:nvPicPr>
          <p:cNvPr id="268" name="Chart 22" descr=""/>
          <p:cNvPicPr/>
          <p:nvPr/>
        </p:nvPicPr>
        <p:blipFill>
          <a:blip r:embed="rId8"/>
          <a:stretch/>
        </p:blipFill>
        <p:spPr>
          <a:xfrm>
            <a:off x="3530520" y="5054760"/>
            <a:ext cx="2387520" cy="1701720"/>
          </a:xfrm>
          <a:prstGeom prst="rect">
            <a:avLst/>
          </a:prstGeom>
          <a:ln w="0">
            <a:noFill/>
          </a:ln>
        </p:spPr>
      </p:pic>
      <p:pic>
        <p:nvPicPr>
          <p:cNvPr id="269" name="Chart 23" descr=""/>
          <p:cNvPicPr/>
          <p:nvPr/>
        </p:nvPicPr>
        <p:blipFill>
          <a:blip r:embed="rId9"/>
          <a:stretch/>
        </p:blipFill>
        <p:spPr>
          <a:xfrm>
            <a:off x="6426360" y="3378240"/>
            <a:ext cx="2311200" cy="1865160"/>
          </a:xfrm>
          <a:prstGeom prst="rect">
            <a:avLst/>
          </a:prstGeom>
          <a:ln w="0">
            <a:noFill/>
          </a:ln>
        </p:spPr>
      </p:pic>
      <p:pic>
        <p:nvPicPr>
          <p:cNvPr id="270" name="Chart 24" descr=""/>
          <p:cNvPicPr/>
          <p:nvPr/>
        </p:nvPicPr>
        <p:blipFill>
          <a:blip r:embed="rId10"/>
          <a:stretch/>
        </p:blipFill>
        <p:spPr>
          <a:xfrm>
            <a:off x="6350040" y="5043600"/>
            <a:ext cx="2311200" cy="1865160"/>
          </a:xfrm>
          <a:prstGeom prst="rect">
            <a:avLst/>
          </a:prstGeom>
          <a:ln w="0">
            <a:noFill/>
          </a:ln>
        </p:spPr>
      </p:pic>
      <p:sp>
        <p:nvSpPr>
          <p:cNvPr id="271" name="TextBox 2"/>
          <p:cNvSpPr/>
          <p:nvPr/>
        </p:nvSpPr>
        <p:spPr>
          <a:xfrm>
            <a:off x="2057400" y="2017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3, 26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Box 25"/>
          <p:cNvSpPr/>
          <p:nvPr/>
        </p:nvSpPr>
        <p:spPr>
          <a:xfrm>
            <a:off x="1981080" y="358308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3, 15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Box 26"/>
          <p:cNvSpPr/>
          <p:nvPr/>
        </p:nvSpPr>
        <p:spPr>
          <a:xfrm>
            <a:off x="4552920" y="376884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2,29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1828800" y="1142640"/>
            <a:ext cx="693432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5000"/>
          </a:bodyPr>
          <a:p>
            <a:pPr marL="222840" indent="-2228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a50021"/>
                </a:solidFill>
                <a:latin typeface="Calibri"/>
              </a:rPr>
              <a:t>Thank you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22840" indent="-2228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22840" indent="-2228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22840" indent="-22284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gefeo.or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2840" indent="-22284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2840" indent="-22284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2840" indent="-22284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GEF EO CPE webpa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2840" indent="-22284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thegef.org/gef/node/787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2840" indent="-22284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2840" indent="-22284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enior Evaluation Officer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Slide Number Placeholder 5"/>
          <p:cNvSpPr/>
          <p:nvPr/>
        </p:nvSpPr>
        <p:spPr>
          <a:xfrm>
            <a:off x="84240" y="6357960"/>
            <a:ext cx="58716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E1D7A-BC95-432C-A342-7B2869CB6E25}" type="slidenum">
              <a:rPr b="1" lang="en-US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Slide Number Placeholder 4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1B864-D556-49E7-ADE6-9A1A7E78CAF1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2" descr=""/>
          <p:cNvPicPr/>
          <p:nvPr/>
        </p:nvPicPr>
        <p:blipFill>
          <a:blip r:embed="rId1"/>
          <a:stretch/>
        </p:blipFill>
        <p:spPr>
          <a:xfrm>
            <a:off x="0" y="6321600"/>
            <a:ext cx="1219320" cy="536400"/>
          </a:xfrm>
          <a:prstGeom prst="rect">
            <a:avLst/>
          </a:prstGeom>
          <a:ln w="0">
            <a:noFill/>
          </a:ln>
        </p:spPr>
      </p:pic>
      <p:pic>
        <p:nvPicPr>
          <p:cNvPr id="147" name="Title 1" descr=""/>
          <p:cNvPicPr/>
          <p:nvPr/>
        </p:nvPicPr>
        <p:blipFill>
          <a:blip r:embed="rId2"/>
          <a:stretch/>
        </p:blipFill>
        <p:spPr>
          <a:xfrm>
            <a:off x="1517760" y="298440"/>
            <a:ext cx="7480080" cy="1030320"/>
          </a:xfrm>
          <a:prstGeom prst="rect">
            <a:avLst/>
          </a:prstGeom>
          <a:ln w="0">
            <a:noFill/>
          </a:ln>
        </p:spPr>
      </p:pic>
      <p:sp>
        <p:nvSpPr>
          <p:cNvPr id="148" name="Content Placeholder 2"/>
          <p:cNvSpPr/>
          <p:nvPr/>
        </p:nvSpPr>
        <p:spPr>
          <a:xfrm>
            <a:off x="1295280" y="1600200"/>
            <a:ext cx="762012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68440" indent="-568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Verdana"/>
              </a:rPr>
              <a:t>Result based management - Setting goals and objectives, Monitoring, learning and decision mak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8440" indent="-568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Verdana"/>
              </a:rPr>
              <a:t>Evaluation is a “reality check” on RB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8440" indent="-568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Verdana"/>
              </a:rPr>
              <a:t>RBM,  especially monitoring, tell whether the organization is </a:t>
            </a:r>
            <a:r>
              <a:rPr b="0" lang="en-US" sz="3200" spc="-1" strike="noStrike">
                <a:solidFill>
                  <a:srgbClr val="006600"/>
                </a:solidFill>
                <a:latin typeface="Calibri"/>
                <a:ea typeface="Verdana"/>
              </a:rPr>
              <a:t>“</a:t>
            </a:r>
            <a:r>
              <a:rPr b="1" lang="en-US" sz="3200" spc="-1" strike="noStrike">
                <a:solidFill>
                  <a:srgbClr val="006600"/>
                </a:solidFill>
                <a:latin typeface="Calibri"/>
                <a:ea typeface="Verdana"/>
              </a:rPr>
              <a:t>on track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Verdana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8440" indent="-568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Verdana"/>
              </a:rPr>
              <a:t>Evaluation could tell whether the organization is </a:t>
            </a:r>
            <a:r>
              <a:rPr b="0" lang="en-US" sz="3200" spc="-1" strike="noStrike">
                <a:solidFill>
                  <a:srgbClr val="c00000"/>
                </a:solidFill>
                <a:latin typeface="Calibri"/>
                <a:ea typeface="Verdana"/>
              </a:rPr>
              <a:t>“on the </a:t>
            </a:r>
            <a:r>
              <a:rPr b="1" lang="en-US" sz="3200" spc="-1" strike="noStrike">
                <a:solidFill>
                  <a:srgbClr val="c00000"/>
                </a:solidFill>
                <a:latin typeface="Calibri"/>
                <a:ea typeface="Verdana"/>
              </a:rPr>
              <a:t>right</a:t>
            </a:r>
            <a:r>
              <a:rPr b="0" lang="en-US" sz="3200" spc="-1" strike="noStrike">
                <a:solidFill>
                  <a:srgbClr val="c00000"/>
                </a:solidFill>
                <a:latin typeface="Calibri"/>
                <a:ea typeface="Verdana"/>
              </a:rPr>
              <a:t> track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Title 1" descr=""/>
          <p:cNvPicPr/>
          <p:nvPr/>
        </p:nvPicPr>
        <p:blipFill>
          <a:blip r:embed="rId1"/>
          <a:stretch/>
        </p:blipFill>
        <p:spPr>
          <a:xfrm>
            <a:off x="1212840" y="244440"/>
            <a:ext cx="7937640" cy="82872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 txBox="1"/>
          <p:nvPr/>
        </p:nvSpPr>
        <p:spPr>
          <a:xfrm>
            <a:off x="1294920" y="1294920"/>
            <a:ext cx="762012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00000"/>
                </a:solidFill>
                <a:latin typeface="Calibri"/>
              </a:rPr>
              <a:t>Two overarching objectives</a:t>
            </a:r>
            <a:r>
              <a:rPr b="0" lang="en-US" sz="2600" spc="-1" strike="noStrike">
                <a:solidFill>
                  <a:srgbClr val="c00000"/>
                </a:solidFill>
                <a:latin typeface="Calibri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romote 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accountability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for the achievement of GEF objectives through the assessment of </a:t>
            </a:r>
            <a:r>
              <a:rPr b="0" lang="en-US" sz="2600" spc="-1" strike="noStrike">
                <a:solidFill>
                  <a:srgbClr val="006600"/>
                </a:solidFill>
                <a:latin typeface="Calibri"/>
              </a:rPr>
              <a:t>results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2600" spc="-1" strike="noStrike">
                <a:solidFill>
                  <a:srgbClr val="006600"/>
                </a:solidFill>
                <a:latin typeface="Calibri"/>
              </a:rPr>
              <a:t>effectiveness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2600" spc="-1" strike="noStrike">
                <a:solidFill>
                  <a:srgbClr val="006600"/>
                </a:solidFill>
                <a:latin typeface="Calibri"/>
              </a:rPr>
              <a:t>processes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, and </a:t>
            </a:r>
            <a:r>
              <a:rPr b="0" lang="en-US" sz="2600" spc="-1" strike="noStrike">
                <a:solidFill>
                  <a:srgbClr val="006600"/>
                </a:solidFill>
                <a:latin typeface="Calibri"/>
              </a:rPr>
              <a:t>performance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of the partners involved in GEF activi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romote 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learning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feedback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, and 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knowledge sharing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on results and lessons learned among the GEF and its partners as a basis for decision making on policies, strategies, program management, programs, and projects; and to improve 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knowledge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nd 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Slide Number Placeholder 4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8E06D-3329-4AF4-9ADB-CE99FFF00606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Title 1" descr=""/>
          <p:cNvPicPr/>
          <p:nvPr/>
        </p:nvPicPr>
        <p:blipFill>
          <a:blip r:embed="rId1"/>
          <a:stretch/>
        </p:blipFill>
        <p:spPr>
          <a:xfrm>
            <a:off x="1212840" y="-6480"/>
            <a:ext cx="7785000" cy="115884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 txBox="1"/>
          <p:nvPr/>
        </p:nvSpPr>
        <p:spPr>
          <a:xfrm>
            <a:off x="1295280" y="13712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eference to GEF Results-based Management </a:t>
            </a:r>
            <a:r>
              <a:rPr b="1" lang="en-US" sz="2600" spc="-1" strike="noStrike">
                <a:solidFill>
                  <a:srgbClr val="c00000"/>
                </a:solidFill>
                <a:latin typeface="Calibri"/>
              </a:rPr>
              <a:t>(RBM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trengthened </a:t>
            </a:r>
            <a:r>
              <a:rPr b="1" lang="en-US" sz="2600" spc="-1" strike="noStrike">
                <a:solidFill>
                  <a:srgbClr val="c00000"/>
                </a:solidFill>
                <a:latin typeface="Calibri"/>
              </a:rPr>
              <a:t>knowledge sharing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nd learn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arification of roles and responsibili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tronger role for GEF Operational </a:t>
            </a:r>
            <a:r>
              <a:rPr b="1" lang="en-US" sz="2600" spc="-1" strike="noStrike">
                <a:solidFill>
                  <a:srgbClr val="c00000"/>
                </a:solidFill>
                <a:latin typeface="Calibri"/>
              </a:rPr>
              <a:t>Focal Points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n M&amp;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nclusion of programs and jointly implemented projec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00000"/>
                </a:solidFill>
                <a:latin typeface="Calibri"/>
              </a:rPr>
              <a:t>Baseline data for M&amp;E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o be established by CEO endorsem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00000"/>
                </a:solidFill>
                <a:latin typeface="Calibri"/>
              </a:rPr>
              <a:t>New Minimum Requirement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on engagement of GEF Operational Focal Points in project and program M&amp;E activi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C8B8D-28CF-43E5-8D1C-7AE43A40D6A2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Rectangle 2" descr=""/>
          <p:cNvPicPr/>
          <p:nvPr/>
        </p:nvPicPr>
        <p:blipFill>
          <a:blip r:embed="rId1"/>
          <a:stretch/>
        </p:blipFill>
        <p:spPr>
          <a:xfrm>
            <a:off x="755640" y="298440"/>
            <a:ext cx="8089920" cy="85392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4"/>
          <p:cNvSpPr/>
          <p:nvPr/>
        </p:nvSpPr>
        <p:spPr>
          <a:xfrm>
            <a:off x="609480" y="1295280"/>
            <a:ext cx="815364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Group 40"/>
          <p:cNvGrpSpPr/>
          <p:nvPr/>
        </p:nvGrpSpPr>
        <p:grpSpPr>
          <a:xfrm>
            <a:off x="1295280" y="1447920"/>
            <a:ext cx="7390800" cy="4874400"/>
            <a:chOff x="1295280" y="1447920"/>
            <a:chExt cx="7390800" cy="4874400"/>
          </a:xfrm>
        </p:grpSpPr>
        <p:sp>
          <p:nvSpPr>
            <p:cNvPr id="158" name="Text Box 56"/>
            <p:cNvSpPr/>
            <p:nvPr/>
          </p:nvSpPr>
          <p:spPr>
            <a:xfrm>
              <a:off x="1295280" y="4815360"/>
              <a:ext cx="1486080" cy="90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Operating Leve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(bottom-up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Text Box 55"/>
            <p:cNvSpPr/>
            <p:nvPr/>
          </p:nvSpPr>
          <p:spPr>
            <a:xfrm>
              <a:off x="1524240" y="2375280"/>
              <a:ext cx="1245240" cy="90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Institutional Leve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(top-down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0" name="Group 41"/>
            <p:cNvGrpSpPr/>
            <p:nvPr/>
          </p:nvGrpSpPr>
          <p:grpSpPr>
            <a:xfrm>
              <a:off x="3544560" y="1447920"/>
              <a:ext cx="5141520" cy="4799520"/>
              <a:chOff x="3544560" y="1447920"/>
              <a:chExt cx="5141520" cy="4799520"/>
            </a:xfrm>
          </p:grpSpPr>
          <p:sp>
            <p:nvSpPr>
              <p:cNvPr id="161" name="AutoShape 42"/>
              <p:cNvSpPr/>
              <p:nvPr/>
            </p:nvSpPr>
            <p:spPr>
              <a:xfrm>
                <a:off x="3544560" y="1447920"/>
                <a:ext cx="5141520" cy="4799520"/>
              </a:xfrm>
              <a:prstGeom prst="triangle">
                <a:avLst>
                  <a:gd name="adj" fmla="val 50000"/>
                </a:avLst>
              </a:prstGeom>
              <a:solidFill>
                <a:srgbClr val="99ccff">
                  <a:alpha val="49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rot="108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Text Box 43"/>
              <p:cNvSpPr/>
              <p:nvPr/>
            </p:nvSpPr>
            <p:spPr>
              <a:xfrm>
                <a:off x="5553720" y="5223960"/>
                <a:ext cx="1226520" cy="946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7320" rIns="67320" tIns="33480" bIns="3348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Project Objective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Text Box 44"/>
              <p:cNvSpPr/>
              <p:nvPr/>
            </p:nvSpPr>
            <p:spPr>
              <a:xfrm>
                <a:off x="5332680" y="3215880"/>
                <a:ext cx="1575720" cy="568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7320" rIns="67320" tIns="33480" bIns="3348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Focal Are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Goa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Text Box 45"/>
              <p:cNvSpPr/>
              <p:nvPr/>
            </p:nvSpPr>
            <p:spPr>
              <a:xfrm>
                <a:off x="5638320" y="1887120"/>
                <a:ext cx="915480" cy="77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7320" rIns="67320" tIns="33480" bIns="3348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GEF Strategic Goal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Line 46"/>
              <p:cNvSpPr/>
              <p:nvPr/>
            </p:nvSpPr>
            <p:spPr>
              <a:xfrm>
                <a:off x="4722840" y="4100400"/>
                <a:ext cx="28191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Text Box 47"/>
              <p:cNvSpPr/>
              <p:nvPr/>
            </p:nvSpPr>
            <p:spPr>
              <a:xfrm>
                <a:off x="5536800" y="4352760"/>
                <a:ext cx="1243800" cy="568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7320" rIns="67320" tIns="33480" bIns="3348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Focal Are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Objective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Line 48"/>
              <p:cNvSpPr/>
              <p:nvPr/>
            </p:nvSpPr>
            <p:spPr>
              <a:xfrm>
                <a:off x="4124880" y="5110560"/>
                <a:ext cx="3980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Line 49"/>
              <p:cNvSpPr/>
              <p:nvPr/>
            </p:nvSpPr>
            <p:spPr>
              <a:xfrm>
                <a:off x="5369040" y="2836800"/>
                <a:ext cx="1492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9" name="Text Box 50"/>
            <p:cNvSpPr/>
            <p:nvPr/>
          </p:nvSpPr>
          <p:spPr>
            <a:xfrm>
              <a:off x="2781360" y="2362680"/>
              <a:ext cx="1807200" cy="395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GE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Impac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Outcom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Outpu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Line 51"/>
            <p:cNvSpPr/>
            <p:nvPr/>
          </p:nvSpPr>
          <p:spPr>
            <a:xfrm flipV="1">
              <a:off x="3655080" y="4190400"/>
              <a:ext cx="1800" cy="696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Line 52"/>
            <p:cNvSpPr/>
            <p:nvPr/>
          </p:nvSpPr>
          <p:spPr>
            <a:xfrm>
              <a:off x="3655080" y="3112920"/>
              <a:ext cx="1800" cy="697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AutoShape 53"/>
            <p:cNvSpPr/>
            <p:nvPr/>
          </p:nvSpPr>
          <p:spPr>
            <a:xfrm flipH="1">
              <a:off x="2741400" y="2075400"/>
              <a:ext cx="321120" cy="1199880"/>
            </a:xfrm>
            <a:custGeom>
              <a:avLst/>
              <a:gdLst>
                <a:gd name="textAreaLeft" fmla="*/ 0 w 321120"/>
                <a:gd name="textAreaRight" fmla="*/ 115920 w 321120"/>
                <a:gd name="textAreaTop" fmla="*/ 33120 h 1199880"/>
                <a:gd name="textAreaBottom" fmla="*/ 1166760 h 1199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60"/>
                    <a:pt x="10800" y="1920"/>
                  </a:cubicBezTo>
                  <a:lnTo>
                    <a:pt x="10800" y="8880"/>
                  </a:lnTo>
                  <a:cubicBezTo>
                    <a:pt x="10800" y="9840"/>
                    <a:pt x="16200" y="10800"/>
                    <a:pt x="21600" y="10800"/>
                  </a:cubicBezTo>
                  <a:cubicBezTo>
                    <a:pt x="16200" y="10800"/>
                    <a:pt x="10800" y="11760"/>
                    <a:pt x="10800" y="12720"/>
                  </a:cubicBezTo>
                  <a:lnTo>
                    <a:pt x="10800" y="19680"/>
                  </a:lnTo>
                  <a:cubicBezTo>
                    <a:pt x="10800" y="20640"/>
                    <a:pt x="5400" y="21600"/>
                    <a:pt x="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AutoShape 54"/>
            <p:cNvSpPr/>
            <p:nvPr/>
          </p:nvSpPr>
          <p:spPr>
            <a:xfrm flipH="1">
              <a:off x="2741400" y="4327560"/>
              <a:ext cx="321120" cy="1499760"/>
            </a:xfrm>
            <a:custGeom>
              <a:avLst/>
              <a:gdLst>
                <a:gd name="textAreaLeft" fmla="*/ 0 w 321120"/>
                <a:gd name="textAreaRight" fmla="*/ 115920 w 321120"/>
                <a:gd name="textAreaTop" fmla="*/ 39600 h 1499760"/>
                <a:gd name="textAreaBottom" fmla="*/ 1460160 h 1499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12"/>
                    <a:pt x="10800" y="1824"/>
                  </a:cubicBezTo>
                  <a:lnTo>
                    <a:pt x="10800" y="8976"/>
                  </a:lnTo>
                  <a:cubicBezTo>
                    <a:pt x="10800" y="9888"/>
                    <a:pt x="16200" y="10800"/>
                    <a:pt x="21600" y="10800"/>
                  </a:cubicBezTo>
                  <a:cubicBezTo>
                    <a:pt x="16200" y="10800"/>
                    <a:pt x="10800" y="11712"/>
                    <a:pt x="10800" y="12624"/>
                  </a:cubicBezTo>
                  <a:lnTo>
                    <a:pt x="10800" y="19776"/>
                  </a:lnTo>
                  <a:cubicBezTo>
                    <a:pt x="10800" y="20688"/>
                    <a:pt x="5400" y="21600"/>
                    <a:pt x="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" name="Slide Number Placeholder 3"/>
          <p:cNvSpPr/>
          <p:nvPr/>
        </p:nvSpPr>
        <p:spPr>
          <a:xfrm>
            <a:off x="6934320" y="626436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978AF-498E-420F-B87A-FBB385D04F92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Rectangle 2" descr=""/>
          <p:cNvPicPr/>
          <p:nvPr/>
        </p:nvPicPr>
        <p:blipFill>
          <a:blip r:embed="rId1"/>
          <a:stretch/>
        </p:blipFill>
        <p:spPr>
          <a:xfrm>
            <a:off x="1212840" y="268200"/>
            <a:ext cx="7937640" cy="804960"/>
          </a:xfrm>
          <a:prstGeom prst="rect">
            <a:avLst/>
          </a:prstGeom>
          <a:ln w="0">
            <a:noFill/>
          </a:ln>
        </p:spPr>
      </p:pic>
      <p:grpSp>
        <p:nvGrpSpPr>
          <p:cNvPr id="176" name="Group 4"/>
          <p:cNvGrpSpPr/>
          <p:nvPr/>
        </p:nvGrpSpPr>
        <p:grpSpPr>
          <a:xfrm>
            <a:off x="1143000" y="1447920"/>
            <a:ext cx="7543440" cy="4113360"/>
            <a:chOff x="1143000" y="1447920"/>
            <a:chExt cx="7543440" cy="4113360"/>
          </a:xfrm>
        </p:grpSpPr>
        <p:sp>
          <p:nvSpPr>
            <p:cNvPr id="177" name="Text Box 5"/>
            <p:cNvSpPr/>
            <p:nvPr/>
          </p:nvSpPr>
          <p:spPr>
            <a:xfrm>
              <a:off x="1143000" y="1447920"/>
              <a:ext cx="2666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Project and Program Desig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Text Box 6"/>
            <p:cNvSpPr/>
            <p:nvPr/>
          </p:nvSpPr>
          <p:spPr>
            <a:xfrm>
              <a:off x="3809520" y="1447920"/>
              <a:ext cx="2431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Implement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7"/>
            <p:cNvSpPr/>
            <p:nvPr/>
          </p:nvSpPr>
          <p:spPr>
            <a:xfrm>
              <a:off x="6255360" y="1447920"/>
              <a:ext cx="2431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Evalu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8"/>
            <p:cNvSpPr/>
            <p:nvPr/>
          </p:nvSpPr>
          <p:spPr>
            <a:xfrm>
              <a:off x="3810960" y="1598760"/>
              <a:ext cx="379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9"/>
            <p:cNvSpPr/>
            <p:nvPr/>
          </p:nvSpPr>
          <p:spPr>
            <a:xfrm>
              <a:off x="6098040" y="1598760"/>
              <a:ext cx="607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 Box 10"/>
            <p:cNvSpPr/>
            <p:nvPr/>
          </p:nvSpPr>
          <p:spPr>
            <a:xfrm>
              <a:off x="1479240" y="2077200"/>
              <a:ext cx="1915560" cy="733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LFA/Results framework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M&amp;E Pla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AutoShape 11"/>
            <p:cNvSpPr/>
            <p:nvPr/>
          </p:nvSpPr>
          <p:spPr>
            <a:xfrm>
              <a:off x="2781720" y="3493440"/>
              <a:ext cx="3994560" cy="1415880"/>
            </a:xfrm>
            <a:prstGeom prst="rightArrow">
              <a:avLst>
                <a:gd name="adj1" fmla="val 50000"/>
                <a:gd name="adj2" fmla="val 70531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Text Box 12"/>
            <p:cNvSpPr/>
            <p:nvPr/>
          </p:nvSpPr>
          <p:spPr>
            <a:xfrm>
              <a:off x="2745720" y="3965400"/>
              <a:ext cx="335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Management, monitoring, and learn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Text Box 13"/>
            <p:cNvSpPr/>
            <p:nvPr/>
          </p:nvSpPr>
          <p:spPr>
            <a:xfrm>
              <a:off x="3581280" y="2077200"/>
              <a:ext cx="2666520" cy="520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Monitoring of progress; midpoint course correction as neede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Text Box 14"/>
            <p:cNvSpPr/>
            <p:nvPr/>
          </p:nvSpPr>
          <p:spPr>
            <a:xfrm>
              <a:off x="6428880" y="2077200"/>
              <a:ext cx="2170800" cy="520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erminal Evaluation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Lessons Learne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Text Box 16"/>
            <p:cNvSpPr/>
            <p:nvPr/>
          </p:nvSpPr>
          <p:spPr>
            <a:xfrm>
              <a:off x="4557600" y="5223960"/>
              <a:ext cx="2814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Lessons learned; Good practic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Text Box 17"/>
          <p:cNvSpPr/>
          <p:nvPr/>
        </p:nvSpPr>
        <p:spPr>
          <a:xfrm>
            <a:off x="1468800" y="6245280"/>
            <a:ext cx="704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Adapted from the World Bank’s </a:t>
            </a: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Results Focus in Country Assistance Strategies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, July 2005, p. 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6934320" y="6324480"/>
            <a:ext cx="2057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DEDF3-F578-4D1E-8175-D4B19F63FA4F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0" name="AutoShape 15"/>
          <p:cNvCxnSpPr/>
          <p:nvPr/>
        </p:nvCxnSpPr>
        <p:spPr>
          <a:xfrm rot="5400000">
            <a:off x="4942800" y="237960"/>
            <a:ext cx="219960" cy="5077440"/>
          </a:xfrm>
          <a:prstGeom prst="bentConnector3">
            <a:avLst>
              <a:gd name="adj1" fmla="val 1491311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Title 1" descr=""/>
          <p:cNvPicPr/>
          <p:nvPr/>
        </p:nvPicPr>
        <p:blipFill>
          <a:blip r:embed="rId1"/>
          <a:stretch/>
        </p:blipFill>
        <p:spPr>
          <a:xfrm>
            <a:off x="1212840" y="268200"/>
            <a:ext cx="7937640" cy="80496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 txBox="1"/>
          <p:nvPr/>
        </p:nvSpPr>
        <p:spPr>
          <a:xfrm>
            <a:off x="1295280" y="106668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&amp;E contributes to knowledge building and organizational improvem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Findings and lessons should be accessible to target audiences in a user-friendly way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Evaluation reports should be subject to a dynamic dissemination strateg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Knowledge sharing enables partners to capitalize on lessons learned from experience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urpose of KM in the GEF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Promotion of a culture of learn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Application of lessons learn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alibri"/>
              </a:rPr>
              <a:t>Feedback to new activi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1CF79-04C9-4EB2-94C5-C47EFD9A2BEE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Title 1" descr=""/>
          <p:cNvPicPr/>
          <p:nvPr/>
        </p:nvPicPr>
        <p:blipFill>
          <a:blip r:embed="rId1"/>
          <a:stretch/>
        </p:blipFill>
        <p:spPr>
          <a:xfrm>
            <a:off x="1212840" y="268200"/>
            <a:ext cx="7937640" cy="884160"/>
          </a:xfrm>
          <a:prstGeom prst="rect">
            <a:avLst/>
          </a:prstGeom>
          <a:ln w="0">
            <a:noFill/>
          </a:ln>
        </p:spPr>
      </p:pic>
      <p:sp>
        <p:nvSpPr>
          <p:cNvPr id="195" name="Slide Number Placeholder 3"/>
          <p:cNvSpPr/>
          <p:nvPr/>
        </p:nvSpPr>
        <p:spPr>
          <a:xfrm>
            <a:off x="65530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84DE3-AD07-42DB-8156-AB2E9E187E40}" type="slidenum">
              <a:rPr b="1" lang="en-US" sz="1800" spc="-1" strike="noStrike">
                <a:solidFill>
                  <a:srgbClr val="5028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Object 2" descr=""/>
          <p:cNvPicPr/>
          <p:nvPr/>
        </p:nvPicPr>
        <p:blipFill>
          <a:blip r:embed="rId2"/>
          <a:stretch/>
        </p:blipFill>
        <p:spPr>
          <a:xfrm>
            <a:off x="1523880" y="1219320"/>
            <a:ext cx="7358040" cy="54100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28T20:45:39Z</dcterms:created>
  <dc:creator>Soledad</dc:creator>
  <dc:description/>
  <dc:language>en-US</dc:language>
  <cp:lastModifiedBy>wb350798</cp:lastModifiedBy>
  <dcterms:modified xsi:type="dcterms:W3CDTF">2011-11-01T18:27:44Z</dcterms:modified>
  <cp:revision>224</cp:revision>
  <dc:subject/>
  <dc:title>Slide 1</dc:title>
</cp:coreProperties>
</file>