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ftr" idx="4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66EB-6F75-4EF7-A80A-0D75D821C9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618E-9C5A-4889-BE98-5F80F987F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917C-B5BD-4EA9-86F3-D292666B8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7C08-4340-4333-8EF8-9AE0443C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C3A-7316-436A-A651-320C33E9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9F8-D7E1-44F4-B1DE-F3D501BB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903-B9AC-4E8E-9FB1-4AA5812F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632F-D9C7-48D9-A39E-E8EFB59E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353A-DF04-4B02-ABEC-692E1F11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FCBE-96AF-490F-AFEF-4010F178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6450-A54D-4A70-A871-EEEB5AC7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34B8-E9BC-4ADE-9A17-82E8C2E6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F271-C763-4FC8-8A25-C819D4E9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29A3-D9FA-454E-A576-78195F59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86C8-19D1-4D11-A9B8-7A5AEB05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162C-78AB-473F-87EB-60709329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EB61-BF91-4065-9AE5-21B3B5B3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B382-C107-4038-85D4-BF084ABA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8498-00D6-4615-A6FB-F7C882CC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234-F888-4811-9835-03C311AD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CA62-6145-410C-AB5D-260AFBC1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6DE30-1808-401D-85CE-6D265C0E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41B7B-3879-4EC6-8AD4-51F525B8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17A8F-715A-4070-8DCB-7B8AEB8E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B7C9E-A715-4A7B-A08D-069CBBC5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E5451-4D6A-49E0-937E-E14F6597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063AD-BEAF-4DDB-AE74-4D5D99E1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28B6A-23C8-4061-AA14-ABE73F38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1C9B1-E598-4665-A924-9DFD6AD6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6068C-73FC-4003-A59A-3CD53988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6BE2-F4E0-42DF-9FF0-68A67A76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AD27F-919D-4010-B029-1AB4ECE4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E8446-D0CB-4799-BC71-6C6EBF14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052D5-884A-4B8F-9523-4B60D3CE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5230E-62D8-43D6-8A3A-2E72DCFC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5C862-9AC0-4F43-BFA4-1163DFDB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38B19-F08E-4F25-9251-A726C859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A9C85-4B65-4C27-8648-CBB8C4CA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3C0AC-7236-4432-9234-47B32928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CF87E-4707-4E57-92D1-00FB5939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B41AE-36A6-40B1-8CD0-C30FCC1E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A940-5A0C-4FA5-AEDA-18A28367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CEE5E-0DDE-47EB-A617-D216BF03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9FA4-23AE-445F-96FE-36011279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EF343-EC1F-4324-A5F1-138804AF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C093C-5047-494B-A825-9C9C4471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C77CF-94B4-4669-BFF9-DEB0AB27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B8D36-76A8-453C-B2F8-455EB613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A4935-BD61-442C-B20D-8262E128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6685E-E6AD-4E92-AB9D-18DA9243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FDC01-E741-4D61-9808-010C8E46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1644B-AC9D-4B0C-8146-C0BF1CAE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E91-F68D-4A80-8EC7-694DB539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5C48A-2DF4-4788-AF88-80A1E338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0358E-160B-4098-9C03-0717DFCD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AB7A1-DBE4-42E0-9822-BD3AFB5C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24791-2674-405B-B55F-1C3C23CA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388FD-C23A-496D-97DC-00346CAA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3BA1F-A9E6-4485-8130-D0C41B2D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6DC05-934C-4A42-9C30-9D4711B0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C4022-48E4-4679-9350-2B04EE46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82E18-34D4-455E-A926-D1194946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44E11-8987-4776-8EB4-B5C0C0E6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DD40-6F6B-44F0-A45E-BE61AF2C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3E8DD-0074-46C0-B637-907F15F9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85820-A0D2-4FFC-ACE1-A37A3DCB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BCB67-3D02-4C79-BBE0-41243C18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58468-6FB0-46BF-A449-5ADFDE04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F1F04-4003-4791-85FD-9F4FA38C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53A7A-B8AC-4E40-8006-CE2002BF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94D9D-B1B1-426F-BB8C-92878473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C370A-C15E-43C3-BD7C-4064BDD4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6022B-2246-44BF-A00C-65317BAF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AE417-C47D-40AD-A1C2-B2F12A08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42B8-DBC2-42E8-965C-E60502FE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E8AA7-CB94-4E61-BBFE-271144BC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F069A-9EA0-4598-AEDA-F9973236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58277-8E43-43EA-829C-6CBF3BEC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057C5-83D8-4E25-A653-A6252D67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C73FE-979C-4CA8-A2C9-B562CCA8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5655F-9FB6-4732-B2A4-857D0248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A2A2F-1A9E-4F51-955D-F0EF6F42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4050B-6478-4315-8A96-635B9AF9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8CD56-AE03-4372-9E09-8355C39B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5615B-F0F4-4369-8FEF-87CB7E1B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661-653A-4E6B-A844-0316D1AD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DB16F-3C2D-4B83-B137-D81F749F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E44CD-BB89-4392-B865-36123AD9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31081-2929-4065-87CE-3DB3FED0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D4E8E-D2D6-484B-82AC-DB323CA3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D24AA-2D9C-4774-BC21-94AF2524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E2030-C7B2-4FD2-AA8F-1F77D842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C1B0B-B052-4E36-B95F-6DAB567F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2BE5A-EBFF-40A2-AC4B-B613EC1B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F8E86-86D3-4725-A3A0-9A8A7CC8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3ADB3-D338-4307-9444-FD2EB905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15E80-AFD0-43E1-997B-53343645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32533-BA3C-417B-ABF9-E8D97F12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21468-2726-49B1-87A0-6C565E26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A3193-B571-4F41-99F8-244F97F4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A86B0-261D-4B45-AFBE-AE0D4E7F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5498C-5F59-4718-B817-28847FFD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63A4D-A81D-42F8-A74C-E8518DAE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855B9-7B19-4ED6-9FA0-AA2053FA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4D23E-9F90-4277-A391-E6DDD09D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DAC9B-87CE-4130-ACC8-6EEE8AE6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24FD0-9FDF-44A9-A8EA-AD5A1392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82F6B-3609-4FEE-AA2A-24A1E6FB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16FB2-313B-4F39-811F-962708FB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3DBFD-8A60-4D55-9343-79101CE8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FEAA2-231F-4820-9DC7-3960E099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B9D1F-6A04-41C7-8498-6CF20452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DD06A-6D62-46BF-964D-02EE5151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7ED58-2F15-42A2-9923-CFE2E23E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6F0AF-94D8-46E6-84EC-2E94F751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EA4D8-9474-4BDB-BC2A-202DB994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A98DE-3B97-4809-B4AE-E1D19723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D5CFB-704B-4F04-A381-D152043C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58C9C-8092-4C85-934B-A5892C50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18D64-DF8E-45EF-86A5-F85564E1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76B39-FA9F-4C62-9177-D17F280E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54AF1-A0CB-4A96-80C8-5DF2C20A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FB5CB-A0B0-4DFD-B9BD-38C050EA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B576E-D327-4051-9F46-4FBA9BD3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6FD15-E3FF-4CEE-BCD2-AA554934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29992-9C51-4B60-8649-234F4DAE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A789E-7E6E-4986-95FE-73052406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AC6D2-73C7-4E62-8906-922D85A0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6D9BE-676C-40C4-A858-E50D7FE1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86328-A827-4E19-B7F5-4C929618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73182-8D2C-4AF5-8C61-F7FD2385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70814-69EA-42D6-BD72-C9D896D3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3A502-E031-42EC-9825-BB9429A9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2BB2B-76C2-4D3D-A6EE-23E75D24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FBD8D-EAAA-40D4-BEFF-2050618A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017F2-7C84-4E6E-8FF3-6472B9C9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C844F-23A9-420B-B650-4BB40E96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AB8DF-98C3-44F3-AAB1-97FD59F2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38E70-D67E-490B-B1C8-0DCBAE33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FECFA-FE1D-4B59-ADD9-8DF94AA1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04406-A4E1-44D4-8379-2421B6B6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F39EC-1D69-48AD-9EB4-A6F7E4FC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53B7A-7806-4B4A-BFCD-FAF8D1FA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3056C-AA51-41D7-A72A-B486E0DD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35B49-CE62-4158-9CDA-BC176005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66532-8853-4F5E-AFA3-09B52CD4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BD85F-71B4-48E7-B7D6-C2590077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F2DE29-D172-46B9-B4F4-654C7DCD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E5939-8170-48B4-AFDB-ACFA0210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4C059C-A537-49A7-8240-35F06783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3D056-942F-4EBE-983D-0329C83A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D851B-976F-431B-9397-41BE6CE8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65988-41E4-44D3-9CCF-00E7D7DF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ACCF1-B204-4E72-9D97-D30C78AB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9701D-0BBC-4B9F-B12E-3AE596FA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70E75-BB40-4EAE-B3C8-D79EB457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5030C-CAA0-4B5B-B9C8-97B97616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200567-5AB0-415C-8386-D7A6B451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BF0165-9FF8-4CC4-A5D3-9FE7DEA4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DE4C-387B-4302-B07B-677C38507A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C041-919D-452B-BF79-81F7BCA020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94BB-F618-4F67-959B-DE5B88FF70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63A1-E76B-4815-9C92-09E6394370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FD9B-147B-49D9-AB7D-0511ADBA5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D03C-75B9-4AAA-AE0F-EFFC75473C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C99C-A519-4BA6-A9AB-129A917AB0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064C-6F78-469D-93E6-D0528A7A70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2096-EE74-49A0-BDEA-0B388BDB69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D31C-3D00-4A33-AE8A-6AF000BD33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3811-C0CD-464C-840A-A1496B0045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3B30-3F66-412E-AF50-21D8D24360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  <a:ea typeface="Arial"/>
              </a:rPr>
              <a:t>System for a Transparent Allocation of Resources - 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ubtitle 4"/>
          <p:cNvSpPr/>
          <p:nvPr/>
        </p:nvSpPr>
        <p:spPr>
          <a:xfrm>
            <a:off x="1066680" y="403848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1 – 13 October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4"/>
          <p:cNvSpPr/>
          <p:nvPr/>
        </p:nvSpPr>
        <p:spPr>
          <a:xfrm>
            <a:off x="152280" y="1295280"/>
            <a:ext cx="87631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will be approved on a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irst-come first-served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31 December 2013), resources will remain available to the country to be used in the same focal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1 January 2014), resources may be used in the same focal area or in others, at the discretion of the CEO and with the approval of the Cou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1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82" name="Rectangle 7"/>
          <p:cNvSpPr/>
          <p:nvPr/>
        </p:nvSpPr>
        <p:spPr>
          <a:xfrm>
            <a:off x="615240" y="304920"/>
            <a:ext cx="71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1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120680" y="380520"/>
            <a:ext cx="7275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2)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380880" y="1447920"/>
            <a:ext cx="8610840" cy="43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ies classified as “flexible”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ay use the full value of their allocation free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ithout the need to respect the specific focal area am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orsement letter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ust refer to current STAR alloc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each relevant focal area, including preparation costs (PPG) and Agency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 revised lett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endorsement is required if an amount over 5% of the original is requested during the CEO endorse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92080" y="76320"/>
            <a:ext cx="7275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3)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5"/>
          <p:cNvSpPr/>
          <p:nvPr/>
        </p:nvSpPr>
        <p:spPr>
          <a:xfrm>
            <a:off x="152280" y="838080"/>
            <a:ext cx="899172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“flexible” countries, reference must be made to the total amount and to the individual amount for each focal are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ecretariats of the relevant conven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informed of “flexible” cases in the endorsement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June 2012 Council meet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reports on the implementation experience of the STAR will be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June 2013 mee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Council will discuss an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ssessment of STAR design and implement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ed by the Office of Evaluation (OE), in addition to a report on progress in the development of indic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Next step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2361960" y="2133720"/>
            <a:ext cx="4343400" cy="761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 the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1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92" name="TextBox 5"/>
          <p:cNvSpPr/>
          <p:nvPr/>
        </p:nvSpPr>
        <p:spPr>
          <a:xfrm>
            <a:off x="2057400" y="3581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more detailed questions, please contact GE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10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Introdu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ing from GEF4  to GEF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Council requested reforms in resource allocation framework (RA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evaluation office, through the consultations with recipient countries, provided useful com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resentation describes the new rules and operational procedures corresponding to the new resource allocation system, ST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7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Outline of the pres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26744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s new from GEF-4 RAF to GEF-5 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verall allocations of the GEF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perational procedures of the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What is new in the GEF-5  STAR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2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New allocation areas and countrie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251424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 and Climate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  and group 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DC and SIDS in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638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5638680" y="2057400"/>
            <a:ext cx="3353040" cy="3951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, Climate Change,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and Degra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countries hav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grou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8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59" name="Text Placeholder 2"/>
          <p:cNvSpPr/>
          <p:nvPr/>
        </p:nvSpPr>
        <p:spPr>
          <a:xfrm>
            <a:off x="228600" y="213372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Placeholder 2"/>
          <p:cNvSpPr/>
          <p:nvPr/>
        </p:nvSpPr>
        <p:spPr>
          <a:xfrm>
            <a:off x="76320" y="3809880"/>
            <a:ext cx="236196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New rul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243792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15% for 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% rul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-aside 10%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63832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5638320" y="2057040"/>
            <a:ext cx="3429000" cy="380988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LD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1% for 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$2 M in CC, $1.5 M in BD, and $0.5 M in 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lexibility for small countries  ($7 M ru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t-aside 20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6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67" name="Text Placeholder 2"/>
          <p:cNvSpPr/>
          <p:nvPr/>
        </p:nvSpPr>
        <p:spPr>
          <a:xfrm>
            <a:off x="15228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Placeholder 2"/>
          <p:cNvSpPr/>
          <p:nvPr/>
        </p:nvSpPr>
        <p:spPr>
          <a:xfrm>
            <a:off x="76320" y="4724280"/>
            <a:ext cx="220968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Placeholder 2"/>
          <p:cNvSpPr/>
          <p:nvPr/>
        </p:nvSpPr>
        <p:spPr>
          <a:xfrm>
            <a:off x="15228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Programs not in the STA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762120" y="1676160"/>
            <a:ext cx="8076960" cy="419076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Wa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istent Organic Pollutants and Sound Chemicals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porate budg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 Support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and global projects/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Grants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th Fund (private sec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2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Distribution of GEF-5 Resource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4" name="Chart 4" descr=""/>
          <p:cNvPicPr/>
          <p:nvPr/>
        </p:nvPicPr>
        <p:blipFill>
          <a:blip r:embed="rId1"/>
          <a:stretch/>
        </p:blipFill>
        <p:spPr>
          <a:xfrm>
            <a:off x="298440" y="1517760"/>
            <a:ext cx="8547120" cy="44323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76" name="TextBox 1"/>
          <p:cNvSpPr/>
          <p:nvPr/>
        </p:nvSpPr>
        <p:spPr>
          <a:xfrm>
            <a:off x="45720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$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42d"/>
                </a:solidFill>
                <a:latin typeface="Calibri"/>
              </a:rPr>
              <a:t>GEF-5 STAR Alloc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8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9" name=""/>
          <p:cNvGraphicFramePr/>
          <p:nvPr/>
        </p:nvGraphicFramePr>
        <p:xfrm>
          <a:off x="228600" y="1523880"/>
          <a:ext cx="8763120" cy="4114800"/>
        </p:xfrm>
        <a:graphic>
          <a:graphicData uri="http://schemas.openxmlformats.org/drawingml/2006/table">
            <a:tbl>
              <a:tblPr/>
              <a:tblGrid>
                <a:gridCol w="2921040"/>
                <a:gridCol w="834840"/>
                <a:gridCol w="833760"/>
                <a:gridCol w="738000"/>
                <a:gridCol w="932040"/>
                <a:gridCol w="736560"/>
                <a:gridCol w="931680"/>
                <a:gridCol w="835200"/>
              </a:tblGrid>
              <a:tr h="31608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F-4 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F-5 S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.1 B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lenish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4.25 B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Allo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R Envelopes (M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ex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rm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erbai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lar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zakh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yrgyz Repub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n Fed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9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ji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urkmen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Uzbekista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wb350798</cp:lastModifiedBy>
  <dcterms:modified xsi:type="dcterms:W3CDTF">2011-11-01T20:35:05Z</dcterms:modified>
  <cp:revision>579</cp:revision>
  <dc:subject/>
  <dc:title>GEF</dc:title>
</cp:coreProperties>
</file>