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dt" idx="40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 type="ftr" idx="41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 type="sldNum" idx="42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FF4E-9F5A-4E45-9B1B-DD7BA1878F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3064-56FE-42C2-8E91-56022C6856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E5D8-3CE5-463C-ADFD-5BFB31357B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BD03-7880-43C7-B8A2-3C598BB63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384F-3625-4532-B81C-8AD8FF4D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729E-20F8-496E-966D-76708744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2630-AC49-4119-8283-484270F9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FB93-8596-48D8-8C17-58D10BAAB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3347-3C60-4E65-86D1-FF74CFDE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A133-34DE-4F55-9FBB-CFA89F29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050B-146F-4AB0-B608-480379B8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02EA6-15D0-429F-AC3C-C824685E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834A-0329-4BA3-A051-A4BD70C4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D662B-33A1-4D61-85F9-F0574035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A31B-A13C-48AD-B65E-DD501B38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2CD8-8304-4D2D-BB2C-00D282EA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F7DA-EA7C-40F4-B060-A376309B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D19D-1282-44BC-A9DD-5688B0FC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44BB-F089-4F9C-A1FE-5BB8CB15B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CE1F-2A4D-4164-89E1-A28AB368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598C-F594-46E8-82DB-E2B8C3794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E1FAD-65AD-4D35-BE89-5CD91EDEA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812D0-4992-4325-A43F-BCEB1069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75461-A1EF-4E8A-B784-E57540D7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18C75-7163-4F24-9357-B44B5B0E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CA9C8-D472-4438-BFF9-0C54AB84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63720-1981-4AF1-8B44-C5009FD2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534D4-94B0-4748-BFE7-81FDF128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3A249-AFD7-4F4C-B91B-988A61B2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1276A-AB9B-4159-8317-A35E3BBA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6CC1-E602-4C0B-B076-A2BF7FDA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0D317-442E-48D9-801F-98CC7B5A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311F3-F7AB-404E-9FFA-FFC84CDE7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DA5EF-7AC6-4533-B2E7-A254A2B66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93D70-E525-414E-9011-0B0799048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C7B1E-43ED-494A-9470-7371D047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ECC9F-E26A-462B-A70E-0EF93953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0CFFC-D2CB-4723-B452-153D3973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D1F60-EF6D-477F-93F3-1681DE8B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AD982-9F4F-403F-B0E9-0FAE7A7F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66FD1-B640-4DEA-B13B-8C482507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9CD0-916A-4A4A-A049-F31695B1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A3C22-58AF-40DF-AC90-48088FA4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D5640-C22E-4850-B577-B0F72E01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DA4FC-9336-40D9-87F8-10901F5D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E60CB-5891-4432-A9C2-1C8CAFEAD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DB588-87B0-48F6-AC45-33972B26C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45108-9A83-4671-BB5C-8F1249910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98785-050E-4B36-9FC2-B73F3FCF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D4F8F-81A2-4120-B832-7FED8EA7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121EF-14FE-4881-AA4D-9745F056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2557E-EFB6-49A5-A6EB-4500D29F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68EC-1238-456B-8650-93A894F1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C1F77-C7E0-410E-8E55-431F8242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21693-504E-44B0-BF10-645CECDE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81347-DC64-4696-BB65-96190555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1670D-4C18-4CE2-9926-22D47B59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435D5-047E-45E0-B034-7C4D0DE0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D0BB8-E428-4E27-9039-E65AB563A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86BEC-C139-4627-AE87-39B937380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DA360-6F39-49AC-9830-28BCBA03F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96AF3-CD41-43DF-BC0B-5FCD19A0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8EE89-1CA5-45EC-B9C0-32EF149C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705C-9DE1-453A-BA93-889321BC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D3511-5665-4AE0-9F98-DC565602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661F3-37DD-48AE-8C99-93E82CD4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B736C-ED64-4697-9C37-4FB4AD6B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244EC-3357-4954-9D44-F564407D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B4604-1DB3-4387-BBF4-E488980E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4A306-8FA8-490F-8D95-DB6278E6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BEAA9-924E-4CF5-A151-1E00A5CC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7BD9D-61C1-4D1E-BDB0-D6B8E27E6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286CE-BBB7-47B9-B7A3-A5C9A6D7E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F883C-7BC3-444E-AF0B-8F7434DF1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D841-2CCD-49EB-9D28-00EC2739F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82A6F-44B1-4E16-84CC-4225923D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405C8-344C-4658-A5C5-600D1348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32076-4848-4841-8102-FDE8B29A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81812-BCB7-42F8-888A-7E4572B9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2BEA5-0F65-45BB-BE69-826D8FE2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2CFE9-A83E-4FD9-B4CC-BF60C085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5A87A-9A0B-4237-999E-0FA21C0C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1A402-F229-4B68-8060-E17F6FD5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8E211-D1ED-401F-AB72-1A307A38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032C2-2B43-4279-A3A4-FA690D2A4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DEAE-A794-4FA7-9754-530DF7797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6DEDA-D0E7-4B13-8A30-D41418EA6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C92C4-8A1E-44DF-A8E9-2DD80591E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31F4B-B83D-43EB-99DC-E48752A8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3E1B8-9F9F-43E9-A43C-750C1CFC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3AD5B-9183-4148-B9D9-1C48D2B4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4E273-298D-4AE8-BA94-E9E45761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E2563-1088-4DB9-A969-AE67B8F01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81DD2-5138-4932-B521-4E701E75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2D28A-A5AD-4ECD-ACEB-995DE8B7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F66E7-F9D0-4162-A276-8BBF840B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15D7E-B55A-4AB7-8973-298EC760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6984F-6124-4B66-AB9E-AC2D629B0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5914D-653E-4F38-9073-778B70EA2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BB1B88-84FB-47FD-BF6C-BBEDBED83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F19490-C0C9-4FB3-A996-BC174FC1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2E7A56-136B-437C-9CD6-69B864B2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239BCD-8214-4A16-89D8-51431CCA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2950E9-7BF7-4A62-9E28-63B6943E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0C5FFF-7D9E-44EA-A268-C3C2E443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079405-42D5-4762-A699-54793247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BF661C-83F1-4307-8DBD-59F3DA87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E9E6AA-5460-40A1-BD04-E9C31F41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6A87BF-22FB-441D-A29F-DC815779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10E5B9-E867-4FA0-B80B-032151126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EF972-DC52-4AD6-A8F8-FC1F23AFA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E82422-734D-4C26-BFE4-7598FE8FF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28BAE7-3AA0-49FC-8350-3423CD47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1EF35F-B8CB-40BF-86C7-30E36B71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7B6A85-24C5-4884-8C30-DACE8906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50570F-ECB4-4E7B-BAD5-CCCF9ABB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5A1C9E-E3DC-498B-B2FE-F5B28DEB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F21E3B-E723-4F51-ADFD-8C8EA9CB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62FB2E-CD98-4F44-87D8-52092606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1863F0-1136-426F-BA82-96F1C3D4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701FAA-ABB7-47DB-BEB4-47E90D45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56C524-44DF-4DDB-A940-A4E95EFD9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F1762F-5621-4CB5-9984-6E4B575CD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ED101-5F6D-463A-B4F3-82D8FB7AF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45A16-2D2D-4359-BC63-66BB0786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0A17C9-90EF-4905-A62C-866D842A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022A6-9E90-4DCD-8D4E-EB684DB1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C2BB2-EB5D-41CF-B568-4A6DE824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9EDC6-1A7C-4483-A4F4-6D7184DF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5A170-B135-44B0-8A04-7A0C6131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A21E6B-E8A0-4638-B334-35932BA8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1ECF02-3FF4-459C-A38E-45FECD67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67E63F-EE0B-4221-984D-51818527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573EDD-BF07-4D89-B347-A7C90C7B2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5D2156-A1D8-46D2-A3AB-DA36464EF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97E721-AD4E-4028-B7C6-9EA92D7EC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DAA9B6-F630-49AA-84CF-C6B66A6F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03668F-03CB-4F06-85DA-8BEA6A98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27D7BC-B6A5-48C1-8A7C-80600098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0BC0B0-4995-41E6-B81C-5EE71A3E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1861D2-9075-4125-8414-7AE22D5C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CB9000-E7B7-4315-ADF3-D687AE36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5C577C-7D71-4C38-BE3E-0A2547BE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66E15F-FF14-4CCB-AC62-35596614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3BF29B-62E6-44D2-B0AA-7A63969E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961A70-6C62-4D51-B8F8-5E39557D8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1BE36D-BE41-477F-A0FA-A916C10B1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E5EABB-C30D-4341-83AC-C2AFE24D1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60BD7B-9705-4089-9127-254BB546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5489EF-97B4-468F-837A-0891C7BA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D34731-9911-462C-8F10-97121D5E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34EFA8-EB91-4B16-89E3-7C27F5E8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197E27-1B71-4A8F-88AB-0C3967F7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0FD1D8-F676-4D94-B829-6F020095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2389F7-6773-4DBB-BD51-E5826FAC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C00F31-F251-4D86-9DDC-44EA18AA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F819F4-0E66-4990-89EC-180408A7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EC6F59-C5D1-4C90-8A18-9B7333D43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19FF40-8B79-4C8E-A87F-F16F21BE9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0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8"/>
          <p:cNvSpPr/>
          <p:nvPr/>
        </p:nvSpPr>
        <p:spPr>
          <a:xfrm>
            <a:off x="533520" y="64771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G L O B A L   E N V I R O N M E N T   F A C I L I T Y   -   www.TheGEF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http://www.thegef.org/gef/sites/thegef.org/files/Images/GEF-notag-lowres_0.jpg"/>
          <p:cNvPicPr/>
          <p:nvPr/>
        </p:nvPicPr>
        <p:blipFill>
          <a:blip r:embed="rId2"/>
          <a:stretch/>
        </p:blipFill>
        <p:spPr>
          <a:xfrm>
            <a:off x="304920" y="6502320"/>
            <a:ext cx="304560" cy="355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83CC-9916-41C8-97DD-9BAD047C2B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"/>
          <p:cNvPicPr/>
          <p:nvPr/>
        </p:nvPicPr>
        <p:blipFill>
          <a:blip r:embed="rId2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3F1A-F066-474F-97CC-B12CD07EA4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4522-19D3-419F-8CD6-830586D357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376F-2A6B-4E3D-9042-43E71EF71B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24D6-7086-4B4D-AB06-7E60867BC5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B0BA-720D-4717-ADFF-DB71FE62FF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84C8-2BA7-497E-AB43-1CB46D82E1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A969-43D1-41D7-9893-4470A5A9B0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9C33-CED8-4474-883B-98A3B7FF4D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132F-7945-4617-B122-2E5AC14506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9CBE-20BC-4E1C-AEC7-12B5F7A3BB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C7FD-ADFF-40D4-B90E-0802D5130C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533520" y="64771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G L O B A L   E N V I R O N M E N T   F A C I L I T Y   -   www.TheGEF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http://www.thegef.org/gef/sites/thegef.org/files/Images/GEF-notag-lowres_0.jpg"/>
          <p:cNvPicPr/>
          <p:nvPr/>
        </p:nvPicPr>
        <p:blipFill>
          <a:blip r:embed="rId2"/>
          <a:stretch/>
        </p:blipFill>
        <p:spPr>
          <a:xfrm>
            <a:off x="304920" y="6502320"/>
            <a:ext cx="304560" cy="3556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6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04920" y="2130480"/>
            <a:ext cx="8153280" cy="14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42d"/>
                </a:solidFill>
                <a:latin typeface="Calibri"/>
                <a:ea typeface="Arial"/>
              </a:rPr>
              <a:t>System for a Transparent Allocation of Resources - ST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Subtitle 4"/>
          <p:cNvSpPr/>
          <p:nvPr/>
        </p:nvSpPr>
        <p:spPr>
          <a:xfrm>
            <a:off x="1066680" y="4038480"/>
            <a:ext cx="6705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11 – 13 October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Tashkent, Uzbekist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Rectangle 4"/>
          <p:cNvSpPr/>
          <p:nvPr/>
        </p:nvSpPr>
        <p:spPr>
          <a:xfrm>
            <a:off x="152280" y="1295280"/>
            <a:ext cx="876312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s will be approved on a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first-come first-served bas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event of project cancellation </a:t>
            </a: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before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the last six month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the GEF-5 (31 December 2013), resources will remain available to the country to be used in the same focal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event of project cancellation </a:t>
            </a: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the last six month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the GEF-5 (1 January 2014), resources may be used in the same focal area or in others, at the discretion of the CEO and with the approval of the Counc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1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82" name="Rectangle 7"/>
          <p:cNvSpPr/>
          <p:nvPr/>
        </p:nvSpPr>
        <p:spPr>
          <a:xfrm>
            <a:off x="615240" y="304920"/>
            <a:ext cx="718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STAR Operational Procedures (1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120680" y="380520"/>
            <a:ext cx="7275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STAR Operational Procedures (2)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380880" y="1447920"/>
            <a:ext cx="8610840" cy="43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tries classified as “flexible”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may use the full value of their allocation freel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without the need to respect the specific focal area amou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orsement letters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must refer to current STAR allocation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each relevant focal area, including preparation costs (PPG) and Agency f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A revised lett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endorsement is required if an amount over 5% of the original is requested during the CEO endorsement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5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92080" y="76320"/>
            <a:ext cx="72756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STAR Operational Procedures (3)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Rectangle 5"/>
          <p:cNvSpPr/>
          <p:nvPr/>
        </p:nvSpPr>
        <p:spPr>
          <a:xfrm>
            <a:off x="152280" y="838080"/>
            <a:ext cx="8991720" cy="51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“flexible” countries, reference must be made to the total amount and to the individual amount for each focal are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Secretariats of the relevant convention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be informed of “flexible” cases in the endorsement le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June 2012 Council meeting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reports on the implementation experience of the STAR will be provi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June 2013 meet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e Council will discuss an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assessment of STAR design and implementa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pared by the Office of Evaluation (OE), in addition to a report on progress in the development of indica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8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Next step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2361960" y="2133720"/>
            <a:ext cx="4343400" cy="761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 the ST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1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92" name="TextBox 5"/>
          <p:cNvSpPr/>
          <p:nvPr/>
        </p:nvSpPr>
        <p:spPr>
          <a:xfrm>
            <a:off x="2057400" y="35812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more detailed questions, please contact GEF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500"/>
                                        <p:tgtEl>
                                          <p:spTgt spid="1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1000" fill="hold"/>
                                        <p:tgtEl>
                                          <p:spTgt spid="10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1000" fill="hold"/>
                                        <p:tgtEl>
                                          <p:spTgt spid="1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Introduc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ving from GEF4  to GEF5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Council requested reforms in resource allocation framework (RA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evaluation office, through the consultations with recipient countries, provided useful com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presentation describes the new rules and operational procedures corresponding to the new resource allocation system, ST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7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Outline of the present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458200" cy="426744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is new from GEF-4 RAF to GEF-5  ST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verall allocations of the GEF-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perational procedures of the ST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0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380520" y="2666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What is new in the GEF-5  STAR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2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New allocation areas and countries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2437920" y="1294920"/>
            <a:ext cx="304956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F-4 RA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2514240" y="2057040"/>
            <a:ext cx="3049560" cy="380988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odiversity and Climate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vidual  and group allo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DC and SIDS in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5638680" y="1294920"/>
            <a:ext cx="327672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F-5 ST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5638680" y="2057400"/>
            <a:ext cx="3353040" cy="395136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odiversity, Climate Change, and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Land Degrad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countries hav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ndividu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llo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o group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o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8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59" name="Text Placeholder 2"/>
          <p:cNvSpPr/>
          <p:nvPr/>
        </p:nvSpPr>
        <p:spPr>
          <a:xfrm>
            <a:off x="228600" y="213372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 Placeholder 2"/>
          <p:cNvSpPr/>
          <p:nvPr/>
        </p:nvSpPr>
        <p:spPr>
          <a:xfrm>
            <a:off x="76320" y="3809880"/>
            <a:ext cx="2361960" cy="533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ALLOC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New rul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2437920" y="1294920"/>
            <a:ext cx="304956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F-4 RA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2437920" y="2057040"/>
            <a:ext cx="3049560" cy="380988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% for BD and 15% for C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% rul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-aside 10%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5638320" y="1294920"/>
            <a:ext cx="34290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F-5 ST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5638320" y="2057040"/>
            <a:ext cx="3429000" cy="380988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% for BD and LD,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1% for C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$2 M in CC, $1.5 M in BD, and $0.5 M in 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Flexibility for small countries  ($7 M ru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et-aside 20%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6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67" name="Text Placeholder 2"/>
          <p:cNvSpPr/>
          <p:nvPr/>
        </p:nvSpPr>
        <p:spPr>
          <a:xfrm>
            <a:off x="152280" y="220968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Placeholder 2"/>
          <p:cNvSpPr/>
          <p:nvPr/>
        </p:nvSpPr>
        <p:spPr>
          <a:xfrm>
            <a:off x="76320" y="4724280"/>
            <a:ext cx="2209680" cy="609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Placeholder 2"/>
          <p:cNvSpPr/>
          <p:nvPr/>
        </p:nvSpPr>
        <p:spPr>
          <a:xfrm>
            <a:off x="152280" y="342900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lo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Programs not in the STAR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762120" y="1676160"/>
            <a:ext cx="8076960" cy="419076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tional Wa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sistent Organic Pollutants and Sound Chemicals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porate budg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ntry Support Program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nal and global projects/pro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 Grants Program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th Fund (private secto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2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Distribution of GEF-5 Resources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4" name="Chart 4" descr=""/>
          <p:cNvPicPr/>
          <p:nvPr/>
        </p:nvPicPr>
        <p:blipFill>
          <a:blip r:embed="rId1"/>
          <a:stretch/>
        </p:blipFill>
        <p:spPr>
          <a:xfrm>
            <a:off x="298440" y="1517760"/>
            <a:ext cx="8547120" cy="443232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3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76" name="TextBox 1"/>
          <p:cNvSpPr/>
          <p:nvPr/>
        </p:nvSpPr>
        <p:spPr>
          <a:xfrm>
            <a:off x="457200" y="1676520"/>
            <a:ext cx="1738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$ Mil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642d"/>
                </a:solidFill>
                <a:latin typeface="Calibri"/>
              </a:rPr>
              <a:t>GEF-5 STAR Alloca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8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9" name=""/>
          <p:cNvGraphicFramePr/>
          <p:nvPr/>
        </p:nvGraphicFramePr>
        <p:xfrm>
          <a:off x="228600" y="1523880"/>
          <a:ext cx="8763120" cy="4114800"/>
        </p:xfrm>
        <a:graphic>
          <a:graphicData uri="http://schemas.openxmlformats.org/drawingml/2006/table">
            <a:tbl>
              <a:tblPr/>
              <a:tblGrid>
                <a:gridCol w="2921040"/>
                <a:gridCol w="834840"/>
                <a:gridCol w="833760"/>
                <a:gridCol w="738000"/>
                <a:gridCol w="932040"/>
                <a:gridCol w="736560"/>
                <a:gridCol w="931680"/>
                <a:gridCol w="835200"/>
              </a:tblGrid>
              <a:tr h="316080"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F-4 RA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F-5 S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3.1 Bill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lenish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4.25 Bill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itial Alloc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R Envelopes (M$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7520"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nt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exi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0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rme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.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zerbaij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.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elar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.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.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.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0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zakhst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3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.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5.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Kyrgyz Republ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.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ssian Fede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2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5.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7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4.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.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9.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0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jikist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urkmenist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.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Uzbekista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.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.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5:45:29Z</dcterms:created>
  <dc:creator>Peter Bjornsen</dc:creator>
  <dc:description/>
  <dc:language>en-US</dc:language>
  <cp:lastModifiedBy>wb350798</cp:lastModifiedBy>
  <dcterms:modified xsi:type="dcterms:W3CDTF">2011-11-01T20:35:05Z</dcterms:modified>
  <cp:revision>579</cp:revision>
  <dc:subject/>
  <dc:title>GEF</dc:title>
</cp:coreProperties>
</file>