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6F3-7673-42C5-99F0-F6A6EF99B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182-A47D-4481-BD93-BDE3BABF3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627-F24A-4760-9B35-B78E11D29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F14-41E2-4689-973F-726531EE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087-771D-4C61-A0C7-C2110BD8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F49-954E-4CE0-9221-32559EA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FCAB-781B-463C-957E-E081BD85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AA05-922E-478F-B828-09A5E0A9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85B-ADFE-4EB1-8474-691A4CBA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3825-F46B-44EA-97A8-2BFC2255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8B37-32F1-4604-BE2E-6BA836E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5E1-1ADB-46C4-A80D-620FE91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9ADA-4076-4C7C-80F9-0D5FDF9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B49E-C92C-4BAA-ABD9-D8F14687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6FA1-C7DD-49D6-9125-38347541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AC95-38E8-4327-BC4D-5053AF7F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9403-D352-47DC-893F-801EC94A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2937-FDD0-4E4B-B576-8C18C93B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B812-F5B2-4805-9BDC-9F6E9A51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FF46-B446-4F26-A0F6-0EC32558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9728-689A-4499-8A66-5CE583DD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20FA-02AC-420B-A497-5AA0E627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87DC-2F19-4FE7-89A5-94610A67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FE15-81D1-4158-ADAD-E11FC15E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3345-3051-476E-A06E-1A078925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D1B5-DA9D-48BA-BE29-DE69319C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82C3-9CC3-49C4-A628-78D310A6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EF3E6-7069-476E-808A-A2B06C3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B3D5E-C569-46D3-81F0-26BFD121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D9147-B435-48ED-A8EC-52C7C5F8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8B62-2456-45FF-A257-1A27F302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83E1-11CD-4F9B-BABE-16FC288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DB74-CDB9-4172-B69E-2AB9EAB1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916D5-32AB-4E20-8F1A-535207EE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5C7F-E118-44F4-B96E-00604BE3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7F23-DC6E-4E11-95DC-C6DB96C5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FF70-86DD-49C0-A5CB-D9B6ADC2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C782-BF1C-4610-81BE-1246ED2E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E5CDC-37EB-49B1-9BDE-5D2753AE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77D62-9DB3-4717-BBEF-27ADFF5E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1B1F2-3DD5-4E2B-8AC9-33AA3CFC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58D-6B0E-4D31-9EFE-84C0ABA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EFDBC-6349-4111-AA8B-4BB9069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FEAB-6743-4435-9EBC-ACC503D9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1F4F-11C0-402D-8C35-36481130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D9187-2FEC-482A-B910-156A876B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529BE-42FF-4120-82AC-9E0C53D7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C459-60B0-43A3-B044-DCDEB2AA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17F4E-CB0A-48AF-A835-F8DA43CE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B4FF-3F65-46CA-9BBB-5150037F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541D-982B-4A1C-91B8-06A89650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C0DD-7A32-4D62-81B9-D5256A3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DD37-9F9A-4DA7-B495-15CEEF4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B009-D768-401F-B13D-97C43E6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E0D47-14EC-4912-92BB-507AC59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385BA-129D-4501-866F-170BC64D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E68E-99FF-489C-AB0A-3C17F84F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6290C-929A-4CB4-8604-1CCF4593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DB3C0-05B2-4200-BFCA-F3E242CD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91AA-1164-4AAE-A0F1-9DD701AC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3626-B810-4899-A8B9-9AE9D602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B6798-BFC2-442D-AB09-67435F8B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A83D-CA4B-48DC-BCFB-535DD227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94F-3611-49BF-9CC1-C0EF20DA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2EFC-E52C-45AE-B0A8-1E42892E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0C759-FADC-4750-A612-7521790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8EC7B-02D9-49C3-BBD2-4142F382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38C1B-4941-45AF-870F-CB3F1F1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08B6-A274-4612-8EEF-CBAFA71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E021-18AC-409C-A8D4-1873A352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1B7E-8C9A-4EB5-AB79-87DD17B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4EC8-245E-4AC3-8061-9D9F97194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2C58C-2FE1-4888-9BF9-113568F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A3BF-925A-43D2-A6F9-41B933FD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5E7-41AC-43CB-A73D-F8367D0A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D7752-240B-4E07-837B-A98FF051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EA4AE-CCBD-49B8-84B7-7A20182E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B5EEF-8BE1-480F-A77B-B09E347A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86230-F80A-409D-A78C-14F53EB9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56E88-4AEB-4DBE-9F42-F6E97876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C6DA6-2A67-4C83-8BE3-3558618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49212-AF42-4417-BB78-2FA770F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9D40-F1CE-4172-A063-7C8348B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5131-1F8E-485C-8D19-727395A8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46ADB-1FBF-4AF1-A78D-07F4ED04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AB5-4E8D-48C7-9CA8-5B9FC8B8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6AB27-F6D5-42FD-B385-0AB750E7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DB79-18B9-4394-B123-DD9EBE26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4540-B9F1-4DDC-A803-286D270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56A93-D918-4700-AB11-F7B3F10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85B7-8D69-4B3E-913B-7A1AE87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E87B7-323C-41C9-9F0C-0486F3A8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AAC49-70E1-478A-9931-7846CC5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5AE7E-C140-4D4D-BB79-7E20E45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1987A-A2D8-4E66-9ADE-B65D978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27E9C-FA72-4539-B6CB-BA9ADB7C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7220-2793-4BC5-B863-A103721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EA793-F0C7-4200-9A28-5F24F0FBF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5CF76-9E3F-44CE-A8FA-0226A3D9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9C7C6-2D1F-4A8D-8FC3-676A59C1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36666-9D76-4B4A-A874-DD267AD6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879B4-DB73-4CEF-9F79-2CE9514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363E32-D457-49C0-9E83-F32E517A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487F9-E23B-4F90-922E-3FBCE763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07E65-6256-4B08-ADB5-27054633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A860B-F3C9-49D9-A177-A576C4F0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6DAF1-830C-478D-A29C-A6091A47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3C0BC-4BD3-4D71-849F-CA98AA4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4495B-EE41-4B7F-8F8B-40442E9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DFD04-5184-423E-B5D7-46BD299A3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1268F-53B3-41DA-A6F7-DB62CED9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711E2-73DC-42C5-B99B-C88FD2004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88CA7-4519-458F-9FDA-7670B38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EC2E3-2B12-4822-AC47-263D1E9B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0CE34-5097-4F9C-A6DD-4C92BBE4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52219-9E65-4788-9EC2-C7971E93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3EEF6-DA4E-4E4C-AE6A-C645B676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0CED3-6A90-4D20-B421-213C219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76749-A4C8-4862-A802-94C19430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07E7C-58B3-4105-BA8B-9BD50364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E1F97-D7CF-4AFF-BA37-7EDD6B83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33515-155B-4A7F-88EF-EF8CBDC4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30D8B-FAE5-40B6-8AA0-127BD3CC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0C8D8-5AC3-4446-B1AC-51A92436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8A16D-2BEB-4D03-8C24-79124AE5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5D654-3DD7-4BF7-A21C-46AAE84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270F7-6E05-4F54-874F-D12822D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305EC-61B6-43DF-B465-3E678D9A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DD81D-8950-447E-B4D7-24D0C99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C7F41-5125-4310-A288-AA2881A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D6150-3F76-470C-976F-4A6D5E7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207A8-D8D9-48B0-907B-CD637ADC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5694-932A-42BD-B17D-E650DF0C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D6E81-CC4C-48AC-A0F8-39D98BB8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71966-4E73-4C6D-AECD-9D471345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61B24-EE8D-4CAD-BF62-EE931970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F8F74-9E84-4B7F-A6EF-8B80118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99242-A392-41F4-8DF3-2E6C1457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2D42D-2A50-4A88-9D40-66EC4A0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23DC4-23B4-4FEC-BCD2-CB3F711A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B8FAC-9203-4585-9FB1-5CB52F1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7B1A9-F971-48F7-814B-C3CD6558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10928-6F3E-44F5-9A05-8DDB51D3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182B-F32D-4F15-83A5-BA85D8A7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B8966-D771-41AD-9C84-DD30AB16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D08C4-6B5F-4402-962E-952F965C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085B0-D718-41C1-BC83-EB013A95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EC6C0-6F9D-460B-BC01-6A621FFB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7778E-D7F9-4C08-9A38-95BB8CA0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29C96-B67D-4E6F-A2AE-727F8EBB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DDCB1-49C0-4E60-A250-905D6F7E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41C37-FA38-4831-8534-3891AA84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73A68-F281-4A50-94B1-CEA3ED22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A7B63-13C5-4B65-9EBA-9AD338C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9EB80-1021-4775-9F86-46113D8C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F31BA-FDE8-4385-8CE2-EA7A91D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96F69-300B-4EB1-8FF4-A93D8F74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A0E01-18E7-4A02-8465-6490739A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AB04C-9AE2-4E58-894F-75A0EB4F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8F51-C211-4BFE-A61E-B46CCA95BB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C016-08F4-4609-BFCF-0B7CFCD9A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EFFD-C429-4AF5-AB0A-0BF2E331F9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EC4C-4F2D-49D7-B8A9-EECA5B8E7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D1FF-3807-4364-99A7-F173D125D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5E39-AA44-41BE-A096-E8FC7D9297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359-8995-4694-AD0C-D87358DC4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2321-014E-41C1-832A-D29CAA9D03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1DB9-D1E0-4371-9CD9-D9F90041D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1864-D0B7-4CE6-A216-F06210301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ABA1-5C28-408D-878E-D2DF0BCB0C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494E-F023-414C-9941-CB705B8FBF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42d"/>
                </a:solidFill>
                <a:latin typeface="Calibri"/>
                <a:ea typeface="Arial"/>
              </a:rPr>
              <a:t>System for a Transparent Allocation of Re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ubtitle 4"/>
          <p:cNvSpPr/>
          <p:nvPr/>
        </p:nvSpPr>
        <p:spPr>
          <a:xfrm>
            <a:off x="1066680" y="403848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11 – 13 October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295280"/>
            <a:ext cx="87631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will be approved on a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first-come first-served ba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before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31 December 2013), resources will remain available to the country to be used in the same foc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event of project cancellation </a:t>
            </a:r>
            <a:r>
              <a:rPr b="0" i="1" lang="en-US" sz="2400" spc="-1" strike="noStrike">
                <a:solidFill>
                  <a:srgbClr val="c00000"/>
                </a:solidFill>
                <a:latin typeface="Calibri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the last six mont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GEF-5 (1 January 2014), resources may be used in the same focal area or in others, at the discretion of the CEO and with the approval of the Cou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82" name="Rectangle 7"/>
          <p:cNvSpPr/>
          <p:nvPr/>
        </p:nvSpPr>
        <p:spPr>
          <a:xfrm>
            <a:off x="615240" y="304920"/>
            <a:ext cx="71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1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20680" y="380520"/>
            <a:ext cx="7275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2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ies classified as “flexible”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ay use the full value of their allocation free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ithout the need to respect the specific focal area am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rsement letters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ust refer to current STAR alloc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each relevant focal area, including preparation costs (PPG) and Agenc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 revised lett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rsement is required if an amount over 5% of the original is requested during the CEO endorse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92080" y="76320"/>
            <a:ext cx="7275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STAR Operational Procedures (3)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5"/>
          <p:cNvSpPr/>
          <p:nvPr/>
        </p:nvSpPr>
        <p:spPr>
          <a:xfrm>
            <a:off x="152280" y="838080"/>
            <a:ext cx="899172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“flexible” countries, reference must be made to the total amount and to the individual amount for each focal are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Secretariats of the relevant conven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informed of “flexible” cases in the endorsement l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2 Council meeting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reports on the implementation experience of the STAR will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the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June 2013 meet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Council will discuss an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assessment of STAR design and implement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d by the Office of Evaluation (OE), in addition to a report on progress in the development of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xt ste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361960" y="2133720"/>
            <a:ext cx="434340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 the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1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more detailed questions, please contact GE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1000" fill="hold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GEF4  to GEF5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Council requested reforms in resource allocation framework (RA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evaluation office, through the consultations with recipient countries, provided useful com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resentation describes the new rules and operational procedures corresponding to the new resource allocation system, ST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Outline of the 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s new from GEF-4 RAF to GEF-5 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all allocations of the GEF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procedures of the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80520" y="2666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What is new in the GEF-5  STA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allocation areas and countri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 and Climate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  and group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DC and SIDS i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400"/>
            <a:ext cx="3353040" cy="395136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diversity, Climate Change,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nd Degra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countries hav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 gro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59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New ru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4 RA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15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% rul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-aside 10%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F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% for BD and LD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1% for 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$2 M in CC, $1.5 M in BD, and $0.5 M in 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Flexibility for small countries  ($7 M r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t-aside 20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6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67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grams not in th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tional Wa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Organic Pollutants and Sound Chemical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porate bud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ntry Support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and global projects/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 Grants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th Fund (private se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istribution of GEF-5 Resource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3" descr="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76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GEF-5 STAR Alloc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Picture 3" descr=""/>
          <p:cNvPicPr/>
          <p:nvPr/>
        </p:nvPicPr>
        <p:blipFill>
          <a:blip r:embed="rId1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9" name=""/>
          <p:cNvGraphicFramePr/>
          <p:nvPr/>
        </p:nvGraphicFramePr>
        <p:xfrm>
          <a:off x="228600" y="1523880"/>
          <a:ext cx="8763120" cy="4114800"/>
        </p:xfrm>
        <a:graphic>
          <a:graphicData uri="http://schemas.openxmlformats.org/drawingml/2006/table">
            <a:tbl>
              <a:tblPr/>
              <a:tblGrid>
                <a:gridCol w="2921040"/>
                <a:gridCol w="834840"/>
                <a:gridCol w="833760"/>
                <a:gridCol w="738000"/>
                <a:gridCol w="932040"/>
                <a:gridCol w="736560"/>
                <a:gridCol w="931680"/>
                <a:gridCol w="835200"/>
              </a:tblGrid>
              <a:tr h="31608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4 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F-5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enish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 Alloc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rme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erbai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elar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k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yrgyz Republ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n Fed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9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ji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rkmen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Uzbekista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01T20:35:05Z</dcterms:modified>
  <cp:revision>579</cp:revision>
  <dc:subject/>
  <dc:title>GEF</dc:title>
</cp:coreProperties>
</file>