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CD7E-5D8E-4CB3-B2D3-AAC0422CA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D6D0-5205-46D9-A627-413A589AE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35C7-FD1E-4C02-9935-CDF26C65A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5F9-E27B-4034-8E27-6E990EB9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0EC-E530-4043-8782-B29B828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BC4-7819-4DAF-BAA3-B58871B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633-2D63-48F0-B6CF-51B1C02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D2B9-0F7C-4EB1-A199-0480C8AF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259-AC56-4E11-8EE9-D9897EC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141D-40A4-496C-A30E-DC85DE69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9C8-7EE6-4153-9C7B-5BF2855A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6686-F276-4408-8870-FE9ACFEE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26D2-CCC3-4AA3-9936-B249F90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452F-F39B-419B-BD56-077350BE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2A59-C8D9-4B81-BFD5-737B89EC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8B88-5732-409C-AC17-373B68A7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2F7-FB94-4A85-9FF5-444A24C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10A7-02C8-43EA-850A-8666CB6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2F5E-915F-4AA2-96DD-F02FEDBD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523-F552-44D9-BFAC-EB0C28E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D525-1039-4812-9416-C9148E33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CE88-B3CF-4C6B-8EF6-23940B8E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B879-FDC9-40E6-9D82-33019CF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78EA-8AF1-446B-8EE9-E5BB1A81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926F-B667-4DB0-86C7-55F16EB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CDA0-93BA-43E6-8A28-DCC2D342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02AF-3DA7-4016-8B99-8FED3CB0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7B78-6151-46AB-AF3F-CB2378D2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4332-E4EF-4BF5-AD69-B813514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D870-9D61-4FA8-A3A6-2658D26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704-F326-478C-9CD7-40BD19E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4EA8-57D8-41A2-9DCA-888CE84D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9692-6F6D-44AD-9BDC-DDE3E923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BCCA-8A4A-44FA-8EB6-BC88C5F0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FEAA-0F7A-42C1-A501-89F86757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C8C5-982E-4CBA-A029-734A6DFC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1C58-AE30-44FA-A9FC-28D99A64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B0CC-36D8-4D5F-9301-53EC2CAF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296E-8F71-4A33-93F0-57EFBCC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E742-D771-4EB7-9BD6-C47D75B6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03D0-F8EA-4685-BA59-82C10C2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FEB-9647-45E9-8E4A-83356E8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E2E1-10BF-490A-A548-8D439941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FEA7-D84B-46B2-8F6A-0B1898C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866A-9B81-45A7-92E4-D52A80B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198EF-64AD-44F6-A2E0-CB5EEE5E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3206-CE6A-4748-AA91-75D2DCC4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4CB62-4E33-437E-B4EB-E864BDD1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F960-AE4F-41CB-8376-CE2259C7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DD23-CBAD-4F86-9C31-B779AAC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CA93-312F-4E4C-832C-1636CBF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BC0F-7C48-4D31-81D8-DA3F2179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23A-2736-45F5-AE93-4BA96E9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ADCE-E2E3-441C-A489-3C43E0D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23F63-51AE-4111-8CC3-D45C9AC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8C6A-859F-4EC3-A47E-651CA65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BA845-D2C4-4FFD-B5B3-9E90854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3196-EAE4-46AB-90C1-827A355D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69F0-EFDE-4E72-89B0-33CAF5A9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45F5-B52E-4C3A-971F-6C46B6C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189DD-4898-42A9-83BA-6ACAFE51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1EC7-1BEE-43C9-BC36-7B786BB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5B66-704D-4E4A-BB6B-54EE0813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EC4-D4EE-40E2-A012-05687EBD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B3A5-2693-4BEF-AD0A-A478F69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91B15-9BC7-4EB7-A3DD-D62625E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0E058-8470-40AA-BD3B-B2BAFA8D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DB163-0F03-4A81-A05F-C86B3C6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E2FB-ADCC-42E1-B1BF-B8DBD48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9ABF3-107E-4A06-8481-9B09A7C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FEB8-FCD9-4CE0-B299-6E5FA21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5608-F86E-40C4-B77A-C34445EB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4C7BB-16D4-4F02-A3DC-F86A724F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90E8-BDB5-4CAD-A929-06BF3A37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BC1-26FB-4FDD-AD53-66AA4D2F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FAF67-2B6E-4305-81C4-7921505B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9B97-9551-4601-B504-6B8BC7D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9ED61-2F2B-46FB-AA35-0400EA9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C120-4627-42F3-874F-CBB6E146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048F-B8A4-4778-BD55-837854DC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90AB4-3B44-484F-8AF1-78C73B6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B1E7D-B9D4-446F-95CD-D9B2513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F43F2-D8D5-4432-8A49-BCF093B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D8B3-E702-4DDC-A21A-C9AEAE4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CFFC-8D33-4BDB-840A-5BA3AD58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91E-295D-4A40-9403-B2FF9113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BCA86-EF9C-415E-9B07-E9CF4807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C175-4604-4D9D-9CFB-3E191DD1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45BA-782B-4A1A-98A1-4AD8F856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9EBD8-4355-4EC6-9646-C4FDFE12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24E93-FDB0-49AD-AA4C-1B1EEA0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440A-FAED-449F-B363-0D7CE2D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6BEF-B2CE-41A0-B1B3-F8D5D73C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C11B2-CFDC-49A8-9359-01FFC2B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018F7-49E5-4DEC-BD47-D65D3DA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8183-6490-4676-8BCF-2CA2F73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81D6D-3D24-4651-906E-5B1674AB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2E3C-4E18-4711-BE24-18369B0F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D5B44-7E5F-432C-8B24-318A60CC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42D28-8B2B-42E4-9717-6877DC90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1D072-E10E-4E08-8D13-9E50288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36464-7AEC-4697-8BE3-C4974123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213B5-5E38-4AB3-9238-FC6C3FB4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066B1-C4B7-4240-8E89-29A8FB44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AA41C-A8D3-46C0-B08E-DA73806C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28E87-EF9D-41FD-B807-1378BB4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A87F-868D-4D67-AC9A-392D48B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4370D-C6DF-49A8-8E53-B503ED5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EC0AE-8864-4F3B-BC36-7763C32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99C92-18FF-4A33-B772-F5A7A637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41D9C-A9C2-4FB1-8396-124EB0AC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F0DD0-5193-4C7C-B991-A65BDEEC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F52C-1922-44EF-BC58-9BB987FE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7812E-BD13-465E-8EC9-AB5037B1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C2CE6-8BC8-4F4F-ADD7-67F08DFA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0EE3-DE9A-4113-9361-24AB8DDD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42F59-A611-40F6-93D6-B4BCACB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D5CF7-447B-4DB4-BE92-B7AA7B6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79D07-130C-4B4A-BC4A-DA47258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CEF0D-9B5E-4DDF-B693-80F9E5FE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9989F-FE27-42E9-A433-FA160DE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0DB85-6DA8-4142-A942-42346BF8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9FAD0-CF0E-47F2-A5D9-19AEC239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02ACB-0FB2-4F85-BB28-D1E2BD66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48289-B9CE-4B17-A81B-DE56C46A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F85CA-8D3A-4780-82C2-1F879FD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A3986-D985-4484-9F5E-D181E1F6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E8B9F-3106-4A0D-8FE4-F31A033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CC1D-DC8B-4A09-9337-93B75A4C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9C5DE-3FE1-45DF-8E4A-A35419B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0031-F8F3-4DC6-B957-6DA96303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DFEA7-0DB1-481D-B70C-AFC20E9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7ECBD-A8A1-49AC-9B07-8070664D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3273E-7A14-494A-BDCE-314D28BA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6F179-F862-4447-90F7-AAC09E20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E846A-C236-4EC5-A410-45423472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A2D99-91D9-4647-9076-359BECF9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6D95D-3A66-44CD-86C2-BD51307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2675-54BD-46E1-9128-D78213DC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A0C41-3220-41EB-8789-2861980E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23499-61AD-4E1F-A4E5-62B0EFC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AACFB-4E90-464B-A93A-50AE502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E1DFB-9BC6-401D-8BE9-8EC02DA4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D53D8-19BF-43C3-A0E0-54A03C0D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3C8C6-6CCB-40F0-ACA5-97CF4CC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21826-A857-4333-A5EF-D8DA01E6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6AED6-BC90-43F7-84B4-EE4F6A6A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C9317-D339-44F8-974A-DCBC0C64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D0280-A43C-4A32-87D7-9A87F07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497DF-3FB3-403B-81F6-25BA0E1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967AA-9641-473A-97C2-61E3200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237F0-D8CE-4243-A0BB-3C8C8AF3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9ACB4-81A1-4114-9B44-E90E1FE2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8090E-0584-442B-B140-A7DB9FC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7E301-4D7B-40D2-A6C6-5C32E2E2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B47EC-D27E-4ECA-9105-D275544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3EF9C-F46A-491D-8211-B0AC100D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25D27-093B-4836-9895-2927B071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07D2F-B668-4CA2-A28D-074CC98F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0B39-E307-4FD4-BEF0-DAEB5415D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6CD0-E82D-4888-87BC-8CEED6A3C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4409-4ECE-4840-9C39-AB739C9E9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01C-EC2B-45B7-BA3E-A953F3299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9AD3-D219-43C5-B36C-EA34273F5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799-458D-46E3-86C4-94736F22D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B45-162D-41BE-A2C7-FBDFA58A5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4EB5-9A09-47EE-8A31-D0A962A87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7043-6E6B-4858-86F8-7095315CC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DB9C-39BA-4DB3-9535-EA30C2E0A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1612-17D4-4830-B501-063C524EB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0006-599F-478F-8043-DC0346698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истема прозрачного распределения ресурсов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(</a:t>
            </a: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ТАР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990720" y="3581280"/>
            <a:ext cx="6705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одзаголовок 2"/>
          <p:cNvSpPr/>
          <p:nvPr/>
        </p:nvSpPr>
        <p:spPr>
          <a:xfrm>
            <a:off x="414360" y="71748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одзаголовок 2"/>
          <p:cNvSpPr/>
          <p:nvPr/>
        </p:nvSpPr>
        <p:spPr>
          <a:xfrm>
            <a:off x="1332000" y="3985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одзаголовок 2"/>
          <p:cNvSpPr/>
          <p:nvPr/>
        </p:nvSpPr>
        <p:spPr>
          <a:xfrm>
            <a:off x="1276200" y="6523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4"/>
          <p:cNvSpPr/>
          <p:nvPr/>
        </p:nvSpPr>
        <p:spPr>
          <a:xfrm>
            <a:off x="152280" y="1295280"/>
            <a:ext cx="87631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утверждаются в порядке поступления заявок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до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-5 (до 31 декабря 2013 года) страна сможет продолжать использовать ресурсы в той же самой тематической 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осле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-5 (с 1 января 2014 года)  ресурсы могут использоваться в той же самой или других тематических областях по усмотрению ИД и пр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нии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7"/>
          <p:cNvSpPr/>
          <p:nvPr/>
        </p:nvSpPr>
        <p:spPr>
          <a:xfrm>
            <a:off x="62568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865160" y="380880"/>
            <a:ext cx="580896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2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380880" y="1447920"/>
            <a:ext cx="86108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ы, отнесенные к категории "гибкая схема",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могут без ограничений и в полном объеме использовать предоставленные им ресурс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необходимости соблюдения требования в отношении использования конкретных сумм в определенных тематических областя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а-согласовани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лжны отражать текущие ассигнования в рамках СТА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й соответствующей тематической области, включая  затраты, связанные с подготовкой проекта (гранты на подготовку проекта) и возмещение расходов учреждению-исполнит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ересмотренное письмо-согласова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уется в том случае, если в течение периода времени, необходимого для получения одобрения ИД, запрашивается сумма, превышающая  5% первоначально запрошен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5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36560" y="75960"/>
            <a:ext cx="5808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228600" y="1219320"/>
            <a:ext cx="8458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, отнесенных к категории "гибкая схема", необходимо указать общую сумму, а также конкретные суммы для каждой из тематических областе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екретариаты соответствующих конвенций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исьме-согласовании должны быть проинформированы о случаях использования категории "гибкая схем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заседанию Совета в июне 201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будет представлен доклад об опыте практического внедрения СТ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На заседании в июне 201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Совет обсудит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оценку процессов разработки и практического внедрения СТА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подготовленную Отделом оценки (ОО), в дополнение к докладу о прогрессе, достигнутом в рамках разработки показ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Последующие ша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ое внедр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-9360" y="588492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7" name="TextBox 5"/>
          <p:cNvSpPr/>
          <p:nvPr/>
        </p:nvSpPr>
        <p:spPr>
          <a:xfrm>
            <a:off x="2057400" y="358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лее подробными вопросами просьба обращаться в Секретариат ГЭ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вигаясь от ГЭФ-4 к ГЭФ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 ГЭФ потребовал реформировать систему распределения 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 оценки ГЭФ на основе консультаций со странами-получателями ресурсов представил ценные замеч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й презентации описываются новые правила и операционные процедуры, соответствующ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й системе распределения ресурсов – С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Содержание презент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тличается СТАР в рамках ГЭФ-5 от 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рный объем ресурсов, распределяемых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ерационные процедуры 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7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ового в СТАР в рамках ГЭФ-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Распределение ресурсов: новые тематические области и новые стра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разнообразие и изменение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ые и групповые выпл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РС и МОРГ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разнообразие, изменение климата и деградация земель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страны получают индивидуальные ассиг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Ассигнования группам не предусмотре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0" name="Text Placeholder 2"/>
          <p:cNvSpPr/>
          <p:nvPr/>
        </p:nvSpPr>
        <p:spPr>
          <a:xfrm>
            <a:off x="76320" y="2057400"/>
            <a:ext cx="2209680" cy="71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тически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Ассигн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Новые прави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Р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 и Д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%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ИК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БР и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Д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Гибкая схема для малых стран (правило 7 млн. долл. СШ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ервы в объеме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, не включенные в СТАР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762120" y="1676160"/>
            <a:ext cx="8076960" cy="480060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и рациональное обращение с химически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е 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поддержки ст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 и глобальные проекты/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малых гр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д Земли (частный сек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ресурсов в рамках ГЭФ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522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"/>
          <p:cNvSpPr/>
          <p:nvPr/>
        </p:nvSpPr>
        <p:spPr>
          <a:xfrm>
            <a:off x="44136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аспределение ресурсов в рамках СТАР ГЭФ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1" name="Picture 3" descr=""/>
          <p:cNvPicPr/>
          <p:nvPr/>
        </p:nvPicPr>
        <p:blipFill>
          <a:blip r:embed="rId1"/>
          <a:stretch/>
        </p:blipFill>
        <p:spPr>
          <a:xfrm>
            <a:off x="0" y="5915160"/>
            <a:ext cx="9144000" cy="99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2" name=""/>
          <p:cNvGraphicFramePr/>
          <p:nvPr/>
        </p:nvGraphicFramePr>
        <p:xfrm>
          <a:off x="228600" y="1300320"/>
          <a:ext cx="8763120" cy="480528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49032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Р в рамках ГЭФ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 в рамках ГЭФ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оначальное рас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в рамках СТАР (млн. долл. С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ая сх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ыргыз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3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одзаголовок 2"/>
          <p:cNvSpPr/>
          <p:nvPr/>
        </p:nvSpPr>
        <p:spPr>
          <a:xfrm>
            <a:off x="1314360" y="6134040"/>
            <a:ext cx="38498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cp:lastPrinted>2011-09-28T11:06:04Z</cp:lastPrinted>
  <dcterms:modified xsi:type="dcterms:W3CDTF">2011-11-01T20:53:27Z</dcterms:modified>
  <cp:revision>641</cp:revision>
  <dc:subject/>
  <dc:title>GEF</dc:title>
</cp:coreProperties>
</file>