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1BEB-8EC3-48B4-9036-489CE0B7F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F036-103E-4EEC-9CEF-67197BB97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53CA-07F8-4F6C-90DA-C2C698184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E4A-DFBD-4AF9-9861-2CD5C64B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4FF-373C-4E4F-A751-9D7E2338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279-95F2-42A2-AC64-71FCD663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D0C-83FA-438A-B2BE-1686F6B4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E10F-85F8-49C7-9B67-4821D4CC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26D-FD3B-4CBF-BBF7-B4C0FAB8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9845-9DDD-41B5-A873-676944DC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CC8C-6718-4396-BA73-4C001C6A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6E17-4F4B-42A0-96A6-DF20B1E4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1304-5A4F-4F14-82C3-6236917E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6836-BB6C-4B45-A36A-DAEE3D4C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D434-2B1D-49AD-A376-B5A0D749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7C07-B4BE-4419-B2C3-45070A70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7270-BB0F-42D6-ADC2-3CE32A60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B626-BE9C-4F17-8742-0FF717D0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2389-BE95-497C-BB95-65FDFF06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B2C-E87C-4A74-8D5E-2B430394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4212-23C6-48B8-AEE9-1F0495AD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E9A43-18CF-427D-ADB9-A9F99751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1AF7F-5D78-4F18-A8E4-4768FB2A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F9A38-B4FC-43D3-A84B-53D4D729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5144-14D5-487B-91DD-7397A20D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A75E5-E8E2-4907-B156-F99DBFC3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6E73-A592-4519-81D0-D2F15663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EE31-122E-4AAE-A375-9857D7C6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83BD6-CB05-4820-B30C-2DB0E282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3C1FA-E545-4493-AFE1-6B14C6E9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6BB-734D-4870-8209-8799F8E8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F35F9-931A-4391-8431-1087121A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31B37-0A60-4E28-B27D-D4D4DDBB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E60E-C06F-4035-90EC-3EDF39B1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547DC-76DC-479B-B1B9-DE2E21DB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CF786-D083-4B54-A788-A8E3B310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0631E-8C01-4BC5-9390-8C6DB91B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DF8CE-7187-497C-BFC0-750804D6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14AE7-57CE-43AD-8DAE-709BEEDF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7E885-C833-488C-803B-88A1413E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1C309-5E7A-493E-B7CC-DD7462DB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0D6-6C63-4252-B158-6D8FF51C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B883D-5D60-4039-905B-9C6D3C77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A848F-FF8B-413D-BD81-AFDFF06A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D93C-C5C5-4145-8D82-3659087D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5B9D9-06FF-4B68-BA66-BC921379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EE5A6-C547-45B8-83A8-38A1AD97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64775-60BD-489C-AADC-FA1EB4C4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FDDD4-60A2-4C03-879A-ECC15CDD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CADA9-EE33-4399-976A-5CC3EDFB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1741F-4CD0-467A-AC8C-4D03A27C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BA53D-39E6-40D8-B8F2-A58A6B65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E8B-F10A-4AE9-9C23-C462D319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0D177-99DF-4E95-9C92-8D1ACBA2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DFF07-0EF9-401D-A9F9-580A2DA3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590AB-DBC1-45A3-A097-A8E7DAA6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F4759-ABEC-499D-83A5-E6F473B2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C11A9-8597-4A88-B241-A255B614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4B246-FAE6-4405-BE0A-38BA50F9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46BB1-C1B7-40BD-B388-6FD6097E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B3626-E833-4507-8148-F27C8AD8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C60AE-2CD8-4514-98F1-DF3EADE4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B4A72-05A6-4363-9A9F-DA11695E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E2D-88B0-4A78-85F4-B309B766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0658D-2920-4E82-BA85-FEE3A1EC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F96CD-31BC-4B2C-97B1-55D03AB5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03762-04E4-4145-838B-E2E17642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DF57F-578C-4240-B016-CF0C1FC1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3123A-51B1-4E8A-A589-32DF9C84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6E177-BDCC-4581-B6F4-2BEED281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0019A-6B6B-4928-A3AA-CF01FAF6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82057-8AE2-41A4-8371-BBFAD012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FEA0E-E371-40F0-A4FB-E1130EEC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5DDB7-0409-4596-AF8F-0D0B9BA1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DC9-7C92-410D-B6E1-791F732A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61B20-904E-4041-BDB2-7BEA1ACE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CD175-BB6F-4F97-9B29-3183E1B9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39DAD-5C26-4262-90EC-E5A8DA48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703BC-CD31-441F-986C-A000CE23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3F791-4785-4E08-AECD-06C14F9E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BB147-6D0C-47B4-9CDC-07D91426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B606A-8477-4B2F-B108-D058C87F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D5BAB-AF67-45B9-982B-66E02C68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FFD65-A128-4D2A-A0E0-59D22F57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C1A56-09F7-4958-AD76-9880A297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10F-E277-45E8-A03C-2D27623E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0738F-3512-48AB-86D0-0545A23E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97DD4-C64D-4B20-9018-A59A97FA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86FBC-1444-45AE-894E-C6E80539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D41FA-7E88-4153-A674-61787857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6D2A7-A58B-4B78-BBE5-A6B3BD98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48B95-7648-4628-B810-37A281F5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54A1E-8393-466F-BDB8-68A3F3EF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56E41-613D-46CF-AA6D-146C20FF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49550-1374-4F32-B8BB-8D280547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FA24F-B137-4617-A489-88B5E97E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C9614-6BB9-4C77-BA6A-A1036EFB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074EE-3757-4EC7-B730-2A0DE0E7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CDC19-C99A-48B3-A815-08C0741A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617C5-9234-441B-8716-00683183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0EE97-1458-4461-8383-2FD279F8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8D91D-46F9-41E9-849D-7D544171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8601D-2FF5-41D3-9FAE-463A40B7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4AC4D-1128-4E78-BC12-C84F0DA9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ABA6C-D2D3-49B7-B656-91272FEE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83B94-8188-4C07-A85C-DA1DB9D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0DA7C-844D-46F6-A3A5-FA95044F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E2E30-5D31-4B53-B6E0-7C35FB4B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7B7B9-1B33-494B-8FE9-82620AB0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EC43D-FD21-4D5E-AC85-D375A855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CDA56-0058-4476-9783-BF96B62A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DF1DC-9177-45D1-B1BC-5CB42EBE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78C5D-44B8-4AB8-BA3F-C82B777B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5D153-BAC4-432F-B3BE-8D6523FC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8D38E-39DB-4A0F-A958-6D1A9BD6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2BD31-0176-4289-A5C3-0E9DB732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62B1F-B0D8-4033-BC55-5EAF2C25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854D1-D3E5-4FAE-AB6F-ABC97A94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940E8-FF11-4049-951C-919636ED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72054-FB48-4989-9428-C1257F2A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80701-329B-4DEC-898C-82BF7108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941AC-B15B-483C-AA81-ED249FA1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8D6EB-D306-45D4-BE9C-F2BA7937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7073C-8745-462D-A333-E583315B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3DCA6-4AC0-497F-9FEF-7AE17A81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5FD1C-F9EF-42DB-AA13-EAE4EBA3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2E705-2178-4942-8BBA-7490D95A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E7E70-5D61-434D-BDDA-00F45A32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7B6CA-4475-43E2-9896-181936DB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FD6EE-FB9F-4B44-80E7-F01FE648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C6E03-628A-408F-AB1D-3633E3BB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301D2-2A33-439C-9D4D-A6BA549E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F2204-554A-4A52-9859-4FCB429A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8AA83-3D3B-474D-9E8B-F4B0C540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21E70-6BFE-40AB-80E0-873105D0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3C958-04EB-4582-97D2-AEDD232B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D6CA4-5990-45A6-922A-11DD287A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82C0A-363D-42AF-B130-B89848D4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AA9BC-9551-4002-87CC-5D6C9E99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4BD4D-96A5-4DAE-83A8-106B9DBA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7807A-502C-4AAA-AC94-702A3C5F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8E4CD-8CF2-4968-94FE-889CE4CD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CBA8E-0CE5-47F1-83FF-0D099956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132B3-721B-4393-A67F-358EFA13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347EA-87FD-4256-B8E2-3528DB3D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298F5-DC49-4B61-9B5B-A8724D4A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28666-BB33-42C8-868A-E149342C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E55E8-E6E6-487B-9B0C-866467C6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3EC1B-8FB5-496B-88D3-873AEE13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AA9D1-A1EB-4025-9C0F-7779CDC5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23A67-62F1-4963-81BF-8ED14022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C607E-BD6E-4FCA-A6FA-306BD406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D70F7-ACB3-4969-BC29-E86BDEB4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93990-BC16-4FD2-B853-E911D823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F5B50-A524-4CD1-9ABA-E1FC63A0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4D5DF-C9B6-41A5-91C7-BE895821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A1667-9041-4EF0-B2FE-7095A3F0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C1F23-0833-4A0F-9EF9-42B13E9F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89CE04-0E9A-4BF7-82F6-3B1A44D8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4DC3-B0D9-4890-9802-5C0386B634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AFEE-A55E-4547-8ADA-E7A8F5A599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0685-74E8-42AE-8DEB-4B48A919AA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62BF-E7C3-4BDA-A103-4EE0045CF6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C2C8-192A-455D-97EA-2B4260B6E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EC42-DA68-4ACB-BF1A-E48EE877B4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1F4C-8C62-4E86-B571-D5F9F20A0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D1FF-6261-4C1E-9B99-7B08135334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066E-0995-4A15-B6C9-15D3796FD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BE9F-24DB-4CCE-90BC-B0D08D9248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B59E-A3CA-4F89-AFF2-8CC1652485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A454-D2B9-4F0B-98B7-07D4B8400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  <a:ea typeface="Arial"/>
              </a:rPr>
              <a:t>Система прозрачного распределения ресурсов</a:t>
            </a: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 – </a:t>
            </a:r>
            <a:r>
              <a:rPr b="1" lang="lt-LT" sz="4000" spc="-1" strike="noStrike">
                <a:solidFill>
                  <a:srgbClr val="00642d"/>
                </a:solidFill>
                <a:latin typeface="Calibri"/>
                <a:ea typeface="Arial"/>
              </a:rPr>
              <a:t>(</a:t>
            </a:r>
            <a:r>
              <a:rPr b="1" lang="ru-RU" sz="4000" spc="-1" strike="noStrike">
                <a:solidFill>
                  <a:srgbClr val="00642d"/>
                </a:solidFill>
                <a:latin typeface="Calibri"/>
                <a:ea typeface="Arial"/>
              </a:rPr>
              <a:t>СТАР</a:t>
            </a:r>
            <a:r>
              <a:rPr b="1" lang="lt-LT" sz="40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ubtitle 4"/>
          <p:cNvSpPr/>
          <p:nvPr/>
        </p:nvSpPr>
        <p:spPr>
          <a:xfrm>
            <a:off x="990720" y="3581280"/>
            <a:ext cx="6705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еминар для членов ГЭФ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расширенном сост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Подзаголовок 2"/>
          <p:cNvSpPr/>
          <p:nvPr/>
        </p:nvSpPr>
        <p:spPr>
          <a:xfrm>
            <a:off x="414360" y="717480"/>
            <a:ext cx="728640" cy="1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Подзаголовок 2"/>
          <p:cNvSpPr/>
          <p:nvPr/>
        </p:nvSpPr>
        <p:spPr>
          <a:xfrm>
            <a:off x="1332000" y="39852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Подзаголовок 2"/>
          <p:cNvSpPr/>
          <p:nvPr/>
        </p:nvSpPr>
        <p:spPr>
          <a:xfrm>
            <a:off x="1276200" y="65232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4"/>
          <p:cNvSpPr/>
          <p:nvPr/>
        </p:nvSpPr>
        <p:spPr>
          <a:xfrm>
            <a:off x="152280" y="1295280"/>
            <a:ext cx="87631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ы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утверждаются в порядке поступления заявок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учае аннулирования проекта </a:t>
            </a: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до начала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шести последних месяце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-5 (до 31 декабря 2013 года) страна сможет продолжать использовать ресурсы в той же самой тематической обла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учае аннулирования проекта </a:t>
            </a: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после начала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шести последних месяце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ЭФ-5 (с 1 января 2014 года)  ресурсы могут использоваться в той же самой или других тематических областях по усмотрению ИД и пр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обрении Сове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7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08" name="Rectangle 7"/>
          <p:cNvSpPr/>
          <p:nvPr/>
        </p:nvSpPr>
        <p:spPr>
          <a:xfrm>
            <a:off x="625680" y="304920"/>
            <a:ext cx="58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перационные процедуры СТАР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865160" y="380880"/>
            <a:ext cx="580896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перационные процедуры СТАР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2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Rectangle 5"/>
          <p:cNvSpPr/>
          <p:nvPr/>
        </p:nvSpPr>
        <p:spPr>
          <a:xfrm>
            <a:off x="380880" y="1447920"/>
            <a:ext cx="8610840" cy="43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ны, отнесенные к категории "гибкая схема",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могут без ограничений и в полном объеме использовать предоставленные им ресурс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 необходимости соблюдения требования в отношении использования конкретных сумм в определенных тематических областя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а-согласования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олжны отражать текущие ассигнования в рамках СТАР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ждой соответствующей тематической области, включая  затраты, связанные с подготовкой проекта (гранты на подготовку проекта) и возмещение расходов учреждению-исполните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Пересмотренное письмо-согласовани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уется в том случае, если в течение периода времени, необходимого для получения одобрения ИД, запрашивается сумма, превышающая  5% первоначально запрошен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15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36560" y="75960"/>
            <a:ext cx="580896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перационные процедуры СТАР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3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Rectangle 5"/>
          <p:cNvSpPr/>
          <p:nvPr/>
        </p:nvSpPr>
        <p:spPr>
          <a:xfrm>
            <a:off x="228600" y="1219320"/>
            <a:ext cx="8458200" cy="38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тран, отнесенных к категории "гибкая схема", необходимо указать общую сумму, а также конкретные суммы для каждой из тематических областе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Секретариаты соответствующих конвенций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исьме-согласовании должны быть проинформированы о случаях использования категории "гибкая схема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заседанию Совета в июне 201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ода будет представлен доклад об опыте практического внедрения СТА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На заседании в июне 201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ода Совет обсудит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 оценку процессов разработки и практического внедрения СТА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, подготовленную Отделом оценки (ОО), в дополнение к докладу о прогрессе, достигнутом в рамках разработки показате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21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Подзаголовок 2"/>
          <p:cNvSpPr/>
          <p:nvPr/>
        </p:nvSpPr>
        <p:spPr>
          <a:xfrm>
            <a:off x="1263600" y="629748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Последующие шаг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ое внедрени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6" name="Picture 3" descr=""/>
          <p:cNvPicPr/>
          <p:nvPr/>
        </p:nvPicPr>
        <p:blipFill>
          <a:blip r:embed="rId1"/>
          <a:stretch/>
        </p:blipFill>
        <p:spPr>
          <a:xfrm>
            <a:off x="-9360" y="588492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27" name="TextBox 5"/>
          <p:cNvSpPr/>
          <p:nvPr/>
        </p:nvSpPr>
        <p:spPr>
          <a:xfrm>
            <a:off x="2057400" y="35812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более подробными вопросами просьба обращаться в Секретариат ГЭ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1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вигаясь от ГЭФ-4 к ГЭФ-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т ГЭФ потребовал реформировать систему распределения ресурс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 оценки ГЭФ на основе консультаций со странами-получателями ресурсов представил ценные замеч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астоящей презентации описываются новые правила и операционные процедуры, соответствующи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ой системе распределения ресурсов – С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1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Содержание презентаци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26744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отличается СТАР в рамках ГЭФ-5 от СРР в рамках ГЭФ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рный объем ресурсов, распределяемых в рамках ГЭФ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ерационные процедуры СТ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6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7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нового в СТАР в рамках ГЭФ-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61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Распределение ресурсов: новые тематические области и новые стран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Р в рамках ГЭФ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оразнообразие и изменение клима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дивидуальные и групповые выпла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РС и МОРГ ка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Р в рамках ГЭФ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разнообразие, изменение климата и деградация земельных 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страны получают индивидуальные ассиг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Calibri"/>
              </a:rPr>
              <a:t>Ассигнования группам не предусмотре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9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70" name="Text Placeholder 2"/>
          <p:cNvSpPr/>
          <p:nvPr/>
        </p:nvSpPr>
        <p:spPr>
          <a:xfrm>
            <a:off x="76320" y="2057400"/>
            <a:ext cx="2209680" cy="716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тические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Ассигнова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Новые правил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Р в рамках ГЭФ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БР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у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ерв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Р в рамках ГЭФ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Р и Д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1%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ля 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лн. долл. США  для ИК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, 1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лн. долл. США  для БР и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лн. долл. США  для ДЗ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Гибкая схема для малых стран (правило 7 млн. долл. СШ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зервы в объеме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81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ним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ы, не включенные в СТАР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762120" y="1676160"/>
            <a:ext cx="8076960" cy="480060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ые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йкие органические загрязнители и рациональное обращение с химическими веществ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оративные бюдж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поддержки стр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ые и глобальные проекты/програм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малых гр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д Земли (частный сект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9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0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Подзаголовок 2"/>
          <p:cNvSpPr/>
          <p:nvPr/>
        </p:nvSpPr>
        <p:spPr>
          <a:xfrm>
            <a:off x="1263600" y="629748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ение ресурсов в рамках ГЭФ-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Chart 4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47120" cy="45226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6" name="TextBox 1"/>
          <p:cNvSpPr/>
          <p:nvPr/>
        </p:nvSpPr>
        <p:spPr>
          <a:xfrm>
            <a:off x="44136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Распределение ресурсов в рамках СТАР ГЭФ-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1" name="Picture 3" descr=""/>
          <p:cNvPicPr/>
          <p:nvPr/>
        </p:nvPicPr>
        <p:blipFill>
          <a:blip r:embed="rId1"/>
          <a:stretch/>
        </p:blipFill>
        <p:spPr>
          <a:xfrm>
            <a:off x="0" y="5915160"/>
            <a:ext cx="9144000" cy="99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2" name=""/>
          <p:cNvGraphicFramePr/>
          <p:nvPr/>
        </p:nvGraphicFramePr>
        <p:xfrm>
          <a:off x="228600" y="1300320"/>
          <a:ext cx="8763120" cy="4805280"/>
        </p:xfrm>
        <a:graphic>
          <a:graphicData uri="http://schemas.openxmlformats.org/drawingml/2006/table">
            <a:tbl>
              <a:tblPr/>
              <a:tblGrid>
                <a:gridCol w="2921040"/>
                <a:gridCol w="834840"/>
                <a:gridCol w="833760"/>
                <a:gridCol w="738000"/>
                <a:gridCol w="932040"/>
                <a:gridCol w="736560"/>
                <a:gridCol w="931680"/>
                <a:gridCol w="835200"/>
              </a:tblGrid>
              <a:tr h="49032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Р в рамках ГЭФ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 в рамках ГЭФ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рд. 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о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рд. 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воначальное рас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в рамках СТАР (млн. долл. СШ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бкая сх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р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ыргыз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ая Фед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джи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уркмен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03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Подзаголовок 2"/>
          <p:cNvSpPr/>
          <p:nvPr/>
        </p:nvSpPr>
        <p:spPr>
          <a:xfrm>
            <a:off x="1314360" y="6134040"/>
            <a:ext cx="38498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cp:lastPrinted>2011-09-28T11:06:04Z</cp:lastPrinted>
  <dcterms:modified xsi:type="dcterms:W3CDTF">2011-11-01T20:53:27Z</dcterms:modified>
  <cp:revision>641</cp:revision>
  <dc:subject/>
  <dc:title>GEF</dc:title>
</cp:coreProperties>
</file>