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332A-9358-4C6C-A636-52C22FFFD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03D0-DE92-49DD-96F4-D777E662D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D273-5DEC-4AAD-B10A-98CC1A5BC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46A-7078-4A90-A0A7-E3AE393F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C7E6-35F1-4B2B-992E-519F053F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887E-DC08-4D15-8B30-B7616F79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8697-F232-4C47-AF1C-DF0793CE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3FCD-43BE-4C08-AF3C-6AB82AA4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AB6-110E-4514-9496-5F2DFD4F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E72C-03FD-4CC0-A90F-9BA0C0E9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2B5F-EF12-44B6-8167-03D3FDD5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D7E0-6C0E-4264-A31A-034A5000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AB5F-8818-44AE-AA93-FE4AEC78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A686-BC4B-4DC9-B37A-20D93462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9CB2-BA72-4D91-BFAD-21A4EEA0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5D9C-C35C-4CD4-A2B9-A6C57D58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A323-B0AA-40A1-8E77-67DA99DF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051C-D883-4445-A5A5-F16D122A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B42A-1E2B-46F1-8B26-C2DCF038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ABF-27A0-4866-B2A6-4FE689AC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6417-F760-4CD1-A364-6E1F8F2D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8515-9D63-4B0A-A181-E37F76C93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F745-811C-4D70-85E5-4092BAEE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C0F6D-8D42-4196-B99F-4896A2DC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6402-2425-4243-B74B-C9E821F4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F58B-6AC6-42E3-A780-E203038D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0EBB-08DF-4B03-97CD-355FB548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AE5A-98B7-498C-9E0E-0052D8F6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E6267-55AA-4F72-BE4A-95700686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50718-144C-45C2-8FCD-DBD6B039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E4A-F9A5-4AD8-BA56-CCC3636B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4846-FDF9-411D-8B1D-381A2929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6B801-0853-4760-9A9C-1EC1B414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DDDD5-18DA-4D7C-B7EA-F29B0DF9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B3373-3153-4447-BF15-D30F56B1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FA092-4BB0-4955-8163-732D0E67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B27AE-1B4E-456B-9DF9-796A9809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B60C-F464-4445-BBC7-02DC2C8E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F35D4-947A-4D18-AAD3-26B93259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0F3A4-99C0-4AFE-9549-3A16E72C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22AD4-D330-4BC8-A225-3473CAC0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8C9-07DF-4261-ADF3-5158284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E91B1-E325-4DC8-AEC9-3482446E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A5646-CE39-4EA7-8D13-77AE399B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D104-CF6F-4771-A9BE-76D6093D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B7E0C-DCC1-4261-A7C1-F494702E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AF60C-5DE8-4CA4-97A8-361120E9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FC921-0474-4152-AC5D-D0735A8E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709C6-5D82-47C1-BB22-068045B9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69FE-629A-43C6-BE34-F42CAE75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F737B-4D15-4F67-B7B7-C57A2127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45846-0390-4FB5-A5D2-5C0811EB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23A-169A-4628-9CFE-8DBD1208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38412-60A0-472E-A458-AC40B1C5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46185-768F-4AEF-A7F3-3E20EAE1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B9600-FCE9-4F1A-9AB8-129297C9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6E1DB-DD02-4CFB-A25C-CBB93958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6BD68-F784-4F49-9EA7-C0FD1118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76334-513D-44CA-9563-A31BB8F8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97DB1-8650-48F5-8D27-848651DE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FB722-3240-4CBC-8276-CF5543D9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8501-0730-49A1-AF61-99CDB85B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7C68A-3370-45BF-B70C-0589ADA6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CD43-80AE-4AA1-A7A8-4626ECC0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28A79-3CCC-4134-A438-9C051378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0C47B-F863-41BB-9ACF-6E61D0A2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AE4F-D2DE-4255-AD49-21327B4C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2EF3-865B-44D1-B992-69A07FBC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30CBD-2EF8-4093-9758-A346A0C9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3D7FF-CEED-494B-B768-D0B175BF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535A0-DE68-41CE-974D-76F4DC9E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6B4D-EFB3-404A-AF7B-09EEE637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95795-03B4-461C-91A5-D2F4384E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02DAD-ACAD-4480-B19C-F749FEDA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5BF0-586A-43E5-B382-E7CD930B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8E16C-5034-45CD-B560-65527326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658E2-C767-4B16-912F-FFA9D588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1650E-8C7B-4082-8EFE-AC5609E8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16382-42FF-46A3-BFE5-0400399B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F67EE-9DEC-4CF5-8ABA-B3E46087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09439-12EC-4B18-A740-FF5B5597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E8399-776D-4EBA-9A0D-304CDC54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4A6B5-DFA2-4A49-B98E-0997DCAB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F1CDA-C384-44A1-93F4-8981602E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05243-0928-4FE5-89D5-F2A2B2C0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95B-5866-4065-BE13-7143744C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26C23-CB30-45E6-98A8-3CDD5E22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5ECD4-535C-4DAE-8378-3779E3A3D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E7FAB-61CB-4647-B884-D65FE59A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D8D72-BFA8-46C5-BA18-A645FCAF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D30E4-2402-414B-8902-1A0AEA14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238AA-3817-4679-A378-EE66115D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08557-B796-477F-A977-F9C1A8B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3A6C0-1DBA-4A1E-986D-2E4B920A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8F925-4914-450C-9A0B-365C4FAB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AFC10-0D97-4A7B-A13A-10925513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5155E-9E16-4F2E-830E-988C45A7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4CED4-05C1-44DE-91A4-96EDFD84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5370C-C243-4306-9E7C-8F40087F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51E11-8D9D-4DF2-954A-4781BC3B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5A722-B2B3-49E8-83E3-E2E95D01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0A413-BBE1-4A28-BA9F-21511DDA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B65B8-9E11-4249-9A9C-F427558B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7E90D-DE2B-4D90-8CD8-1C0742A2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E76EF-DD1F-483A-8566-E55131FA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96B3A-7953-45E4-B5B4-48AE89FC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EF590-9056-4378-BC1A-BB6448DC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B006E-709D-4B74-9210-244C3EC7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DA46E-3CF6-49A0-ABE3-91795C68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A2996-DB2E-4EF1-ADD3-72D6DB7D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E6ED3C-6ACA-4C7C-A584-D436E878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45C1D-AD02-49E4-9C04-B6EF77B7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754FE-2F7A-43A7-894E-AD3FD504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EED04-F43B-4CAF-919E-717D7F56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AC48E-3774-4ECA-ADAC-D027BEAF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4E2C5-066B-4AC4-9BA8-3C534562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91F30-789A-4723-99EB-0552AE16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4FEDE-A91D-47B3-8967-A2A9B0F8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FB44F-9481-482A-9A00-7B13FE5A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52A8F-4A08-4E9F-8C45-7741E009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BC0E7-13E3-41BC-84E8-548FE766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A7325-6CC0-4A34-952C-01C75BA4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D2CD6-3B1A-499D-831F-1FB97367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BFAA6-2AE7-4FCC-800A-14C5BB65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F3640-1040-47F2-BD76-69B24AC4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8E5A2-D646-4888-9B97-95D6D5D0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7EB0E-404F-470A-87CD-C38F5517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B9076-9880-4E77-A6D0-D6242069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3B1A5-2356-493B-8EC9-4205729A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77108-8864-4F9F-98FA-E2ABC9D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BD336-6472-486A-B2E4-64177877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C6281-295E-4074-BA5B-59A8DE3E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3CB29-ED84-4FFC-8015-1AD10669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2A216-D60E-4AF7-8A22-642249E3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D4F1A-DB68-4C0A-8788-BDD9F933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92698-94D5-4CF4-BDE9-84243518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32B62-82E8-441A-B706-143C1E89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DF783-9C55-4233-8348-6D48B78A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17420-FC75-4C8E-B505-0C480E01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FDF1E-D55F-4906-848A-C88B0C99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C2C9E-34A0-4DE6-A630-55449F55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4426C-3649-44BB-8A3E-BB7F4723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0A2E2-E23C-4631-A29A-40DC299F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69CE3-9436-4715-B3DE-80869AB1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DF57F-C2F8-4EF8-8F46-AED46657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CBC4F-295D-4D2D-9468-82CA7BD9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8FA4F-01ED-4918-AD6A-76FF4477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7AE87-BEF7-47E7-B2DB-936B01E2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5DAF6-3B9E-4C33-8C00-12EE69EF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7AB78-BD4D-4D16-9E1E-D94FD31A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04886-9078-42EA-A833-0970B3E4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FA391-2935-44E6-AC7F-1E595E45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E8A93-8CCB-4C77-A1DA-D2D7A5C7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8AB9BD-A2B4-4DA2-AD55-30DC1C3D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F2BCB-80F1-4E09-9620-8A4FB29B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330C23-85F0-43FC-9A84-27C35501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7983C-0B66-4574-BDB3-AA909F81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3FA71-F57F-40CD-B5E7-4247D9B7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BF5B49-FDA2-4DC3-982E-B1DCDA6D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D89E-6538-497B-B0F6-7D675E96D6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9151-B5F9-4F06-BF0F-6ED42AB58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2D91-C508-4A79-8FAB-4071A75F41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992-EFBE-4F96-BF58-EBBBA83529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8E46-045E-4205-912C-B5639FA4A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4A48-0C27-465D-BB5B-3044C237A9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571E-A16F-4929-BA81-60FE38DF2F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5F3F-F818-4D55-B4AC-962F34062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9C3E-73A7-45F8-9B7C-144B7155A2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7421-9E26-4258-88A4-CFF679302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7D07-0FD0-4142-8795-9A7364F62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FF06-AC22-43A3-B517-1B29754967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Система прозрачного распределения ресурсов</a:t>
            </a:r>
            <a:r>
              <a:rPr b="1" lang="en-US" sz="4000" spc="-1" strike="noStrike">
                <a:solidFill>
                  <a:srgbClr val="00642d"/>
                </a:solidFill>
                <a:latin typeface="Calibri"/>
                <a:ea typeface="Arial"/>
              </a:rPr>
              <a:t> – </a:t>
            </a:r>
            <a:r>
              <a:rPr b="1" lang="lt-LT" sz="4000" spc="-1" strike="noStrike">
                <a:solidFill>
                  <a:srgbClr val="00642d"/>
                </a:solidFill>
                <a:latin typeface="Calibri"/>
                <a:ea typeface="Arial"/>
              </a:rPr>
              <a:t>(</a:t>
            </a:r>
            <a:r>
              <a:rPr b="1" lang="ru-RU" sz="4000" spc="-1" strike="noStrike">
                <a:solidFill>
                  <a:srgbClr val="00642d"/>
                </a:solidFill>
                <a:latin typeface="Calibri"/>
                <a:ea typeface="Arial"/>
              </a:rPr>
              <a:t>СТАР</a:t>
            </a:r>
            <a:r>
              <a:rPr b="1" lang="lt-LT" sz="4000" spc="-1" strike="noStrike">
                <a:solidFill>
                  <a:srgbClr val="00642d"/>
                </a:solidFill>
                <a:latin typeface="Calibri"/>
                <a:ea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990720" y="3581280"/>
            <a:ext cx="67053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ГЭФ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Подзаголовок 2"/>
          <p:cNvSpPr/>
          <p:nvPr/>
        </p:nvSpPr>
        <p:spPr>
          <a:xfrm>
            <a:off x="414360" y="717480"/>
            <a:ext cx="728640" cy="12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17375e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Подзаголовок 2"/>
          <p:cNvSpPr/>
          <p:nvPr/>
        </p:nvSpPr>
        <p:spPr>
          <a:xfrm>
            <a:off x="1332000" y="398520"/>
            <a:ext cx="384948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Подзаголовок 2"/>
          <p:cNvSpPr/>
          <p:nvPr/>
        </p:nvSpPr>
        <p:spPr>
          <a:xfrm>
            <a:off x="1276200" y="65232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4"/>
          <p:cNvSpPr/>
          <p:nvPr/>
        </p:nvSpPr>
        <p:spPr>
          <a:xfrm>
            <a:off x="152280" y="1295280"/>
            <a:ext cx="87631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ы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утверждаются в порядке поступления заявок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аннулирования проекта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до начал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шести последних месяце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-5 (до 31 декабря 2013 года) страна сможет продолжать использовать ресурсы в той же самой тематической обла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лучае аннулирования проекта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после начала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шести последних месяце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ЭФ-5 (с 1 января 2014 года)  ресурсы могут использоваться в той же самой или других тематических областях по усмотрению ИД и пр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обрении Совет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08" name="Rectangle 7"/>
          <p:cNvSpPr/>
          <p:nvPr/>
        </p:nvSpPr>
        <p:spPr>
          <a:xfrm>
            <a:off x="625680" y="304920"/>
            <a:ext cx="58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 (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865160" y="380880"/>
            <a:ext cx="580896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2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380880" y="1447920"/>
            <a:ext cx="8610840" cy="43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ы, отнесенные к категории "гибкая схема",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могут без ограничений и в полном объеме использовать предоставленные им ресурс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 необходимости соблюдения требования в отношении использования конкретных сумм в определенных тематических областя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исьма-согласования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должны отражать текущие ассигнования в рамках СТАР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й соответствующей тематической области, включая  затраты, связанные с подготовкой проекта (гранты на подготовку проекта) и возмещение расходов учреждению-исполнител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Пересмотренное письмо-согласовани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буется в том случае, если в течение периода времени, необходимого для получения одобрения ИД, запрашивается сумма, превышающая  5% первоначально запрошен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15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36560" y="75960"/>
            <a:ext cx="580896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42d"/>
                </a:solidFill>
                <a:latin typeface="Calibri"/>
              </a:rPr>
              <a:t>Операционные процедуры СТАР</a:t>
            </a: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3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Rectangle 5"/>
          <p:cNvSpPr/>
          <p:nvPr/>
        </p:nvSpPr>
        <p:spPr>
          <a:xfrm>
            <a:off x="228600" y="1219320"/>
            <a:ext cx="845820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тран, отнесенных к категории "гибкая схема", необходимо указать общую сумму, а также конкретные суммы для каждой из тематических областе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Секретариаты соответствующих конвенций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исьме-согласовании должны быть проинформированы о случаях использования категории "гибкая схема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К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заседанию Совета в июне 201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да будет представлен доклад об опыте практического внедрения СТА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На заседании в июне 2013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ода Совет обсудит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 оценку процессов разработки и практического внедрения СТА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, подготовленную Отделом оценки (ОО), в дополнение к докладу о прогрессе, достигнутом в рамках разработки показате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2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Подзаголовок 2"/>
          <p:cNvSpPr/>
          <p:nvPr/>
        </p:nvSpPr>
        <p:spPr>
          <a:xfrm>
            <a:off x="1263600" y="629748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Последующие шаг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ческое внедрени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6" name="Picture 3" descr=""/>
          <p:cNvPicPr/>
          <p:nvPr/>
        </p:nvPicPr>
        <p:blipFill>
          <a:blip r:embed="rId1"/>
          <a:stretch/>
        </p:blipFill>
        <p:spPr>
          <a:xfrm>
            <a:off x="-9360" y="588492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127" name="TextBox 5"/>
          <p:cNvSpPr/>
          <p:nvPr/>
        </p:nvSpPr>
        <p:spPr>
          <a:xfrm>
            <a:off x="2057400" y="35812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более подробными вопросами просьба обращаться в Секретариат ГЭ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вигаясь от ГЭФ-4 к ГЭФ-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т ГЭФ потребовал реформировать систему распределения 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 оценки ГЭФ на основе консультаций со странами-получателями ресурсов представил ценные замеч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настоящей презентации описываются новые правила и операционные процедуры, соответствующи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ой системе распределения ресурсов – С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Содержание презентаци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м отличается СТАР в рамках ГЭФ-5 от СРР в рамках ГЭФ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уммарный объем ресурсов, распределяемых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ерационные процедуры СТА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7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ового в СТАР в рамках ГЭФ-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1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Calibri"/>
              </a:rPr>
              <a:t>Распределение ресурсов: новые тематические области и новые стран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Р в рамках ГЭФ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оразнообразие и изменение клима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ндивидуальные и групповые выпла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РС и МОРГ ка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разнообразие, изменение климата и деградация земельных 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страны получают индивидуальные ассиг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Calibri"/>
              </a:rPr>
              <a:t>Ассигнования группам не предусмотре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9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0" name="Text Placeholder 2"/>
          <p:cNvSpPr/>
          <p:nvPr/>
        </p:nvSpPr>
        <p:spPr>
          <a:xfrm>
            <a:off x="76320" y="2057400"/>
            <a:ext cx="2209680" cy="716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матические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Ассигнова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42d"/>
                </a:solidFill>
                <a:latin typeface="Calibri"/>
              </a:rPr>
              <a:t>Новые правил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РР в рамках ГЭФ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БР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у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ерв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%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АР в рамках ГЭФ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БР и Д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%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для 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ИК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БР и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5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млн. долл. США  для ДЗ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Гибкая схема для малых стран (правило 7 млн. долл. СШ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езервы в объеме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1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н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ы, не включенные в СТАР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762120" y="1676160"/>
            <a:ext cx="8076960" cy="480060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йкие органические загрязнители и рациональное обращение с химическими веществ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оративные бюдже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поддержки стр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е и глобальные проекты/програм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 малых гран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нд Земли (частный сек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9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0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Подзаголовок 2"/>
          <p:cNvSpPr/>
          <p:nvPr/>
        </p:nvSpPr>
        <p:spPr>
          <a:xfrm>
            <a:off x="1263600" y="629748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пределение ресурсов в рамках ГЭФ-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5226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6" name="TextBox 1"/>
          <p:cNvSpPr/>
          <p:nvPr/>
        </p:nvSpPr>
        <p:spPr>
          <a:xfrm>
            <a:off x="44136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лн. долл.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Подзаголовок 2"/>
          <p:cNvSpPr/>
          <p:nvPr/>
        </p:nvSpPr>
        <p:spPr>
          <a:xfrm>
            <a:off x="1332000" y="6089760"/>
            <a:ext cx="384948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Распределение ресурсов в рамках СТАР ГЭФ-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1" name="Picture 3" descr=""/>
          <p:cNvPicPr/>
          <p:nvPr/>
        </p:nvPicPr>
        <p:blipFill>
          <a:blip r:embed="rId1"/>
          <a:stretch/>
        </p:blipFill>
        <p:spPr>
          <a:xfrm>
            <a:off x="0" y="5915160"/>
            <a:ext cx="9144000" cy="99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2" name=""/>
          <p:cNvGraphicFramePr/>
          <p:nvPr/>
        </p:nvGraphicFramePr>
        <p:xfrm>
          <a:off x="228600" y="1300320"/>
          <a:ext cx="8763120" cy="4805280"/>
        </p:xfrm>
        <a:graphic>
          <a:graphicData uri="http://schemas.openxmlformats.org/drawingml/2006/table">
            <a:tbl>
              <a:tblPr/>
              <a:tblGrid>
                <a:gridCol w="2921040"/>
                <a:gridCol w="834840"/>
                <a:gridCol w="833760"/>
                <a:gridCol w="738000"/>
                <a:gridCol w="932040"/>
                <a:gridCol w="736560"/>
                <a:gridCol w="931680"/>
                <a:gridCol w="835200"/>
              </a:tblGrid>
              <a:tr h="49032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Р в рамках ГЭФ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АР в рамках ГЭФ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пол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рд. долл. 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оначальное рас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пределение в рамках СТАР (млн. долл. СШ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бкая сх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рм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ыргызская Республ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ая Фед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джи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уркмен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3" name="Подзаголовок 2"/>
          <p:cNvSpPr/>
          <p:nvPr/>
        </p:nvSpPr>
        <p:spPr>
          <a:xfrm>
            <a:off x="441360" y="6410160"/>
            <a:ext cx="728640" cy="12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Подзаголовок 2"/>
          <p:cNvSpPr/>
          <p:nvPr/>
        </p:nvSpPr>
        <p:spPr>
          <a:xfrm>
            <a:off x="1273320" y="630720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Arial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Arial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Подзаголовок 2"/>
          <p:cNvSpPr/>
          <p:nvPr/>
        </p:nvSpPr>
        <p:spPr>
          <a:xfrm>
            <a:off x="1314360" y="6134040"/>
            <a:ext cx="38498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cp:lastPrinted>2011-09-28T11:06:04Z</cp:lastPrinted>
  <dcterms:modified xsi:type="dcterms:W3CDTF">2011-11-01T20:53:27Z</dcterms:modified>
  <cp:revision>641</cp:revision>
  <dc:subject/>
  <dc:title>GEF</dc:title>
</cp:coreProperties>
</file>