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257120" y="7171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116640"/>
            <a:ext cx="317016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6640"/>
            <a:ext cx="3170520" cy="482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4516CB0-1D7F-443A-AF2C-262102B20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257480" y="7174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4143240" y="9117000"/>
            <a:ext cx="317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F8CEE96-99C7-4AC3-8A22-2C0CD845A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911700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27B-6C66-4411-8471-F4942BC4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C2F-D6EB-4E48-A71B-87814F73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E8EC8-6B05-4E87-B3C9-7C66EA3C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D81DE-E695-4BA3-BE7E-23DB954A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DB884-071D-4CE4-B307-4F070E3C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ED51C-FB65-4195-B2EE-896667A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13BE5-F4E7-43A7-BBE9-21C484D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F9FF7-3C33-4D39-B010-DC14B6E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FF68B-6D24-4B75-ABA8-E0815FB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B461-47D1-490E-9FF5-7833BA73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128CC-CC1A-474C-9AB6-ADAF989C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F1FD8-F142-4852-8801-9C88A2F3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BE1-E5BC-4D9E-ACF9-593D3488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39044-020A-456D-AC9F-634C4DF1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84D48-801A-4D54-B4A7-CFA1487A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F158-27A0-42D6-95B8-8EECE0D7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23F83-6EC3-49CB-82F5-6FB46C21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8DB59-0EA6-4C99-BF19-B8E5CDA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A1C73-BFE6-494F-8CBB-ABED29D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AE747-1B4A-4998-832D-18337C45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A8096-0444-4803-85BD-F675D23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F1BF5-6558-4E64-A326-B3E6611B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A7579-C21F-42C1-AB45-A254FF75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2C4-2A5B-4E6C-8BCA-230FBC43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29DB9-010D-402E-AFC1-7A902F1E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F4CF5-964A-431A-BF48-373CDBF3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162CE-AF60-473A-AF31-D84067A5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F0F00-72BB-482E-8EA7-B3274E24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A94DD-8EBB-456F-AAC4-4CD3230C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9BB47-A894-4E42-9C9E-2D20DC6C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471E2-2CA6-4313-AB37-31B9A9FE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E706E-C13A-4188-9854-B92AFB8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BFA4F-17E7-4919-B82F-89645A5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43964-ADD4-42DB-BA59-6C677BB2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560E-ACE2-4A91-8B3F-0FDBC989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2F30-8791-47F3-A306-A690179B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725C-F961-4544-B681-80927A8E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C651A-C42E-4195-A2BD-495029DC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4C9E8-E95F-4A05-81E1-CFD183A3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6E761-C639-4C0A-9F1F-052068D1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8062D-B8FB-412C-9ACB-033A976C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35F1F-7334-4725-B4FF-0AC65F36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5E5DE-7503-4308-A527-32F3620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55CE-579F-4634-A5EF-457DEB5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706DA-C88A-4026-B620-3AC8AB5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541D-CC4A-47CF-AA25-2C2E0AC6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40597-A1F1-46C9-9CEB-9F4805D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B7253-5D81-4B38-9CED-21F6B87E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EC378-C184-4BDD-B774-404449B8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3371B-E23A-420D-9DF3-9D60A4D5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9D125-2C7F-4460-9E02-A1D10523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FCF07-B5F8-49E5-92A1-B15F06AC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E67BF-26F6-4573-8DB3-A1F2807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A1500-65BA-49E1-855E-5B22F436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2D412-DF5E-41DF-964D-89CC41C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D1CFF-2F32-4C84-9D59-65E99302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E749-66D0-49F1-96CA-B7C775A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9A7B50-7263-4FE8-A206-D6DB030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95FCE-05B8-48E0-B828-9EB3CFCC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F6226C-0B3E-4CE9-BB17-CFD2E3A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55DBB-8D69-45B2-B4A3-2E4717A7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0A9075-D675-4F3C-A2C4-6919BF8C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6D3350-8237-40CB-A697-14DF8A8D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F3031-8FE6-463D-A724-A3EA8F26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D6AA-215B-4EE9-8B8A-5ABA5758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53C1-7136-4A6E-852B-7289D434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5497-630E-416B-9EBF-74D9195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661A-8937-4A3F-BF53-706ED7F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324-912D-47EA-ADEE-9817AF4A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DF1A-BA15-40D1-B4B9-6F65518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41B-4A96-467E-B5D6-F9735FB2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A015-A0D6-4EFC-B6E3-C5803B70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A84-4EB9-45A6-A088-C7D80EB9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88E-16BC-4A29-92CE-052B4D01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DF251-1F54-4BE9-BBDA-C078A04C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3885C-FC79-4F0A-B20D-0536E35E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F0184-F6CF-4B6B-A54E-CF42FEF7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887F-C072-4632-8174-4680E163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F3E9-35F1-4D22-8268-03A178DF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AB4-36B7-40D4-9139-D7B3B9DE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8893-55D7-4F57-8D74-1680F939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8B89E-BA4B-47F5-B5F0-BDD3FAF9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A4CF-89CA-4A55-8DA0-7508380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2C7B-1BF4-425A-865F-30CBF2F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4231-CA3D-4B07-927F-EDAD63E7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8434-7EF6-4089-B40F-A5590F49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FC10-8B98-4F2B-A4BC-9922CD83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C5D8-C7F7-4967-AEF0-EC4BE021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87260-4C4A-4F56-8BB6-7B67629F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008E-3FEA-4CD3-A788-B50E5A7F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1C1-9091-4DF9-8CAB-768FBB09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BFECF-3F6F-44AD-BF80-72E45FF6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B179-15EC-4B39-846B-3D57880C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8C08-926A-4676-A8BF-8C1CE6AB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089E-AE56-4B52-840F-7E482FE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85D28-DD62-40D9-B88F-894606E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9BFFA-08E1-4B32-859F-8E381DFB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807D-7B4F-4457-B6A6-2E71703B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B26A-D6BE-4533-85D7-5C6FA362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4DA3-DA5D-42BF-A4D2-C7373D1D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3C511-7B3D-4C01-BFA7-151A7E5A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267-ED0E-4716-9891-EF3F80D9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6BE9B-CDEF-4B72-8EDD-2BD12914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4564-76F5-4DCF-B064-5786BD3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6F467-DE71-4E3B-AE1D-B51FCAE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0D0F-A3E7-4C39-A829-21BF320E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EE3CA-DA47-4611-AB13-9FB5EDB7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7C9E-4503-42E2-9608-B4E74D2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94E1-ABCC-4B5B-947D-FB575CD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5FF5-1526-461C-93D6-A6F77A81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A322D-2696-48BF-B7C9-5FAB73B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0D36A-3EB8-4FC8-9FA7-10C5C190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3C1-58D0-4A0B-B8D1-ABB888AD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9B410-A758-46C5-92E2-8609D825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5E128-55A6-43D9-A23C-9EF5D42E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2366-5508-4D62-9662-8F865B1E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C14AC-04B8-4DDD-B58D-01DD5E3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F48C3-A976-430D-AB71-3D9DCD77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B31A-F86F-490D-BF04-6546BFC4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F6B6E-ACB0-429F-8549-7EDAFC5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E668-0320-4ECD-8683-15362741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C2C4B-86A0-4C90-9E42-FDDD138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B05E-1B72-4EEF-9C10-26E44995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973-566C-4C17-9C29-B328B260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35A0-8203-492C-97AB-83152AB6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9A1D-A3D6-4815-A3F0-C109E3D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B79B7-49BE-4B7E-BD2B-8A86BB07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6B2A-4807-48D3-862D-A5D0C29D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8BC58-A3A3-462F-A9EA-416E000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B362C-888C-4447-B4BD-A47FD836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0D761-1C97-4DCF-8AF3-98FC0ED8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AC8E4-744B-4E31-B9A1-479914DE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696E-924F-4C51-AF03-A5F05A9D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78824-DCE2-4833-AD58-87251034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9D20-3599-4605-A7E7-21ED5D2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53A7-29EA-49D8-8373-4E94595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6CE08-C713-4531-BFA9-DB38EB93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F3E0D-9B69-4FF5-97C3-08E40D5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3E480-74D7-4180-BB6E-933BEEC2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F9BE3-6F8A-47FF-89D5-4DBBBEC5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B993B-4AF2-4151-9AAE-1311B2AD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1EFDB-3EB4-4F3F-9314-21A4A42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4344A-D4A3-475E-8378-BE803627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EF6F9-8028-4CEA-B39B-180289F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5C956-440A-4B2A-BA1C-9BBF9B67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ED0-F531-45E5-BB76-68E2D55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1CAB-8EE0-4306-A7FD-F703AEB8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1E4A2-C6CD-4FA0-BE92-6B2E9C64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55963-BB4A-4160-88BB-09D47A4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D6119-BB4D-43BB-B6FE-E648C4C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E7B9-C11C-48EA-9214-C1441C0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0FF0E-2D96-4A32-A338-2F1424AE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0FD94-5A5E-43DD-9B06-6FA71FCF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6D076-6007-4CCD-840C-28F4A5646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809BD-EE3E-407B-9896-ACC002B8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FD49B-46D6-4732-8C40-F3D2773C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B25-228E-44CC-AF5F-507B94304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5F41-7553-4DF1-8AB1-31896A9EA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D337-0131-4114-9DE1-4A30F3DD369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986-894F-4D42-8D22-2B81AD920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0A6-D0B3-4D7C-9B6C-A312166F9A6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A7C7-AD04-40F1-BC3E-B2C3678E7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3EF-03E8-4D79-9985-092497DA1C0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985-A7ED-4264-9418-F3C3F5959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0BCA-1F6D-47FB-BF59-68D2B1698D9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75E-B84A-4644-85BF-03EB5B52D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EBA9-42B8-406C-8785-19C8DEA235E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535-0C6D-4674-AF8F-7B55200B4B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720E-3559-48C0-8E2C-A6B433FA800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907E-0696-40A5-A604-C519053C4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C5CF-71B8-4524-8DC1-5A27236A1DF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3761-06E9-4DE5-B496-4AECEEED32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BF99-410C-43CF-AF3C-C807C1F2B98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3E77-C387-4A88-B613-7A1B64EF69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2468-EEF1-4B8C-BA98-A45D9840A9A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D7E2-3937-4FB6-9143-1FE83F1D9C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0C1C-1D79-4371-AF64-EF5C0CD72B6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F01C-8E93-44CA-8080-B8B18746A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526-FC9A-4EB7-9FF4-1C890B772F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3D4B-4644-4B86-B170-BDA22B9ACA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2BF-D2D7-4863-B482-8E350880D66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456D-8E81-480D-AE94-E67C8A2175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4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25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26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</a:rPr>
              <a:t>GEF Project 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ubtitle 4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6"/>
          <p:cNvSpPr/>
          <p:nvPr/>
        </p:nvSpPr>
        <p:spPr>
          <a:xfrm>
            <a:off x="1371600" y="7621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Expedited Enabling Ac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6" name="Group 3" descr=""/>
          <p:cNvPicPr/>
          <p:nvPr/>
        </p:nvPicPr>
        <p:blipFill>
          <a:blip r:embed="rId2"/>
          <a:stretch/>
        </p:blipFill>
        <p:spPr>
          <a:xfrm>
            <a:off x="1695600" y="1407960"/>
            <a:ext cx="2395440" cy="871560"/>
          </a:xfrm>
          <a:prstGeom prst="rect">
            <a:avLst/>
          </a:prstGeom>
          <a:ln w="0">
            <a:noFill/>
          </a:ln>
        </p:spPr>
      </p:pic>
      <p:grpSp>
        <p:nvGrpSpPr>
          <p:cNvPr id="597" name="Rounded Rectangle 4"/>
          <p:cNvGrpSpPr/>
          <p:nvPr/>
        </p:nvGrpSpPr>
        <p:grpSpPr>
          <a:xfrm>
            <a:off x="1762200" y="4170240"/>
            <a:ext cx="2401920" cy="749520"/>
            <a:chOff x="1762200" y="4170240"/>
            <a:chExt cx="2401920" cy="749520"/>
          </a:xfrm>
        </p:grpSpPr>
        <p:pic>
          <p:nvPicPr>
            <p:cNvPr id="598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1762200" y="4170240"/>
              <a:ext cx="2401920" cy="7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828800" y="4191120"/>
              <a:ext cx="224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rant Agreement signed between Government and GEF CEO*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0" name="Rounded Rectangle 4"/>
          <p:cNvGrpSpPr/>
          <p:nvPr/>
        </p:nvGrpSpPr>
        <p:grpSpPr>
          <a:xfrm>
            <a:off x="1689120" y="5315040"/>
            <a:ext cx="2370240" cy="853920"/>
            <a:chOff x="1689120" y="5315040"/>
            <a:chExt cx="2370240" cy="853920"/>
          </a:xfrm>
        </p:grpSpPr>
        <p:pic>
          <p:nvPicPr>
            <p:cNvPr id="60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689120" y="5315040"/>
              <a:ext cx="237024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752480" y="5334120"/>
              <a:ext cx="224316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completes implementation of EA and submits Report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3" name="Rounded Rectangle 4"/>
          <p:cNvGrpSpPr/>
          <p:nvPr/>
        </p:nvGrpSpPr>
        <p:grpSpPr>
          <a:xfrm>
            <a:off x="4505400" y="5315040"/>
            <a:ext cx="2475000" cy="896760"/>
            <a:chOff x="4505400" y="5315040"/>
            <a:chExt cx="2475000" cy="896760"/>
          </a:xfrm>
        </p:grpSpPr>
        <p:pic>
          <p:nvPicPr>
            <p:cNvPr id="604" name="Rounded Rectangle 4" descr=""/>
            <p:cNvPicPr/>
            <p:nvPr/>
          </p:nvPicPr>
          <p:blipFill>
            <a:blip r:embed="rId5"/>
            <a:stretch/>
          </p:blipFill>
          <p:spPr>
            <a:xfrm>
              <a:off x="4505400" y="5315040"/>
              <a:ext cx="24750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572000" y="5334120"/>
              <a:ext cx="2319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completes implementation of EA and country submits Reports to Conventi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6" name="Rounded Rectangle 4"/>
          <p:cNvGrpSpPr/>
          <p:nvPr/>
        </p:nvGrpSpPr>
        <p:grpSpPr>
          <a:xfrm>
            <a:off x="4505400" y="4095720"/>
            <a:ext cx="2449440" cy="854280"/>
            <a:chOff x="4505400" y="4095720"/>
            <a:chExt cx="2449440" cy="854280"/>
          </a:xfrm>
        </p:grpSpPr>
        <p:pic>
          <p:nvPicPr>
            <p:cNvPr id="607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4505400" y="4095720"/>
              <a:ext cx="244944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4572000" y="4114800"/>
              <a:ext cx="23194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approves EA following CEO approval***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9" name="Rounded Rectangle 4"/>
          <p:cNvGrpSpPr/>
          <p:nvPr/>
        </p:nvGrpSpPr>
        <p:grpSpPr>
          <a:xfrm>
            <a:off x="4505400" y="3181320"/>
            <a:ext cx="2455920" cy="622440"/>
            <a:chOff x="4505400" y="3181320"/>
            <a:chExt cx="2455920" cy="622440"/>
          </a:xfrm>
        </p:grpSpPr>
        <p:pic>
          <p:nvPicPr>
            <p:cNvPr id="610" name="Rounded Rectangle 4" descr=""/>
            <p:cNvPicPr/>
            <p:nvPr/>
          </p:nvPicPr>
          <p:blipFill>
            <a:blip r:embed="rId7"/>
            <a:stretch/>
          </p:blipFill>
          <p:spPr>
            <a:xfrm>
              <a:off x="4505400" y="3181320"/>
              <a:ext cx="24559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4572000" y="320040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EF Agency submits proposal for CEO approval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2" name="Rounded Rectangle 4"/>
          <p:cNvGrpSpPr/>
          <p:nvPr/>
        </p:nvGrpSpPr>
        <p:grpSpPr>
          <a:xfrm>
            <a:off x="4505400" y="2193840"/>
            <a:ext cx="2449440" cy="622440"/>
            <a:chOff x="4505400" y="2193840"/>
            <a:chExt cx="2449440" cy="622440"/>
          </a:xfrm>
        </p:grpSpPr>
        <p:pic>
          <p:nvPicPr>
            <p:cNvPr id="613" name="Rounded Rectangle 4" descr=""/>
            <p:cNvPicPr/>
            <p:nvPr/>
          </p:nvPicPr>
          <p:blipFill>
            <a:blip r:embed="rId8"/>
            <a:stretch/>
          </p:blipFill>
          <p:spPr>
            <a:xfrm>
              <a:off x="4505400" y="2193840"/>
              <a:ext cx="24494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4572000" y="2209680"/>
              <a:ext cx="231948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to GEF Agenc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15" name="Group 28" descr=""/>
          <p:cNvPicPr/>
          <p:nvPr/>
        </p:nvPicPr>
        <p:blipFill>
          <a:blip r:embed="rId9"/>
          <a:stretch/>
        </p:blipFill>
        <p:spPr>
          <a:xfrm>
            <a:off x="4511520" y="1407960"/>
            <a:ext cx="2401920" cy="798840"/>
          </a:xfrm>
          <a:prstGeom prst="rect">
            <a:avLst/>
          </a:prstGeom>
          <a:ln w="0">
            <a:noFill/>
          </a:ln>
        </p:spPr>
      </p:pic>
      <p:pic>
        <p:nvPicPr>
          <p:cNvPr id="616" name="Group 48" descr=""/>
          <p:cNvPicPr/>
          <p:nvPr/>
        </p:nvPicPr>
        <p:blipFill>
          <a:blip r:embed="rId10"/>
          <a:stretch/>
        </p:blipFill>
        <p:spPr>
          <a:xfrm>
            <a:off x="2682720" y="4925880"/>
            <a:ext cx="425520" cy="444600"/>
          </a:xfrm>
          <a:prstGeom prst="rect">
            <a:avLst/>
          </a:prstGeom>
          <a:ln w="0">
            <a:noFill/>
          </a:ln>
        </p:spPr>
      </p:pic>
      <p:pic>
        <p:nvPicPr>
          <p:cNvPr id="617" name="Group 51" descr=""/>
          <p:cNvPicPr/>
          <p:nvPr/>
        </p:nvPicPr>
        <p:blipFill>
          <a:blip r:embed="rId11"/>
          <a:stretch/>
        </p:blipFill>
        <p:spPr>
          <a:xfrm>
            <a:off x="2682720" y="3322800"/>
            <a:ext cx="505080" cy="5968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54"/>
          <p:cNvSpPr/>
          <p:nvPr/>
        </p:nvSpPr>
        <p:spPr>
          <a:xfrm>
            <a:off x="1219320" y="6172200"/>
            <a:ext cx="6200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F Secretariat will follow the World Bank procedures in approving the  proposal with final target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nding a Grant Agreement to the recipient country and to be signed between CEO and the country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9" name="Group 58" descr=""/>
          <p:cNvPicPr/>
          <p:nvPr/>
        </p:nvPicPr>
        <p:blipFill>
          <a:blip r:embed="rId12"/>
          <a:stretch/>
        </p:blipFill>
        <p:spPr>
          <a:xfrm>
            <a:off x="5505480" y="49258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20" name="Group 61" descr=""/>
          <p:cNvPicPr/>
          <p:nvPr/>
        </p:nvPicPr>
        <p:blipFill>
          <a:blip r:embed="rId13"/>
          <a:stretch/>
        </p:blipFill>
        <p:spPr>
          <a:xfrm>
            <a:off x="5425920" y="3706920"/>
            <a:ext cx="505080" cy="444240"/>
          </a:xfrm>
          <a:prstGeom prst="rect">
            <a:avLst/>
          </a:prstGeom>
          <a:ln w="0">
            <a:noFill/>
          </a:ln>
        </p:spPr>
      </p:pic>
      <p:pic>
        <p:nvPicPr>
          <p:cNvPr id="621" name="Group 64" descr=""/>
          <p:cNvPicPr/>
          <p:nvPr/>
        </p:nvPicPr>
        <p:blipFill>
          <a:blip r:embed="rId14"/>
          <a:stretch/>
        </p:blipFill>
        <p:spPr>
          <a:xfrm>
            <a:off x="5425920" y="2712960"/>
            <a:ext cx="505080" cy="523800"/>
          </a:xfrm>
          <a:prstGeom prst="rect">
            <a:avLst/>
          </a:prstGeom>
          <a:ln w="0">
            <a:noFill/>
          </a:ln>
        </p:spPr>
      </p:pic>
      <p:grpSp>
        <p:nvGrpSpPr>
          <p:cNvPr id="622" name="Rounded Rectangle 4"/>
          <p:cNvGrpSpPr/>
          <p:nvPr/>
        </p:nvGrpSpPr>
        <p:grpSpPr>
          <a:xfrm>
            <a:off x="1689120" y="2346480"/>
            <a:ext cx="2444760" cy="817560"/>
            <a:chOff x="1689120" y="2346480"/>
            <a:chExt cx="2444760" cy="817560"/>
          </a:xfrm>
        </p:grpSpPr>
        <p:pic>
          <p:nvPicPr>
            <p:cNvPr id="623" name="Rounded Rectangle 4" descr=""/>
            <p:cNvPicPr/>
            <p:nvPr/>
          </p:nvPicPr>
          <p:blipFill>
            <a:blip r:embed="rId15"/>
            <a:stretch/>
          </p:blipFill>
          <p:spPr>
            <a:xfrm>
              <a:off x="1689120" y="2346480"/>
              <a:ext cx="244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1752480" y="2362320"/>
              <a:ext cx="231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tional Agency submits EA proposal for CEO approval*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eview Criteria for FSP/MS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1404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ntry eligibility and ownershi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lobal Environment Benef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F Focal area strate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Comparative advant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ource availabi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consisten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desig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 financing and co-financing (baselin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ing and evaluation;  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’s responses to comments and review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Country Endorsement</a:t>
            </a:r>
            <a:br>
              <a:rPr sz="3600"/>
            </a:br>
            <a:r>
              <a:rPr b="0" lang="en-US" sz="3200" spc="-1" strike="noStrike">
                <a:solidFill>
                  <a:srgbClr val="558ed5"/>
                </a:solidFill>
                <a:latin typeface="Calibri"/>
                <a:ea typeface="Arial"/>
              </a:rPr>
              <a:t>(by Country National Operational Focal 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468160"/>
            <a:ext cx="8229600" cy="30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PIFs should have OFP endorsement when submitting to GEF for clearance (in case of FSPs) or approval (in case of MSPs requesting a PP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jects in biodiversity, climate change, and land degradation focal areas follow STAR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914040" y="20570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stand-alone projects, a 10% fee based on the GEF amount for the project (project grant + PPG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gency fees for Programmatic Approaches vary depending on the type of Agency submitting the P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 Board approving projects:  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2384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ncies without Board approving projects:  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case of project cancellation, all unused fees or a specific percentage should be returned to GEF Trust Fund.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Reference to Council paper, “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Proposal for Revising the Fee Syste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” (GEF/C.23/8/Rev.1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for fee return guidelin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11430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7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Agency F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Programmatic Approa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33160" y="2133720"/>
            <a:ext cx="79246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Two Types of programmatic approaches, depending on the type of GEF Agency submitting the progra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 Board approving projects - those GEF Agencies meeting the criteria for delegated approval authorit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ies without Board approving projects - those GEF Agencies not meeting the criteria, such programs can be submitted by a Program Coordination Agency (P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Group 3" descr=""/>
          <p:cNvPicPr/>
          <p:nvPr/>
        </p:nvPicPr>
        <p:blipFill>
          <a:blip r:embed="rId2"/>
          <a:stretch/>
        </p:blipFill>
        <p:spPr>
          <a:xfrm>
            <a:off x="853920" y="950760"/>
            <a:ext cx="2475000" cy="646200"/>
          </a:xfrm>
          <a:prstGeom prst="rect">
            <a:avLst/>
          </a:prstGeom>
          <a:ln w="0">
            <a:noFill/>
          </a:ln>
        </p:spPr>
      </p:pic>
      <p:grpSp>
        <p:nvGrpSpPr>
          <p:cNvPr id="639" name="Rounded Rectangle 4"/>
          <p:cNvGrpSpPr/>
          <p:nvPr/>
        </p:nvGrpSpPr>
        <p:grpSpPr>
          <a:xfrm>
            <a:off x="927000" y="3255840"/>
            <a:ext cx="2444760" cy="669960"/>
            <a:chOff x="927000" y="3255840"/>
            <a:chExt cx="2444760" cy="669960"/>
          </a:xfrm>
        </p:grpSpPr>
        <p:pic>
          <p:nvPicPr>
            <p:cNvPr id="640" name="Rounded Rectangle 4" descr=""/>
            <p:cNvPicPr/>
            <p:nvPr/>
          </p:nvPicPr>
          <p:blipFill>
            <a:blip r:embed="rId3"/>
            <a:stretch/>
          </p:blipFill>
          <p:spPr>
            <a:xfrm>
              <a:off x="927000" y="32558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990720" y="32767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individual PIFs under the pro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42" name="Group 28" descr=""/>
          <p:cNvPicPr/>
          <p:nvPr/>
        </p:nvPicPr>
        <p:blipFill>
          <a:blip r:embed="rId4"/>
          <a:stretch/>
        </p:blipFill>
        <p:spPr>
          <a:xfrm>
            <a:off x="5048280" y="950760"/>
            <a:ext cx="2475000" cy="646200"/>
          </a:xfrm>
          <a:prstGeom prst="rect">
            <a:avLst/>
          </a:prstGeom>
          <a:ln w="0">
            <a:noFill/>
          </a:ln>
        </p:spPr>
      </p:pic>
      <p:pic>
        <p:nvPicPr>
          <p:cNvPr id="643" name="Group 48" descr=""/>
          <p:cNvPicPr/>
          <p:nvPr/>
        </p:nvPicPr>
        <p:blipFill>
          <a:blip r:embed="rId5"/>
          <a:stretch/>
        </p:blipFill>
        <p:spPr>
          <a:xfrm>
            <a:off x="1920960" y="3852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4" name="Group 51" descr=""/>
          <p:cNvPicPr/>
          <p:nvPr/>
        </p:nvPicPr>
        <p:blipFill>
          <a:blip r:embed="rId6"/>
          <a:stretch/>
        </p:blipFill>
        <p:spPr>
          <a:xfrm>
            <a:off x="1920960" y="15667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5" name="Group 58" descr=""/>
          <p:cNvPicPr/>
          <p:nvPr/>
        </p:nvPicPr>
        <p:blipFill>
          <a:blip r:embed="rId7"/>
          <a:stretch/>
        </p:blipFill>
        <p:spPr>
          <a:xfrm>
            <a:off x="1920960" y="4767120"/>
            <a:ext cx="450720" cy="420840"/>
          </a:xfrm>
          <a:prstGeom prst="rect">
            <a:avLst/>
          </a:prstGeom>
          <a:ln w="0">
            <a:noFill/>
          </a:ln>
        </p:spPr>
      </p:pic>
      <p:pic>
        <p:nvPicPr>
          <p:cNvPr id="646" name="Group 64" descr=""/>
          <p:cNvPicPr/>
          <p:nvPr/>
        </p:nvPicPr>
        <p:blipFill>
          <a:blip r:embed="rId8"/>
          <a:stretch/>
        </p:blipFill>
        <p:spPr>
          <a:xfrm>
            <a:off x="6035760" y="157320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47" name="Group 48" descr=""/>
          <p:cNvPicPr/>
          <p:nvPr/>
        </p:nvPicPr>
        <p:blipFill>
          <a:blip r:embed="rId9"/>
          <a:stretch/>
        </p:blipFill>
        <p:spPr>
          <a:xfrm>
            <a:off x="1920960" y="29383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48" name="Rounded Rectangle 4"/>
          <p:cNvGrpSpPr/>
          <p:nvPr/>
        </p:nvGrpSpPr>
        <p:grpSpPr>
          <a:xfrm>
            <a:off x="927000" y="4170240"/>
            <a:ext cx="2444760" cy="669960"/>
            <a:chOff x="927000" y="4170240"/>
            <a:chExt cx="2444760" cy="669960"/>
          </a:xfrm>
        </p:grpSpPr>
        <p:pic>
          <p:nvPicPr>
            <p:cNvPr id="649" name="Rounded Rectangle 4" descr=""/>
            <p:cNvPicPr/>
            <p:nvPr/>
          </p:nvPicPr>
          <p:blipFill>
            <a:blip r:embed="rId10"/>
            <a:stretch/>
          </p:blipFill>
          <p:spPr>
            <a:xfrm>
              <a:off x="927000" y="4170240"/>
              <a:ext cx="2444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990720" y="41911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1" name="Rounded Rectangle 4"/>
          <p:cNvGrpSpPr/>
          <p:nvPr/>
        </p:nvGrpSpPr>
        <p:grpSpPr>
          <a:xfrm>
            <a:off x="914400" y="4998960"/>
            <a:ext cx="2517840" cy="779400"/>
            <a:chOff x="914400" y="4998960"/>
            <a:chExt cx="2517840" cy="779400"/>
          </a:xfrm>
        </p:grpSpPr>
        <p:pic>
          <p:nvPicPr>
            <p:cNvPr id="652" name="Rounded Rectangle 4" descr=""/>
            <p:cNvPicPr/>
            <p:nvPr/>
          </p:nvPicPr>
          <p:blipFill>
            <a:blip r:embed="rId11"/>
            <a:stretch/>
          </p:blipFill>
          <p:spPr>
            <a:xfrm>
              <a:off x="914400" y="49989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990720" y="5105520"/>
              <a:ext cx="2319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4" name="Rounded Rectangle 4"/>
          <p:cNvGrpSpPr/>
          <p:nvPr/>
        </p:nvGrpSpPr>
        <p:grpSpPr>
          <a:xfrm>
            <a:off x="927000" y="5986440"/>
            <a:ext cx="2444760" cy="779400"/>
            <a:chOff x="927000" y="5986440"/>
            <a:chExt cx="2444760" cy="779400"/>
          </a:xfrm>
        </p:grpSpPr>
        <p:pic>
          <p:nvPicPr>
            <p:cNvPr id="655" name="Rounded Rectangle 4" descr=""/>
            <p:cNvPicPr/>
            <p:nvPr/>
          </p:nvPicPr>
          <p:blipFill>
            <a:blip r:embed="rId12"/>
            <a:stretch/>
          </p:blipFill>
          <p:spPr>
            <a:xfrm>
              <a:off x="927000" y="5986440"/>
              <a:ext cx="24447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990720" y="609588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7" name="Rounded Rectangle 4"/>
          <p:cNvGrpSpPr/>
          <p:nvPr/>
        </p:nvGrpSpPr>
        <p:grpSpPr>
          <a:xfrm>
            <a:off x="3657600" y="2189160"/>
            <a:ext cx="2505240" cy="1352520"/>
            <a:chOff x="3657600" y="2189160"/>
            <a:chExt cx="2505240" cy="1352520"/>
          </a:xfrm>
        </p:grpSpPr>
        <p:pic>
          <p:nvPicPr>
            <p:cNvPr id="658" name="Rounded Rectangle 4" descr=""/>
            <p:cNvPicPr/>
            <p:nvPr/>
          </p:nvPicPr>
          <p:blipFill>
            <a:blip r:embed="rId13"/>
            <a:stretch/>
          </p:blipFill>
          <p:spPr>
            <a:xfrm>
              <a:off x="3657600" y="2189160"/>
              <a:ext cx="250524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3733920" y="2209680"/>
              <a:ext cx="2319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endors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 and approves PIFs submitted with PF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0" name="Rounded Rectangle 4"/>
          <p:cNvGrpSpPr/>
          <p:nvPr/>
        </p:nvGrpSpPr>
        <p:grpSpPr>
          <a:xfrm>
            <a:off x="927000" y="1884240"/>
            <a:ext cx="2449440" cy="1127160"/>
            <a:chOff x="927000" y="1884240"/>
            <a:chExt cx="2449440" cy="1127160"/>
          </a:xfrm>
        </p:grpSpPr>
        <p:pic>
          <p:nvPicPr>
            <p:cNvPr id="661" name="Rounded Rectangle 4" descr=""/>
            <p:cNvPicPr/>
            <p:nvPr/>
          </p:nvPicPr>
          <p:blipFill>
            <a:blip r:embed="rId14"/>
            <a:stretch/>
          </p:blipFill>
          <p:spPr>
            <a:xfrm>
              <a:off x="927000" y="1884240"/>
              <a:ext cx="2449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990720" y="1905120"/>
              <a:ext cx="2319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Program Framework Document (PFD) through WP Submiss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3" name="Group 58" descr=""/>
          <p:cNvPicPr/>
          <p:nvPr/>
        </p:nvPicPr>
        <p:blipFill>
          <a:blip r:embed="rId15"/>
          <a:stretch/>
        </p:blipFill>
        <p:spPr>
          <a:xfrm>
            <a:off x="1920960" y="5681520"/>
            <a:ext cx="450720" cy="42084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4"/>
          <p:cNvGrpSpPr/>
          <p:nvPr/>
        </p:nvGrpSpPr>
        <p:grpSpPr>
          <a:xfrm>
            <a:off x="6413400" y="2266920"/>
            <a:ext cx="2498760" cy="1281240"/>
            <a:chOff x="6413400" y="2266920"/>
            <a:chExt cx="2498760" cy="1281240"/>
          </a:xfrm>
        </p:grpSpPr>
        <p:pic>
          <p:nvPicPr>
            <p:cNvPr id="665" name="Rounded Rectangle 4" descr=""/>
            <p:cNvPicPr/>
            <p:nvPr/>
          </p:nvPicPr>
          <p:blipFill>
            <a:blip r:embed="rId16"/>
            <a:stretch/>
          </p:blipFill>
          <p:spPr>
            <a:xfrm>
              <a:off x="6413400" y="2266920"/>
              <a:ext cx="24987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6477120" y="2286000"/>
              <a:ext cx="2319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ouncil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alibri"/>
                  <a:ea typeface="Times New Roman"/>
                </a:rPr>
                <a:t>approves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 subsequent set of PIFs under the PFD submitted through WP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67" name="Group 48" descr=""/>
          <p:cNvPicPr/>
          <p:nvPr/>
        </p:nvPicPr>
        <p:blipFill>
          <a:blip r:embed="rId17"/>
          <a:stretch/>
        </p:blipFill>
        <p:spPr>
          <a:xfrm>
            <a:off x="5353200" y="3554280"/>
            <a:ext cx="450720" cy="414360"/>
          </a:xfrm>
          <a:prstGeom prst="rect">
            <a:avLst/>
          </a:prstGeom>
          <a:ln w="0">
            <a:noFill/>
          </a:ln>
        </p:spPr>
      </p:pic>
      <p:pic>
        <p:nvPicPr>
          <p:cNvPr id="668" name="Group 58" descr=""/>
          <p:cNvPicPr/>
          <p:nvPr/>
        </p:nvPicPr>
        <p:blipFill>
          <a:blip r:embed="rId18"/>
          <a:stretch/>
        </p:blipFill>
        <p:spPr>
          <a:xfrm>
            <a:off x="6035760" y="4621320"/>
            <a:ext cx="450720" cy="414360"/>
          </a:xfrm>
          <a:prstGeom prst="rect">
            <a:avLst/>
          </a:prstGeom>
          <a:ln w="0">
            <a:noFill/>
          </a:ln>
        </p:spPr>
      </p:pic>
      <p:grpSp>
        <p:nvGrpSpPr>
          <p:cNvPr id="669" name="Rounded Rectangle 4"/>
          <p:cNvGrpSpPr/>
          <p:nvPr/>
        </p:nvGrpSpPr>
        <p:grpSpPr>
          <a:xfrm>
            <a:off x="5041800" y="4095720"/>
            <a:ext cx="2444760" cy="665280"/>
            <a:chOff x="5041800" y="4095720"/>
            <a:chExt cx="2444760" cy="665280"/>
          </a:xfrm>
        </p:grpSpPr>
        <p:pic>
          <p:nvPicPr>
            <p:cNvPr id="670" name="Rounded Rectangle 4" descr=""/>
            <p:cNvPicPr/>
            <p:nvPr/>
          </p:nvPicPr>
          <p:blipFill>
            <a:blip r:embed="rId19"/>
            <a:stretch/>
          </p:blipFill>
          <p:spPr>
            <a:xfrm>
              <a:off x="5041800" y="4095720"/>
              <a:ext cx="24447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5105520" y="41148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CEO endorses final project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Rounded Rectangle 4"/>
          <p:cNvGrpSpPr/>
          <p:nvPr/>
        </p:nvGrpSpPr>
        <p:grpSpPr>
          <a:xfrm>
            <a:off x="5029200" y="4919760"/>
            <a:ext cx="2517840" cy="779400"/>
            <a:chOff x="5029200" y="4919760"/>
            <a:chExt cx="2517840" cy="779400"/>
          </a:xfrm>
        </p:grpSpPr>
        <p:pic>
          <p:nvPicPr>
            <p:cNvPr id="673" name="Rounded Rectangle 4" descr=""/>
            <p:cNvPicPr/>
            <p:nvPr/>
          </p:nvPicPr>
          <p:blipFill>
            <a:blip r:embed="rId20"/>
            <a:stretch/>
          </p:blipFill>
          <p:spPr>
            <a:xfrm>
              <a:off x="5029200" y="4919760"/>
              <a:ext cx="25178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105520" y="5029200"/>
              <a:ext cx="2319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approves final project according to  Agency internal r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5" name="Rounded Rectangle 4"/>
          <p:cNvGrpSpPr/>
          <p:nvPr/>
        </p:nvGrpSpPr>
        <p:grpSpPr>
          <a:xfrm>
            <a:off x="5041800" y="5950080"/>
            <a:ext cx="2444760" cy="798480"/>
            <a:chOff x="5041800" y="5950080"/>
            <a:chExt cx="2444760" cy="798480"/>
          </a:xfrm>
        </p:grpSpPr>
        <p:pic>
          <p:nvPicPr>
            <p:cNvPr id="676" name="Rounded Rectangle 4" descr=""/>
            <p:cNvPicPr/>
            <p:nvPr/>
          </p:nvPicPr>
          <p:blipFill>
            <a:blip r:embed="rId21"/>
            <a:stretch/>
          </p:blipFill>
          <p:spPr>
            <a:xfrm>
              <a:off x="5041800" y="5950080"/>
              <a:ext cx="2444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5105520" y="6019920"/>
              <a:ext cx="231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Agency starts project implementation through comple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678" name="Group 58" descr=""/>
          <p:cNvPicPr/>
          <p:nvPr/>
        </p:nvPicPr>
        <p:blipFill>
          <a:blip r:embed="rId22"/>
          <a:stretch/>
        </p:blipFill>
        <p:spPr>
          <a:xfrm>
            <a:off x="6035760" y="5608800"/>
            <a:ext cx="450720" cy="414000"/>
          </a:xfrm>
          <a:prstGeom prst="rect">
            <a:avLst/>
          </a:prstGeom>
          <a:ln w="0">
            <a:noFill/>
          </a:ln>
        </p:spPr>
      </p:pic>
      <p:pic>
        <p:nvPicPr>
          <p:cNvPr id="679" name="Group 48" descr=""/>
          <p:cNvPicPr/>
          <p:nvPr/>
        </p:nvPicPr>
        <p:blipFill>
          <a:blip r:embed="rId23"/>
          <a:stretch/>
        </p:blipFill>
        <p:spPr>
          <a:xfrm>
            <a:off x="6797520" y="3554280"/>
            <a:ext cx="451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 - Stand-alone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052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STAP provides strategic scientific and technical advice to the GEF on the follow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FSP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IF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IFs cleared by CEO for work program inclusion;  screening reports are posted on the GEF website together with PIF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SP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MSP PIF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Role of ST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61760" y="1981080"/>
            <a:ext cx="784836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atic Approaches (similar to FSP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ly screens PFDs received from Agencies when submitted to GEF Secretariat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s all PFDs cleared by CEO for work program inclusion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reports are posted on the GEF website together with PFDs in the work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848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THANK YOU FOR YOUR ATTEN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web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www.thegef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44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GEF project cycle is a process involving many partners on the frontline: countries, GEF Agencies, GEF Secretariat, GEF Council, and partner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important partners perform behind the scene function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Truste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ets aside funds for projects, commits funds and transfer fund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who screens projects upstream and provides scientific guidance for the project or progra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valuation Offi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which evaluates completed projects and selected themes and undertakes annual performance review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vention secretaria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so provides guidance and comments on projec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Institutional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4114800" y="3097080"/>
            <a:ext cx="1295280" cy="10674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ecretari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Box 6"/>
          <p:cNvSpPr/>
          <p:nvPr/>
        </p:nvSpPr>
        <p:spPr>
          <a:xfrm>
            <a:off x="5715000" y="2133720"/>
            <a:ext cx="1447920" cy="32778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EF Agenci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D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E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World Ba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F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BR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FA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A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IF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UNID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438280" y="4800600"/>
            <a:ext cx="1143000" cy="5202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Evaluation Off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476440" y="2514600"/>
            <a:ext cx="1143000" cy="3070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A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286000" y="3141720"/>
            <a:ext cx="152388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Counci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cil Members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tituencies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sultations with CS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Box 10"/>
          <p:cNvSpPr/>
          <p:nvPr/>
        </p:nvSpPr>
        <p:spPr>
          <a:xfrm>
            <a:off x="304920" y="388620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vention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Box 11"/>
          <p:cNvSpPr/>
          <p:nvPr/>
        </p:nvSpPr>
        <p:spPr>
          <a:xfrm>
            <a:off x="304920" y="2666880"/>
            <a:ext cx="1447560" cy="773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EF Assembl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olitical F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Box 12"/>
          <p:cNvSpPr/>
          <p:nvPr/>
        </p:nvSpPr>
        <p:spPr>
          <a:xfrm>
            <a:off x="7467480" y="2827440"/>
            <a:ext cx="1524240" cy="1396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rojec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untri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Operational FPs, Convention FPs, other gov’t agencies, civil socie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Straight Connector 3"/>
          <p:cNvSpPr/>
          <p:nvPr/>
        </p:nvSpPr>
        <p:spPr>
          <a:xfrm>
            <a:off x="1752480" y="304812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Straight Connector 13"/>
          <p:cNvSpPr/>
          <p:nvPr/>
        </p:nvSpPr>
        <p:spPr>
          <a:xfrm>
            <a:off x="1752480" y="4343400"/>
            <a:ext cx="228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Straight Connector 15"/>
          <p:cNvSpPr/>
          <p:nvPr/>
        </p:nvSpPr>
        <p:spPr>
          <a:xfrm flipV="1">
            <a:off x="1981080" y="3048120"/>
            <a:ext cx="0" cy="12952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58" name="Straight Arrow Connector 17"/>
          <p:cNvCxnSpPr>
            <a:endCxn id="551" idx="1"/>
          </p:cNvCxnSpPr>
          <p:nvPr/>
        </p:nvCxnSpPr>
        <p:spPr>
          <a:xfrm>
            <a:off x="1980720" y="363492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59" name="Straight Arrow Connector 19"/>
          <p:cNvCxnSpPr>
            <a:endCxn id="551" idx="0"/>
          </p:cNvCxnSpPr>
          <p:nvPr/>
        </p:nvCxnSpPr>
        <p:spPr>
          <a:xfrm flipH="1">
            <a:off x="3047760" y="2820600"/>
            <a:ext cx="2160" cy="321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0" name="Straight Arrow Connector 21"/>
          <p:cNvCxnSpPr>
            <a:stCxn id="549" idx="0"/>
            <a:endCxn id="551" idx="2"/>
          </p:cNvCxnSpPr>
          <p:nvPr/>
        </p:nvCxnSpPr>
        <p:spPr>
          <a:xfrm flipV="1">
            <a:off x="3009960" y="4552560"/>
            <a:ext cx="38880" cy="248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1" name="Straight Arrow Connector 23"/>
          <p:cNvCxnSpPr>
            <a:stCxn id="551" idx="3"/>
            <a:endCxn id="547" idx="1"/>
          </p:cNvCxnSpPr>
          <p:nvPr/>
        </p:nvCxnSpPr>
        <p:spPr>
          <a:xfrm flipV="1">
            <a:off x="3809520" y="3634560"/>
            <a:ext cx="305640" cy="2134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2" name="Straight Arrow Connector 26"/>
          <p:cNvCxnSpPr>
            <a:stCxn id="547" idx="3"/>
            <a:endCxn id="548" idx="1"/>
          </p:cNvCxnSpPr>
          <p:nvPr/>
        </p:nvCxnSpPr>
        <p:spPr>
          <a:xfrm>
            <a:off x="5409720" y="3635280"/>
            <a:ext cx="305640" cy="15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63" name="Straight Arrow Connector 28"/>
          <p:cNvCxnSpPr>
            <a:stCxn id="548" idx="3"/>
            <a:endCxn id="554" idx="1"/>
          </p:cNvCxnSpPr>
          <p:nvPr/>
        </p:nvCxnSpPr>
        <p:spPr>
          <a:xfrm flipV="1">
            <a:off x="7162920" y="3533400"/>
            <a:ext cx="305280" cy="2548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64" name="Right Arrow 29"/>
          <p:cNvSpPr/>
          <p:nvPr/>
        </p:nvSpPr>
        <p:spPr>
          <a:xfrm>
            <a:off x="58672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Right Arrow 41"/>
          <p:cNvSpPr/>
          <p:nvPr/>
        </p:nvSpPr>
        <p:spPr>
          <a:xfrm>
            <a:off x="2209680" y="18288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Box 43"/>
          <p:cNvSpPr/>
          <p:nvPr/>
        </p:nvSpPr>
        <p:spPr>
          <a:xfrm>
            <a:off x="380880" y="16002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Strategic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Guidan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Box 44"/>
          <p:cNvSpPr/>
          <p:nvPr/>
        </p:nvSpPr>
        <p:spPr>
          <a:xfrm>
            <a:off x="3809880" y="175248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Box 45"/>
          <p:cNvSpPr/>
          <p:nvPr/>
        </p:nvSpPr>
        <p:spPr>
          <a:xfrm>
            <a:off x="7543800" y="17524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24"/>
          <p:cNvSpPr/>
          <p:nvPr/>
        </p:nvSpPr>
        <p:spPr>
          <a:xfrm>
            <a:off x="2361600" y="571500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rk Prog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038480" y="57150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revie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5791320" y="5486400"/>
            <a:ext cx="1600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Develop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7467480" y="5257800"/>
            <a:ext cx="1676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dea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dorsement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implement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58ed5"/>
                </a:solidFill>
                <a:latin typeface="Calibri"/>
                <a:ea typeface="Arial"/>
              </a:rPr>
              <a:t>From the project idea to the endorsement/approval requ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idea – Countries – NPFE (opt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Concept – Agencies – PIF &amp; PPG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PIF &amp; PPG review, work program inclusion and   Council appr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Preparation –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document – Agencies – FSP or MSP (EA) (templa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SEC  review, CEO endorsement/approval and Council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11430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Features of the GEF-5  project cyc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762120" y="19807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IF submitted on a rolling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8 months preparation for F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begins from date of Council approval of the work program till CEO endorsement of the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2 months preparation for M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pplies only to those MSPs that requested PPG;  begins from date of PIF approval by CEO to approval of final project document by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Framework Document (PFD) for Programmatic Approaches (PA) can be submitted only for Council meetings, scheduled twice a year (May and Novemb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1)</a:t>
            </a:r>
            <a:br>
              <a:rPr sz="3600"/>
            </a:br>
            <a:r>
              <a:rPr b="0" lang="en-US" sz="1100" spc="-1" strike="noStrike">
                <a:solidFill>
                  <a:srgbClr val="0066ff"/>
                </a:solidFill>
                <a:latin typeface="Calibri"/>
                <a:ea typeface="Arial"/>
              </a:rPr>
              <a:t>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Full-sized Projects (FSP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uncil/Secretari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cil approval of the work program, consisting of PIFs cleared by the CE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endorsement of the final project docu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EF Agenc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val of the project by the GEF Agency and implementation star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ion of implementation, terminal evaluation and financial clo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 steps For </a:t>
            </a:r>
            <a:r>
              <a:rPr b="0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Medium-sized Projects (MSP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ingle-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MSP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wo-step step approv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PPG requested, submit PIF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pproval of final project documen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’s own internal approval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le 1"/>
          <p:cNvSpPr/>
          <p:nvPr/>
        </p:nvSpPr>
        <p:spPr>
          <a:xfrm>
            <a:off x="2209680" y="838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</a:rPr>
              <a:t>Medium-Sized Projec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7" name="Content Placeholder 3" descr=""/>
          <p:cNvPicPr/>
          <p:nvPr/>
        </p:nvPicPr>
        <p:blipFill>
          <a:blip r:embed="rId1"/>
          <a:stretch/>
        </p:blipFill>
        <p:spPr>
          <a:xfrm>
            <a:off x="1279440" y="1639800"/>
            <a:ext cx="2994120" cy="4529160"/>
          </a:xfrm>
          <a:prstGeom prst="rect">
            <a:avLst/>
          </a:prstGeom>
          <a:ln w="0">
            <a:noFill/>
          </a:ln>
        </p:spPr>
      </p:pic>
      <p:pic>
        <p:nvPicPr>
          <p:cNvPr id="588" name="Diagram 4" descr=""/>
          <p:cNvPicPr/>
          <p:nvPr/>
        </p:nvPicPr>
        <p:blipFill>
          <a:blip r:embed="rId2"/>
          <a:stretch/>
        </p:blipFill>
        <p:spPr>
          <a:xfrm>
            <a:off x="4511520" y="1646280"/>
            <a:ext cx="2584440" cy="451656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"/>
          <p:cNvSpPr/>
          <p:nvPr/>
        </p:nvSpPr>
        <p:spPr>
          <a:xfrm>
            <a:off x="1371600" y="617220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y approves MSP after CEO approval of the project and starts imple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d5"/>
                </a:solidFill>
                <a:latin typeface="Calibri"/>
                <a:ea typeface="Arial"/>
              </a:rPr>
              <a:t>GEF Project Cycle Steps (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or Enabling Activities (two paths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irect Ac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follow direct access policy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O and country sign Grant Agreement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isting procedur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applying EA grant through Agenc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submits EA proposal for CEO approv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cy follows its own internal approval procedure and implementation st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5:24:26Z</dcterms:created>
  <dc:creator>wb155260</dc:creator>
  <dc:description/>
  <dc:language>en-US</dc:language>
  <cp:lastModifiedBy>wb350798</cp:lastModifiedBy>
  <cp:lastPrinted>2011-02-14T18:22:27Z</cp:lastPrinted>
  <dcterms:modified xsi:type="dcterms:W3CDTF">2011-11-01T20:35:32Z</dcterms:modified>
  <cp:revision>231</cp:revision>
  <dc:subject/>
  <dc:title>Slide 1</dc:title>
</cp:coreProperties>
</file>