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257120" y="7171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11664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664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8E9F723-7C3B-43D1-8D04-9AA6A813D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B447773-15BB-4691-86EE-9F1E70646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794C-8E7D-45D1-88AF-FA94A0CA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2921-9156-4E57-8214-6638D658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273FA-741E-4C2B-8233-3D6F7060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B4815-707C-4387-9290-3999DC11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0B838-ACF6-4C7E-BBF0-33A6ED28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D8EEC-17A8-4FCE-9C18-D3309416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8F817-17D4-4AE0-9F07-E2A3D850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0F02B-8E42-46F0-8C9B-088DB1E1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1778B-A671-4DA3-9D48-FA36F6B4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F019F-BDE4-419A-A70D-0FEE431B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1EF42-1299-4E5A-807B-792F4E52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032A4-4447-468B-9ECC-322CE9A0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BF6-F276-4909-AE34-90FE7A53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7634D-2EC8-4A35-9FF0-196B5EB6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7E140-495A-46BB-A49A-39AE4716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21DAB-3111-4D6A-BD46-5FE42853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1167A-742E-4C6D-879D-A1DAD8C9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CF6D9-5952-4075-94AA-4EC55D6D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2FFAC-1A8A-4E07-BCEB-BA21983E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1E985-8C36-4FFE-8D0D-355CCA1C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0DB39-583F-4098-96E5-D5FFCC20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8D785-35AC-48FA-8DE9-F06FF565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1C4FF-2FAD-43EC-827E-3C439D25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31C0-356A-4C04-BCFF-2F1A55BE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0ADE9-5A42-4078-A107-DA38716B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B3FB6-460E-4A24-9F74-9C3FDA29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CF90D-2A66-449B-8355-211EF6A8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4C1AE-6EEC-420D-8A28-D40EBCB8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39AEE-D181-408B-92CD-989F56BE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FA0CD-41A5-447F-B398-0A0B1632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D671C-820E-412E-9676-D681BD3E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7279D-D017-4567-A6E3-4DD8F3CB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ED30E-9158-412B-B345-2428EBC9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E3896-385C-4C9C-914B-C12285CD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5172-8F74-4E1E-AC36-822A1744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514B0-E16D-4734-8A43-6D863B3E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D611C-733E-40ED-9C40-4E27E8FE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EDA21-DC85-416A-A7C7-3CCCD91B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3021D-901D-468F-97F4-B477F805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58CC4-64E4-46A5-9B17-2088C945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64D57-2778-467E-8A38-0993793D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9D81C-DAD8-4CE8-A1B2-1096D516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4FD2A-4989-4FE4-BEA8-1D56D32F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195E7-BF75-41A1-91A5-B751A88B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9A2A7-B8E1-4748-B567-6AE7BBBB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F15F-39A7-4919-A70B-D59973E2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40A6C-C0B0-45FE-B25F-C1BD748D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7E6EF-D9D5-4B2E-AC67-817F3E45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CE80E-802E-4FB9-AE69-3404365C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5C53D-131A-4B66-B87A-5326D2A2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1C837-D724-444A-9CA1-D156CE68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3C6B2-E68C-496A-8554-B4F07E1B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85C678-7655-4FF7-BF78-F3526AE7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628CF7-2CE3-45F0-9060-367A9A08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EB18D-A1C9-49AE-B9DD-89288A3C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213C3-F9D0-40DC-9F60-CFD2C742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4164-4304-426B-A26D-902BCF3E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9A0CE-0BDA-4FD7-8B8A-24F58781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3620FD-A933-4D78-A2CB-E1F01A68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572086-4C5F-49D5-9AF1-C60F5837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0DE8BA-DDEE-4B63-B772-7FC1540A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F4753-A8C1-4FE8-B059-AA0761D4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2F04C-FF15-4BB7-B91B-2194B675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91454-A94A-4B55-A3C5-EFEA0A89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BAF6-EBB0-4FA4-9ABF-A9F03298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25D5-0784-4477-9707-023D612D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050F-8686-4E23-9491-F7AD4B3E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5CF5-445A-45F3-B1DD-F9B66DA6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266E-0210-478E-A8E0-DF0FB302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AAF1-ECD9-4344-BDCF-685E224E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7657-279D-4084-803C-908AEC24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9E5E-2EC3-4533-9F43-F36F6D7A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A41F-7A20-49D6-9AD5-66C02625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44B8-2CE3-4083-ABF7-89D0B49F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0C44E-AC8C-4091-97C3-EB772E26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912B6-1DC8-4936-B64F-D2FFF2AD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D6ADC-5CFA-459C-9A71-71276BC5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E094E-A491-461F-9357-638390E9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CB56A-8E6E-411D-A8B6-39C2E567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422-082B-47E8-A333-E7BB343F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BCAD2-E3C4-4345-977E-2B234638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EB7F8-3088-4ED3-AEB2-AB8BD6F1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05483-3AAB-4A9A-86B4-44834E87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F3F90-AB9B-4AC9-A6E2-8F3BF352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88CF3-27DB-4E3B-B63C-40FCB535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FB220-F8C7-4F4A-B719-7EC5598A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FD033-BF05-44FA-B729-B8828598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168D3-AEB8-4531-B56E-D621CD8C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5DA3F-67AE-4A40-A592-FDE19D71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BDD8F-302B-4619-A8A5-C8C2229D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EA9-8B3A-4E21-A0A8-0FE6E0DB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D4163-6165-4FFE-ABFD-ABA5676B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04471-188C-4BEF-907B-2BF5414A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87969-D209-4873-B884-AB493F8E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3CDA3-4D81-462D-A2CA-439B956D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66E68-0C20-42C2-933C-2A3EC787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71107-2C33-4FE2-8F70-C171A2E5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FE0ED-C843-40CE-AE70-40FE65DC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DB103-AA3C-4C05-B724-E47689A1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08F45-345F-4691-B6CC-AC1EA991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240C3-B35E-4E17-BC39-112563E7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B85-187A-47DD-8052-73B7C70B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0711D-30A7-4A2E-8716-8CFE4563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056F3-2673-48DD-A6C8-359334BD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70071-7A34-4CE4-B956-8B505762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D839B-B342-4D09-973C-FC577502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3031A-9D64-4F7E-BD2E-575935B7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919C2-A3A5-4D73-B218-F41F31EB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CC4C5-B2F6-4ACC-9475-149A3CAC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CDA2E-1CE1-41C1-987C-87ED4E8E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51ADA-3E1B-446F-92D7-2AF4F3BD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F7FEF-4874-4302-A411-E356E01E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2D5-9C19-4573-9B41-5AF7CCD1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81EFF-6ADA-41E8-B865-3B37CB78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C4908-E753-436A-9BDB-012F293C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AE7AC-FEC2-4177-9A95-1F64CE4D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F2478-2992-4F45-86B4-1DA0A1B3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980DA-80FA-435D-900B-35DEB61D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B5B86-570B-43A3-ACD8-673F7101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7EBF5-2C1F-44BC-B367-FC7F080D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1609F-A1D4-4301-8D99-0A832D83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0034B-09A0-408F-8E5A-B3AC8870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39CF7-4F51-4699-BD90-8E1EFF1A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ACF-E651-4DBB-8D13-AFF43A7C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D9F99-6170-460A-9309-FAAF1595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C6627-D146-4E34-802F-481D9ED2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E7194-0804-4839-8DE0-F1657343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8BDAE-6992-4522-ABA5-FF3B79C1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6A1F7-6AB9-4C10-97F4-19B1F46B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04093-3298-4A54-BB93-9196C68B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D0B12-6966-4BD3-889F-F4F98063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2FAFB-E145-4E81-9EA4-5008BC0F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5C2B5-68CC-4445-A6EC-3EE50C9B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F351C-9C38-4F4F-AA40-66B5741F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72FC-3170-4E67-B88A-C9BA5942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DB3CE-90B9-4FAE-8857-397FC972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90B9A-C189-4D7C-8D65-4558A64A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7B176-5209-4197-A676-157FC735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5F4B9-0D96-4083-9A69-E510E514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C4259-8B38-4156-BC16-8683FAFB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2B091-64CC-4B7B-988C-45449EA4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3360F-6BC2-40F2-80C2-D6C9463A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6419F-4645-4EF1-AC59-E0CFA739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5E32B-4782-405E-AEE8-E12A5654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72474-4C9E-4CE0-B2CD-A56723BB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4080-C292-4C13-B8F1-640C7FF2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0F198-D3C6-4BA5-89B8-A3F684BE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66BBD-C063-4315-AE1C-A34E534B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9F36F-C0E3-4A3D-853D-2055AC70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6EE50-4EE7-438F-ABC3-B5E1E93B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35D23-1E04-4C31-BE33-CDD01634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6F852-527C-4439-AB7B-3484AF7D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32B70-7A91-4BB4-88C0-7FA50A3C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EB28D-9F84-4B25-B90A-258329A7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C2B73-BD9F-4679-8AAA-D56E7B8C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5B5C3-0B02-4144-BADE-0B82685D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0961-F25B-4F8B-86EB-CAE77F6252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B7F6-BC70-4BA2-AED2-58872D10C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086E-58CD-4A48-A240-2BCE2C1EF09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F0C9-E714-45C0-8E97-735D4B7A4A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298F-8754-4354-860A-310E0EE9EF4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C526-D1D9-4B20-BCB6-97D7488C05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87AB-1EE5-4F01-96B6-D94A749D9CB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0FC0-39AF-40D4-A011-AD3F81DCB6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FCA8-42C4-4B8C-9A94-CFAFDDDC078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ACFC-4150-4316-B833-D7EFCC4A14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38C0-E620-4FDE-9B71-A6B14D8A6AC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745C-A1E1-48FB-B7F3-1C2039E193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7A2E-46D1-4AD2-84D8-BFBBDC06F2D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37CE-6547-4132-97C9-BB39B19341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0115-CC00-4B4E-B0E6-B0DFDDD9C59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09B8-6BAF-416F-97A4-48CA4A2642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E6EA-9ACA-4711-9B38-49350DEDAD4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A4AB-4087-43A3-A98C-3E73FFCAD2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6646-F747-481C-B607-AE4D706FB63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AE4E-B0D3-4E36-BB6D-B9959CAFDB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0EA8-9312-4522-9C47-F2037A6C3EF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2C1D-3667-4100-B4E9-B68CD20EA5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78D4-2614-478A-BC73-3B29686E443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0245-1D99-4411-A208-6684FA09EB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3EC1-C192-4427-B67A-CD21484CFD5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AEB7-68ED-4579-AF13-9DAE64BB22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4.png"/><Relationship Id="rId10" Type="http://schemas.openxmlformats.org/officeDocument/2006/relationships/image" Target="../media/image22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25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26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</a:rPr>
              <a:t>GEF Project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ubtitle 4"/>
          <p:cNvSpPr/>
          <p:nvPr/>
        </p:nvSpPr>
        <p:spPr>
          <a:xfrm>
            <a:off x="129528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 – 13 October 2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595" name="TextBox 6"/>
          <p:cNvSpPr/>
          <p:nvPr/>
        </p:nvSpPr>
        <p:spPr>
          <a:xfrm>
            <a:off x="1371600" y="76212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</a:rPr>
              <a:t>Expedited Enabling Ac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6" name="Group 3" descr=""/>
          <p:cNvPicPr/>
          <p:nvPr/>
        </p:nvPicPr>
        <p:blipFill>
          <a:blip r:embed="rId2"/>
          <a:stretch/>
        </p:blipFill>
        <p:spPr>
          <a:xfrm>
            <a:off x="1695600" y="1407960"/>
            <a:ext cx="2395440" cy="871560"/>
          </a:xfrm>
          <a:prstGeom prst="rect">
            <a:avLst/>
          </a:prstGeom>
          <a:ln w="0">
            <a:noFill/>
          </a:ln>
        </p:spPr>
      </p:pic>
      <p:grpSp>
        <p:nvGrpSpPr>
          <p:cNvPr id="597" name="Rounded Rectangle 4"/>
          <p:cNvGrpSpPr/>
          <p:nvPr/>
        </p:nvGrpSpPr>
        <p:grpSpPr>
          <a:xfrm>
            <a:off x="1762200" y="4170240"/>
            <a:ext cx="2401920" cy="749520"/>
            <a:chOff x="1762200" y="4170240"/>
            <a:chExt cx="2401920" cy="749520"/>
          </a:xfrm>
        </p:grpSpPr>
        <p:pic>
          <p:nvPicPr>
            <p:cNvPr id="598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762200" y="4170240"/>
              <a:ext cx="24019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1828800" y="4191120"/>
              <a:ext cx="2243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t Agreement signed between Government and GEF CEO*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0" name="Rounded Rectangle 4"/>
          <p:cNvGrpSpPr/>
          <p:nvPr/>
        </p:nvGrpSpPr>
        <p:grpSpPr>
          <a:xfrm>
            <a:off x="1689120" y="5315040"/>
            <a:ext cx="2370240" cy="853920"/>
            <a:chOff x="1689120" y="5315040"/>
            <a:chExt cx="2370240" cy="853920"/>
          </a:xfrm>
        </p:grpSpPr>
        <p:pic>
          <p:nvPicPr>
            <p:cNvPr id="601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1689120" y="5315040"/>
              <a:ext cx="23702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1752480" y="5334120"/>
              <a:ext cx="22431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completes implementation of EA and submits Report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3" name="Rounded Rectangle 4"/>
          <p:cNvGrpSpPr/>
          <p:nvPr/>
        </p:nvGrpSpPr>
        <p:grpSpPr>
          <a:xfrm>
            <a:off x="4505400" y="5315040"/>
            <a:ext cx="2475000" cy="896760"/>
            <a:chOff x="4505400" y="5315040"/>
            <a:chExt cx="2475000" cy="896760"/>
          </a:xfrm>
        </p:grpSpPr>
        <p:pic>
          <p:nvPicPr>
            <p:cNvPr id="604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5315040"/>
              <a:ext cx="24750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4572000" y="5334120"/>
              <a:ext cx="2319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completes implementation of EA and country submits Reports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6" name="Rounded Rectangle 4"/>
          <p:cNvGrpSpPr/>
          <p:nvPr/>
        </p:nvGrpSpPr>
        <p:grpSpPr>
          <a:xfrm>
            <a:off x="4505400" y="4095720"/>
            <a:ext cx="2449440" cy="854280"/>
            <a:chOff x="4505400" y="4095720"/>
            <a:chExt cx="2449440" cy="854280"/>
          </a:xfrm>
        </p:grpSpPr>
        <p:pic>
          <p:nvPicPr>
            <p:cNvPr id="607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4095720"/>
              <a:ext cx="244944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4572000" y="411480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approves EA following CEO approval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9" name="Rounded Rectangle 4"/>
          <p:cNvGrpSpPr/>
          <p:nvPr/>
        </p:nvGrpSpPr>
        <p:grpSpPr>
          <a:xfrm>
            <a:off x="4505400" y="3181320"/>
            <a:ext cx="2455920" cy="622440"/>
            <a:chOff x="4505400" y="3181320"/>
            <a:chExt cx="2455920" cy="622440"/>
          </a:xfrm>
        </p:grpSpPr>
        <p:pic>
          <p:nvPicPr>
            <p:cNvPr id="610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505400" y="3181320"/>
              <a:ext cx="24559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4572000" y="320040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submits proposal for CEO approva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2" name="Rounded Rectangle 4"/>
          <p:cNvGrpSpPr/>
          <p:nvPr/>
        </p:nvGrpSpPr>
        <p:grpSpPr>
          <a:xfrm>
            <a:off x="4505400" y="2193840"/>
            <a:ext cx="2449440" cy="622440"/>
            <a:chOff x="4505400" y="2193840"/>
            <a:chExt cx="2449440" cy="622440"/>
          </a:xfrm>
        </p:grpSpPr>
        <p:pic>
          <p:nvPicPr>
            <p:cNvPr id="613" name="Rounded Rectangle 4" descr=""/>
            <p:cNvPicPr/>
            <p:nvPr/>
          </p:nvPicPr>
          <p:blipFill>
            <a:blip r:embed="rId8"/>
            <a:stretch/>
          </p:blipFill>
          <p:spPr>
            <a:xfrm>
              <a:off x="4505400" y="2193840"/>
              <a:ext cx="2449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4572000" y="220968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to GEF Agenc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15" name="Group 28" descr=""/>
          <p:cNvPicPr/>
          <p:nvPr/>
        </p:nvPicPr>
        <p:blipFill>
          <a:blip r:embed="rId9"/>
          <a:stretch/>
        </p:blipFill>
        <p:spPr>
          <a:xfrm>
            <a:off x="4511520" y="1407960"/>
            <a:ext cx="2401920" cy="798840"/>
          </a:xfrm>
          <a:prstGeom prst="rect">
            <a:avLst/>
          </a:prstGeom>
          <a:ln w="0">
            <a:noFill/>
          </a:ln>
        </p:spPr>
      </p:pic>
      <p:pic>
        <p:nvPicPr>
          <p:cNvPr id="616" name="Group 48" descr=""/>
          <p:cNvPicPr/>
          <p:nvPr/>
        </p:nvPicPr>
        <p:blipFill>
          <a:blip r:embed="rId10"/>
          <a:stretch/>
        </p:blipFill>
        <p:spPr>
          <a:xfrm>
            <a:off x="2682720" y="4925880"/>
            <a:ext cx="425520" cy="444600"/>
          </a:xfrm>
          <a:prstGeom prst="rect">
            <a:avLst/>
          </a:prstGeom>
          <a:ln w="0">
            <a:noFill/>
          </a:ln>
        </p:spPr>
      </p:pic>
      <p:pic>
        <p:nvPicPr>
          <p:cNvPr id="617" name="Group 51" descr=""/>
          <p:cNvPicPr/>
          <p:nvPr/>
        </p:nvPicPr>
        <p:blipFill>
          <a:blip r:embed="rId11"/>
          <a:stretch/>
        </p:blipFill>
        <p:spPr>
          <a:xfrm>
            <a:off x="2682720" y="3322800"/>
            <a:ext cx="505080" cy="596880"/>
          </a:xfrm>
          <a:prstGeom prst="rect">
            <a:avLst/>
          </a:prstGeom>
          <a:ln w="0">
            <a:noFill/>
          </a:ln>
        </p:spPr>
      </p:pic>
      <p:sp>
        <p:nvSpPr>
          <p:cNvPr id="618" name="TextBox 54"/>
          <p:cNvSpPr/>
          <p:nvPr/>
        </p:nvSpPr>
        <p:spPr>
          <a:xfrm>
            <a:off x="1219320" y="6172200"/>
            <a:ext cx="620064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F Secretariat will follow the World Bank procedures in approving the  proposal with final target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ending a Grant Agreement to the recipient country and to be signed between CEO and the country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9" name="Group 58" descr=""/>
          <p:cNvPicPr/>
          <p:nvPr/>
        </p:nvPicPr>
        <p:blipFill>
          <a:blip r:embed="rId12"/>
          <a:stretch/>
        </p:blipFill>
        <p:spPr>
          <a:xfrm>
            <a:off x="5505480" y="49258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20" name="Group 61" descr=""/>
          <p:cNvPicPr/>
          <p:nvPr/>
        </p:nvPicPr>
        <p:blipFill>
          <a:blip r:embed="rId13"/>
          <a:stretch/>
        </p:blipFill>
        <p:spPr>
          <a:xfrm>
            <a:off x="5425920" y="3706920"/>
            <a:ext cx="505080" cy="444240"/>
          </a:xfrm>
          <a:prstGeom prst="rect">
            <a:avLst/>
          </a:prstGeom>
          <a:ln w="0">
            <a:noFill/>
          </a:ln>
        </p:spPr>
      </p:pic>
      <p:pic>
        <p:nvPicPr>
          <p:cNvPr id="621" name="Group 64" descr=""/>
          <p:cNvPicPr/>
          <p:nvPr/>
        </p:nvPicPr>
        <p:blipFill>
          <a:blip r:embed="rId14"/>
          <a:stretch/>
        </p:blipFill>
        <p:spPr>
          <a:xfrm>
            <a:off x="5425920" y="2712960"/>
            <a:ext cx="505080" cy="523800"/>
          </a:xfrm>
          <a:prstGeom prst="rect">
            <a:avLst/>
          </a:prstGeom>
          <a:ln w="0">
            <a:noFill/>
          </a:ln>
        </p:spPr>
      </p:pic>
      <p:grpSp>
        <p:nvGrpSpPr>
          <p:cNvPr id="622" name="Rounded Rectangle 4"/>
          <p:cNvGrpSpPr/>
          <p:nvPr/>
        </p:nvGrpSpPr>
        <p:grpSpPr>
          <a:xfrm>
            <a:off x="1689120" y="2346480"/>
            <a:ext cx="2444760" cy="817560"/>
            <a:chOff x="1689120" y="2346480"/>
            <a:chExt cx="2444760" cy="817560"/>
          </a:xfrm>
        </p:grpSpPr>
        <p:pic>
          <p:nvPicPr>
            <p:cNvPr id="623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1689120" y="2346480"/>
              <a:ext cx="24447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1752480" y="236232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for CEO approval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eview Criteria for FSP/MS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914040" y="20574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ntry eligibility and ownershi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bal Environment Benef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F Focal area strate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’s Comparative advant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ource avail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consisten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desig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financing and co-financing (baselin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nitoring and evaluation;  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’s responses to comments and review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Country Endorsement</a:t>
            </a:r>
            <a:br>
              <a:rPr sz="3600"/>
            </a:br>
            <a:r>
              <a:rPr b="0" lang="en-US" sz="3200" spc="-1" strike="noStrike">
                <a:solidFill>
                  <a:srgbClr val="558ed5"/>
                </a:solidFill>
                <a:latin typeface="Calibri"/>
                <a:ea typeface="Arial"/>
              </a:rPr>
              <a:t>(by Country National Operational Focal  Poi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246816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PIFs should have OFP endorsement when submitting to GEF for clearance (in case of FSPs) or approval (in case of MSPs requesting a PP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s in biodiversity, climate change, and land degradation focal areas follow STAR ru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914040" y="20570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stand-alone projects, a 10% fee based on the GEF amount for the project (project grant + PPG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 fees for Programmatic Approaches vary depending on the type of Agency submitting the P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023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 Board approving projects: 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23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out Board approving projects:  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case of project cancellation, all unused fees or a specific percentage should be returned to GEF Trust Fund.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 Reference to Council paper, 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roposal for Revising the Fee Syste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” (GEF/C.23/8/Rev.1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for fee return guidelin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Agency F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Programmatic Approa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33160" y="2133720"/>
            <a:ext cx="79246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wo Types of programmatic approaches, depending on the type of GEF Agency submitting the program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 Board approving projects - those GEF Agencies meeting the criteria for delegated approval authorit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out Board approving projects - those GEF Agencies not meeting the criteria, such programs can be submitted by a Program Coordination Agency (P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638" name="Group 3" descr=""/>
          <p:cNvPicPr/>
          <p:nvPr/>
        </p:nvPicPr>
        <p:blipFill>
          <a:blip r:embed="rId2"/>
          <a:stretch/>
        </p:blipFill>
        <p:spPr>
          <a:xfrm>
            <a:off x="853920" y="950760"/>
            <a:ext cx="2475000" cy="646200"/>
          </a:xfrm>
          <a:prstGeom prst="rect">
            <a:avLst/>
          </a:prstGeom>
          <a:ln w="0">
            <a:noFill/>
          </a:ln>
        </p:spPr>
      </p:pic>
      <p:grpSp>
        <p:nvGrpSpPr>
          <p:cNvPr id="639" name="Rounded Rectangle 4"/>
          <p:cNvGrpSpPr/>
          <p:nvPr/>
        </p:nvGrpSpPr>
        <p:grpSpPr>
          <a:xfrm>
            <a:off x="927000" y="3255840"/>
            <a:ext cx="2444760" cy="669960"/>
            <a:chOff x="927000" y="3255840"/>
            <a:chExt cx="2444760" cy="669960"/>
          </a:xfrm>
        </p:grpSpPr>
        <p:pic>
          <p:nvPicPr>
            <p:cNvPr id="640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927000" y="3255840"/>
              <a:ext cx="24447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990720" y="32767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individual PIFs under the progr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42" name="Group 28" descr=""/>
          <p:cNvPicPr/>
          <p:nvPr/>
        </p:nvPicPr>
        <p:blipFill>
          <a:blip r:embed="rId4"/>
          <a:stretch/>
        </p:blipFill>
        <p:spPr>
          <a:xfrm>
            <a:off x="5048280" y="950760"/>
            <a:ext cx="2475000" cy="646200"/>
          </a:xfrm>
          <a:prstGeom prst="rect">
            <a:avLst/>
          </a:prstGeom>
          <a:ln w="0">
            <a:noFill/>
          </a:ln>
        </p:spPr>
      </p:pic>
      <p:pic>
        <p:nvPicPr>
          <p:cNvPr id="643" name="Group 48" descr=""/>
          <p:cNvPicPr/>
          <p:nvPr/>
        </p:nvPicPr>
        <p:blipFill>
          <a:blip r:embed="rId5"/>
          <a:stretch/>
        </p:blipFill>
        <p:spPr>
          <a:xfrm>
            <a:off x="1920960" y="3852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44" name="Group 51" descr=""/>
          <p:cNvPicPr/>
          <p:nvPr/>
        </p:nvPicPr>
        <p:blipFill>
          <a:blip r:embed="rId6"/>
          <a:stretch/>
        </p:blipFill>
        <p:spPr>
          <a:xfrm>
            <a:off x="1920960" y="1566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45" name="Group 58" descr=""/>
          <p:cNvPicPr/>
          <p:nvPr/>
        </p:nvPicPr>
        <p:blipFill>
          <a:blip r:embed="rId7"/>
          <a:stretch/>
        </p:blipFill>
        <p:spPr>
          <a:xfrm>
            <a:off x="1920960" y="47671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46" name="Group 64" descr=""/>
          <p:cNvPicPr/>
          <p:nvPr/>
        </p:nvPicPr>
        <p:blipFill>
          <a:blip r:embed="rId8"/>
          <a:stretch/>
        </p:blipFill>
        <p:spPr>
          <a:xfrm>
            <a:off x="6035760" y="157320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47" name="Group 48" descr=""/>
          <p:cNvPicPr/>
          <p:nvPr/>
        </p:nvPicPr>
        <p:blipFill>
          <a:blip r:embed="rId9"/>
          <a:stretch/>
        </p:blipFill>
        <p:spPr>
          <a:xfrm>
            <a:off x="1920960" y="29383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648" name="Rounded Rectangle 4"/>
          <p:cNvGrpSpPr/>
          <p:nvPr/>
        </p:nvGrpSpPr>
        <p:grpSpPr>
          <a:xfrm>
            <a:off x="927000" y="4170240"/>
            <a:ext cx="2444760" cy="669960"/>
            <a:chOff x="927000" y="4170240"/>
            <a:chExt cx="2444760" cy="669960"/>
          </a:xfrm>
        </p:grpSpPr>
        <p:pic>
          <p:nvPicPr>
            <p:cNvPr id="649" name="Rounded Rectangle 4" descr=""/>
            <p:cNvPicPr/>
            <p:nvPr/>
          </p:nvPicPr>
          <p:blipFill>
            <a:blip r:embed="rId10"/>
            <a:stretch/>
          </p:blipFill>
          <p:spPr>
            <a:xfrm>
              <a:off x="927000" y="4170240"/>
              <a:ext cx="24447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990720" y="41911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1" name="Rounded Rectangle 4"/>
          <p:cNvGrpSpPr/>
          <p:nvPr/>
        </p:nvGrpSpPr>
        <p:grpSpPr>
          <a:xfrm>
            <a:off x="914400" y="4998960"/>
            <a:ext cx="2517840" cy="779400"/>
            <a:chOff x="914400" y="4998960"/>
            <a:chExt cx="2517840" cy="779400"/>
          </a:xfrm>
        </p:grpSpPr>
        <p:pic>
          <p:nvPicPr>
            <p:cNvPr id="652" name="Rounded Rectangle 4" descr=""/>
            <p:cNvPicPr/>
            <p:nvPr/>
          </p:nvPicPr>
          <p:blipFill>
            <a:blip r:embed="rId11"/>
            <a:stretch/>
          </p:blipFill>
          <p:spPr>
            <a:xfrm>
              <a:off x="914400" y="4998960"/>
              <a:ext cx="25178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990720" y="51055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4" name="Rounded Rectangle 4"/>
          <p:cNvGrpSpPr/>
          <p:nvPr/>
        </p:nvGrpSpPr>
        <p:grpSpPr>
          <a:xfrm>
            <a:off x="927000" y="5986440"/>
            <a:ext cx="2444760" cy="779400"/>
            <a:chOff x="927000" y="5986440"/>
            <a:chExt cx="2444760" cy="779400"/>
          </a:xfrm>
        </p:grpSpPr>
        <p:pic>
          <p:nvPicPr>
            <p:cNvPr id="655" name="Rounded Rectangle 4" descr=""/>
            <p:cNvPicPr/>
            <p:nvPr/>
          </p:nvPicPr>
          <p:blipFill>
            <a:blip r:embed="rId12"/>
            <a:stretch/>
          </p:blipFill>
          <p:spPr>
            <a:xfrm>
              <a:off x="927000" y="5986440"/>
              <a:ext cx="24447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990720" y="609588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7" name="Rounded Rectangle 4"/>
          <p:cNvGrpSpPr/>
          <p:nvPr/>
        </p:nvGrpSpPr>
        <p:grpSpPr>
          <a:xfrm>
            <a:off x="3657600" y="2189160"/>
            <a:ext cx="2505240" cy="1352520"/>
            <a:chOff x="3657600" y="2189160"/>
            <a:chExt cx="2505240" cy="1352520"/>
          </a:xfrm>
        </p:grpSpPr>
        <p:pic>
          <p:nvPicPr>
            <p:cNvPr id="658" name="Rounded Rectangle 4" descr=""/>
            <p:cNvPicPr/>
            <p:nvPr/>
          </p:nvPicPr>
          <p:blipFill>
            <a:blip r:embed="rId13"/>
            <a:stretch/>
          </p:blipFill>
          <p:spPr>
            <a:xfrm>
              <a:off x="3657600" y="2189160"/>
              <a:ext cx="250524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3733920" y="2209680"/>
              <a:ext cx="2319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endors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 and approves PIFs submitted with PF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0" name="Rounded Rectangle 4"/>
          <p:cNvGrpSpPr/>
          <p:nvPr/>
        </p:nvGrpSpPr>
        <p:grpSpPr>
          <a:xfrm>
            <a:off x="927000" y="1884240"/>
            <a:ext cx="2449440" cy="1127160"/>
            <a:chOff x="927000" y="1884240"/>
            <a:chExt cx="2449440" cy="1127160"/>
          </a:xfrm>
        </p:grpSpPr>
        <p:pic>
          <p:nvPicPr>
            <p:cNvPr id="661" name="Rounded Rectangle 4" descr=""/>
            <p:cNvPicPr/>
            <p:nvPr/>
          </p:nvPicPr>
          <p:blipFill>
            <a:blip r:embed="rId14"/>
            <a:stretch/>
          </p:blipFill>
          <p:spPr>
            <a:xfrm>
              <a:off x="927000" y="1884240"/>
              <a:ext cx="24494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990720" y="1905120"/>
              <a:ext cx="23191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63" name="Group 58" descr=""/>
          <p:cNvPicPr/>
          <p:nvPr/>
        </p:nvPicPr>
        <p:blipFill>
          <a:blip r:embed="rId15"/>
          <a:stretch/>
        </p:blipFill>
        <p:spPr>
          <a:xfrm>
            <a:off x="1920960" y="56815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664" name="Rounded Rectangle 4"/>
          <p:cNvGrpSpPr/>
          <p:nvPr/>
        </p:nvGrpSpPr>
        <p:grpSpPr>
          <a:xfrm>
            <a:off x="6413400" y="2266920"/>
            <a:ext cx="2498760" cy="1281240"/>
            <a:chOff x="6413400" y="2266920"/>
            <a:chExt cx="2498760" cy="1281240"/>
          </a:xfrm>
        </p:grpSpPr>
        <p:pic>
          <p:nvPicPr>
            <p:cNvPr id="665" name="Rounded Rectangle 4" descr=""/>
            <p:cNvPicPr/>
            <p:nvPr/>
          </p:nvPicPr>
          <p:blipFill>
            <a:blip r:embed="rId16"/>
            <a:stretch/>
          </p:blipFill>
          <p:spPr>
            <a:xfrm>
              <a:off x="6413400" y="2266920"/>
              <a:ext cx="24987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6477120" y="2286000"/>
              <a:ext cx="2319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subsequent set of PIFs under the PFD submitted through W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67" name="Group 48" descr=""/>
          <p:cNvPicPr/>
          <p:nvPr/>
        </p:nvPicPr>
        <p:blipFill>
          <a:blip r:embed="rId17"/>
          <a:stretch/>
        </p:blipFill>
        <p:spPr>
          <a:xfrm>
            <a:off x="5353200" y="35542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68" name="Group 58" descr=""/>
          <p:cNvPicPr/>
          <p:nvPr/>
        </p:nvPicPr>
        <p:blipFill>
          <a:blip r:embed="rId18"/>
          <a:stretch/>
        </p:blipFill>
        <p:spPr>
          <a:xfrm>
            <a:off x="6035760" y="4621320"/>
            <a:ext cx="450720" cy="414360"/>
          </a:xfrm>
          <a:prstGeom prst="rect">
            <a:avLst/>
          </a:prstGeom>
          <a:ln w="0">
            <a:noFill/>
          </a:ln>
        </p:spPr>
      </p:pic>
      <p:grpSp>
        <p:nvGrpSpPr>
          <p:cNvPr id="669" name="Rounded Rectangle 4"/>
          <p:cNvGrpSpPr/>
          <p:nvPr/>
        </p:nvGrpSpPr>
        <p:grpSpPr>
          <a:xfrm>
            <a:off x="5041800" y="4095720"/>
            <a:ext cx="2444760" cy="665280"/>
            <a:chOff x="5041800" y="4095720"/>
            <a:chExt cx="2444760" cy="665280"/>
          </a:xfrm>
        </p:grpSpPr>
        <p:pic>
          <p:nvPicPr>
            <p:cNvPr id="670" name="Rounded Rectangle 4" descr=""/>
            <p:cNvPicPr/>
            <p:nvPr/>
          </p:nvPicPr>
          <p:blipFill>
            <a:blip r:embed="rId19"/>
            <a:stretch/>
          </p:blipFill>
          <p:spPr>
            <a:xfrm>
              <a:off x="5041800" y="4095720"/>
              <a:ext cx="24447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5105520" y="411480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 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2" name="Rounded Rectangle 4"/>
          <p:cNvGrpSpPr/>
          <p:nvPr/>
        </p:nvGrpSpPr>
        <p:grpSpPr>
          <a:xfrm>
            <a:off x="5029200" y="4919760"/>
            <a:ext cx="2517840" cy="779400"/>
            <a:chOff x="5029200" y="4919760"/>
            <a:chExt cx="2517840" cy="779400"/>
          </a:xfrm>
        </p:grpSpPr>
        <p:pic>
          <p:nvPicPr>
            <p:cNvPr id="673" name="Rounded Rectangle 4" descr=""/>
            <p:cNvPicPr/>
            <p:nvPr/>
          </p:nvPicPr>
          <p:blipFill>
            <a:blip r:embed="rId20"/>
            <a:stretch/>
          </p:blipFill>
          <p:spPr>
            <a:xfrm>
              <a:off x="5029200" y="4919760"/>
              <a:ext cx="25178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5105520" y="502920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5" name="Rounded Rectangle 4"/>
          <p:cNvGrpSpPr/>
          <p:nvPr/>
        </p:nvGrpSpPr>
        <p:grpSpPr>
          <a:xfrm>
            <a:off x="5041800" y="5950080"/>
            <a:ext cx="2444760" cy="798480"/>
            <a:chOff x="5041800" y="5950080"/>
            <a:chExt cx="2444760" cy="798480"/>
          </a:xfrm>
        </p:grpSpPr>
        <p:pic>
          <p:nvPicPr>
            <p:cNvPr id="676" name="Rounded Rectangle 4" descr=""/>
            <p:cNvPicPr/>
            <p:nvPr/>
          </p:nvPicPr>
          <p:blipFill>
            <a:blip r:embed="rId21"/>
            <a:stretch/>
          </p:blipFill>
          <p:spPr>
            <a:xfrm>
              <a:off x="5041800" y="5950080"/>
              <a:ext cx="2444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5105520" y="6019920"/>
              <a:ext cx="231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78" name="Group 58" descr=""/>
          <p:cNvPicPr/>
          <p:nvPr/>
        </p:nvPicPr>
        <p:blipFill>
          <a:blip r:embed="rId22"/>
          <a:stretch/>
        </p:blipFill>
        <p:spPr>
          <a:xfrm>
            <a:off x="6035760" y="5608800"/>
            <a:ext cx="450720" cy="414000"/>
          </a:xfrm>
          <a:prstGeom prst="rect">
            <a:avLst/>
          </a:prstGeom>
          <a:ln w="0">
            <a:noFill/>
          </a:ln>
        </p:spPr>
      </p:pic>
      <p:pic>
        <p:nvPicPr>
          <p:cNvPr id="679" name="Group 48" descr=""/>
          <p:cNvPicPr/>
          <p:nvPr/>
        </p:nvPicPr>
        <p:blipFill>
          <a:blip r:embed="rId23"/>
          <a:stretch/>
        </p:blipFill>
        <p:spPr>
          <a:xfrm>
            <a:off x="6797520" y="3554280"/>
            <a:ext cx="45108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ole of STAP - Stand-alone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80520" y="1905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STAP provides strategic scientific and technical advice to the GEF on the follow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FSP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vely screens PIFs received from Agencies when submitted to GEF Secretariat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s all PIFs cleared by CEO for work program inclusion;  screening reports are posted on the GEF website together with PIFs in the work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SP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vely screens MSP PIF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ole of STA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761760" y="1981080"/>
            <a:ext cx="784836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matic Approaches (similar to FSPs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vely screens PFDs received from Agencies when submitted to GEF Secretariat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s all PFDs cleared by CEO for work program inclusion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ing reports are posted on the GEF website together with PFDs in the work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523520"/>
            <a:ext cx="7848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44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GEF project cycle is a process involving many partners on the frontline: countries, GEF Agencies, GEF Secretariat, GEF Council, and partner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ther important partners perform behind the scene function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Truste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ets aside funds for projects, commits funds and transfer fund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TA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creens projects upstream and provides scientific guidance for the project or progra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valuation Offic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which evaluates completed projects and selected themes and undertakes annual performance review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nvention secretaria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so provides guidance and comments on projec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Institutional Frame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1"/>
          <p:cNvSpPr/>
          <p:nvPr/>
        </p:nvSpPr>
        <p:spPr>
          <a:xfrm>
            <a:off x="4114800" y="3097080"/>
            <a:ext cx="1295280" cy="10674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E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retari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Box 6"/>
          <p:cNvSpPr/>
          <p:nvPr/>
        </p:nvSpPr>
        <p:spPr>
          <a:xfrm>
            <a:off x="5715000" y="2133720"/>
            <a:ext cx="1447920" cy="32778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EF Agenci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D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E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World Ba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D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FD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BR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FA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AD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F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ID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TextBox 7"/>
          <p:cNvSpPr/>
          <p:nvPr/>
        </p:nvSpPr>
        <p:spPr>
          <a:xfrm>
            <a:off x="2438280" y="4800600"/>
            <a:ext cx="1143000" cy="5202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valuation Off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Box 8"/>
          <p:cNvSpPr/>
          <p:nvPr/>
        </p:nvSpPr>
        <p:spPr>
          <a:xfrm>
            <a:off x="2476440" y="2514600"/>
            <a:ext cx="1143000" cy="307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A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Box 9"/>
          <p:cNvSpPr/>
          <p:nvPr/>
        </p:nvSpPr>
        <p:spPr>
          <a:xfrm>
            <a:off x="2286000" y="3141720"/>
            <a:ext cx="1523880" cy="1396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EF Counci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tri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cil Members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stituencies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sultations with CS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Box 10"/>
          <p:cNvSpPr/>
          <p:nvPr/>
        </p:nvSpPr>
        <p:spPr>
          <a:xfrm>
            <a:off x="304920" y="3886200"/>
            <a:ext cx="1447560" cy="77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ven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tri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vention F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Box 11"/>
          <p:cNvSpPr/>
          <p:nvPr/>
        </p:nvSpPr>
        <p:spPr>
          <a:xfrm>
            <a:off x="304920" y="2666880"/>
            <a:ext cx="1447560" cy="77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EF Assembl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tri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olitical F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Box 12"/>
          <p:cNvSpPr/>
          <p:nvPr/>
        </p:nvSpPr>
        <p:spPr>
          <a:xfrm>
            <a:off x="7467480" y="2827440"/>
            <a:ext cx="1524240" cy="1396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rojec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tri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Operational FPs, Convention FPs, other gov’t agencies, civil socie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Straight Connector 3"/>
          <p:cNvSpPr/>
          <p:nvPr/>
        </p:nvSpPr>
        <p:spPr>
          <a:xfrm>
            <a:off x="1752480" y="3048120"/>
            <a:ext cx="228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Straight Connector 13"/>
          <p:cNvSpPr/>
          <p:nvPr/>
        </p:nvSpPr>
        <p:spPr>
          <a:xfrm>
            <a:off x="1752480" y="4343400"/>
            <a:ext cx="228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traight Connector 15"/>
          <p:cNvSpPr/>
          <p:nvPr/>
        </p:nvSpPr>
        <p:spPr>
          <a:xfrm flipV="1">
            <a:off x="1981080" y="3048120"/>
            <a:ext cx="0" cy="1295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58" name="Straight Arrow Connector 17"/>
          <p:cNvCxnSpPr>
            <a:endCxn id="551" idx="1"/>
          </p:cNvCxnSpPr>
          <p:nvPr/>
        </p:nvCxnSpPr>
        <p:spPr>
          <a:xfrm>
            <a:off x="1980720" y="3634920"/>
            <a:ext cx="305640" cy="213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59" name="Straight Arrow Connector 19"/>
          <p:cNvCxnSpPr>
            <a:endCxn id="551" idx="0"/>
          </p:cNvCxnSpPr>
          <p:nvPr/>
        </p:nvCxnSpPr>
        <p:spPr>
          <a:xfrm flipH="1">
            <a:off x="3047760" y="2820600"/>
            <a:ext cx="2160" cy="321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0" name="Straight Arrow Connector 21"/>
          <p:cNvCxnSpPr>
            <a:stCxn id="549" idx="0"/>
            <a:endCxn id="551" idx="2"/>
          </p:cNvCxnSpPr>
          <p:nvPr/>
        </p:nvCxnSpPr>
        <p:spPr>
          <a:xfrm flipV="1">
            <a:off x="3009960" y="4552560"/>
            <a:ext cx="38880" cy="248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1" name="Straight Arrow Connector 23"/>
          <p:cNvCxnSpPr>
            <a:stCxn id="551" idx="3"/>
            <a:endCxn id="547" idx="1"/>
          </p:cNvCxnSpPr>
          <p:nvPr/>
        </p:nvCxnSpPr>
        <p:spPr>
          <a:xfrm flipV="1">
            <a:off x="3809520" y="3634560"/>
            <a:ext cx="305640" cy="213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2" name="Straight Arrow Connector 26"/>
          <p:cNvCxnSpPr>
            <a:stCxn id="547" idx="3"/>
            <a:endCxn id="548" idx="1"/>
          </p:cNvCxnSpPr>
          <p:nvPr/>
        </p:nvCxnSpPr>
        <p:spPr>
          <a:xfrm>
            <a:off x="5409720" y="3635280"/>
            <a:ext cx="305640" cy="153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3" name="Straight Arrow Connector 28"/>
          <p:cNvCxnSpPr>
            <a:stCxn id="548" idx="3"/>
            <a:endCxn id="554" idx="1"/>
          </p:cNvCxnSpPr>
          <p:nvPr/>
        </p:nvCxnSpPr>
        <p:spPr>
          <a:xfrm flipV="1">
            <a:off x="7162920" y="3533400"/>
            <a:ext cx="305280" cy="254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64" name="Right Arrow 29"/>
          <p:cNvSpPr/>
          <p:nvPr/>
        </p:nvSpPr>
        <p:spPr>
          <a:xfrm>
            <a:off x="5867280" y="182880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Right Arrow 41"/>
          <p:cNvSpPr/>
          <p:nvPr/>
        </p:nvSpPr>
        <p:spPr>
          <a:xfrm>
            <a:off x="2209680" y="182880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TextBox 43"/>
          <p:cNvSpPr/>
          <p:nvPr/>
        </p:nvSpPr>
        <p:spPr>
          <a:xfrm>
            <a:off x="380880" y="160020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rategic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TextBox 44"/>
          <p:cNvSpPr/>
          <p:nvPr/>
        </p:nvSpPr>
        <p:spPr>
          <a:xfrm>
            <a:off x="3809880" y="17524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Box 45"/>
          <p:cNvSpPr/>
          <p:nvPr/>
        </p:nvSpPr>
        <p:spPr>
          <a:xfrm>
            <a:off x="7543800" y="1752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2361600" y="571500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 Progra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4038480" y="57150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revie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5791320" y="54864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Develop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7467480" y="525780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idea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dorsement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implement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58ed5"/>
                </a:solidFill>
                <a:latin typeface="Calibri"/>
                <a:ea typeface="Arial"/>
              </a:rPr>
              <a:t>From the project idea to the endorsement/approval requ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dea – Countries – NPFE (option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Concept – Agencies – PIF &amp; PPG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PIF &amp; PPG review, work program inclusion and   Council appr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Preparation –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document – Agencies – FSP or MSP (EA)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 review, CEO endorsement/approval and Council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Features of the GEF-5 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762120" y="19807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IF submitted on a rolling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8 months preparation for F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begins from date of Council approval of the work program till CEO endorsement of the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2 months preparation for M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pplies only to those MSPs that requested PPG;  begins from date of PIF approval by CEO to approval of final project document by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Framework Document (PFD) for Programmatic Approaches (PA) can be submitted only for Council meetings, scheduled twice a year (May and Nove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1)</a:t>
            </a:r>
            <a:br>
              <a:rPr sz="3600"/>
            </a:br>
            <a:r>
              <a:rPr b="0" lang="en-US" sz="1100" spc="-1" strike="noStrike">
                <a:solidFill>
                  <a:srgbClr val="0066ff"/>
                </a:solidFill>
                <a:latin typeface="Calibri"/>
                <a:ea typeface="Arial"/>
              </a:rPr>
              <a:t>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Full-sized Projects (FSP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uncil/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cil approval of the work program, consisting of PIFs cleared by the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endorsement of the final project docu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F Agenc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of the project by the GEF Agency and implementation star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ion of implementation, terminal evaluation and financial clos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Medium-sized Projects (MSP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ingle-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MSP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wo-step 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PG requested, submit PIF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itle 1"/>
          <p:cNvSpPr/>
          <p:nvPr/>
        </p:nvSpPr>
        <p:spPr>
          <a:xfrm>
            <a:off x="2209680" y="83808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</a:rPr>
              <a:t>Medium-Sized Projec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7" name="Content Placeholder 3" descr=""/>
          <p:cNvPicPr/>
          <p:nvPr/>
        </p:nvPicPr>
        <p:blipFill>
          <a:blip r:embed="rId1"/>
          <a:stretch/>
        </p:blipFill>
        <p:spPr>
          <a:xfrm>
            <a:off x="1279440" y="1639800"/>
            <a:ext cx="2994120" cy="4529160"/>
          </a:xfrm>
          <a:prstGeom prst="rect">
            <a:avLst/>
          </a:prstGeom>
          <a:ln w="0">
            <a:noFill/>
          </a:ln>
        </p:spPr>
      </p:pic>
      <p:pic>
        <p:nvPicPr>
          <p:cNvPr id="588" name="Diagram 4" descr=""/>
          <p:cNvPicPr/>
          <p:nvPr/>
        </p:nvPicPr>
        <p:blipFill>
          <a:blip r:embed="rId2"/>
          <a:stretch/>
        </p:blipFill>
        <p:spPr>
          <a:xfrm>
            <a:off x="4511520" y="1646280"/>
            <a:ext cx="2584440" cy="4516560"/>
          </a:xfrm>
          <a:prstGeom prst="rect">
            <a:avLst/>
          </a:prstGeom>
          <a:ln w="0">
            <a:noFill/>
          </a:ln>
        </p:spPr>
      </p:pic>
      <p:sp>
        <p:nvSpPr>
          <p:cNvPr id="589" name="TextBox 5"/>
          <p:cNvSpPr/>
          <p:nvPr/>
        </p:nvSpPr>
        <p:spPr>
          <a:xfrm>
            <a:off x="1371600" y="6172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y approves MSP after CEO approval of the project and starts imple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r Enabling Activities (two paths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rect Acces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ollow direct access policy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nd country sign Grant Agreement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isting procedur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applying EA grant through Agenc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follows its own internal approval procedure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wb350798</cp:lastModifiedBy>
  <cp:lastPrinted>2011-02-14T18:22:27Z</cp:lastPrinted>
  <dcterms:modified xsi:type="dcterms:W3CDTF">2011-11-01T20:35:32Z</dcterms:modified>
  <cp:revision>231</cp:revision>
  <dc:subject/>
  <dc:title>Slide 1</dc:title>
</cp:coreProperties>
</file>