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4097EA8-4123-4EAC-AAF2-AE44D427C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A04F0EE-53E7-4EFD-B732-B55B80602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67E-DECB-4BEF-92AF-F1665ED7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495-67F6-499A-8EF1-A9800F66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79A33-E24F-4F67-B67D-4A5BDDE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2963F-ACCA-40D2-8DD3-F824A598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36E71-BCFD-45A0-BD8B-84BB7A2D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D508A-70F4-4262-993F-D56EB456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31344-81A4-40D7-A5A4-7F5CAE6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42E49-BB7B-4AE5-98B9-C37C118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94844-566A-49E5-97B3-BB02B31E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EF564-D580-4B4F-9AC7-0D8F14E7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88138-BF60-4309-BF85-D4D7D56A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1069A-DDB4-470B-8DF9-815D85AD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129-D84D-4933-899E-7B302A6C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57FA0-04F4-4144-B947-31E14C2C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F8D1A-5471-49B2-9B18-EE2DBD5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D4FA2-DCCA-497B-8AAA-705C57AB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B958F-9F73-49E7-AD4C-FFE33AB5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88C59-AA4C-4483-8FA1-FDEA1E41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F22B9-F998-4759-AB30-54E94906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C884D-85E6-49F7-A38C-B5D38E75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B873B-F6F6-4A2B-BD29-673D136C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F3724-C6C1-4F19-8EB0-BA989230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A5A77-AFC9-4FD7-AAEB-4D65BB04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645-FDCE-40D7-8DC1-80016839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61FD7-8E40-4491-9850-A129799E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4D972-50A6-45E3-B1FB-681FC6DB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217FC-1807-4550-9939-9DE9B75B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73055-8D26-4E6F-9836-FF43C8A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8A78F-0FD0-4981-8D34-C568258F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6526A-C78F-477D-9539-B92782AB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24390-7F0D-4228-8448-5C652B98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0561F-F53E-44BB-99CA-73BD149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783D6-1E94-4546-901B-E00DB619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DD052-035B-4F7D-B2E9-84DF3B4D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4FB1-DA06-481E-8D62-37A7FED2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01828-80EF-443E-913B-3B98CA14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BFCF1-FC62-428C-83A7-338F9AFF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23579-4088-499B-8511-705F9599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87F7E-557F-40B8-A4A6-283C2532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6F342-B0DF-4253-83D2-A330D85C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FBCA2-7682-4D36-BE45-10BE07DB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3AF44-183F-4A52-86F2-046F976A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3AFAE-0C5B-4847-81F2-87E07AF1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B42B4-09B7-454C-A6FA-57833D3E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BC2F2-2A7B-4F59-B33D-6031E754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6C49-0038-4DB6-9CD4-85D6DCC8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C6A23-4440-4143-9671-9793F1D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89273-88B5-4A7A-8AD6-6E75FA4F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7AA91-FBC3-44E1-A3D3-3346A767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6C640-4F54-47F7-8BE0-6A6B4AD4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30DBE-C3E2-4681-A29A-FE0E9494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79A4E-57F2-44F5-A5C6-B78C04B7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73C0B-CFB7-4D2A-B118-B421330B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793A9-0EF9-4054-A0BC-0C7D1293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04F3A-E32D-472E-A095-88B9D393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6074B-870C-4DF1-A473-206893E2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A25D-9BEA-4691-964B-A882EAF5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A204E-C1D1-4308-BA3F-494919C6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78F1F-9690-47BC-9A0A-2440DD3F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27F51-9F91-4A02-AE2B-CE4C5F18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971E5-EB17-4D55-9C33-EA0C7F76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E9DD8-DBB0-4D50-84AF-3F72305B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152E3-BA2C-4D61-B844-192204AF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D7502-9F68-4CE0-BACD-35CDCE15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79C2-C6E0-4780-BAF0-06B50035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D473-B22E-4E18-9B96-D5498ADF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6B1E-E780-4FE1-91E2-BF562D36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689E-91B6-4F02-BBBB-B8CF0E8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B8A-B5E2-419E-980E-39013105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CD48-F3B6-4956-967C-1A865F86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A49C-8916-48EE-B8E5-A0B652C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D1D9-87D8-4DA7-B68A-7B520E31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93EE-0EBB-49BC-90B2-A645E40F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0A39-0CC1-488B-8E17-1272B077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2A0B-47F9-492D-87FB-3DD69E57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7A32-6102-4C91-9A58-2C8D20C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91CB-484F-4DCD-8863-4DBBE6BD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8188-0A97-4210-A088-831476F7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D571-1F4D-4E78-B6EB-919B5EF3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7AD-728F-456A-915F-605DBAC3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F7BFB-D832-47DE-9DC2-21A78A81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A2A8-26EC-4EE0-8236-DA55708D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8C8B-5270-4494-85BB-1F8DDB2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2E5D-730F-4EEC-A9A0-8E3E743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58FA-E4C2-4BC6-8DA8-041E4063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B5B3-8398-4B03-B55C-BC6C0E36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C8D0-24B7-4C90-B57E-925326F5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CE0C-201B-47D5-A995-80C90AF8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F5D6-3E80-4802-BD85-F7C2DAC9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4F68-A021-40DE-884D-1B7C923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941-33FC-4DA0-B3D9-DA8F59E1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F133-4A96-4E70-9C1E-A4DE6511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4E64C-1B6F-4502-B0F0-BA83240B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1F4BA-5509-4625-9CC9-B03C4D15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51A9-AD80-4189-A09F-265A333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869B-BDF5-4E27-A2A4-1FBF3232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FBB9-6945-4ADA-B2A2-2F4AA89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CD56-5E5B-41C8-B2CE-CDB6F26A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E484-85B0-4B48-834A-CED185B4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C3FD-FAC1-4C22-B6F9-A423D283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7600-A213-4A40-BB9B-842CE295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F9A-926F-4C29-9CA5-2B7EC7CD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C541C-EABA-46E0-BD9A-A9419B1C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FE68D-0F5F-496A-82D3-90043069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800A0-D42F-4B80-B2EF-FC83827C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DCA4-19E7-4297-841F-5AD97350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AD627-34B5-4910-AD72-E56BDE09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10376-172E-4CB0-B8BC-89A21C2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96A03-23A8-4300-89DD-03E32D2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5FA64-3A80-4A13-B8F9-25A42F6E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F9EB0-8D28-487E-B5D0-2197E429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8AA9-A4AB-4BE6-A074-0586213B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5EB-F148-418D-99AA-4560F77F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9271D-6CD5-4107-AD17-87987E60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53FE1-5D32-4B45-AE13-E8BBA82D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EA35E-FD0C-4286-8624-6F1EF21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8128B-F17F-4FA3-9FAD-C3E2BB75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2419-EF90-4528-8458-53B82F32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40450-18C8-4A8D-B54A-DB8332C8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02F81-4F82-4E1C-9830-11D0BBCB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5572-72A6-4265-B71C-978A9366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2B9EA-90CB-4932-B7AD-5A18F84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C067-79B6-4AA8-AC12-CC3BBC0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BC0-8581-49B3-A7DD-78794D8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E251-6B32-4B22-B9D3-21D37AAD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03C6B-D8FF-476F-ACCD-40C664FC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FA5C4-0B31-469F-8984-FD55F887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282EB-1271-4054-8675-D4C2D42D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253A-BB7C-4E7A-A74B-FF8B9CED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2AA81-B3E5-427F-8562-A82EB5B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0D39A-46C0-4284-BA0D-84C49BF6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548A2-4AFA-4C3E-8C16-395B8447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9090-AB92-41B5-B3A7-396FC617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B49AB-74B6-4D6D-94CD-9206EBC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F8A-A99F-4AE2-B109-DECF4062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AA3F2-80C0-47CC-A5D5-41BD03C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3EAC8-32FA-4088-9D3B-88ABC951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94C0C-1DE2-4BC3-A2F6-62EE0B8F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46D7B-9EA3-4EFA-A8FF-625C09A9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42803-32AD-470D-AC3D-90819A4E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6AEC1-7FB6-4E0E-A831-64EC1BC5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F908E-FC71-4DCC-B677-0C6762D2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9265A-044B-44C5-B670-9D1C9BA0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832D-8A45-460E-88EC-A257DBBE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84025-E2C9-4DFE-9175-B30B51DA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4C1-5E9E-4CED-A7DE-BB54E8D2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E97C8-91BC-4A75-82EC-46871CCA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43A0F-1F74-452C-A599-598D2E6E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52FBF-E298-42DC-A15F-CA5463C5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97527-9CCC-449B-A71A-9F903F5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68617-A5A4-4B63-9FE2-1740DDC2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6CDF2-B42D-48A1-9C38-92360F03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62CB5-E0AD-4756-9240-9F2439F6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0EAFA-8249-4C6D-8195-7D80C909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5103C-EACD-4F71-928D-650C6694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4836A-1FA8-4A50-B462-A8E8C1CE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4EE3-3DD6-46C8-9E30-091EDC1031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143C-62E3-4205-9EE9-DB17A1F9B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C0A2-7B2D-440B-84FE-31F72CB5799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D8E9-E18A-43A1-AACD-4036E81BB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9A58-80B8-40AD-9981-792E0BEE793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2BA1-6E49-45FB-8386-921E63BDE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BCDF-F710-4D13-8221-7FEFDC2BB02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49AF-24B0-43A2-BEC4-C3AC32A878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6BC4-32AD-48DF-A077-669FA3D0D7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E8AD-DCF2-4788-B641-72AC84432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68B3-59FA-49C8-9318-4576524733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DE8B-6B8E-4BED-9B0C-AED52C23E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5647-3225-4DC5-87FC-07E4D4F7AE0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014F-1F8C-46D1-98AD-B05545A1F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242B-2C38-46E2-9995-586B788B540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F1A3-724B-4236-B6AB-1FE62907A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2C31-883F-4560-8427-8E8D7E7DCA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62D2-D4EC-445E-81D4-03EA21429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D0C0-4207-4611-844D-34BFD91ADE5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0BB1-6601-47D4-8CC8-99A0BA929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8E8C-EAB0-4DDC-B4E6-1C97A14C53B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E236-7BDB-4FB7-B86A-E0B03A25D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8939-FD44-42B6-8D04-8F33C10ECA0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27F8-AF42-494B-BB5D-C94C48641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2B0C-4509-49AA-9253-E51E70B81A5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37BE-A80A-4A00-AD92-813E94ACC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5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26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6"/>
          <p:cNvSpPr/>
          <p:nvPr/>
        </p:nvSpPr>
        <p:spPr>
          <a:xfrm>
            <a:off x="1371600" y="7621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Expedited Enabling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597" name="Rounded Rectangle 4"/>
          <p:cNvGrpSpPr/>
          <p:nvPr/>
        </p:nvGrpSpPr>
        <p:grpSpPr>
          <a:xfrm>
            <a:off x="1762200" y="4170240"/>
            <a:ext cx="2401920" cy="749520"/>
            <a:chOff x="1762200" y="4170240"/>
            <a:chExt cx="2401920" cy="749520"/>
          </a:xfrm>
        </p:grpSpPr>
        <p:pic>
          <p:nvPicPr>
            <p:cNvPr id="598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401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0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01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3" name="Rounded Rectangle 4"/>
          <p:cNvGrpSpPr/>
          <p:nvPr/>
        </p:nvGrpSpPr>
        <p:grpSpPr>
          <a:xfrm>
            <a:off x="4505400" y="5315040"/>
            <a:ext cx="2475000" cy="896760"/>
            <a:chOff x="4505400" y="5315040"/>
            <a:chExt cx="2475000" cy="896760"/>
          </a:xfrm>
        </p:grpSpPr>
        <p:pic>
          <p:nvPicPr>
            <p:cNvPr id="604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6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07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9" name="Rounded Rectangle 4"/>
          <p:cNvGrpSpPr/>
          <p:nvPr/>
        </p:nvGrpSpPr>
        <p:grpSpPr>
          <a:xfrm>
            <a:off x="4505400" y="3181320"/>
            <a:ext cx="2455920" cy="622440"/>
            <a:chOff x="4505400" y="3181320"/>
            <a:chExt cx="2455920" cy="622440"/>
          </a:xfrm>
        </p:grpSpPr>
        <p:pic>
          <p:nvPicPr>
            <p:cNvPr id="610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318132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2" name="Rounded Rectangle 4"/>
          <p:cNvGrpSpPr/>
          <p:nvPr/>
        </p:nvGrpSpPr>
        <p:grpSpPr>
          <a:xfrm>
            <a:off x="4505400" y="2193840"/>
            <a:ext cx="2449440" cy="622440"/>
            <a:chOff x="4505400" y="2193840"/>
            <a:chExt cx="2449440" cy="622440"/>
          </a:xfrm>
        </p:grpSpPr>
        <p:pic>
          <p:nvPicPr>
            <p:cNvPr id="613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93840"/>
              <a:ext cx="2449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4572000" y="22096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15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16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17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54"/>
          <p:cNvSpPr/>
          <p:nvPr/>
        </p:nvSpPr>
        <p:spPr>
          <a:xfrm>
            <a:off x="1219320" y="6172200"/>
            <a:ext cx="6200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 Secretariat will follow the World Bank procedures in approving the  proposal with final targe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nding a Grant Agreement to the recipient country and to be signed between CEO and the country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20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21" name="Group 64" descr=""/>
          <p:cNvPicPr/>
          <p:nvPr/>
        </p:nvPicPr>
        <p:blipFill>
          <a:blip r:embed="rId14"/>
          <a:stretch/>
        </p:blipFill>
        <p:spPr>
          <a:xfrm>
            <a:off x="5425920" y="2712960"/>
            <a:ext cx="505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622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2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Environment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91404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Group 3" descr=""/>
          <p:cNvPicPr/>
          <p:nvPr/>
        </p:nvPicPr>
        <p:blipFill>
          <a:blip r:embed="rId2"/>
          <a:stretch/>
        </p:blipFill>
        <p:spPr>
          <a:xfrm>
            <a:off x="853920" y="95076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639" name="Rounded Rectangle 4"/>
          <p:cNvGrpSpPr/>
          <p:nvPr/>
        </p:nvGrpSpPr>
        <p:grpSpPr>
          <a:xfrm>
            <a:off x="927000" y="3255840"/>
            <a:ext cx="2444760" cy="669960"/>
            <a:chOff x="927000" y="3255840"/>
            <a:chExt cx="2444760" cy="669960"/>
          </a:xfrm>
        </p:grpSpPr>
        <p:pic>
          <p:nvPicPr>
            <p:cNvPr id="64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2558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4"/>
          <a:stretch/>
        </p:blipFill>
        <p:spPr>
          <a:xfrm>
            <a:off x="5048280" y="95076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5" name="Group 58" descr=""/>
          <p:cNvPicPr/>
          <p:nvPr/>
        </p:nvPicPr>
        <p:blipFill>
          <a:blip r:embed="rId7"/>
          <a:stretch/>
        </p:blipFill>
        <p:spPr>
          <a:xfrm>
            <a:off x="1920960" y="47671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6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48" name="Rounded Rectangle 4"/>
          <p:cNvGrpSpPr/>
          <p:nvPr/>
        </p:nvGrpSpPr>
        <p:grpSpPr>
          <a:xfrm>
            <a:off x="927000" y="4170240"/>
            <a:ext cx="2444760" cy="669960"/>
            <a:chOff x="927000" y="4170240"/>
            <a:chExt cx="2444760" cy="669960"/>
          </a:xfrm>
        </p:grpSpPr>
        <p:pic>
          <p:nvPicPr>
            <p:cNvPr id="649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702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1" name="Rounded Rectangle 4"/>
          <p:cNvGrpSpPr/>
          <p:nvPr/>
        </p:nvGrpSpPr>
        <p:grpSpPr>
          <a:xfrm>
            <a:off x="914400" y="4998960"/>
            <a:ext cx="2517840" cy="779400"/>
            <a:chOff x="914400" y="4998960"/>
            <a:chExt cx="2517840" cy="779400"/>
          </a:xfrm>
        </p:grpSpPr>
        <p:pic>
          <p:nvPicPr>
            <p:cNvPr id="652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14400" y="49989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990720" y="51055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4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55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7" name="Rounded Rectangle 4"/>
          <p:cNvGrpSpPr/>
          <p:nvPr/>
        </p:nvGrpSpPr>
        <p:grpSpPr>
          <a:xfrm>
            <a:off x="3657600" y="2189160"/>
            <a:ext cx="2505240" cy="1352520"/>
            <a:chOff x="3657600" y="2189160"/>
            <a:chExt cx="2505240" cy="1352520"/>
          </a:xfrm>
        </p:grpSpPr>
        <p:pic>
          <p:nvPicPr>
            <p:cNvPr id="658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57600" y="2189160"/>
              <a:ext cx="2505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3733920" y="220968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0" name="Rounded Rectangle 4"/>
          <p:cNvGrpSpPr/>
          <p:nvPr/>
        </p:nvGrpSpPr>
        <p:grpSpPr>
          <a:xfrm>
            <a:off x="927000" y="1884240"/>
            <a:ext cx="2449440" cy="1127160"/>
            <a:chOff x="927000" y="1884240"/>
            <a:chExt cx="2449440" cy="1127160"/>
          </a:xfrm>
        </p:grpSpPr>
        <p:pic>
          <p:nvPicPr>
            <p:cNvPr id="661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9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3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4"/>
          <p:cNvGrpSpPr/>
          <p:nvPr/>
        </p:nvGrpSpPr>
        <p:grpSpPr>
          <a:xfrm>
            <a:off x="6413400" y="2266920"/>
            <a:ext cx="2498760" cy="1281240"/>
            <a:chOff x="6413400" y="2266920"/>
            <a:chExt cx="2498760" cy="1281240"/>
          </a:xfrm>
        </p:grpSpPr>
        <p:pic>
          <p:nvPicPr>
            <p:cNvPr id="665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413400" y="2266920"/>
              <a:ext cx="24987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7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68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669" name="Rounded Rectangle 4"/>
          <p:cNvGrpSpPr/>
          <p:nvPr/>
        </p:nvGrpSpPr>
        <p:grpSpPr>
          <a:xfrm>
            <a:off x="5041800" y="4095720"/>
            <a:ext cx="2444760" cy="665280"/>
            <a:chOff x="5041800" y="4095720"/>
            <a:chExt cx="2444760" cy="665280"/>
          </a:xfrm>
        </p:grpSpPr>
        <p:pic>
          <p:nvPicPr>
            <p:cNvPr id="670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95720"/>
              <a:ext cx="24447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Rounded Rectangle 4"/>
          <p:cNvGrpSpPr/>
          <p:nvPr/>
        </p:nvGrpSpPr>
        <p:grpSpPr>
          <a:xfrm>
            <a:off x="5029200" y="4919760"/>
            <a:ext cx="2517840" cy="779400"/>
            <a:chOff x="5029200" y="4919760"/>
            <a:chExt cx="2517840" cy="779400"/>
          </a:xfrm>
        </p:grpSpPr>
        <p:pic>
          <p:nvPicPr>
            <p:cNvPr id="673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29200" y="49197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105520" y="50292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5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676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78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679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 - Stand-alone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P provides strategic scientific and technical advice to the GEF on the follow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IF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IFs cleared by CEO for work program inclusion;  screening reports are posted on the GEF website together with PIF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MSP PIF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atic Approaches (similar to FSP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FD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FDs cleared by CEO for work program inclusion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reports are posted on the GEF website together with PFD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Institutional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i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6"/>
          <p:cNvSpPr/>
          <p:nvPr/>
        </p:nvSpPr>
        <p:spPr>
          <a:xfrm>
            <a:off x="5715000" y="2133720"/>
            <a:ext cx="1447920" cy="3277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 Agenc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D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orld Ba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F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B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A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F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valuation Off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Counc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cil Members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tituencies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ultations with CS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304920" y="388620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304920" y="266688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olitical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7467480" y="2827440"/>
            <a:ext cx="152424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perational FPs, Convention FPs, other gov’t agencies, civil socie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8" name="Straight Arrow Connector 17"/>
          <p:cNvCxnSpPr>
            <a:endCxn id="551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59" name="Straight Arrow Connector 19"/>
          <p:cNvCxnSpPr>
            <a:endCxn id="551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0" name="Straight Arrow Connector 21"/>
          <p:cNvCxnSpPr>
            <a:stCxn id="549" idx="0"/>
            <a:endCxn id="551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1" name="Straight Arrow Connector 23"/>
          <p:cNvCxnSpPr>
            <a:stCxn id="551" idx="3"/>
            <a:endCxn id="547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2" name="Straight Arrow Connector 26"/>
          <p:cNvCxnSpPr>
            <a:stCxn id="547" idx="3"/>
            <a:endCxn id="548" idx="1"/>
          </p:cNvCxnSpPr>
          <p:nvPr/>
        </p:nvCxnSpPr>
        <p:spPr>
          <a:xfrm>
            <a:off x="5409720" y="3635280"/>
            <a:ext cx="305640" cy="15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3" name="Straight Arrow Connector 28"/>
          <p:cNvCxnSpPr>
            <a:stCxn id="548" idx="3"/>
            <a:endCxn id="554" idx="1"/>
          </p:cNvCxnSpPr>
          <p:nvPr/>
        </p:nvCxnSpPr>
        <p:spPr>
          <a:xfrm flipV="1">
            <a:off x="7162920" y="3533400"/>
            <a:ext cx="305280" cy="254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64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Box 43"/>
          <p:cNvSpPr/>
          <p:nvPr/>
        </p:nvSpPr>
        <p:spPr>
          <a:xfrm>
            <a:off x="380880" y="16002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Box 44"/>
          <p:cNvSpPr/>
          <p:nvPr/>
        </p:nvSpPr>
        <p:spPr>
          <a:xfrm>
            <a:off x="3809880" y="1752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Box 45"/>
          <p:cNvSpPr/>
          <p:nvPr/>
        </p:nvSpPr>
        <p:spPr>
          <a:xfrm>
            <a:off x="754380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2361600" y="571500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 Progra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038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revie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5791320" y="5486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Develo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7467480" y="52578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dea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orsement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le 1"/>
          <p:cNvSpPr/>
          <p:nvPr/>
        </p:nvSpPr>
        <p:spPr>
          <a:xfrm>
            <a:off x="2209680" y="838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Medium-Sized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7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39800"/>
            <a:ext cx="2994120" cy="4529160"/>
          </a:xfrm>
          <a:prstGeom prst="rect">
            <a:avLst/>
          </a:prstGeom>
          <a:ln w="0">
            <a:noFill/>
          </a:ln>
        </p:spPr>
      </p:pic>
      <p:pic>
        <p:nvPicPr>
          <p:cNvPr id="588" name="Diagram 4" descr=""/>
          <p:cNvPicPr/>
          <p:nvPr/>
        </p:nvPicPr>
        <p:blipFill>
          <a:blip r:embed="rId2"/>
          <a:stretch/>
        </p:blipFill>
        <p:spPr>
          <a:xfrm>
            <a:off x="4511520" y="1646280"/>
            <a:ext cx="2584440" cy="45165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5"/>
          <p:cNvSpPr/>
          <p:nvPr/>
        </p:nvSpPr>
        <p:spPr>
          <a:xfrm>
            <a:off x="13716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1-11-01T20:35:32Z</dcterms:modified>
  <cp:revision>231</cp:revision>
  <dc:subject/>
  <dc:title>Slide 1</dc:title>
</cp:coreProperties>
</file>