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79CF3B8-082A-41DA-9BB1-BEE3A8F56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4EE1F2C-DE53-4219-A32A-98C1355B2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Верхний колонтитул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Дата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Нижний колонтитул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Номер слайда 6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008BF38-C9F2-486E-8443-3028414F8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8F5-A514-4F12-B262-83EBECBA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7CD-2D36-4ECB-AE76-19D66CD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FC69C-96F2-4677-8E92-990E8ECD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DB10C-F38A-4C7F-8611-ED3C4DB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59D1B-06B8-4342-8721-9391FCC0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8C99-ED09-44E8-B9ED-1B4D0457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36CF0-A7B1-4A54-A46F-AFC8D1B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21204-8A66-4F3D-A41F-12320956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5586B-AB42-4675-A208-BA94ADE3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5C06A-C708-4A56-AFCD-FF45C3F1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2B1F4-AB4D-430C-AE6F-2796F73B6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5EFA7-F04E-4413-AC05-791C83C2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5D2F-924B-4F05-8498-C84AEFFF6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CD7BF-89DE-4782-82FC-361A056D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65CE7-7A15-4680-ADE5-B0D73650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50FE0E-6D8F-4E8B-AF08-EF74ACB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3E909-DA96-48C9-B54E-BEFE172A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575326-EE4C-43AF-93C1-C56F99E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98EA7-C17D-4B5F-9749-FC15CEC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F692AE-4381-42D8-B0BC-4E68ABB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068EE-6DB5-4794-B80A-E69B82C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21207-719A-431C-9635-FB30D9DE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F4DAB-F117-4169-BBCE-91371B28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C3F-8C74-447C-8A2D-6B8E6420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0B2F0-A704-452C-A0C0-B20E1EF8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BBC75-3103-45CA-88A7-7198F974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6769-629D-4CB4-9656-011BD9D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2A59A-73EC-4EBA-A8C5-F2259588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A286A-DAE9-4323-BCD1-706E664D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2D2B3-BA28-48F8-9114-3AEB776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A67A1-D209-49C1-AD5E-CAFAB559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1FE1B-F22C-4014-B47B-9D25B49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068E-F341-42AA-B76F-E7879CB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A4E07-40D6-41DA-B2B5-AFD4C6FA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1778-B557-4A5D-8D3A-146BAFAF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C957B-D4C1-4F2C-8C99-B6BB870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EC2CE-66DA-4568-B22A-8F96303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2BD1E-FB9F-45A2-85A7-E4C0BAE3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F5BA3-D1CC-4458-9A99-9D662096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9055B-8DE4-4765-BE23-42E3712A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09023-C460-4A7D-8CF2-EDEF16A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E1D0-C638-460F-B913-0EFDF6B1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5406B-AC1D-47DD-B96D-5BF58EFA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ED99A-E381-417A-B2C1-902A8F4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F4EB7-7063-4FF6-84A5-BB380302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CCE-A8DE-4B8D-B44F-42B80937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1E34C-DEF4-49E0-9915-88502EC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4B8E2-E87D-4CBA-B293-6D02D758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9232B-D1DD-4F29-87E6-3AEA8A9C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099E48-762C-4025-B674-41B6FAA6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26531-2ED6-42C2-80FC-6C240C0A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E5309-5ECD-48FD-B033-6613EC2E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6FEF3-38D7-414A-909A-7ECECB77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5FDB5-9C46-43EA-8EC2-2163D4DC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3A011-1F37-4F95-AFEB-2E17401A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9677C-05B5-4B98-B144-5D86B9D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DCF-6E71-488E-ADFE-E96DEDE1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CB6B13-AAE3-4DBF-B79E-27D1F981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62384E-53DB-4384-850B-4EDF766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A0054-C6D1-4E09-BBE5-4076C84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B3A36-B18A-46E4-886B-887CA9D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D92AB-5983-4D04-AEA0-88D6D4FF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68ED9-B0B2-41E5-B1D6-8BB618C4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53094-373D-4EAE-8424-5610193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A615-89D9-4F85-A642-118166BC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0F68-D3C2-4DA2-BFF3-AD898FA8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6ADC-5B5C-41B8-AF40-5A8D125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E4CF-86B6-4624-8BEA-6AD82AC5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1C58-DEF1-45B0-8924-56AEB613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6957-9645-4C2F-BE96-15775185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5813-D653-4551-B0FD-3107D27A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553-001F-47D7-9F0C-DD6F91C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E42E-AD85-4A2C-887C-7A2CC235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D0D8-C3D6-47F4-99F9-7B6F79AA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943A5-2E84-4048-A05B-C374739F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60E1-B114-4982-9D54-D2C4B5B9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10302-851F-4AB8-8A01-78F87FF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6CB9-E57C-4299-9F2C-0EB701D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E0FE-896E-4733-AA86-9E392C4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3851-8CA6-46D8-BF9D-F207BFC6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80C7-AC33-42BC-B8C7-67BF9587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D2DF7-3B23-4CEE-92EF-A302E8C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C97D-758C-44E1-BB02-AE276780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E9C8-1A3C-4C6B-BAE8-91AF5EC8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AF9F-C44A-4B37-ADF7-EB50E3F2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A873-9578-4B68-BB9B-12A9FC3B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FAF7-1112-4053-866E-AE0125A1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A313-CDD8-41C2-9E94-DE7B854D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A3BDC-D4CF-4DD7-90DB-2B190D38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BC823-EDE9-4C1A-8307-7B54B800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06F-A77D-4810-9632-D2928EF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9FE6-8827-47A3-BA78-CF15C516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003A-73EF-4B37-8EC0-32C65526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88BA-3367-4F7C-9B05-0281B8C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FF15-8984-4190-889B-D85014C5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450C-8D82-49DE-8D18-BD8CA22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9D531-7C1A-4965-9E29-D83B9434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9B83-5DB0-4A7A-A573-67DBEF89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FA5BD-763B-4BE5-84C4-7C47433A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6BF8-34D3-4AD9-B285-BC92ADC32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C0DF1-0B05-4B45-AD4B-5BD94D87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5C74-A615-4739-8146-08A1B4D0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6D0CD-7C55-4860-B2B3-99FAB17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E606-EA98-4AD3-9E27-616DF9D6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8C333-B73B-4532-B606-E8978C75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DD0C-2353-40FC-9285-6723F36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F835-6CDB-4F65-839B-E3765A21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1A71B-4B9D-4DFB-8968-06B15CD6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B6A64-3392-4DFC-9204-491A58CE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77A7-FB1F-4149-897F-FDABF89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9EE78-284D-49BD-BBED-D9B91239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F206D-F9E0-4355-9B83-40E5419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60F-7FF2-4E04-9A60-32069822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CBBF-818E-4649-BBC6-DC30B96C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B3F44-A8F9-459E-B207-449D6F06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E9B8-1FD4-4AD6-92A7-9E287221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383FE-5505-448E-90C0-BC64EA19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EECCA-C479-4E76-80B5-1B51E11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915EE-EB15-4821-80F7-9679A5B7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B2564-C607-4770-83A1-8C1A7AD6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DFB5B-02CA-43C1-B244-0DB86FB7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5A9E4-C1DC-4373-B294-83C0B36D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501FB-9283-4B04-8878-976D84F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000-5D8C-45DE-ACAB-FB9A0BD6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EAD9-3382-4037-87E4-C5A868F8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2832E-5A6B-40AE-A300-AE37BB16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AF584-5227-44E4-9574-C8DB1AB7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987C-4CD0-4B3B-A06E-78F00402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A355D-F304-474A-B098-1015246B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C6C81-5567-40F9-9BBC-57022A9F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2B005-8694-43C2-B38A-75BB577E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7272-F6E6-43A8-B511-BF55997C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41694-3F0F-4CA8-B678-55E93FA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E1A7B-8616-4B76-8A61-F6F9CC7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B04-73BE-41B5-A47E-1B3519C9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028ED-DC04-4096-BEA2-7EE1CA7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33C07-3F46-4C38-A25C-30F6CB5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0F2C2-BFD3-4C26-9186-68F8DFF0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E8497-9DA9-4058-8BE4-C6668AF8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FA26-CCE3-4494-9052-4C1E3319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886D-D8FD-46D5-9667-CF9FAED7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001A1-BA56-4C5E-9590-5E441A84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774F8-952B-42A4-B966-9BAD6658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99D38-C906-450F-A2BD-0291A902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3EE2B-5E9F-4E1C-9C9C-85A0CE7D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6157-0793-436F-8490-C3776A9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3B4B4-F057-4D87-9318-A442DC3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4AE2D-C909-42FA-AE03-A5B7300E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C7448-2163-4FFD-81AB-787ED0D8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F6F49-160F-40D2-B3D5-5B6B373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59CEF-6AAD-452F-90F5-7BB2D816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C6A1-4CF8-420C-8869-059ED43D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FDCE1-A1A2-4A8D-99F2-6FB5C57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B8CD2-54AE-41A4-9959-869E785E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541C3-8758-4B48-8E55-C6E27AB8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5C8F7-86DE-42D9-B4D3-79A28E78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4BEC-F933-41CF-9AD0-3B234A01C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3FDC-BB8D-4EB5-929E-A86AD745C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BBD8-9D2B-405F-9F46-8EF07F7A04D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115C-772C-4E16-904B-167E86475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647-9DD1-4C37-B82E-1D8992827F6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68DC-D204-4DFE-912D-BFB42CB384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6886-52CD-4249-95F2-FDFA6C697B6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A04E-6CFF-4853-9C9F-1515F089F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B47B-7076-428B-9363-295EB1C3EA8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7C6F-A8EA-4141-A4CE-0C01D7555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9DE5-146F-44CB-AE96-49CE5A2F5F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03C-C077-46C1-8C6B-E1B23687BD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27C-32A0-4456-A296-12213CA508A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28B5-2945-49DD-B903-60367678A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57FA-AFD4-4FBD-BDF2-39FE508B3A3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15EE-DAFB-4E4F-8581-E6B4EA36D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B587-CECE-4FF2-96A9-4F434EE0278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5947-A64B-4448-9B9A-3A774B0586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623-D710-4DA2-A312-7722E9298C5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30A-F966-4561-897D-9DE9200F3A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6424-D394-41A7-8EFA-0CC65062B5B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21E4-F9A7-4913-8503-96DE457656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7419-5B22-4AFA-A8C4-1931263A9E4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2093-2E0D-4A54-8949-31E065C33C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4EDB-3E60-4036-A25C-19A706110B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19FA-BD61-4DD2-89EF-FA00F71F7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3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image" Target="../media/image25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36.png"/><Relationship Id="rId22" Type="http://schemas.openxmlformats.org/officeDocument/2006/relationships/image" Target="../media/image37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42d"/>
                </a:solidFill>
                <a:latin typeface="Calibri"/>
              </a:rPr>
              <a:t>Проектный цикл ГЭ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333440" y="3809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Семинар для членов ГЭФ 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расширенном состав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11–13 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октября</a:t>
            </a:r>
            <a:r>
              <a:rPr b="1" lang="en-US" sz="2000" spc="-1" strike="noStrike">
                <a:solidFill>
                  <a:srgbClr val="00642d"/>
                </a:solidFill>
                <a:latin typeface="Calibri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Подзаголовок 2"/>
          <p:cNvSpPr/>
          <p:nvPr/>
        </p:nvSpPr>
        <p:spPr>
          <a:xfrm>
            <a:off x="504720" y="72720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Подзаголовок 2"/>
          <p:cNvSpPr/>
          <p:nvPr/>
        </p:nvSpPr>
        <p:spPr>
          <a:xfrm>
            <a:off x="1333440" y="42696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Подзаголовок 2"/>
          <p:cNvSpPr/>
          <p:nvPr/>
        </p:nvSpPr>
        <p:spPr>
          <a:xfrm>
            <a:off x="1257480" y="63036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622" name="TextBox 6"/>
          <p:cNvSpPr/>
          <p:nvPr/>
        </p:nvSpPr>
        <p:spPr>
          <a:xfrm>
            <a:off x="457200" y="838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58ed5"/>
                </a:solidFill>
                <a:latin typeface="Calibri"/>
              </a:rPr>
              <a:t>Ускоренная процедура утверждения стимулирующих мероприят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624" name="Rounded Rectangle 4"/>
          <p:cNvGrpSpPr/>
          <p:nvPr/>
        </p:nvGrpSpPr>
        <p:grpSpPr>
          <a:xfrm>
            <a:off x="1762200" y="4170240"/>
            <a:ext cx="2371680" cy="749520"/>
            <a:chOff x="1762200" y="4170240"/>
            <a:chExt cx="2371680" cy="749520"/>
          </a:xfrm>
        </p:grpSpPr>
        <p:pic>
          <p:nvPicPr>
            <p:cNvPr id="625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37168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тельство страны и ИД ГЭФ заключают соглашение о гранте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28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Rounded Rectangle 4"/>
          <p:cNvGrpSpPr/>
          <p:nvPr/>
        </p:nvGrpSpPr>
        <p:grpSpPr>
          <a:xfrm>
            <a:off x="4505400" y="5315040"/>
            <a:ext cx="2449440" cy="896760"/>
            <a:chOff x="4505400" y="5315040"/>
            <a:chExt cx="2449440" cy="896760"/>
          </a:xfrm>
        </p:grpSpPr>
        <p:pic>
          <p:nvPicPr>
            <p:cNvPr id="631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4944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завершает реализацию ВМ и представляет Конвенции отчет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34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утверждает ВМ после его утверждения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6" name="Rounded Rectangle 4"/>
          <p:cNvGrpSpPr/>
          <p:nvPr/>
        </p:nvGrpSpPr>
        <p:grpSpPr>
          <a:xfrm>
            <a:off x="4492800" y="3181320"/>
            <a:ext cx="2474640" cy="622440"/>
            <a:chOff x="4492800" y="3181320"/>
            <a:chExt cx="2474640" cy="622440"/>
          </a:xfrm>
        </p:grpSpPr>
        <p:pic>
          <p:nvPicPr>
            <p:cNvPr id="637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492800" y="3181320"/>
              <a:ext cx="24746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ЭФ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ге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представляет предложение на утверждение ИД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9" name="Rounded Rectangle 4"/>
          <p:cNvGrpSpPr/>
          <p:nvPr/>
        </p:nvGrpSpPr>
        <p:grpSpPr>
          <a:xfrm>
            <a:off x="4505400" y="2189160"/>
            <a:ext cx="2449440" cy="749160"/>
            <a:chOff x="4505400" y="2189160"/>
            <a:chExt cx="2449440" cy="749160"/>
          </a:xfrm>
        </p:grpSpPr>
        <p:pic>
          <p:nvPicPr>
            <p:cNvPr id="640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89160"/>
              <a:ext cx="24494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4572000" y="2209680"/>
              <a:ext cx="231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и ГЭФ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45" name="TextBox 54"/>
          <p:cNvSpPr/>
          <p:nvPr/>
        </p:nvSpPr>
        <p:spPr>
          <a:xfrm>
            <a:off x="1219320" y="6172200"/>
            <a:ext cx="62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тверждении предложения Секретариат ГЭФ руководствуется процедурами Всемирного банка с учетом конечной цели  – направления соглашения о гранте стране, получающей помощь, и его подписания ИД и страной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48" name="Group 64" descr=""/>
          <p:cNvPicPr/>
          <p:nvPr/>
        </p:nvPicPr>
        <p:blipFill>
          <a:blip r:embed="rId14"/>
          <a:stretch/>
        </p:blipFill>
        <p:spPr>
          <a:xfrm>
            <a:off x="5425920" y="2792520"/>
            <a:ext cx="505080" cy="517320"/>
          </a:xfrm>
          <a:prstGeom prst="rect">
            <a:avLst/>
          </a:prstGeom>
          <a:ln w="0">
            <a:noFill/>
          </a:ln>
        </p:spPr>
      </p:pic>
      <p:grpSp>
        <p:nvGrpSpPr>
          <p:cNvPr id="649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50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циональная организация  представляет предложение по ВМ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утверждение И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2" name="Подзаголовок 2"/>
          <p:cNvSpPr/>
          <p:nvPr/>
        </p:nvSpPr>
        <p:spPr>
          <a:xfrm>
            <a:off x="50472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Подзаголовок 2"/>
          <p:cNvSpPr/>
          <p:nvPr/>
        </p:nvSpPr>
        <p:spPr>
          <a:xfrm>
            <a:off x="1247760" y="39204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Критерии оценки 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ветствие страны установленным критериям и ее заинтересованное участие в реализации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 блага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тегия деятельности ГЭФ в данной тематиче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авнительные пре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организации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овательность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и совместное финансирование проекта (б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и оц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гирование организации ГЭФ на замечания и оцен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Утверждение страной</a:t>
            </a:r>
            <a:br>
              <a:rPr sz="3600"/>
            </a:br>
            <a:r>
              <a:rPr b="0" lang="en-US" sz="3000" spc="-1" strike="noStrike">
                <a:solidFill>
                  <a:srgbClr val="558ed5"/>
                </a:solidFill>
                <a:latin typeface="Calibri"/>
                <a:ea typeface="Arial"/>
              </a:rPr>
              <a:t>(</a:t>
            </a:r>
            <a:r>
              <a:rPr b="0" lang="ru-RU" sz="3000" spc="-1" strike="noStrike">
                <a:solidFill>
                  <a:srgbClr val="558ed5"/>
                </a:solidFill>
                <a:latin typeface="Calibri"/>
                <a:ea typeface="Arial"/>
              </a:rPr>
              <a:t>национальным координатором ГЭФ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ФОП должны быть утверждены ОКЦ ГЭФ при подаче на одобр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SP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утверждение (в случа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для которого требуется ГПП)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менительно к проектам, связанным с биоразнообразием, изменением климата и деградацией земельных ресурсов, должны применяться правила СТА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664" name="Подзаголовок 2"/>
          <p:cNvSpPr/>
          <p:nvPr/>
        </p:nvSpPr>
        <p:spPr>
          <a:xfrm>
            <a:off x="485640" y="541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Подзаголовок 2"/>
          <p:cNvSpPr/>
          <p:nvPr/>
        </p:nvSpPr>
        <p:spPr>
          <a:xfrm>
            <a:off x="1247760" y="466560"/>
            <a:ext cx="4276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914040" y="20574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самостоятельным проектам: комиссионные в размер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 суммы, выделенной ГЭФ на проек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нт на проек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ещение агенству за разработку Программного подхода (ПП) зависит от вида организации ГЭФ, представляющей 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с Советом директоров, утверждающим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 Агенству без Совета директоров, утверждающего проекты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мены проекта, все неиспользованные агентские комиссионные или определенные процентные доли подлежат возврату в Целевой фонд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рядок возврата комиссионных см. в документе Совет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"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GEF/C.23/8/Rev.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0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58ed5"/>
                </a:solidFill>
                <a:latin typeface="Calibri"/>
                <a:ea typeface="Arial"/>
              </a:rPr>
              <a:t>Возмещение затрат ГЭФ Агенств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Подзаголовок 2"/>
          <p:cNvSpPr/>
          <p:nvPr/>
        </p:nvSpPr>
        <p:spPr>
          <a:xfrm>
            <a:off x="124776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граммные подх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533160" y="21733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ва вида программных подходов, в зависимости от вида ГЭФ Агенства, представляющей програм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Советом директоров, утверждающим проекты – э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а, соответствующие критериям, дающим им право принимать реш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ЭФ Аген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ез Совета директоров, утверждающ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роекты – это ГЭФ Агенства не соответствующие таким критериям. Такие программы должны представляться учреждением по координации програм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7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80" name="Group 3" descr=""/>
          <p:cNvPicPr/>
          <p:nvPr/>
        </p:nvPicPr>
        <p:blipFill>
          <a:blip r:embed="rId2"/>
          <a:stretch/>
        </p:blipFill>
        <p:spPr>
          <a:xfrm>
            <a:off x="396720" y="890640"/>
            <a:ext cx="2932200" cy="706320"/>
          </a:xfrm>
          <a:prstGeom prst="rect">
            <a:avLst/>
          </a:prstGeom>
          <a:ln w="0">
            <a:noFill/>
          </a:ln>
        </p:spPr>
      </p:pic>
      <p:grpSp>
        <p:nvGrpSpPr>
          <p:cNvPr id="681" name="Rounded Rectangle 4"/>
          <p:cNvGrpSpPr/>
          <p:nvPr/>
        </p:nvGrpSpPr>
        <p:grpSpPr>
          <a:xfrm>
            <a:off x="927000" y="3170160"/>
            <a:ext cx="2444760" cy="779400"/>
            <a:chOff x="927000" y="3170160"/>
            <a:chExt cx="2444760" cy="779400"/>
          </a:xfrm>
        </p:grpSpPr>
        <p:pic>
          <p:nvPicPr>
            <p:cNvPr id="682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17016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тдельные ФОП в рамках программы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84" name="Group 28" descr=""/>
          <p:cNvPicPr/>
          <p:nvPr/>
        </p:nvPicPr>
        <p:blipFill>
          <a:blip r:embed="rId4"/>
          <a:stretch/>
        </p:blipFill>
        <p:spPr>
          <a:xfrm>
            <a:off x="5048280" y="914400"/>
            <a:ext cx="2475000" cy="682560"/>
          </a:xfrm>
          <a:prstGeom prst="rect">
            <a:avLst/>
          </a:prstGeom>
          <a:ln w="0">
            <a:noFill/>
          </a:ln>
        </p:spPr>
      </p:pic>
      <p:pic>
        <p:nvPicPr>
          <p:cNvPr id="685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6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87" name="Group 58" descr=""/>
          <p:cNvPicPr/>
          <p:nvPr/>
        </p:nvPicPr>
        <p:blipFill>
          <a:blip r:embed="rId7"/>
          <a:stretch/>
        </p:blipFill>
        <p:spPr>
          <a:xfrm>
            <a:off x="1920960" y="4621320"/>
            <a:ext cx="450720" cy="566640"/>
          </a:xfrm>
          <a:prstGeom prst="rect">
            <a:avLst/>
          </a:prstGeom>
          <a:ln w="0">
            <a:noFill/>
          </a:ln>
        </p:spPr>
      </p:pic>
      <p:pic>
        <p:nvPicPr>
          <p:cNvPr id="688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89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90" name="Rounded Rectangle 4"/>
          <p:cNvGrpSpPr/>
          <p:nvPr/>
        </p:nvGrpSpPr>
        <p:grpSpPr>
          <a:xfrm>
            <a:off x="927000" y="4084560"/>
            <a:ext cx="2462400" cy="779400"/>
            <a:chOff x="927000" y="4084560"/>
            <a:chExt cx="2462400" cy="779400"/>
          </a:xfrm>
        </p:grpSpPr>
        <p:pic>
          <p:nvPicPr>
            <p:cNvPr id="691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0845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3" name="Rounded Rectangle 4"/>
          <p:cNvGrpSpPr/>
          <p:nvPr/>
        </p:nvGrpSpPr>
        <p:grpSpPr>
          <a:xfrm>
            <a:off x="927000" y="4889520"/>
            <a:ext cx="2444760" cy="865080"/>
            <a:chOff x="927000" y="4889520"/>
            <a:chExt cx="2444760" cy="865080"/>
          </a:xfrm>
        </p:grpSpPr>
        <p:pic>
          <p:nvPicPr>
            <p:cNvPr id="694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27000" y="4889520"/>
              <a:ext cx="2444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990720" y="495288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6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97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9" name="Rounded Rectangle 4"/>
          <p:cNvGrpSpPr/>
          <p:nvPr/>
        </p:nvGrpSpPr>
        <p:grpSpPr>
          <a:xfrm>
            <a:off x="3670200" y="2139840"/>
            <a:ext cx="2475000" cy="1560600"/>
            <a:chOff x="3670200" y="2139840"/>
            <a:chExt cx="2475000" cy="1560600"/>
          </a:xfrm>
        </p:grpSpPr>
        <p:pic>
          <p:nvPicPr>
            <p:cNvPr id="700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70200" y="2139840"/>
              <a:ext cx="24750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733920" y="2209680"/>
              <a:ext cx="2319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, представляемый в виде ПР, и утверждает ФОП, представленные в составе ПРД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2" name="Rounded Rectangle 4"/>
          <p:cNvGrpSpPr/>
          <p:nvPr/>
        </p:nvGrpSpPr>
        <p:grpSpPr>
          <a:xfrm>
            <a:off x="927000" y="1884240"/>
            <a:ext cx="2444760" cy="1127160"/>
            <a:chOff x="927000" y="1884240"/>
            <a:chExt cx="2444760" cy="1127160"/>
          </a:xfrm>
        </p:grpSpPr>
        <p:pic>
          <p:nvPicPr>
            <p:cNvPr id="703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47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ограммный рамочный документ 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(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РД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)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утем представления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5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706" name="Rounded Rectangle 4"/>
          <p:cNvGrpSpPr/>
          <p:nvPr/>
        </p:nvGrpSpPr>
        <p:grpSpPr>
          <a:xfrm>
            <a:off x="6381720" y="2266920"/>
            <a:ext cx="2549520" cy="1281240"/>
            <a:chOff x="6381720" y="2266920"/>
            <a:chExt cx="2549520" cy="1281240"/>
          </a:xfrm>
        </p:grpSpPr>
        <p:pic>
          <p:nvPicPr>
            <p:cNvPr id="707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381720" y="2266920"/>
              <a:ext cx="254952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Совет </a:t>
              </a:r>
              <a:r>
                <a:rPr b="0" lang="ru-RU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утверждает </a:t>
              </a: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последующие ФОП в рамках ПРД, представленные в виде ПР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09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710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711" name="Rounded Rectangle 4"/>
          <p:cNvGrpSpPr/>
          <p:nvPr/>
        </p:nvGrpSpPr>
        <p:grpSpPr>
          <a:xfrm>
            <a:off x="5041800" y="4005360"/>
            <a:ext cx="2462400" cy="779400"/>
            <a:chOff x="5041800" y="4005360"/>
            <a:chExt cx="2462400" cy="779400"/>
          </a:xfrm>
        </p:grpSpPr>
        <p:pic>
          <p:nvPicPr>
            <p:cNvPr id="712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05360"/>
              <a:ext cx="24624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ИД утверждает окончательные документы по проекту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4" name="Rounded Rectangle 4"/>
          <p:cNvGrpSpPr/>
          <p:nvPr/>
        </p:nvGrpSpPr>
        <p:grpSpPr>
          <a:xfrm>
            <a:off x="5041800" y="4809960"/>
            <a:ext cx="2444760" cy="865440"/>
            <a:chOff x="5041800" y="4809960"/>
            <a:chExt cx="2444760" cy="865440"/>
          </a:xfrm>
        </p:grpSpPr>
        <p:pic>
          <p:nvPicPr>
            <p:cNvPr id="715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41800" y="4809960"/>
              <a:ext cx="24447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05520" y="4876920"/>
              <a:ext cx="231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утверждает окончательный проект в соответствии со своими внутренними правилами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17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718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ГЭФ Агенство начинает и завершает реализацию проек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20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721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  <p:sp>
        <p:nvSpPr>
          <p:cNvPr id="722" name="Подзаголовок 2"/>
          <p:cNvSpPr/>
          <p:nvPr/>
        </p:nvSpPr>
        <p:spPr>
          <a:xfrm>
            <a:off x="485640" y="50328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 – </a:t>
            </a: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амостоятельные про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П выдает ГЭФ научные и технические рекомендации по следующим вопросам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ом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ФОП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27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Роль СТА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граммные подходы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алогич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SP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борочно рассматривает ФОП, получаемые от ГЭФ Агенства и представляемые Секретариату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атривает все ПРД, утвержденные ИД для включения в программу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мотренные отчеты вместе с ФОП помещаются на веб-сайте ГЭФ в рамках программы рабо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3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СПАСИБО ЗА ВНИМАНИЕ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8" name="Подзаголовок 2"/>
          <p:cNvSpPr/>
          <p:nvPr/>
        </p:nvSpPr>
        <p:spPr>
          <a:xfrm>
            <a:off x="49536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Проектный цикл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ый цикл ГЭФ – это процесс, в котором участвует целый ряд основных сторо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ы, агенства ГЭФ, Секретариат ГЭФ, Совет ГЭФ и партнеры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ие важные партнеры выполняют вспомогательные функци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Доверительный управляющ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резервирует средства для конкретных проектов, принимает решения о выделении средств и непосредственно перечисляет их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ТАП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(Научно-техническая консультативная группа), которая оценивает проекты на начальной стадии и выносит рекомендации относительно проекта или программ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тдел оценки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, который оценивает завершенные проекты и результаты деятельности в тематических областях и проводит ежегодную оценку эффективности и результатов работы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Секретариаты конвенций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также предоставляют рекомендации и замечания относительно проек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49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Институциональная структура ГЭ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екретариат ГЭФ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5638680" y="2057400"/>
            <a:ext cx="1447920" cy="34909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генства ГЭФ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РООН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Е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Всемирный бан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Аф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ЕБР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ФА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АБ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МФРСХ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ЮНИД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тдел оцен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АП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овет ГЭФ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Члены Совета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уппы стран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сультации с ОГ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TextBox 10"/>
          <p:cNvSpPr/>
          <p:nvPr/>
        </p:nvSpPr>
        <p:spPr>
          <a:xfrm>
            <a:off x="228600" y="3886200"/>
            <a:ext cx="1523880" cy="874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нвен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Box 11"/>
          <p:cNvSpPr/>
          <p:nvPr/>
        </p:nvSpPr>
        <p:spPr>
          <a:xfrm>
            <a:off x="304920" y="2666880"/>
            <a:ext cx="1447560" cy="1234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Ассамблея ГЭ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Страны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олитические координационны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Box 12"/>
          <p:cNvSpPr/>
          <p:nvPr/>
        </p:nvSpPr>
        <p:spPr>
          <a:xfrm>
            <a:off x="7467480" y="2827440"/>
            <a:ext cx="1524240" cy="264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Проек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Страны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Операционные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Координационные центры конвенций,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другие государственные учреждения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,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гражданск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64" name="Straight Arrow Connector 17"/>
          <p:cNvCxnSpPr>
            <a:endCxn id="557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5" name="Straight Arrow Connector 19"/>
          <p:cNvCxnSpPr>
            <a:endCxn id="557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6" name="Straight Arrow Connector 21"/>
          <p:cNvCxnSpPr>
            <a:stCxn id="555" idx="0"/>
            <a:endCxn id="557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7" name="Straight Arrow Connector 23"/>
          <p:cNvCxnSpPr>
            <a:stCxn id="557" idx="3"/>
            <a:endCxn id="553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8" name="Straight Arrow Connector 26"/>
          <p:cNvCxnSpPr>
            <a:stCxn id="553" idx="3"/>
            <a:endCxn id="554" idx="1"/>
          </p:cNvCxnSpPr>
          <p:nvPr/>
        </p:nvCxnSpPr>
        <p:spPr>
          <a:xfrm>
            <a:off x="5409720" y="3635280"/>
            <a:ext cx="229320" cy="185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9" name="Straight Arrow Connector 28"/>
          <p:cNvCxnSpPr>
            <a:stCxn id="554" idx="3"/>
            <a:endCxn id="560" idx="1"/>
          </p:cNvCxnSpPr>
          <p:nvPr/>
        </p:nvCxnSpPr>
        <p:spPr>
          <a:xfrm>
            <a:off x="7086600" y="3819240"/>
            <a:ext cx="381600" cy="3452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70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Box 43"/>
          <p:cNvSpPr/>
          <p:nvPr/>
        </p:nvSpPr>
        <p:spPr>
          <a:xfrm>
            <a:off x="380880" y="1600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Стратегическое руководств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Box 44"/>
          <p:cNvSpPr/>
          <p:nvPr/>
        </p:nvSpPr>
        <p:spPr>
          <a:xfrm>
            <a:off x="3809880" y="17524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Операцион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Box 45"/>
          <p:cNvSpPr/>
          <p:nvPr/>
        </p:nvSpPr>
        <p:spPr>
          <a:xfrm>
            <a:off x="7543800" y="175248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Конкретные действ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24"/>
          <p:cNvSpPr/>
          <p:nvPr/>
        </p:nvSpPr>
        <p:spPr>
          <a:xfrm>
            <a:off x="2596320" y="616896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работ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962520" y="61722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5638680" y="61722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315200" y="55627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мысел проекта, его согласование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ализация проект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Подзаголовок 2"/>
          <p:cNvSpPr/>
          <p:nvPr/>
        </p:nvSpPr>
        <p:spPr>
          <a:xfrm>
            <a:off x="485640" y="56844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т замысла проекта до его согласования/запроса на утвер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мысел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ан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ирование национального портфел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акультативн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цепция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а определения проекта (ФО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рант на подготовку проекта (ГПП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кретариатом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ение в план работы и утверждение Совет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готовка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 ГЭ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кумент по проек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генст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емасштабные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SP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 проект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повые фор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ние Секретариатом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ение/согласование ИД и уведомление Со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6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Особенности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-5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П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яются на основе скользящего графи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полномасштабных проекто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согласования Советом до утверждения ИД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месяцев подготовки (для среднемасштабных проектов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для проектов, которые представили запрос на ГПП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чиная с даты утверждения ФОП ИД до утверждения им окончательного документа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ый рамочный докумен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Д) для программных подходов (ПП) может представляться только на заседаниях Совета, созываемых дважды в год (в мае и ноябр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2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полно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овет/Секретариа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ет утверждает план работы, включающий ФОП, утвержденные 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генство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утверждается агенством ГЭФ, и начинается реализация проек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вершение реализации, окончательная оценка и закрытие финансиро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98" name="Подзаголовок 2"/>
          <p:cNvSpPr/>
          <p:nvPr/>
        </p:nvSpPr>
        <p:spPr>
          <a:xfrm>
            <a:off x="48564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Подзаголовок 2"/>
          <p:cNvSpPr/>
          <p:nvPr/>
        </p:nvSpPr>
        <p:spPr>
          <a:xfrm>
            <a:off x="1238400" y="466560"/>
            <a:ext cx="42764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е этапы для </a:t>
            </a:r>
            <a:r>
              <a:rPr b="0" lang="ru-RU" sz="2400" spc="-1" strike="noStrike">
                <a:solidFill>
                  <a:srgbClr val="558ed5"/>
                </a:solidFill>
                <a:latin typeface="Calibri"/>
                <a:ea typeface="Arial"/>
              </a:rPr>
              <a:t>среднемасштабных проектов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(M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один эта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утверждает окончательный документ по проект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агенства ГЭФ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начинается его реализация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Утверждение в два эта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лучае подачи запроса н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ся на утверждение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верждает окончательный документ по проек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утверждается в рамках ГЭФ агенства, и начинается его реал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-9360" y="1908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04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Подзаголовок 2"/>
          <p:cNvSpPr/>
          <p:nvPr/>
        </p:nvSpPr>
        <p:spPr>
          <a:xfrm>
            <a:off x="1257480" y="476280"/>
            <a:ext cx="42764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itle 1"/>
          <p:cNvSpPr/>
          <p:nvPr/>
        </p:nvSpPr>
        <p:spPr>
          <a:xfrm>
            <a:off x="1266840" y="1066680"/>
            <a:ext cx="731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Среднемасштабные проек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Content Placeholder 3" descr=""/>
          <p:cNvPicPr/>
          <p:nvPr/>
        </p:nvPicPr>
        <p:blipFill>
          <a:blip r:embed="rId1"/>
          <a:stretch/>
        </p:blipFill>
        <p:spPr>
          <a:xfrm>
            <a:off x="1170000" y="1639800"/>
            <a:ext cx="3067200" cy="4529160"/>
          </a:xfrm>
          <a:prstGeom prst="rect">
            <a:avLst/>
          </a:prstGeom>
          <a:ln w="0">
            <a:noFill/>
          </a:ln>
        </p:spPr>
      </p:pic>
      <p:pic>
        <p:nvPicPr>
          <p:cNvPr id="609" name="Diagram 4" descr=""/>
          <p:cNvPicPr/>
          <p:nvPr/>
        </p:nvPicPr>
        <p:blipFill>
          <a:blip r:embed="rId2"/>
          <a:stretch/>
        </p:blipFill>
        <p:spPr>
          <a:xfrm>
            <a:off x="4511520" y="1573200"/>
            <a:ext cx="2554560" cy="4589640"/>
          </a:xfrm>
          <a:prstGeom prst="rect">
            <a:avLst/>
          </a:prstGeom>
          <a:ln w="0">
            <a:noFill/>
          </a:ln>
        </p:spPr>
      </p:pic>
      <p:sp>
        <p:nvSpPr>
          <p:cNvPr id="610" name="TextBox 5"/>
          <p:cNvSpPr/>
          <p:nvPr/>
        </p:nvSpPr>
        <p:spPr>
          <a:xfrm>
            <a:off x="1371600" y="630396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ГЭФ одобряет проект после его утверждения ИД, и начинается его реализ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990360"/>
          </a:xfrm>
          <a:prstGeom prst="rect">
            <a:avLst/>
          </a:prstGeom>
          <a:ln w="0">
            <a:noFill/>
          </a:ln>
        </p:spPr>
      </p:pic>
      <p:sp>
        <p:nvSpPr>
          <p:cNvPr id="612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Подзаголовок 2"/>
          <p:cNvSpPr/>
          <p:nvPr/>
        </p:nvSpPr>
        <p:spPr>
          <a:xfrm>
            <a:off x="1295280" y="303120"/>
            <a:ext cx="3849840" cy="2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58ed5"/>
                </a:solidFill>
                <a:latin typeface="Calibri"/>
                <a:ea typeface="Arial"/>
              </a:rPr>
              <a:t>Этапы проектного цикла ГЭФ</a:t>
            </a: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Для вспомогательных мероприятий (два варианта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Прямой доступ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соответствии с политикой в отношении прямого доступ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рана представляет предложение по ВМ для утверждения ИД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Д и страна подписывают Соглашение о гранте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Calibri"/>
              </a:rPr>
              <a:t>В отношении грантов на В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применительно ко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всем организациям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ействуют следующие процедур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ляет ИД предложение по ВМ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Агенство ГЭФ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няет собственные внутренние процедуры утверждения, и начинается реализация проек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618" name="Подзаголовок 2"/>
          <p:cNvSpPr/>
          <p:nvPr/>
        </p:nvSpPr>
        <p:spPr>
          <a:xfrm>
            <a:off x="485640" y="587520"/>
            <a:ext cx="642960" cy="125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9-30T05:59:53Z</cp:lastPrinted>
  <dcterms:modified xsi:type="dcterms:W3CDTF">2011-11-01T20:54:30Z</dcterms:modified>
  <cp:revision>647</cp:revision>
  <dc:subject/>
  <dc:title>Slide 1</dc:title>
</cp:coreProperties>
</file>