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4EDC141-C2FF-41C0-9175-5D41B355D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2C6EC0F-C25A-4FA0-A2A0-E9690AEEB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Верхний колонтитул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Дата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Нижний колонтитул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Номер слайда 6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57468A8-E0F4-4B7B-AAA1-86E335C68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585-598A-414A-8113-C2B0F64E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CE5-EB48-4D0A-A350-FCC32957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49043-7D4B-420A-A7AD-9075F8B9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AEBDD-FDAD-4EAA-ADAB-A09B8A7D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DB1E2-9DAD-49B2-9C3C-84D98567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ECFBF-AAF5-4EEA-814C-7D3DAC1A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DF195-3F9C-4352-80BA-808E3096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C99DA-14F3-4B70-AD03-BF5C971E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BAE2D-1876-4467-AFF3-8D9659FC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E1492-25B1-4D16-B63E-46C6493A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7D7E6-EDDB-4070-9CDE-E8EBD077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20840-CD38-4CD7-9022-6780AC1B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EB6-F235-472C-A4B5-26215AA5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D2728-B8B0-458B-9639-DE9FB1AB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4B55D-E6E5-4B32-8806-20BA09E5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1241D-6E6F-4581-BE6C-68C5CA68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969E3-B0EE-4F01-9D03-DA16DEB1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8C137-8E70-43B9-A82F-FD43DAE8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56DC2-BAA0-425B-A8E9-03958353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42D28-851E-4F98-910A-EEF0F198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09CAD-3C35-4670-AD05-58AEF5CE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F1ECE-DB4A-4432-A23E-90740D30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9A176-E7C6-47BB-AE1C-D0B09058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26B-6784-47C8-9389-F8C5B6DA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214D2-B86E-40CD-BD30-DBB7E8C4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69DBA-A0EB-4C66-A9C8-E199BEF6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302AA-5477-4920-B71D-E165BD5E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146FB-4431-4CFE-9696-FCA4F6EF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B02A7-D2F2-4AAB-B4CB-A25C6799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058D5-57BD-4125-9BA5-295C27EE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45E55-B830-4BA1-9753-6834C351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287F5-8B84-41E1-9BF3-116FF537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C4603-7066-4BCA-8BFD-BBF83909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9123F-56ED-459B-97F1-5F056721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896D-B3E5-446F-AF96-0FED0108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B3289-E5FD-464A-86CE-C8E56660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BA246-116F-4F6E-AD9B-57B7D6E4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F9CC0-517A-4E76-BA05-C14EC1DE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DB14A-C9E4-4620-9F9F-34950E51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1B445-F4FC-4545-B8E0-65CCFCAA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2B0BB-40DF-4386-A560-BEABF3D3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42B02-9D37-4134-9582-72250617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6A3D0-1F6D-4323-81B8-F4509FD2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D84B7-5934-480B-B179-A254289F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29C6A-D500-4C05-BF90-307688DE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E4A3-209A-4720-B448-293D3FCD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E98FA-E051-4202-8D77-888BB885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0FDF0-892B-4943-B9D7-F39A0BA6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EE52E-7ACB-45C4-847C-7200A942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6B33A-9152-4EF8-A6F6-5DE5E0EF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CBF17-8CBE-493E-AA4F-9B67A0F6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D72FD-EF77-499A-B624-B82561C5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217B8-7420-4BE8-9F00-FBD2B09D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54C3E-0802-442C-9A02-9AE1010A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5F4CB-DBD0-42A4-9B2A-5E4AE562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1A942-2665-4BAF-9B47-D222FAC9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A529-4132-4638-B12E-A8EA51F8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E1165-C43E-4680-BFB4-B88A44ED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F590C-1EBE-4BDB-97A2-A755E442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6EB66-C147-4D83-A7AE-169AF103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B5C66-817B-4C33-9E97-CEC5C252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368D8-4169-405F-95B2-01FE7653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596F2-002C-48A2-B61D-EF727237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E01D8-7F41-4615-8BAC-EDE5B271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3DFF-3874-497F-91CA-CEA89802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0C08-AF54-4419-95D1-9A965D27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B184-28A8-4659-8D82-D64804C7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F13E-50C8-4BA4-9AE8-D02C3459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208-1640-4ADF-8953-A8C12051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4A04-CC9E-4017-93B5-FAA7D3CA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A440-768B-4ECF-BB78-22415071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5142-55D4-4A6A-9A60-43EAC295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20E3-9B16-4B3C-86D7-70BA6059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9F95-C687-4B17-B720-E90A4FBA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3CBCC-8AF7-4788-8F28-EFFB730C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58AD9-18CF-414C-9D3D-EE369820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E5B12-B456-4573-8FA2-8F5367C8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F38F9-249C-44DA-9F30-5138EE9A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6238A-CFEB-4B00-A5F0-4C74B1AB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24C-D12C-4928-B6D8-72E6A2D3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E1502-9BB2-4CBA-8D73-FC31BD39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BAC47-5E7F-402B-95F0-0ED30656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AC06C-7BA0-41D4-8024-EC71590F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6402B-DD83-4115-85A9-2C720916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77927-8E25-4FEC-9B52-64965A73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4894A-C7D1-4DA9-A446-1F038591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7E159-F56B-4133-A5D4-BD1DA56E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44A82-8873-4619-8D2D-F099F648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2D860-7B30-4D05-BF19-ADE1ADF0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ABE4A-03A8-4049-8F29-123BCD28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7DF-4076-46AB-A9DC-DCEAB9D0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14CEB-394B-4F72-95E2-E74FD668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1A783-8F40-4287-8F14-31210595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D1042-FFE2-4E3D-B275-8AD16C0E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6CA31-42F9-4964-9B22-2C592B91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D2A42-C05F-4351-AEE0-1972C748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EA380-D6AE-464F-ABC1-16212029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86B7D-D470-426C-953F-B006A79D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741DF-485B-45B4-9FC0-940A1D8C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0D952-9070-4DF2-8417-9F7A011F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74FB3-4CDB-458B-8914-A6235CDE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B8F-FABF-4EB3-AA67-D912660C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EBB18-D1F6-44EC-BA75-FD41C184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88A1F-0F9C-4478-B128-5BD3C4F3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A58E1-471B-411A-8F59-E0E06B43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C7329-37D5-4144-9460-3C699296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DCFE1-ADF7-47F4-94D7-747C28EE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CC1B7-85AE-442D-AC12-3A975404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FAC79-E270-4CF1-B48B-98D900B7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A82A9-FAB3-4D46-A24B-CE7C8B91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14020-3A52-4C70-B4EE-8FC5AFC2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72FB0-C59D-4C4A-9393-455933A5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D63-5CF8-4EBB-B177-D119FF55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E40E6-49A4-4D2A-B188-186703CF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CEF96-2E9B-4CF5-A122-94FB42CE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FDCD1-11D3-4898-B88D-0E18808D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FF38E-60F5-4ABF-90B6-827F6EDC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B6B31-754A-4A0A-849B-151B12CF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517D2-EB40-43D7-A710-7D2324A4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67EC8-1975-4E22-9644-BE04122F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A9198-02F4-4C71-BC12-6A177F26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23C1A-1E3B-4B40-A66F-3F7E7F5A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E3235-004E-4E69-954D-95D13719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AD5-100C-45D8-A346-5A3DEFB0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20F58-9E11-4031-9991-AF9E8EA8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11BD8-DCE1-49E0-8873-4ADC58BC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8D91E-D5FE-44AE-B796-3F3EC0E9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D2679-71CB-4103-A662-3C158CCF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B81DE-BED2-459C-A5A6-E1EDA136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4F72A-14F0-46A3-B21A-AB79DAF7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3C5AA-6EA6-4B13-848D-20DE1D3E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F783D-1A9C-4143-A271-5610D549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8F00A-67C5-4772-A958-4F69B356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5F71B-7D0B-4A8D-A135-1D9EF5D1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475-BE87-4476-BB9B-CCA84284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A0FE9-D306-4950-B614-E9DA0AD8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746A6-E228-4760-8376-C8B2D838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B73DD-1D32-4FE0-AFAE-34E7769A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CB7BF-CEDF-4865-81F7-DF0F6EF5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7557C-C3EF-407D-95D5-32F9893A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B1DB2-77EE-4082-BBD5-E8759B03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22043-78F9-4891-9B58-A0DBC23A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78A21-AB5F-4F92-99B3-DF32E534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A2E74-855E-4972-9B41-2621A2D4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3C235-B9EE-4553-BEF5-44F638B8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CBD-5641-444D-9DF4-41414E92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8E109-1CA6-4D71-889F-C7C63B34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425AE-2ED6-422A-BD19-7E1B90B8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17560-2A1D-4D45-BA4A-0073FDFB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63FD0-9EEB-4F67-8736-42631520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07095-D5BA-48F7-8529-D570F729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67DE4-74EC-40B6-81A1-568B7C3D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C1A8B-084F-4622-8726-3A3F9E88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89A25-1954-4054-961A-98562D18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E5058-95C7-4AB6-A346-37B58262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8479C-FAF9-48D3-B094-B752D2B4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A253-E774-48C9-957B-C0BCB88564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AF7B-E32F-4C73-A8A9-6AA19A6A8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A6CF-6FA1-44F5-8AEA-E6B96213578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33E4-0DE5-4208-8517-8F3A782FA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F15F-567C-47CD-914B-A976FEC252C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812F-C770-4FDB-AC8A-6C27780229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83AE-A9A9-4412-A403-8DF5C01D6C0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A17C-2E17-4A34-93AC-8FBDDFD776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E2C5-2F94-43B4-8616-85296F8D8B8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5405-587C-48C1-BC5F-ECCCAD5F32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4DA8-22FE-4AFB-BFDD-F6C41B99EE3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7B87-86E4-4CC6-8A7A-E4ADECD5C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AA66-D5C9-4E89-A100-AE32956B988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D0A7-8045-42E7-B3E4-C267EDF98F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6728-2B55-413F-A6AD-438D5B57FCE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DBC5-C5C4-45A6-90F6-FAF81DDF41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9689-4409-449F-8D2F-FF9D2D2884D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E7C3-D866-4216-B99B-714A24B633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2C86-66AF-4B75-A298-E95963206F8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48C0-6085-4E80-AF6F-C4D1319A31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2009-ECF9-4268-9424-83B5A017961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FC3C-7E3E-4271-9DF1-670A3BB1E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D732-17BE-4BC8-A2E4-518389E9E12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1921-1F30-46D7-93CA-CD2F26F7C0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49EB-E46B-4FF5-9B75-DD6CFA0D9C5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E4FE-2082-449A-A6C1-41868CE4F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3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25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42d"/>
                </a:solidFill>
                <a:latin typeface="Calibri"/>
              </a:rPr>
              <a:t>Проектный цикл ГЭ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ubtitle 4"/>
          <p:cNvSpPr/>
          <p:nvPr/>
        </p:nvSpPr>
        <p:spPr>
          <a:xfrm>
            <a:off x="1333440" y="3809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Семинар для членов ГЭФ 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расширенном состав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11–13 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октября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Подзаголовок 2"/>
          <p:cNvSpPr/>
          <p:nvPr/>
        </p:nvSpPr>
        <p:spPr>
          <a:xfrm>
            <a:off x="1333440" y="42696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622" name="TextBox 6"/>
          <p:cNvSpPr/>
          <p:nvPr/>
        </p:nvSpPr>
        <p:spPr>
          <a:xfrm>
            <a:off x="457200" y="838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Ускоренная процедура утверждения стимулирующих мероприят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3" name="Group 3" descr=""/>
          <p:cNvPicPr/>
          <p:nvPr/>
        </p:nvPicPr>
        <p:blipFill>
          <a:blip r:embed="rId2"/>
          <a:stretch/>
        </p:blipFill>
        <p:spPr>
          <a:xfrm>
            <a:off x="1695600" y="140796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624" name="Rounded Rectangle 4"/>
          <p:cNvGrpSpPr/>
          <p:nvPr/>
        </p:nvGrpSpPr>
        <p:grpSpPr>
          <a:xfrm>
            <a:off x="1762200" y="4170240"/>
            <a:ext cx="2371680" cy="749520"/>
            <a:chOff x="1762200" y="4170240"/>
            <a:chExt cx="2371680" cy="749520"/>
          </a:xfrm>
        </p:grpSpPr>
        <p:pic>
          <p:nvPicPr>
            <p:cNvPr id="625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762200" y="4170240"/>
              <a:ext cx="2371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1828800" y="419112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вительство страны и ИД ГЭФ заключают соглашение о гранте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7" name="Rounded Rectangle 4"/>
          <p:cNvGrpSpPr/>
          <p:nvPr/>
        </p:nvGrpSpPr>
        <p:grpSpPr>
          <a:xfrm>
            <a:off x="1689120" y="5315040"/>
            <a:ext cx="2370240" cy="853920"/>
            <a:chOff x="1689120" y="5315040"/>
            <a:chExt cx="2370240" cy="853920"/>
          </a:xfrm>
        </p:grpSpPr>
        <p:pic>
          <p:nvPicPr>
            <p:cNvPr id="628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689120" y="5315040"/>
              <a:ext cx="23702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1752480" y="5334120"/>
              <a:ext cx="22431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иональная организация завершает реализацию ВМ и представляет Конвенции отче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0" name="Rounded Rectangle 4"/>
          <p:cNvGrpSpPr/>
          <p:nvPr/>
        </p:nvGrpSpPr>
        <p:grpSpPr>
          <a:xfrm>
            <a:off x="4505400" y="5315040"/>
            <a:ext cx="2449440" cy="896760"/>
            <a:chOff x="4505400" y="5315040"/>
            <a:chExt cx="2449440" cy="896760"/>
          </a:xfrm>
        </p:grpSpPr>
        <p:pic>
          <p:nvPicPr>
            <p:cNvPr id="631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5315040"/>
              <a:ext cx="244944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4572000" y="5334120"/>
              <a:ext cx="2319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ЭФ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е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авершает реализацию ВМ и представляет Конвенции отче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3" name="Rounded Rectangle 4"/>
          <p:cNvGrpSpPr/>
          <p:nvPr/>
        </p:nvGrpSpPr>
        <p:grpSpPr>
          <a:xfrm>
            <a:off x="4505400" y="4095720"/>
            <a:ext cx="2449440" cy="854280"/>
            <a:chOff x="4505400" y="4095720"/>
            <a:chExt cx="2449440" cy="854280"/>
          </a:xfrm>
        </p:grpSpPr>
        <p:pic>
          <p:nvPicPr>
            <p:cNvPr id="634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4095720"/>
              <a:ext cx="244944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4572000" y="411480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ЭФ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е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утверждает ВМ после его утверждения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6" name="Rounded Rectangle 4"/>
          <p:cNvGrpSpPr/>
          <p:nvPr/>
        </p:nvGrpSpPr>
        <p:grpSpPr>
          <a:xfrm>
            <a:off x="4492800" y="3181320"/>
            <a:ext cx="2474640" cy="622440"/>
            <a:chOff x="4492800" y="3181320"/>
            <a:chExt cx="2474640" cy="622440"/>
          </a:xfrm>
        </p:grpSpPr>
        <p:pic>
          <p:nvPicPr>
            <p:cNvPr id="637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492800" y="3181320"/>
              <a:ext cx="24746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4572000" y="320040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ЭФ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е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редставляет предложение на утверждение ИД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9" name="Rounded Rectangle 4"/>
          <p:cNvGrpSpPr/>
          <p:nvPr/>
        </p:nvGrpSpPr>
        <p:grpSpPr>
          <a:xfrm>
            <a:off x="4505400" y="2189160"/>
            <a:ext cx="2449440" cy="749160"/>
            <a:chOff x="4505400" y="2189160"/>
            <a:chExt cx="2449440" cy="749160"/>
          </a:xfrm>
        </p:grpSpPr>
        <p:pic>
          <p:nvPicPr>
            <p:cNvPr id="640" name="Rounded Rectangle 4" descr=""/>
            <p:cNvPicPr/>
            <p:nvPr/>
          </p:nvPicPr>
          <p:blipFill>
            <a:blip r:embed="rId8"/>
            <a:stretch/>
          </p:blipFill>
          <p:spPr>
            <a:xfrm>
              <a:off x="4505400" y="2189160"/>
              <a:ext cx="24494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4572000" y="2209680"/>
              <a:ext cx="2319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иональная организация представляет предложение по ВМ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ации ГЭ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42" name="Group 28" descr=""/>
          <p:cNvPicPr/>
          <p:nvPr/>
        </p:nvPicPr>
        <p:blipFill>
          <a:blip r:embed="rId9"/>
          <a:stretch/>
        </p:blipFill>
        <p:spPr>
          <a:xfrm>
            <a:off x="4511520" y="1407960"/>
            <a:ext cx="2401920" cy="798840"/>
          </a:xfrm>
          <a:prstGeom prst="rect">
            <a:avLst/>
          </a:prstGeom>
          <a:ln w="0">
            <a:noFill/>
          </a:ln>
        </p:spPr>
      </p:pic>
      <p:pic>
        <p:nvPicPr>
          <p:cNvPr id="643" name="Group 48" descr=""/>
          <p:cNvPicPr/>
          <p:nvPr/>
        </p:nvPicPr>
        <p:blipFill>
          <a:blip r:embed="rId10"/>
          <a:stretch/>
        </p:blipFill>
        <p:spPr>
          <a:xfrm>
            <a:off x="2682720" y="49258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644" name="Group 51" descr=""/>
          <p:cNvPicPr/>
          <p:nvPr/>
        </p:nvPicPr>
        <p:blipFill>
          <a:blip r:embed="rId11"/>
          <a:stretch/>
        </p:blipFill>
        <p:spPr>
          <a:xfrm>
            <a:off x="2682720" y="332280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645" name="TextBox 54"/>
          <p:cNvSpPr/>
          <p:nvPr/>
        </p:nvSpPr>
        <p:spPr>
          <a:xfrm>
            <a:off x="1219320" y="6172200"/>
            <a:ext cx="620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тверждении предложения Секретариат ГЭФ руководствуется процедурами Всемирного банка с учетом конечной цели  – направления соглашения о гранте стране, получающей помощь, и его подписания ИД и страной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6" name="Group 58" descr=""/>
          <p:cNvPicPr/>
          <p:nvPr/>
        </p:nvPicPr>
        <p:blipFill>
          <a:blip r:embed="rId12"/>
          <a:stretch/>
        </p:blipFill>
        <p:spPr>
          <a:xfrm>
            <a:off x="5505480" y="49258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47" name="Group 61" descr=""/>
          <p:cNvPicPr/>
          <p:nvPr/>
        </p:nvPicPr>
        <p:blipFill>
          <a:blip r:embed="rId13"/>
          <a:stretch/>
        </p:blipFill>
        <p:spPr>
          <a:xfrm>
            <a:off x="5425920" y="3706920"/>
            <a:ext cx="505080" cy="444240"/>
          </a:xfrm>
          <a:prstGeom prst="rect">
            <a:avLst/>
          </a:prstGeom>
          <a:ln w="0">
            <a:noFill/>
          </a:ln>
        </p:spPr>
      </p:pic>
      <p:pic>
        <p:nvPicPr>
          <p:cNvPr id="648" name="Group 64" descr=""/>
          <p:cNvPicPr/>
          <p:nvPr/>
        </p:nvPicPr>
        <p:blipFill>
          <a:blip r:embed="rId14"/>
          <a:stretch/>
        </p:blipFill>
        <p:spPr>
          <a:xfrm>
            <a:off x="5425920" y="2792520"/>
            <a:ext cx="505080" cy="517320"/>
          </a:xfrm>
          <a:prstGeom prst="rect">
            <a:avLst/>
          </a:prstGeom>
          <a:ln w="0">
            <a:noFill/>
          </a:ln>
        </p:spPr>
      </p:pic>
      <p:grpSp>
        <p:nvGrpSpPr>
          <p:cNvPr id="649" name="Rounded Rectangle 4"/>
          <p:cNvGrpSpPr/>
          <p:nvPr/>
        </p:nvGrpSpPr>
        <p:grpSpPr>
          <a:xfrm>
            <a:off x="1689120" y="2346480"/>
            <a:ext cx="2444760" cy="817560"/>
            <a:chOff x="1689120" y="2346480"/>
            <a:chExt cx="2444760" cy="817560"/>
          </a:xfrm>
        </p:grpSpPr>
        <p:pic>
          <p:nvPicPr>
            <p:cNvPr id="650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1689120" y="2346480"/>
              <a:ext cx="244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1752480" y="236232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иональная организация  представляет предложение по ВМ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утверждение И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2" name="Подзаголовок 2"/>
          <p:cNvSpPr/>
          <p:nvPr/>
        </p:nvSpPr>
        <p:spPr>
          <a:xfrm>
            <a:off x="504720" y="50328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Подзаголовок 2"/>
          <p:cNvSpPr/>
          <p:nvPr/>
        </p:nvSpPr>
        <p:spPr>
          <a:xfrm>
            <a:off x="1247760" y="39204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Критерии оценки 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1404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ветствие страны установленным критериям и ее заинтересованное участие в реализаци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обальные блага в сфере окружающей сре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тегия деятельности ГЭФ в данной тематиче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авнительные преимущест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организаци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ресур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овательность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ка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и совместное финансирование проекта (ба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и оц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гирование организации ГЭФ на замечания и оце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58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Утверждение страной</a:t>
            </a:r>
            <a:br>
              <a:rPr sz="3600"/>
            </a:br>
            <a:r>
              <a:rPr b="0" lang="en-US" sz="3000" spc="-1" strike="noStrike">
                <a:solidFill>
                  <a:srgbClr val="558ed5"/>
                </a:solidFill>
                <a:latin typeface="Calibri"/>
                <a:ea typeface="Arial"/>
              </a:rPr>
              <a:t>(</a:t>
            </a:r>
            <a:r>
              <a:rPr b="0" lang="ru-RU" sz="3000" spc="-1" strike="noStrike">
                <a:solidFill>
                  <a:srgbClr val="558ed5"/>
                </a:solidFill>
                <a:latin typeface="Calibri"/>
                <a:ea typeface="Arial"/>
              </a:rPr>
              <a:t>национальным координатором ГЭФ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ФОП должны быть утверждены ОКЦ ГЭФ при подаче на одобрение (в случа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SP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 утверждение (в случа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SP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для которого требуется ГПП)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менительно к проектам, связанным с биоразнообразием, изменением климата и деградацией земельных ресурсов, должны применяться правила СТА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664" name="Подзаголовок 2"/>
          <p:cNvSpPr/>
          <p:nvPr/>
        </p:nvSpPr>
        <p:spPr>
          <a:xfrm>
            <a:off x="485640" y="541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Подзаголовок 2"/>
          <p:cNvSpPr/>
          <p:nvPr/>
        </p:nvSpPr>
        <p:spPr>
          <a:xfrm>
            <a:off x="1247760" y="46656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914040" y="20574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самостоятельным проектам: комиссионные в размер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суммы, выделенной ГЭФ на проек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нт на проек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ещение агенству за разработку Программного подхода (ПП) зависит от вида организации ГЭФ, представляющей П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Агенству с Советом директоров, утверждающим проек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Агенству без Совета директоров, утверждающего проекты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лучае отмены проекта, все неиспользованные агентские комиссионные или определенные процентные доли подлежат возврату в Целевой фонд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рядок возврата комиссионных см. в документе Совет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"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GEF/C.23/8/Rev.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0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58ed5"/>
                </a:solidFill>
                <a:latin typeface="Calibri"/>
                <a:ea typeface="Arial"/>
              </a:rPr>
              <a:t>Возмещение затрат ГЭФ Агенству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Подзаголовок 2"/>
          <p:cNvSpPr/>
          <p:nvPr/>
        </p:nvSpPr>
        <p:spPr>
          <a:xfrm>
            <a:off x="124776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Программные подх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533160" y="21733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ва вида программных подходов, в зависимости от вида ГЭФ Агенства, представляющей програм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ЭФ Агенств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Советом директоров, утверждающим проекты – э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ЭФ Агенства, соответствующие критериям, дающим им право принимать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ЭФ Аген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ез Совета директоров, утверждающ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проекты – это ГЭФ Агенства не соответствующие таким критериям. Такие программы должны представляться учреждением по координации програм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76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Подзаголовок 2"/>
          <p:cNvSpPr/>
          <p:nvPr/>
        </p:nvSpPr>
        <p:spPr>
          <a:xfrm>
            <a:off x="1257480" y="476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80" name="Group 3" descr=""/>
          <p:cNvPicPr/>
          <p:nvPr/>
        </p:nvPicPr>
        <p:blipFill>
          <a:blip r:embed="rId2"/>
          <a:stretch/>
        </p:blipFill>
        <p:spPr>
          <a:xfrm>
            <a:off x="396720" y="890640"/>
            <a:ext cx="2932200" cy="706320"/>
          </a:xfrm>
          <a:prstGeom prst="rect">
            <a:avLst/>
          </a:prstGeom>
          <a:ln w="0">
            <a:noFill/>
          </a:ln>
        </p:spPr>
      </p:pic>
      <p:grpSp>
        <p:nvGrpSpPr>
          <p:cNvPr id="681" name="Rounded Rectangle 4"/>
          <p:cNvGrpSpPr/>
          <p:nvPr/>
        </p:nvGrpSpPr>
        <p:grpSpPr>
          <a:xfrm>
            <a:off x="927000" y="3170160"/>
            <a:ext cx="2444760" cy="779400"/>
            <a:chOff x="927000" y="3170160"/>
            <a:chExt cx="2444760" cy="779400"/>
          </a:xfrm>
        </p:grpSpPr>
        <p:pic>
          <p:nvPicPr>
            <p:cNvPr id="682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927000" y="317016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990720" y="32767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утверждает отдельные ФОП в рамках программ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84" name="Group 28" descr=""/>
          <p:cNvPicPr/>
          <p:nvPr/>
        </p:nvPicPr>
        <p:blipFill>
          <a:blip r:embed="rId4"/>
          <a:stretch/>
        </p:blipFill>
        <p:spPr>
          <a:xfrm>
            <a:off x="5048280" y="914400"/>
            <a:ext cx="2475000" cy="682560"/>
          </a:xfrm>
          <a:prstGeom prst="rect">
            <a:avLst/>
          </a:prstGeom>
          <a:ln w="0">
            <a:noFill/>
          </a:ln>
        </p:spPr>
      </p:pic>
      <p:pic>
        <p:nvPicPr>
          <p:cNvPr id="685" name="Group 48" descr=""/>
          <p:cNvPicPr/>
          <p:nvPr/>
        </p:nvPicPr>
        <p:blipFill>
          <a:blip r:embed="rId5"/>
          <a:stretch/>
        </p:blipFill>
        <p:spPr>
          <a:xfrm>
            <a:off x="1920960" y="3852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86" name="Group 51" descr=""/>
          <p:cNvPicPr/>
          <p:nvPr/>
        </p:nvPicPr>
        <p:blipFill>
          <a:blip r:embed="rId6"/>
          <a:stretch/>
        </p:blipFill>
        <p:spPr>
          <a:xfrm>
            <a:off x="1920960" y="1566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87" name="Group 58" descr=""/>
          <p:cNvPicPr/>
          <p:nvPr/>
        </p:nvPicPr>
        <p:blipFill>
          <a:blip r:embed="rId7"/>
          <a:stretch/>
        </p:blipFill>
        <p:spPr>
          <a:xfrm>
            <a:off x="1920960" y="4621320"/>
            <a:ext cx="450720" cy="566640"/>
          </a:xfrm>
          <a:prstGeom prst="rect">
            <a:avLst/>
          </a:prstGeom>
          <a:ln w="0">
            <a:noFill/>
          </a:ln>
        </p:spPr>
      </p:pic>
      <p:pic>
        <p:nvPicPr>
          <p:cNvPr id="688" name="Group 64" descr=""/>
          <p:cNvPicPr/>
          <p:nvPr/>
        </p:nvPicPr>
        <p:blipFill>
          <a:blip r:embed="rId8"/>
          <a:stretch/>
        </p:blipFill>
        <p:spPr>
          <a:xfrm>
            <a:off x="6035760" y="157320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89" name="Group 48" descr=""/>
          <p:cNvPicPr/>
          <p:nvPr/>
        </p:nvPicPr>
        <p:blipFill>
          <a:blip r:embed="rId9"/>
          <a:stretch/>
        </p:blipFill>
        <p:spPr>
          <a:xfrm>
            <a:off x="1920960" y="29383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90" name="Rounded Rectangle 4"/>
          <p:cNvGrpSpPr/>
          <p:nvPr/>
        </p:nvGrpSpPr>
        <p:grpSpPr>
          <a:xfrm>
            <a:off x="927000" y="4084560"/>
            <a:ext cx="2462400" cy="779400"/>
            <a:chOff x="927000" y="4084560"/>
            <a:chExt cx="2462400" cy="779400"/>
          </a:xfrm>
        </p:grpSpPr>
        <p:pic>
          <p:nvPicPr>
            <p:cNvPr id="691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084560"/>
              <a:ext cx="24624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990720" y="41911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Д утверждает окончательные документы по проекту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3" name="Rounded Rectangle 4"/>
          <p:cNvGrpSpPr/>
          <p:nvPr/>
        </p:nvGrpSpPr>
        <p:grpSpPr>
          <a:xfrm>
            <a:off x="927000" y="4889520"/>
            <a:ext cx="2444760" cy="865080"/>
            <a:chOff x="927000" y="4889520"/>
            <a:chExt cx="2444760" cy="865080"/>
          </a:xfrm>
        </p:grpSpPr>
        <p:pic>
          <p:nvPicPr>
            <p:cNvPr id="694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27000" y="4889520"/>
              <a:ext cx="24447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990720" y="4952880"/>
              <a:ext cx="231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утверждает окончательный проект в соответствии со своими внутренними правилами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6" name="Rounded Rectangle 4"/>
          <p:cNvGrpSpPr/>
          <p:nvPr/>
        </p:nvGrpSpPr>
        <p:grpSpPr>
          <a:xfrm>
            <a:off x="927000" y="5986440"/>
            <a:ext cx="2444760" cy="779400"/>
            <a:chOff x="927000" y="5986440"/>
            <a:chExt cx="2444760" cy="779400"/>
          </a:xfrm>
        </p:grpSpPr>
        <p:pic>
          <p:nvPicPr>
            <p:cNvPr id="697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927000" y="598644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990720" y="609588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начинает и завершает реализацию проект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9" name="Rounded Rectangle 4"/>
          <p:cNvGrpSpPr/>
          <p:nvPr/>
        </p:nvGrpSpPr>
        <p:grpSpPr>
          <a:xfrm>
            <a:off x="3670200" y="2139840"/>
            <a:ext cx="2475000" cy="1560600"/>
            <a:chOff x="3670200" y="2139840"/>
            <a:chExt cx="2475000" cy="1560600"/>
          </a:xfrm>
        </p:grpSpPr>
        <p:pic>
          <p:nvPicPr>
            <p:cNvPr id="700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3670200" y="2139840"/>
              <a:ext cx="247500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3733920" y="2209680"/>
              <a:ext cx="2319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вет </a:t>
              </a: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утверждает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Программный рамочный документ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Д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представляемый в виде ПР, и утверждает ФОП, представленные в составе ПРД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2" name="Rounded Rectangle 4"/>
          <p:cNvGrpSpPr/>
          <p:nvPr/>
        </p:nvGrpSpPr>
        <p:grpSpPr>
          <a:xfrm>
            <a:off x="927000" y="1884240"/>
            <a:ext cx="2444760" cy="1127160"/>
            <a:chOff x="927000" y="1884240"/>
            <a:chExt cx="2444760" cy="1127160"/>
          </a:xfrm>
        </p:grpSpPr>
        <p:pic>
          <p:nvPicPr>
            <p:cNvPr id="703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927000" y="1884240"/>
              <a:ext cx="24447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990720" y="1905120"/>
              <a:ext cx="2319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вет </a:t>
              </a: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утверждает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ограммный рамочный документ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Д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утем представления ПР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05" name="Group 58" descr=""/>
          <p:cNvPicPr/>
          <p:nvPr/>
        </p:nvPicPr>
        <p:blipFill>
          <a:blip r:embed="rId15"/>
          <a:stretch/>
        </p:blipFill>
        <p:spPr>
          <a:xfrm>
            <a:off x="1920960" y="56815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706" name="Rounded Rectangle 4"/>
          <p:cNvGrpSpPr/>
          <p:nvPr/>
        </p:nvGrpSpPr>
        <p:grpSpPr>
          <a:xfrm>
            <a:off x="6381720" y="2266920"/>
            <a:ext cx="2549520" cy="1281240"/>
            <a:chOff x="6381720" y="2266920"/>
            <a:chExt cx="2549520" cy="1281240"/>
          </a:xfrm>
        </p:grpSpPr>
        <p:pic>
          <p:nvPicPr>
            <p:cNvPr id="707" name="Rounded Rectangle 4" descr=""/>
            <p:cNvPicPr/>
            <p:nvPr/>
          </p:nvPicPr>
          <p:blipFill>
            <a:blip r:embed="rId16"/>
            <a:stretch/>
          </p:blipFill>
          <p:spPr>
            <a:xfrm>
              <a:off x="6381720" y="2266920"/>
              <a:ext cx="254952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6477120" y="228600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вет </a:t>
              </a: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утверждает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оследующие ФОП в рамках ПРД, представленные в виде ПР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09" name="Group 48" descr=""/>
          <p:cNvPicPr/>
          <p:nvPr/>
        </p:nvPicPr>
        <p:blipFill>
          <a:blip r:embed="rId17"/>
          <a:stretch/>
        </p:blipFill>
        <p:spPr>
          <a:xfrm>
            <a:off x="5353200" y="35542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710" name="Group 58" descr=""/>
          <p:cNvPicPr/>
          <p:nvPr/>
        </p:nvPicPr>
        <p:blipFill>
          <a:blip r:embed="rId18"/>
          <a:stretch/>
        </p:blipFill>
        <p:spPr>
          <a:xfrm>
            <a:off x="6035760" y="4621320"/>
            <a:ext cx="450720" cy="414360"/>
          </a:xfrm>
          <a:prstGeom prst="rect">
            <a:avLst/>
          </a:prstGeom>
          <a:ln w="0">
            <a:noFill/>
          </a:ln>
        </p:spPr>
      </p:pic>
      <p:grpSp>
        <p:nvGrpSpPr>
          <p:cNvPr id="711" name="Rounded Rectangle 4"/>
          <p:cNvGrpSpPr/>
          <p:nvPr/>
        </p:nvGrpSpPr>
        <p:grpSpPr>
          <a:xfrm>
            <a:off x="5041800" y="4005360"/>
            <a:ext cx="2462400" cy="779400"/>
            <a:chOff x="5041800" y="4005360"/>
            <a:chExt cx="2462400" cy="779400"/>
          </a:xfrm>
        </p:grpSpPr>
        <p:pic>
          <p:nvPicPr>
            <p:cNvPr id="712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05360"/>
              <a:ext cx="24624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5105520" y="41148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Д утверждает окончательные документы по проекту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14" name="Rounded Rectangle 4"/>
          <p:cNvGrpSpPr/>
          <p:nvPr/>
        </p:nvGrpSpPr>
        <p:grpSpPr>
          <a:xfrm>
            <a:off x="5041800" y="4809960"/>
            <a:ext cx="2444760" cy="865440"/>
            <a:chOff x="5041800" y="4809960"/>
            <a:chExt cx="2444760" cy="865440"/>
          </a:xfrm>
        </p:grpSpPr>
        <p:pic>
          <p:nvPicPr>
            <p:cNvPr id="715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41800" y="4809960"/>
              <a:ext cx="244476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5105520" y="4876920"/>
              <a:ext cx="231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утверждает окончательный проект в соответствии со своими внутренними правилами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17" name="Rounded Rectangle 4"/>
          <p:cNvGrpSpPr/>
          <p:nvPr/>
        </p:nvGrpSpPr>
        <p:grpSpPr>
          <a:xfrm>
            <a:off x="5041800" y="5950080"/>
            <a:ext cx="2444760" cy="798480"/>
            <a:chOff x="5041800" y="5950080"/>
            <a:chExt cx="2444760" cy="798480"/>
          </a:xfrm>
        </p:grpSpPr>
        <p:pic>
          <p:nvPicPr>
            <p:cNvPr id="718" name="Rounded Rectangle 4" descr=""/>
            <p:cNvPicPr/>
            <p:nvPr/>
          </p:nvPicPr>
          <p:blipFill>
            <a:blip r:embed="rId21"/>
            <a:stretch/>
          </p:blipFill>
          <p:spPr>
            <a:xfrm>
              <a:off x="5041800" y="5950080"/>
              <a:ext cx="2444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5105520" y="6019920"/>
              <a:ext cx="231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начинает и завершает реализацию проект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20" name="Group 58" descr=""/>
          <p:cNvPicPr/>
          <p:nvPr/>
        </p:nvPicPr>
        <p:blipFill>
          <a:blip r:embed="rId22"/>
          <a:stretch/>
        </p:blipFill>
        <p:spPr>
          <a:xfrm>
            <a:off x="6035760" y="5608800"/>
            <a:ext cx="450720" cy="414000"/>
          </a:xfrm>
          <a:prstGeom prst="rect">
            <a:avLst/>
          </a:prstGeom>
          <a:ln w="0">
            <a:noFill/>
          </a:ln>
        </p:spPr>
      </p:pic>
      <p:pic>
        <p:nvPicPr>
          <p:cNvPr id="721" name="Group 48" descr=""/>
          <p:cNvPicPr/>
          <p:nvPr/>
        </p:nvPicPr>
        <p:blipFill>
          <a:blip r:embed="rId23"/>
          <a:stretch/>
        </p:blipFill>
        <p:spPr>
          <a:xfrm>
            <a:off x="6797520" y="3554280"/>
            <a:ext cx="451080" cy="414360"/>
          </a:xfrm>
          <a:prstGeom prst="rect">
            <a:avLst/>
          </a:prstGeom>
          <a:ln w="0">
            <a:noFill/>
          </a:ln>
        </p:spPr>
      </p:pic>
      <p:sp>
        <p:nvSpPr>
          <p:cNvPr id="722" name="Подзаголовок 2"/>
          <p:cNvSpPr/>
          <p:nvPr/>
        </p:nvSpPr>
        <p:spPr>
          <a:xfrm>
            <a:off x="485640" y="50328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Роль СТАП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 – </a:t>
            </a: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самостоятельные прое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8052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П выдает ГЭФ научные и технические рекомендации по следующим вопросам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FS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орочно рассматривает ФОП, получаемые от ГЭФ Агенством и представляемые Секретариату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атривает все ФОП, утвержденные ИД для включения в программу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отренные отчеты вместе с ФОП помещаются на веб-сайт ГЭФ в рамках программы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S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орочно рассматривает ФОП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6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27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Подзаголовок 2"/>
          <p:cNvSpPr/>
          <p:nvPr/>
        </p:nvSpPr>
        <p:spPr>
          <a:xfrm>
            <a:off x="1257480" y="476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Роль СТА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761760" y="1981080"/>
            <a:ext cx="784836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граммные подход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алогичн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SP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орочно рассматривает ФОП, получаемые от ГЭФ Агенства и представляемые Секретариату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атривает все ПРД, утвержденные ИД для включения в программу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отренные отчеты вместе с ФОП помещаются на веб-сайте ГЭФ в рамках программы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33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СПАСИБО ЗА ВНИМАНИЕ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б-сайт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38" name="Подзаголовок 2"/>
          <p:cNvSpPr/>
          <p:nvPr/>
        </p:nvSpPr>
        <p:spPr>
          <a:xfrm>
            <a:off x="495360" y="568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Проектный цикл ГЭ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ектный цикл ГЭФ – это процесс, в котором участвует целый ряд основных сторон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аны, агенства ГЭФ, Секретариат ГЭФ, Совет ГЭФ и партнеры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гие важные партнеры выполняют вспомогательные функции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Доверительный управляющий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торый резервирует средства для конкретных проектов, принимает решения о выделении средств и непосредственно перечисляет их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СТАП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(Научно-техническая консультативная группа), которая оценивает проекты на начальной стадии и выносит рекомендации относительно проекта или программы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Отдел оценк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торый оценивает завершенные проекты и результаты деятельности в тематических областях и проводит ежегодную оценку эффективности и результатов работы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Секретариаты конвенций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также предоставляют рекомендации и замечания относительно проект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49" name="Подзаголовок 2"/>
          <p:cNvSpPr/>
          <p:nvPr/>
        </p:nvSpPr>
        <p:spPr>
          <a:xfrm>
            <a:off x="485640" y="568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Институциональная структура ГЭ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1"/>
          <p:cNvSpPr/>
          <p:nvPr/>
        </p:nvSpPr>
        <p:spPr>
          <a:xfrm>
            <a:off x="4114800" y="3097080"/>
            <a:ext cx="1295280" cy="10674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екретариат ГЭФ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Box 6"/>
          <p:cNvSpPr/>
          <p:nvPr/>
        </p:nvSpPr>
        <p:spPr>
          <a:xfrm>
            <a:off x="5638680" y="2057400"/>
            <a:ext cx="1447920" cy="3490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генства ГЭФ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ПРОО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ЮНЕП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Всемирный бан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Б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фБ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ЕБР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ФА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МАБ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МФРСХ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ЮНИД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Box 7"/>
          <p:cNvSpPr/>
          <p:nvPr/>
        </p:nvSpPr>
        <p:spPr>
          <a:xfrm>
            <a:off x="2438280" y="4800600"/>
            <a:ext cx="1143000" cy="5202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Отдел оцен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Box 8"/>
          <p:cNvSpPr/>
          <p:nvPr/>
        </p:nvSpPr>
        <p:spPr>
          <a:xfrm>
            <a:off x="2476440" y="2514600"/>
            <a:ext cx="1143000" cy="307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ТАП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Box 9"/>
          <p:cNvSpPr/>
          <p:nvPr/>
        </p:nvSpPr>
        <p:spPr>
          <a:xfrm>
            <a:off x="2286000" y="3141720"/>
            <a:ext cx="1523880" cy="1396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Совет ГЭФ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Стран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Члены Совета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группы стран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нсультации с ОГ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Box 10"/>
          <p:cNvSpPr/>
          <p:nvPr/>
        </p:nvSpPr>
        <p:spPr>
          <a:xfrm>
            <a:off x="228600" y="3886200"/>
            <a:ext cx="1523880" cy="874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нвен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Стран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ординационные центры конвенц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Box 11"/>
          <p:cNvSpPr/>
          <p:nvPr/>
        </p:nvSpPr>
        <p:spPr>
          <a:xfrm>
            <a:off x="304920" y="2666880"/>
            <a:ext cx="1447560" cy="1234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Ассамблея ГЭФ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Страны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Политические координационные цен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Box 12"/>
          <p:cNvSpPr/>
          <p:nvPr/>
        </p:nvSpPr>
        <p:spPr>
          <a:xfrm>
            <a:off x="7467480" y="2827440"/>
            <a:ext cx="1524240" cy="2643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Проект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Стран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Операционные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ординационные центры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,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ординационные центры конвенций,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другие государственные учреждения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,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гражданск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traight Connector 3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traight Connector 13"/>
          <p:cNvSpPr/>
          <p:nvPr/>
        </p:nvSpPr>
        <p:spPr>
          <a:xfrm>
            <a:off x="1752480" y="434340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Straight Connector 15"/>
          <p:cNvSpPr/>
          <p:nvPr/>
        </p:nvSpPr>
        <p:spPr>
          <a:xfrm flipV="1">
            <a:off x="1981080" y="3048120"/>
            <a:ext cx="0" cy="1295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64" name="Straight Arrow Connector 17"/>
          <p:cNvCxnSpPr>
            <a:endCxn id="557" idx="1"/>
          </p:cNvCxnSpPr>
          <p:nvPr/>
        </p:nvCxnSpPr>
        <p:spPr>
          <a:xfrm>
            <a:off x="1980720" y="363492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5" name="Straight Arrow Connector 19"/>
          <p:cNvCxnSpPr>
            <a:endCxn id="557" idx="0"/>
          </p:cNvCxnSpPr>
          <p:nvPr/>
        </p:nvCxnSpPr>
        <p:spPr>
          <a:xfrm flipH="1">
            <a:off x="3047760" y="2820600"/>
            <a:ext cx="2160" cy="32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6" name="Straight Arrow Connector 21"/>
          <p:cNvCxnSpPr>
            <a:stCxn id="555" idx="0"/>
            <a:endCxn id="557" idx="2"/>
          </p:cNvCxnSpPr>
          <p:nvPr/>
        </p:nvCxnSpPr>
        <p:spPr>
          <a:xfrm flipV="1">
            <a:off x="3009960" y="4552560"/>
            <a:ext cx="38880" cy="248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7" name="Straight Arrow Connector 23"/>
          <p:cNvCxnSpPr>
            <a:stCxn id="557" idx="3"/>
            <a:endCxn id="553" idx="1"/>
          </p:cNvCxnSpPr>
          <p:nvPr/>
        </p:nvCxnSpPr>
        <p:spPr>
          <a:xfrm flipV="1">
            <a:off x="3809520" y="363456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8" name="Straight Arrow Connector 26"/>
          <p:cNvCxnSpPr>
            <a:stCxn id="553" idx="3"/>
            <a:endCxn id="554" idx="1"/>
          </p:cNvCxnSpPr>
          <p:nvPr/>
        </p:nvCxnSpPr>
        <p:spPr>
          <a:xfrm>
            <a:off x="5409720" y="3635280"/>
            <a:ext cx="229320" cy="185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9" name="Straight Arrow Connector 28"/>
          <p:cNvCxnSpPr>
            <a:stCxn id="554" idx="3"/>
            <a:endCxn id="560" idx="1"/>
          </p:cNvCxnSpPr>
          <p:nvPr/>
        </p:nvCxnSpPr>
        <p:spPr>
          <a:xfrm>
            <a:off x="7086600" y="3819240"/>
            <a:ext cx="381600" cy="345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70" name="Right Arrow 29"/>
          <p:cNvSpPr/>
          <p:nvPr/>
        </p:nvSpPr>
        <p:spPr>
          <a:xfrm>
            <a:off x="58672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ight Arrow 41"/>
          <p:cNvSpPr/>
          <p:nvPr/>
        </p:nvSpPr>
        <p:spPr>
          <a:xfrm>
            <a:off x="22096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Box 43"/>
          <p:cNvSpPr/>
          <p:nvPr/>
        </p:nvSpPr>
        <p:spPr>
          <a:xfrm>
            <a:off x="380880" y="16002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тратегическое руководств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extBox 44"/>
          <p:cNvSpPr/>
          <p:nvPr/>
        </p:nvSpPr>
        <p:spPr>
          <a:xfrm>
            <a:off x="3809880" y="17524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Операцион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Box 45"/>
          <p:cNvSpPr/>
          <p:nvPr/>
        </p:nvSpPr>
        <p:spPr>
          <a:xfrm>
            <a:off x="7543800" y="17524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Конкретные действ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24"/>
          <p:cNvSpPr/>
          <p:nvPr/>
        </p:nvSpPr>
        <p:spPr>
          <a:xfrm>
            <a:off x="2596320" y="616896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 работ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962520" y="6172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ек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5638680" y="61722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работка проек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7315200" y="55627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мысел проекта, его согласование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ализация проек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0" name="Подзаголовок 2"/>
          <p:cNvSpPr/>
          <p:nvPr/>
        </p:nvSpPr>
        <p:spPr>
          <a:xfrm>
            <a:off x="485640" y="568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От замысла проекта до его согласования/запроса на утвержд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мысел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н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национального портфел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о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ультати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цепция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ст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а определения проекта (ФОП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ант на подготовку проекта (ГПП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повые фор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ретариатом ГЭФ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ение в план работы и утверждение Сове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сто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 по проект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с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номасштабные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S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емасштабные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S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проек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повые фор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отрение Секретариатом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ение/согласование ИД и уведомление Сов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6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Особенности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-5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62120" y="1980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ОП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едставляются на основе скользящего графи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сяцев подготовки (для полномасштабных проекто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я с даты согласования Советом до утверждения ИД окончательного документа по проек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сяцев подготовки (для среднемасштабных проектов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для проектов, которые представили запрос на ГП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я с даты утверждения ФОП ИД до утверждения им окончательного документа по проек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ный рамочный докумен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Д) для программных подходов (ПП) может представляться только на заседаниях Совета, созываемых дважды в год (в мае и ноябр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92" name="Подзаголовок 2"/>
          <p:cNvSpPr/>
          <p:nvPr/>
        </p:nvSpPr>
        <p:spPr>
          <a:xfrm>
            <a:off x="48564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Этапы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этапы для </a:t>
            </a:r>
            <a:r>
              <a:rPr b="0" lang="ru-RU" sz="2400" spc="-1" strike="noStrike">
                <a:solidFill>
                  <a:srgbClr val="558ed5"/>
                </a:solidFill>
                <a:latin typeface="Calibri"/>
                <a:ea typeface="Arial"/>
              </a:rPr>
              <a:t>полномасштабных проектов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/Секретариа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ет утверждает план работы, включающий ФОП, утвержденные И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 утверждает окончательный документ по проек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генство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 утверждается агенством ГЭФ, и начинается реализация проек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ершение реализации, окончательная оценка и закрытие финанс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-3168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98" name="Подзаголовок 2"/>
          <p:cNvSpPr/>
          <p:nvPr/>
        </p:nvSpPr>
        <p:spPr>
          <a:xfrm>
            <a:off x="48564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Подзаголовок 2"/>
          <p:cNvSpPr/>
          <p:nvPr/>
        </p:nvSpPr>
        <p:spPr>
          <a:xfrm>
            <a:off x="1238400" y="46656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Этапы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этапы для </a:t>
            </a:r>
            <a:r>
              <a:rPr b="0" lang="ru-RU" sz="2400" spc="-1" strike="noStrike">
                <a:solidFill>
                  <a:srgbClr val="558ed5"/>
                </a:solidFill>
                <a:latin typeface="Calibri"/>
                <a:ea typeface="Arial"/>
              </a:rPr>
              <a:t>среднемасштабных проектов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(M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Утверждение в один эта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Д утверждает окончательный документ по проект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ект утверждается в рамках агенства ГЭФ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начинается его реализац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Утверждение в два этап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лучае подачи запроса 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ляется на утверждение И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Д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ает окончательный документ по проек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 утверждается в рамках ГЭФ агенства, и начинается его реализац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04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Подзаголовок 2"/>
          <p:cNvSpPr/>
          <p:nvPr/>
        </p:nvSpPr>
        <p:spPr>
          <a:xfrm>
            <a:off x="1257480" y="476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itle 1"/>
          <p:cNvSpPr/>
          <p:nvPr/>
        </p:nvSpPr>
        <p:spPr>
          <a:xfrm>
            <a:off x="1266840" y="1066680"/>
            <a:ext cx="731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Среднемасштабные проек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8" name="Content Placeholder 3" descr=""/>
          <p:cNvPicPr/>
          <p:nvPr/>
        </p:nvPicPr>
        <p:blipFill>
          <a:blip r:embed="rId1"/>
          <a:stretch/>
        </p:blipFill>
        <p:spPr>
          <a:xfrm>
            <a:off x="1170000" y="1639800"/>
            <a:ext cx="3067200" cy="4529160"/>
          </a:xfrm>
          <a:prstGeom prst="rect">
            <a:avLst/>
          </a:prstGeom>
          <a:ln w="0">
            <a:noFill/>
          </a:ln>
        </p:spPr>
      </p:pic>
      <p:pic>
        <p:nvPicPr>
          <p:cNvPr id="609" name="Diagram 4" descr=""/>
          <p:cNvPicPr/>
          <p:nvPr/>
        </p:nvPicPr>
        <p:blipFill>
          <a:blip r:embed="rId2"/>
          <a:stretch/>
        </p:blipFill>
        <p:spPr>
          <a:xfrm>
            <a:off x="4511520" y="1573200"/>
            <a:ext cx="2554560" cy="4589640"/>
          </a:xfrm>
          <a:prstGeom prst="rect">
            <a:avLst/>
          </a:prstGeom>
          <a:ln w="0">
            <a:noFill/>
          </a:ln>
        </p:spPr>
      </p:pic>
      <p:sp>
        <p:nvSpPr>
          <p:cNvPr id="610" name="TextBox 5"/>
          <p:cNvSpPr/>
          <p:nvPr/>
        </p:nvSpPr>
        <p:spPr>
          <a:xfrm>
            <a:off x="1371600" y="630396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ГЭФ одобряет проект после его утверждения ИД, и начинается его реализ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3"/>
          <a:stretch/>
        </p:blipFill>
        <p:spPr>
          <a:xfrm>
            <a:off x="0" y="76320"/>
            <a:ext cx="9144000" cy="990360"/>
          </a:xfrm>
          <a:prstGeom prst="rect">
            <a:avLst/>
          </a:prstGeom>
          <a:ln w="0">
            <a:noFill/>
          </a:ln>
        </p:spPr>
      </p:pic>
      <p:sp>
        <p:nvSpPr>
          <p:cNvPr id="612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Подзаголовок 2"/>
          <p:cNvSpPr/>
          <p:nvPr/>
        </p:nvSpPr>
        <p:spPr>
          <a:xfrm>
            <a:off x="1295280" y="30312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Этапы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Для вспомогательных мероприятий (два варианта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Прямой доступ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оответствии с политикой в отношении прямого доступ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рана представляет предложение по ВМ для утверждения И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Д и страна подписывают Соглашение о гранте, и начинается реализация проек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В отношении грантов на В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применительно к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всем организациям ГЭФ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йствуют следующие процедур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Агенство ГЭФ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ляет ИД предложение по В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Агенство ГЭФ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няет собственные внутренние процедуры утверждения, и начинается реализация проек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618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9-30T05:59:53Z</cp:lastPrinted>
  <dcterms:modified xsi:type="dcterms:W3CDTF">2011-11-01T20:54:30Z</dcterms:modified>
  <cp:revision>647</cp:revision>
  <dc:subject/>
  <dc:title>Slide 1</dc:title>
</cp:coreProperties>
</file>