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6E6A193-C5E3-410A-B62D-C1D7DDAB3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BC6D96B-8A32-400D-B70B-CF1B24580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ерхний колонтитул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Дата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Нижний колонтитул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Номер слайда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1445AB9-083E-4E65-905F-932FDC454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85D-3ACA-4A19-B9C3-3D634507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974-420A-4BF9-804D-83C1C2E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4557E-45EE-45B2-9D54-39BDA665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9025F-1B64-414F-AF4F-C3D6A13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1877E-F959-49B5-82D9-164A544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F610F-B772-4E8A-A1AA-46B4723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5FA9D-CC70-411A-84FF-C0642E3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566A-A121-4598-AAA1-3C42DDF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5EF6-CA05-44E6-A09F-418C9FE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972A-6016-4DCA-BED9-CFE81E0C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FB925-1F3E-49D9-B0A4-D6B38981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CE5F-3A2A-42C5-B132-2F1572E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CDC-BE39-40CC-A0BF-BF1F3135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B034-FFA8-4D28-BE99-D65DC4C9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5624F-C843-42B1-A2CA-CB67627B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407E5-1F10-4023-AF25-C95D3F2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37AEA-50AA-4843-9D1F-D9993CD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A1EF5-0D8D-484F-8F6B-9DE414E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56A6A-8C7E-419A-AA1C-B9BE2BC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F994D-555E-43EC-BBC9-860A8FD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3516D-D706-4377-A3DD-CF0E480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100A0-7301-4F2D-8CC5-CD7A4EF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CE734-CC70-42B6-A394-31EFCEE4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8BB-022E-46A9-83F6-65475E89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7B87D-5EB3-4556-977C-69B0B115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A2BCA-ECBB-47B3-A85D-4195F39E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8FEAE-0084-4F5C-9D06-1E111D9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A2ED-2C07-4E59-9FAD-C7EA9DF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B2E4-81D0-436C-915B-5F8B9AD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6B853-FF72-4AB8-9D3B-E1DD1CF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509EB-0B8A-4200-A96A-E3E95E3A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B7FBA-B3F4-4950-983E-EF2DBBF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455F-16CD-4509-AD34-1AC2FAF8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982B6-0E06-4896-8C0C-0337F61F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B3C-1BCC-47F6-85EE-E6D49D21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4A71-0329-4466-AB24-AE03D64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9B5BE-AED2-44A7-B0E2-92685756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93DAE-C5FD-463E-88FB-5689AA19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1941C-FCB1-4A10-B7FF-4314464F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1F99A-194C-47E2-A564-019CF01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F12D2-7BE5-44F4-8A85-3D732D2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45392-9118-410E-9A37-A9EC811D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25F12-AB16-481E-B483-08D8A07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1F90B-A5CD-4A7A-AB4C-1516E6B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06ED-0910-4365-9AF1-82017DE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E17C-E314-4BBE-9940-F5D17630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DD29-32BC-4339-B73D-77AC6B5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9758A-C9B1-40E5-8150-F4A9A17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561E1-C4F3-43C3-9B6B-49BE04D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DAAA5-0A40-479C-88ED-992B3C56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55A45-5383-4CDA-8AA5-969DD348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2F78D-DD4E-4ED4-8F89-A12B35FA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791D0-0127-40CC-A589-FEFA125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6BAE1-7144-43EF-B8F7-A0F9FCB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346C0-85CC-4662-8349-7982C95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6AA04-0CE6-4899-8EC1-D5A26D5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3CC-D898-4EEF-A4FF-EA87AAD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B6079-A7A2-45FF-8CA6-F8D034C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C4B1F-038F-438D-A9F4-EBF1B88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B54F0-21E3-4472-BA88-470638FB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527C7-3239-4CD1-A47B-CA8466B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3F937-2EB3-48AB-BD57-13FB24BD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D8C65-43E1-4A7C-88CC-69F02877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81B96-4C92-4D37-9FA5-22769CF9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9A9-BE02-47A2-8DC3-CB091D55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9092-5B29-447D-8B2B-F1FF25B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C4EA-CEEE-42E1-B4E2-493FFB28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4FF0-F6BF-4EE0-92D7-6F12D0B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6C5-019E-4C73-877F-176C22FD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818-E061-4B93-AD05-7C655C4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64BF-0280-4D37-B419-0D622C5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4F61-9189-4B35-855A-841B7F30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77D-3193-4549-B8F0-E77CC9CC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242-E923-4B7B-B4BD-82317D5A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0ECB-82E0-44DE-B911-2AE9ECB6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88E7-F1FD-4C49-9A8A-D331701C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0F88-6790-4005-8010-793FE997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7CBE-1DDF-46A3-96A6-522E9FB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ED63-7FD2-4D9E-812B-046C503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334-5337-4890-A992-06A165AD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29D1-A4CC-4AB4-83A7-D1389FE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B384-454A-495C-8474-6A4CB22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AA92-CFD0-4A00-B177-3899FB4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A6B8-361B-4DF5-A164-44A2906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48C7-A68D-4CB5-9EDB-A6F35571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84B4-BAFD-4923-8398-5B89DDD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45DA-6EFC-4488-A2BB-1AC8CB7D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9BEF-9AE8-4787-BAD6-AD995844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8C7C-8FAD-41E9-86C5-C71A1BAE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5945-F58E-4BC2-8A15-56277F3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147-47D7-4071-8B51-937D459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D6DF-4EB7-46EF-AFAB-E938DC12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3D7F-E9E0-4BEB-9685-05BBAAC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98A3-D844-4B2D-8B25-8D2C548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2616-619B-4295-9D15-D0C788F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51A7-0049-4850-842E-CFD3784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6F44-DCB1-4FBC-ACEF-6F52F79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943D-D64D-4DEA-A725-8278C08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8AA2-F7F3-482A-A459-B38D6F01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42B4-3C97-48DE-AA5D-6F3E721D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2742-6D82-44CD-9E43-205D1962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711-53D2-4A9C-BC84-911967C0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A442-4996-44CB-9036-D9503E45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DB9D-5476-4AFE-AF35-4601D9F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41F8-3BB1-4315-82FD-22CB7E1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6056-9E5C-49C0-A046-E534BD86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6A5C-E448-444A-AFA2-1D2425B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5749-FE76-42F0-9C74-9236647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AA42-A579-45CF-A859-A8E54E1D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F47D-01E7-43B5-8FF3-5290198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FC30-FA7D-492D-BF85-06E8D585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6A9F-458C-42A6-8A3C-62FBB0C5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06D-24CE-4A55-A0CB-7579AC1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07D7-F72E-4C4B-AB69-DD748FAC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9952-4C9A-42AB-A750-64F99CB9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61CD-6161-4AEF-A5CF-9EAD0C2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1AC2-B13D-4ED7-B2BB-C0F7C043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D104-7C52-4447-918F-B702527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D02E-61A8-4AC5-9BF0-20DC86A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617B-D794-4DB4-8747-073D1BE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F45E-2D1A-4E93-8143-5F29F53D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9FFE-0BC7-421E-BEB8-9FD952F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6FFE0-89AB-4F1F-9480-B17966C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2B2-3FE1-45B4-A096-1236483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AC53F-F49F-4CA5-B915-AD9A146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9863-A09A-4039-9513-D70F1C13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49925-AE2A-44E8-9582-DB3FBA31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B055-94CA-4CAE-BAE5-677E89BF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28D4A-E67A-44AE-BA92-366FD70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ED791-012E-4182-9868-BF28059A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C2A5-F57A-45B5-9B70-0CB55A2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E360-E09E-479E-BB76-D2E89AF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85D4-E1E1-4D90-A7FD-3383DEEF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A10D-F385-4DCD-9379-37EEE14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B2C-48D2-4805-A9B6-7FEF464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221EA-E415-4004-9573-EA5BD8EE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53FE-AE87-4501-8409-6911170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496C5-6DB1-4025-B72A-FE4056A8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F0D0-D80B-4E59-9913-2F91B022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56AA-8418-451C-B104-2F5061D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A541-7435-41D5-AA23-6FE9870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FD3F-8747-4DD2-A3C4-4DF049B0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94BE5-5D31-44A4-9968-880A453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A500-C31B-47F5-AAF8-438E9A2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E7F2-0BE3-474C-A346-F09F0CD2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08F-595B-4BA4-A0EB-724BF18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AFB0C-7152-457B-8638-0514CFA6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CC2A6-618C-4187-AD56-D219FE13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ABA7-8246-467D-B05E-2B8843F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95F6-18E5-4F85-A5A6-B527946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75B8-8FB8-42AA-8071-2CA1796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D31F-487D-405C-9109-6A93CD2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99F7-429A-4DA2-A880-7481ABFA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C8725-9EB9-4254-BEDE-B610CE13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2F058-7423-4D61-8704-AFE11E41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82E1E-E2F6-48D6-A726-288EA2DD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EB3-ABB1-4B9E-B485-B74DC7D2F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6861-501C-4C5C-9E56-23B50A538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EEE-9772-48A6-83EA-24BE216C17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9ED-9BFF-4787-AB02-A98E85EE7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8A2-7CD8-4F0E-8DDE-30A4E628AE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B91-1E77-48DF-B45C-37F4CB8A3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CC17-E55E-495B-9F6A-0941C109C4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F65-09C6-4471-89CD-B9FE72DB4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90D-2313-4F0D-A7F9-8196348C8D4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92E5-899D-47BB-82CE-A77E17552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3E7-CB33-4EC1-9F87-15653BA192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2DE-FA24-4EC3-AA67-86D8F3E04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40F-DDD2-4A2F-B33B-25858E7ADE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7835-684F-40B1-9364-4A8C8BE95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06D-71A8-4EDE-B3D2-D068628E9E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FC5-A79E-4A88-B662-26588F905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107-8296-4F08-B724-E99559F80C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6844-08CA-4F6D-BAFD-46F27E30F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A828-2CE1-4D5A-AE15-15C48F6BFC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7A5-478F-4CEF-870B-7E50AFFBA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0E2-718C-43D2-9745-079A0F33C31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F03E-E5B5-4FE0-A1FC-24ABB3E9A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B80-4CB6-43F2-B73A-DC3448BF26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D2CF-FC13-4FCD-AC2B-7A927CFEB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E31-01F8-4106-8BCB-406DCBE0F5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4BE4-2E8F-41B0-8EF5-C29BD45BA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3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2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Проектный цикл ГЭ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333440" y="3809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расширенном со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6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Ускоренная процедура утверждения стимулирующих меро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624" name="Rounded Rectangle 4"/>
          <p:cNvGrpSpPr/>
          <p:nvPr/>
        </p:nvGrpSpPr>
        <p:grpSpPr>
          <a:xfrm>
            <a:off x="1762200" y="4170240"/>
            <a:ext cx="2371680" cy="749520"/>
            <a:chOff x="1762200" y="4170240"/>
            <a:chExt cx="2371680" cy="749520"/>
          </a:xfrm>
        </p:grpSpPr>
        <p:pic>
          <p:nvPicPr>
            <p:cNvPr id="62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371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 страны и ИД ГЭФ заключают соглашение о гранте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2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Rounded Rectangle 4"/>
          <p:cNvGrpSpPr/>
          <p:nvPr/>
        </p:nvGrpSpPr>
        <p:grpSpPr>
          <a:xfrm>
            <a:off x="4505400" y="5315040"/>
            <a:ext cx="2449440" cy="896760"/>
            <a:chOff x="4505400" y="5315040"/>
            <a:chExt cx="2449440" cy="896760"/>
          </a:xfrm>
        </p:grpSpPr>
        <p:pic>
          <p:nvPicPr>
            <p:cNvPr id="63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494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3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тверждает ВМ после его утвержде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Rounded Rectangle 4"/>
          <p:cNvGrpSpPr/>
          <p:nvPr/>
        </p:nvGrpSpPr>
        <p:grpSpPr>
          <a:xfrm>
            <a:off x="4492800" y="3181320"/>
            <a:ext cx="2474640" cy="622440"/>
            <a:chOff x="4492800" y="3181320"/>
            <a:chExt cx="2474640" cy="622440"/>
          </a:xfrm>
        </p:grpSpPr>
        <p:pic>
          <p:nvPicPr>
            <p:cNvPr id="63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492800" y="3181320"/>
              <a:ext cx="24746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едставляет предложение на утверждение И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Rounded Rectangle 4"/>
          <p:cNvGrpSpPr/>
          <p:nvPr/>
        </p:nvGrpSpPr>
        <p:grpSpPr>
          <a:xfrm>
            <a:off x="4505400" y="2189160"/>
            <a:ext cx="2449440" cy="749160"/>
            <a:chOff x="4505400" y="2189160"/>
            <a:chExt cx="2449440" cy="749160"/>
          </a:xfrm>
        </p:grpSpPr>
        <p:pic>
          <p:nvPicPr>
            <p:cNvPr id="64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89160"/>
              <a:ext cx="2449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2209680"/>
              <a:ext cx="23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4"/>
          <p:cNvSpPr/>
          <p:nvPr/>
        </p:nvSpPr>
        <p:spPr>
          <a:xfrm>
            <a:off x="1219320" y="6172200"/>
            <a:ext cx="62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тверждении предложения Секретариат ГЭФ руководствуется процедурами Всемирного банка с учетом конечной цели  – направления соглашения о гранте стране, получающей помощь, и его подписания ИД и страной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48" name="Group 64" descr=""/>
          <p:cNvPicPr/>
          <p:nvPr/>
        </p:nvPicPr>
        <p:blipFill>
          <a:blip r:embed="rId14"/>
          <a:stretch/>
        </p:blipFill>
        <p:spPr>
          <a:xfrm>
            <a:off x="5425920" y="2792520"/>
            <a:ext cx="505080" cy="517320"/>
          </a:xfrm>
          <a:prstGeom prst="rect">
            <a:avLst/>
          </a:prstGeom>
          <a:ln w="0">
            <a:noFill/>
          </a:ln>
        </p:spPr>
      </p:pic>
      <p:grpSp>
        <p:nvGrpSpPr>
          <p:cNvPr id="64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5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утверждение 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Подзаголовок 2"/>
          <p:cNvSpPr/>
          <p:nvPr/>
        </p:nvSpPr>
        <p:spPr>
          <a:xfrm>
            <a:off x="50472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1247760" y="3920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Критерии оценки 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ветствие страны установленным критериям и ее заинтересованное участие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я деятельности ГЭФ в данной тематиче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ые 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организаци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и совместное финансирование проекта (б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гирование организации ГЭФ на замечания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Утверждение страной</a:t>
            </a:r>
            <a:br>
              <a:rPr sz="3600"/>
            </a:br>
            <a:r>
              <a:rPr b="0" lang="en-US" sz="3000" spc="-1" strike="noStrike">
                <a:solidFill>
                  <a:srgbClr val="558ed5"/>
                </a:solidFill>
                <a:latin typeface="Calibri"/>
                <a:ea typeface="Arial"/>
              </a:rPr>
              <a:t>(</a:t>
            </a:r>
            <a:r>
              <a:rPr b="0" lang="ru-RU" sz="3000" spc="-1" strike="noStrike">
                <a:solidFill>
                  <a:srgbClr val="558ed5"/>
                </a:solidFill>
                <a:latin typeface="Calibri"/>
                <a:ea typeface="Arial"/>
              </a:rPr>
              <a:t>национальным координатором ГЭФ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ФОП должны быть утверждены ОКЦ ГЭФ при подаче на одобр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SP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утвержд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для которого требуется ГПП)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ительно к проектам, связанным с биоразнообразием, изменением климата и деградацией земельных ресурсов, должны применяться правила СТ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64" name="Подзаголовок 2"/>
          <p:cNvSpPr/>
          <p:nvPr/>
        </p:nvSpPr>
        <p:spPr>
          <a:xfrm>
            <a:off x="485640" y="541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Подзаголовок 2"/>
          <p:cNvSpPr/>
          <p:nvPr/>
        </p:nvSpPr>
        <p:spPr>
          <a:xfrm>
            <a:off x="1247760" y="46656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914040" y="20574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амостоятельным проектам: комиссионные в размер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уммы, выделенной ГЭФ на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 на проек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ещение агенству за разработку Программного подхода (ПП) зависит от вида организации ГЭФ, представляющей 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с Советом директоров, утверждающим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без Совета директоров, утверждающего проект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мены проекта, все неиспользованные агентские комиссионные или определенные процентные доли подлежат возврату в Целевой фонд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ядок возврата комиссионных см. в документе Совет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GEF/C.23/8/Rev.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alibri"/>
                <a:ea typeface="Arial"/>
              </a:rPr>
              <a:t>Возмещение затрат ГЭФ Агенств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граммные под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33160" y="21733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а вида программных подходов, в зависимости от вида ГЭФ Агенства, представляющей програм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Советом директоров, утверждающим проекты – 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а, соответствующие критериям, дающим им право принимать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з Совета директоров, утвержд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екты – это ГЭФ Агенства не соответствующие таким критериям. Такие программы должны представляться учреждением по координации пр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7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80" name="Group 3" descr=""/>
          <p:cNvPicPr/>
          <p:nvPr/>
        </p:nvPicPr>
        <p:blipFill>
          <a:blip r:embed="rId2"/>
          <a:stretch/>
        </p:blipFill>
        <p:spPr>
          <a:xfrm>
            <a:off x="396720" y="890640"/>
            <a:ext cx="2932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681" name="Rounded Rectangle 4"/>
          <p:cNvGrpSpPr/>
          <p:nvPr/>
        </p:nvGrpSpPr>
        <p:grpSpPr>
          <a:xfrm>
            <a:off x="927000" y="3170160"/>
            <a:ext cx="2444760" cy="779400"/>
            <a:chOff x="927000" y="3170160"/>
            <a:chExt cx="2444760" cy="779400"/>
          </a:xfrm>
        </p:grpSpPr>
        <p:pic>
          <p:nvPicPr>
            <p:cNvPr id="68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17016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тдельные ФОП в рамках программ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4" name="Group 28" descr=""/>
          <p:cNvPicPr/>
          <p:nvPr/>
        </p:nvPicPr>
        <p:blipFill>
          <a:blip r:embed="rId4"/>
          <a:stretch/>
        </p:blipFill>
        <p:spPr>
          <a:xfrm>
            <a:off x="5048280" y="914400"/>
            <a:ext cx="2475000" cy="682560"/>
          </a:xfrm>
          <a:prstGeom prst="rect">
            <a:avLst/>
          </a:prstGeom>
          <a:ln w="0">
            <a:noFill/>
          </a:ln>
        </p:spPr>
      </p:pic>
      <p:pic>
        <p:nvPicPr>
          <p:cNvPr id="68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7" name="Group 58" descr=""/>
          <p:cNvPicPr/>
          <p:nvPr/>
        </p:nvPicPr>
        <p:blipFill>
          <a:blip r:embed="rId7"/>
          <a:stretch/>
        </p:blipFill>
        <p:spPr>
          <a:xfrm>
            <a:off x="1920960" y="4621320"/>
            <a:ext cx="450720" cy="566640"/>
          </a:xfrm>
          <a:prstGeom prst="rect">
            <a:avLst/>
          </a:prstGeom>
          <a:ln w="0">
            <a:noFill/>
          </a:ln>
        </p:spPr>
      </p:pic>
      <p:pic>
        <p:nvPicPr>
          <p:cNvPr id="68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8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90" name="Rounded Rectangle 4"/>
          <p:cNvGrpSpPr/>
          <p:nvPr/>
        </p:nvGrpSpPr>
        <p:grpSpPr>
          <a:xfrm>
            <a:off x="927000" y="4084560"/>
            <a:ext cx="2462400" cy="779400"/>
            <a:chOff x="927000" y="4084560"/>
            <a:chExt cx="2462400" cy="779400"/>
          </a:xfrm>
        </p:grpSpPr>
        <p:pic>
          <p:nvPicPr>
            <p:cNvPr id="69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0845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3" name="Rounded Rectangle 4"/>
          <p:cNvGrpSpPr/>
          <p:nvPr/>
        </p:nvGrpSpPr>
        <p:grpSpPr>
          <a:xfrm>
            <a:off x="927000" y="4889520"/>
            <a:ext cx="2444760" cy="865080"/>
            <a:chOff x="927000" y="4889520"/>
            <a:chExt cx="2444760" cy="865080"/>
          </a:xfrm>
        </p:grpSpPr>
        <p:pic>
          <p:nvPicPr>
            <p:cNvPr id="69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4889520"/>
              <a:ext cx="2444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90720" y="495288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9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Rounded Rectangle 4"/>
          <p:cNvGrpSpPr/>
          <p:nvPr/>
        </p:nvGrpSpPr>
        <p:grpSpPr>
          <a:xfrm>
            <a:off x="3670200" y="2139840"/>
            <a:ext cx="2475000" cy="1560600"/>
            <a:chOff x="3670200" y="2139840"/>
            <a:chExt cx="2475000" cy="1560600"/>
          </a:xfrm>
        </p:grpSpPr>
        <p:pic>
          <p:nvPicPr>
            <p:cNvPr id="70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70200" y="2139840"/>
              <a:ext cx="2475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733920" y="2209680"/>
              <a:ext cx="2319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представляемый в виде ПР, и утверждает ФОП, представленные в составе ПР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Rounded Rectangle 4"/>
          <p:cNvGrpSpPr/>
          <p:nvPr/>
        </p:nvGrpSpPr>
        <p:grpSpPr>
          <a:xfrm>
            <a:off x="927000" y="1884240"/>
            <a:ext cx="2444760" cy="1127160"/>
            <a:chOff x="927000" y="1884240"/>
            <a:chExt cx="2444760" cy="1127160"/>
          </a:xfrm>
        </p:grpSpPr>
        <p:pic>
          <p:nvPicPr>
            <p:cNvPr id="70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4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утем представления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706" name="Rounded Rectangle 4"/>
          <p:cNvGrpSpPr/>
          <p:nvPr/>
        </p:nvGrpSpPr>
        <p:grpSpPr>
          <a:xfrm>
            <a:off x="6381720" y="2266920"/>
            <a:ext cx="2549520" cy="1281240"/>
            <a:chOff x="6381720" y="2266920"/>
            <a:chExt cx="2549520" cy="1281240"/>
          </a:xfrm>
        </p:grpSpPr>
        <p:pic>
          <p:nvPicPr>
            <p:cNvPr id="70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381720" y="2266920"/>
              <a:ext cx="2549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ледующие ФОП в рамках ПРД, представленные в виде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711" name="Rounded Rectangle 4"/>
          <p:cNvGrpSpPr/>
          <p:nvPr/>
        </p:nvGrpSpPr>
        <p:grpSpPr>
          <a:xfrm>
            <a:off x="5041800" y="4005360"/>
            <a:ext cx="2462400" cy="779400"/>
            <a:chOff x="5041800" y="4005360"/>
            <a:chExt cx="2462400" cy="779400"/>
          </a:xfrm>
        </p:grpSpPr>
        <p:pic>
          <p:nvPicPr>
            <p:cNvPr id="71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053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4" name="Rounded Rectangle 4"/>
          <p:cNvGrpSpPr/>
          <p:nvPr/>
        </p:nvGrpSpPr>
        <p:grpSpPr>
          <a:xfrm>
            <a:off x="5041800" y="4809960"/>
            <a:ext cx="2444760" cy="865440"/>
            <a:chOff x="5041800" y="4809960"/>
            <a:chExt cx="2444760" cy="865440"/>
          </a:xfrm>
        </p:grpSpPr>
        <p:pic>
          <p:nvPicPr>
            <p:cNvPr id="71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4809960"/>
              <a:ext cx="24447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05520" y="487692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71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2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72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  <p:sp>
        <p:nvSpPr>
          <p:cNvPr id="722" name="Подзаголовок 2"/>
          <p:cNvSpPr/>
          <p:nvPr/>
        </p:nvSpPr>
        <p:spPr>
          <a:xfrm>
            <a:off x="48564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 – </a:t>
            </a: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амостоятельные про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П выдает ГЭФ научные и технические рекомендации по следующим вопроса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ом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ФОП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7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ные подход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огич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SP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а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ПРД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е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3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ПАСИБО ЗА ВНИМАНИЕ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Подзаголовок 2"/>
          <p:cNvSpPr/>
          <p:nvPr/>
        </p:nvSpPr>
        <p:spPr>
          <a:xfrm>
            <a:off x="49536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ектный цикл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ый цикл ГЭФ – это процесс, в котором участвует целый ряд основных сторо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ы, агенства ГЭФ, Секретариат ГЭФ, Совет ГЭФ и партнер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ие важные партнеры выполняют вспомогательные функци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Доверительный управляющ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резервирует средства для конкретных проектов, принимает решения о выделении средств и непосредственно перечисляет их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ТАП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(Научно-техническая консультативная группа), которая оценивает проекты на начальной стадии и выносит рекомендации относительно проекта или программ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тдел оценк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оценивает завершенные проекты и результаты деятельности в тематических областях и проводит ежегодную оценку эффективности и результатов работ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екретариаты конвенц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акже предоставляют рекомендации и замечания относительно проек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49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Институциональная структура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екретариат ГЭ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638680" y="2057400"/>
            <a:ext cx="1447920" cy="349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генства ГЭФ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РОО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Е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Всемирный бан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ф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ЕБР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ФРС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ИД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тдел оцен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А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овет ГЭ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Члены Совета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уппы стран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сультации с 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28600" y="3886200"/>
            <a:ext cx="1523880" cy="874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вен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304920" y="2666880"/>
            <a:ext cx="1447560" cy="123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Ассамблея ГЭ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олитические координационны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7467480" y="2827440"/>
            <a:ext cx="1524240" cy="264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роек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Операционные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,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другие государственные учреждения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ажданск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4" name="Straight Arrow Connector 17"/>
          <p:cNvCxnSpPr>
            <a:endCxn id="557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5" name="Straight Arrow Connector 19"/>
          <p:cNvCxnSpPr>
            <a:endCxn id="557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6" name="Straight Arrow Connector 21"/>
          <p:cNvCxnSpPr>
            <a:stCxn id="555" idx="0"/>
            <a:endCxn id="557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7" name="Straight Arrow Connector 23"/>
          <p:cNvCxnSpPr>
            <a:stCxn id="557" idx="3"/>
            <a:endCxn id="553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8" name="Straight Arrow Connector 26"/>
          <p:cNvCxnSpPr>
            <a:stCxn id="553" idx="3"/>
            <a:endCxn id="554" idx="1"/>
          </p:cNvCxnSpPr>
          <p:nvPr/>
        </p:nvCxnSpPr>
        <p:spPr>
          <a:xfrm>
            <a:off x="5409720" y="3635280"/>
            <a:ext cx="229320" cy="185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9" name="Straight Arrow Connector 28"/>
          <p:cNvCxnSpPr>
            <a:stCxn id="554" idx="3"/>
            <a:endCxn id="560" idx="1"/>
          </p:cNvCxnSpPr>
          <p:nvPr/>
        </p:nvCxnSpPr>
        <p:spPr>
          <a:xfrm>
            <a:off x="7086600" y="3819240"/>
            <a:ext cx="381600" cy="345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0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380880" y="1600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ратегическое руководст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38098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ер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Box 45"/>
          <p:cNvSpPr/>
          <p:nvPr/>
        </p:nvSpPr>
        <p:spPr>
          <a:xfrm>
            <a:off x="7543800" y="1752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онкретные действ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96320" y="61689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9625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5638680" y="6172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315200" y="5562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ысел проекта, его соглас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т замысла проекта до его согласования/запроса на утвер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ысел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определения проекта (ФО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нт на подготовку проекта (ГП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ом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е в план работы и утверждение Со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по про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/согласование ИД и уведомление Со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собенности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-5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П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яются на основе скользящего граф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полномасштабных проект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согласования Советом до утверждения ИД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среднемасштабных проектов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проектов, которые представили запрос на 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утверждения ФОП ИД до утверждения им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рамочный докумен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Д) для программных подходов (ПП) может представляться только на заседаниях Совета, созываемых дважды в год (в мае и нояб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2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полно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/Секретари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т утверждает план работы, включающий ФОП, утвержденные 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генство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утверждается агенством ГЭФ, и начинается реализация проек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ершение реализации, окончательная оценка и закрытие финанс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8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23840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средне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M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один эта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агенства ГЭ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ачинается его реализац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два эта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подачи запроса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ся на утверждение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ает окончательный документ по проек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ГЭФ агенства, и начинается его реал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4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itle 1"/>
          <p:cNvSpPr/>
          <p:nvPr/>
        </p:nvSpPr>
        <p:spPr>
          <a:xfrm>
            <a:off x="126684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Среднемасштабные проек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Content Placeholder 3" descr=""/>
          <p:cNvPicPr/>
          <p:nvPr/>
        </p:nvPicPr>
        <p:blipFill>
          <a:blip r:embed="rId1"/>
          <a:stretch/>
        </p:blipFill>
        <p:spPr>
          <a:xfrm>
            <a:off x="1170000" y="1639800"/>
            <a:ext cx="3067200" cy="4529160"/>
          </a:xfrm>
          <a:prstGeom prst="rect">
            <a:avLst/>
          </a:prstGeom>
          <a:ln w="0">
            <a:noFill/>
          </a:ln>
        </p:spPr>
      </p:pic>
      <p:pic>
        <p:nvPicPr>
          <p:cNvPr id="609" name="Diagram 4" descr=""/>
          <p:cNvPicPr/>
          <p:nvPr/>
        </p:nvPicPr>
        <p:blipFill>
          <a:blip r:embed="rId2"/>
          <a:stretch/>
        </p:blipFill>
        <p:spPr>
          <a:xfrm>
            <a:off x="4511520" y="1573200"/>
            <a:ext cx="2554560" cy="45896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1371600" y="6303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ЭФ одобряет проект после его утверждения ИД, и начинается его реализ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12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Подзаголовок 2"/>
          <p:cNvSpPr/>
          <p:nvPr/>
        </p:nvSpPr>
        <p:spPr>
          <a:xfrm>
            <a:off x="1295280" y="303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ля вспомогательных мероприятий (два вариант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ямой доступ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и с политикой в отношении прямого досту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на представляет предложение по ВМ для утверждения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и страна подписывают Соглашение о гранте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 отношении грантов на В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применительно к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сем организациям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уют следующие процедур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ИД предложение по В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ет собственные внутренние процедуры утверждения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61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9-30T05:59:53Z</cp:lastPrinted>
  <dcterms:modified xsi:type="dcterms:W3CDTF">2011-11-01T20:54:30Z</dcterms:modified>
  <cp:revision>647</cp:revision>
  <dc:subject/>
  <dc:title>Slide 1</dc:title>
</cp:coreProperties>
</file>