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733-6881-45CF-A858-166EB5D41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801-0732-4AF4-8BF4-7C823E6F2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EB6-D8C1-4204-82E5-85C5ED31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923-ECB3-4D38-A4DD-36DB57A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71C-F905-4D4B-B57C-3416DE9E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80F-71E8-4552-B03C-356E0DDC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D57-9EAE-42EA-8BE0-3093A590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E10-C265-4986-AA7F-6B31D07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791-0A77-4713-BAFC-B7CCDBB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AA7-5C69-4344-BF21-4603F889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7E8-D26D-437C-AE35-04409BA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337-E560-4EB1-A976-DB27101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EF4-79C6-44A4-9B0F-3010685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17C-35AB-4E47-A45C-47A7703F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75B2-BE1B-4761-B74A-0E12EA4752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11-01T20:35:47Z</dcterms:modified>
  <cp:revision>119</cp:revision>
  <dc:subject/>
  <dc:title>Slide Title Here</dc:title>
</cp:coreProperties>
</file>