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439-14AE-466B-92FD-6BBEDFBF8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55A-724B-4457-AF69-52E2D2695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144-247A-44E2-974F-CD3A39B1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753-3CC0-4552-A920-F4037E31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57D-0C9B-43C0-AFFD-689FAE27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24A1-25AC-4C1D-974F-FD5ADB3D5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877-4B66-4174-A174-F445A56B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D26E-C69F-4F06-9209-4D8127EE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6DF-47D9-4AB4-855B-D5B21F9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A62-15E3-4371-A48D-0D1D4BE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DB2-0FB9-44B5-8B02-4914C95E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A62-8E59-43C1-BD2B-7D6EC28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8E1B-1603-42E8-946D-996BD477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65D-5EE3-4098-A33E-8F3EDA8E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4137-2BB1-4AA4-B5EA-CD5FFB2D7F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Mobilizing Resources through Programmatic Approach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Standards for GEF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matic approach will be pursued where there is a strong ratio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go Basin Forests – Pacific Islands – Energy in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must be based on country prior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high level of political and economic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itment for partnerships at national level across line ministries and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pen transparent process that encourages multi-stakeholder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THANK YOU FOR YOUR ATTENTION!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What a (GEF) program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GEF Program = a framework to facilitate results under common objectives and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opportunities to generate synergies across GEF focal areas and with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matic approach needs to be consistent with the GEF focal area strategies to maximize and scale up global environment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different level of programs at the GEF – global, regional, national, thematic, multi-focal, single foc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ct from a multi-country project or a regio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ll GEF Focal areas have experiences with programs:</a:t>
            </a: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2361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W: Strategic Partnerships on Fisheries in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D: CPP, S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C: Strategic Program on Energy for West Af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FA: Coral Triangle Initi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D, IW, CC, Adapt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50000"/>
              </a:lnSpc>
              <a:spcBef>
                <a:spcPts val="201"/>
              </a:spcBef>
              <a:spcAft>
                <a:spcPts val="201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FM: Congo Basin Strategic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out of 33 were launched under GEF4 ($1.6 billion; leveraging $7.9 bill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P:  Strategic Investment Partn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PP:  Country Partnership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GP:  Small Grants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Added Value of a 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 the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ize Global Benefits by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nergies: a cost effici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F catalytic ro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leverage additional financ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er to monitor and evalu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rate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action with the GEF;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wards 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untry driven proc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pool resources from various GEF focal ar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601"/>
              </a:spcBef>
              <a:spcAft>
                <a:spcPts val="601"/>
              </a:spcAft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portunities to secure financing and mobiliz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predictability - Less transaction co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re strategic interaction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countries based on Agency comparative advant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ts val="2200"/>
              </a:lnSpc>
              <a:spcBef>
                <a:spcPts val="4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ships – Additional funding - Synerg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Institutional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eamlining the project cycle &amp; refining the programmatic approach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rom Projects to Programs: Clarifying the Programmatic Approach in the GEF Portfol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F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8ed5"/>
                </a:solidFill>
                <a:latin typeface="Calibri"/>
              </a:rPr>
              <a:t>Overall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secu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r-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ustained impact on the global environment through integrating global environmental objectives into national or region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rateg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plans us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isburse large-scale GEF resources effectively and efficiently to countries and regions with enhanced accountability and overs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8ed5"/>
                </a:solidFill>
                <a:latin typeface="Calibri"/>
              </a:rPr>
              <a:t>Refining the programmatic approa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PTION 1- Current Programmatic Approach with modification: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ulti-agency program with a Program Coordination Agenc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 Framework Document approval by the Council (+ PIFs if ready): resources are set a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IFs are approved 6 months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ycle as regular projects (PIF – PPG – CEO Endorseme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IF approval and CEO endorsement: ≤ 18 mont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s: 9% for each participating ag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ordination fee: case-by-case (indicative amount $500,0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PTION 2 - New Approach: Single Agency Program with a Qualifying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FD Approval by the Council (resources set as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FD contains project ideas (one p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IF step is skipped – Each QA follows its own project preparation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documents are submitted to the GEFSEC for endorsement/approval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between PFD approval and CEO endorsement: 18 months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y fee: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reparation grant can be approved by the CEO after PFD appr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558ed5"/>
                </a:solidFill>
                <a:latin typeface="Calibri"/>
              </a:rPr>
              <a:t>Key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Program Framework Docu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 including a Result Framework, a baseline, List of projects that contribute to the program goal and objectives, monitoring, indicators (+Monitoring bud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7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558ed5"/>
                </a:solidFill>
                <a:latin typeface="Calibri"/>
              </a:rPr>
              <a:t>Annual Implementation Repor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dcterms:modified xsi:type="dcterms:W3CDTF">2011-11-01T20:35:47Z</dcterms:modified>
  <cp:revision>119</cp:revision>
  <dc:subject/>
  <dc:title>Slide Title Here</dc:title>
</cp:coreProperties>
</file>