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A7B0-0AC1-4987-9411-5F9C029AD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780-29E1-43C1-8BC1-41FF2091F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AAF-990C-4F8E-A686-77A6B366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7DA-A140-4638-B0FE-DB443F4C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F5A-321B-49B1-AA04-533A662A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737-291F-48F0-96D4-4CA007CD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F07-1E34-48C3-B17E-2E57AC6E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89B-E9B4-4B25-A103-B5F778D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C0F-DF5D-4242-B5CF-EB278EB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D9D-C6A3-4650-B2B1-2A42B2C4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0E2-3555-46BD-9111-DAD44434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A5D-FD2E-4431-9AEF-A61B16B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BC7-579D-439A-B08E-4FA2229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CF5-F3C8-4C7B-99B4-AB18A79F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BF61-C25D-4CCE-818D-067CAA4D2A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1-11-01T20:35:47Z</dcterms:modified>
  <cp:revision>119</cp:revision>
  <dc:subject/>
  <dc:title>Slide Title Here</dc:title>
</cp:coreProperties>
</file>