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585E-E101-41A8-8FF7-01EAA5D17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427A-4E7C-40C2-A4D3-D167FAF12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D6FE-3F70-479C-B966-2A02EE049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6E7-2430-47ED-B3C3-3FA6FAC8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B37-B9A2-4C27-967F-5DCDDBDB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F06-9AEC-46EA-947B-141157D9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E27-9600-4C00-9975-D1B3038E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7F5-2B71-49E5-A2B8-DC3C5737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2BC-DE42-41EA-893B-E448E6E1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195-F93D-4EE5-9AAC-0E824759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0E3-4F03-4864-849D-22235CE6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CCC-2E54-42C3-A94D-0CEBC1D5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B50-F0DD-4FE9-B3C9-71329BC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B77-CE57-433D-9C66-D9514446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05E-4234-4831-BFB1-E621410A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ГЭФ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D0DA-AFE8-4D80-B3BE-7B2DA2FC04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Мобилизация ресурсов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 посредство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программных подх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314360" y="3808440"/>
            <a:ext cx="64008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Семинар для членов  ГЭФ в расширенном сост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0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0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514440" y="582480"/>
            <a:ext cx="642960" cy="856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1218960"/>
            <a:ext cx="8182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тандарты реализации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рограммного подхода ГЭ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4360" y="2255400"/>
            <a:ext cx="8029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ный  подх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яется только при наличии надлежащего обоснования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апр.,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еса бассейна реки Конго – острова Тихого океана – развитие энергетики в Афр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должна базироваться на страновых приорите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й уровень политической и экономической приверж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рженность установлению партнерских отношений среди профильных министерств и организаций на национальном уро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крытый, прозрачный процесс, способствующий участию все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интересованных стор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172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СПАСИБО ЗА ВНИМАНИЕ</a:t>
            </a: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!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б-сайт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такое программа</a:t>
            </a:r>
            <a:r>
              <a:rPr b="0" lang="fr-FR" sz="36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ГЭФ</a:t>
            </a:r>
            <a:r>
              <a:rPr b="0" lang="fr-FR" sz="3600" spc="-1" strike="noStrike">
                <a:solidFill>
                  <a:srgbClr val="17375e"/>
                </a:solidFill>
                <a:latin typeface="Calibri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механизм, способствующий достижению результатов в рамках общих целей и прави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ение возможностей для формирования синергетического эффекта во всех тематических областях деятельност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ри взаимодействии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ный подход должен соответствовать стратегиям, осуществляемым в тематических областях деятельности ГЭФ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лях максимизации и последовательного наращивания глобальных благ в сфере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уются программы различного уровн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, региональные, национальные, тематические, отраслевые и межотрасле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ГЭФ отличается от многостранового или регионального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085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о всех тематических областях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еятельности ГЭФ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имеется опыт осуществления программ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2514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В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ческие партнерства в области рыбного хозяйства в Западной Афри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З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СП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С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К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ческая программа развития энергетики в Западной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Афри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ПТ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нициатива Кораллового треугольник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К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ЛП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ческая программа в отношении бассейна реки Кон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ализация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5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33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грамм была начата в рамках ГЭФ-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4 (1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лрд. долл. СШ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мобилизован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лрд. долл. СШ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С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а стратегического инвест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С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а странового партне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МГ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а малых гран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Дополнительные преимущества</a:t>
            </a: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560" y="16765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ксимизация глобальных благ за счет синергетического эффек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ономически эффективный проце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иление каталитической роли ГЭ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целях мобилизации дополнительного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ощение процедур мониторинга и оцен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ени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атегическог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заимодействия 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целях укреплен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ведущей рол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стр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бъединения ресурсов за счет различных тематических областей ГЭ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бъединения финансирования и привлечения партн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организаций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степени предсказуемости; снижение операционных расхо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ение стратегического взаимодействия со странами  на основе сравнительных преимуществ  организаци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исполнит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Э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партн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создания партнерств,  мобилизации дополнительного  финансирования, создания синергетического эфф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Институциональное опреде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вершенствование проектного цикла и доработка программного подхода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 проектов к программам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азъяснение программного подхода в отношении портфеля проекто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Основная ц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боле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сштаб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устойчивого воздействия на глобальную окружающую среду посредством интеграции глобальных задач в сфере окружающей среды в национальные или региональ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атег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планы за счет использ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тнерских отношен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эффективности и действенности выделения значительных ресурсов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м и регионам с использованием усовершенствованных систем отчетности и надз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Доработка программного подх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1120" y="190476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ВАРИАНТ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 1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усовершенствование действующего в настоящее время программного подхода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0" lang="en-US" sz="19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программа с участием ряда организаций во главе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 c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организацией, координирующей программ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тверждение Советом рамочного документа по программе (РДП)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+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ФОП, в случае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отовност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се ФОП  утверждаются через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есяцев после утверждения РД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ектный цикл аналогичен циклу обычных проектов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обрение ИД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еменной интервал между утверждением ФОП и одобрением ИД составляет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≤ 18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есяце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миссионное вознаграждени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9%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ждой участвующей организ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миссионное вознаграждение за согласование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индивидуальном порядк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риентировочная сумм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тыс. долл. СШ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АРИАНТ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 2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овый подход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: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грамма одной организации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,</a:t>
            </a:r>
            <a:r>
              <a:rPr b="0" i="1" lang="az-Cyrl-AZ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az-Cyrl-AZ" sz="2000" spc="-1" strike="noStrike">
                <a:solidFill>
                  <a:srgbClr val="17375e"/>
                </a:solidFill>
                <a:latin typeface="Calibri"/>
              </a:rPr>
              <a:t>соответствующей критериям делегирования полномочий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az-Cyrl-AZ" sz="2000" spc="-1" strike="noStrike">
                <a:solidFill>
                  <a:srgbClr val="17375e"/>
                </a:solidFill>
                <a:latin typeface="Calibri"/>
              </a:rPr>
              <a:t>на утверждение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тверждение Советом РДП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зервирование ресурс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раткое изложение концепции проекта в РДП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на страниц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Этап ФОП пропускается, т. к. каждая организац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соответствующ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 критериям делегирования полномочий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на утверждение проект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ледует собственной процедуре подготовки проект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дача проектной документации в Секретариат ГЭФ для одобрен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твержден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еменной интервал между утверждением РДП и одобрением ИД составляет 18 месяце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миссионное вознаграждени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8%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рант на подготовку проекта может быть утвержден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Д после утверждения РД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Основные док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Рамочный документ</a:t>
            </a:r>
            <a:r>
              <a:rPr b="0" lang="fr-FR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по программ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ает систему измерения результатов, базовый сценарий, перечень проектов, способствующих достижению целей и  решению задач программы, механизм мониторинга и систему показателей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(+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юджет осуществления мониторинга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49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Годовой отчет о ходе реализации</a:t>
            </a:r>
            <a:r>
              <a:rPr b="1" lang="fr-FR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грам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cp:lastPrinted>2011-09-29T12:30:24Z</cp:lastPrinted>
  <dcterms:modified xsi:type="dcterms:W3CDTF">2011-11-01T20:55:03Z</dcterms:modified>
  <cp:revision>153</cp:revision>
  <dc:subject/>
  <dc:title>Slide Title Here</dc:title>
</cp:coreProperties>
</file>