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B295-71E1-4AC4-BE8D-BE82E3BC9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A3AE-CE3B-4A10-8602-371AE8B16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5"/>
          <p:cNvSpPr/>
          <p:nvPr/>
        </p:nvSpPr>
        <p:spPr>
          <a:xfrm>
            <a:off x="0" y="911844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Header Placeholder 3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5"/>
          <p:cNvSpPr/>
          <p:nvPr/>
        </p:nvSpPr>
        <p:spPr>
          <a:xfrm>
            <a:off x="0" y="911844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76EF-001F-4694-83E7-0D38DA9A7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B6A2-0827-49F6-A9A9-5BF2BF2E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6BF4-9E86-4182-B674-70920674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78E2-94FB-4ED9-8A52-EC785AA0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5C57-1633-4CE1-B896-D1479E9F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3DD-4B3D-4195-9D16-707F5228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CB74-C78D-4E3F-92B1-FF3D6E9E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544C-1D8F-4BD1-A5FD-63DD38FF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50C9-50B4-4A2C-B91F-4D963CD9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5827-75CA-4E9A-976B-2A817C32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90FB-840B-4849-BCE4-DBBFDFE3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D5EC-E8FE-4495-9390-615FD196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252A-5B1D-41C8-9D82-442EB635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ГЭФ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BB43-B2FA-4935-8E89-99AD92A580B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Мобилизация ресурсов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 посредством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программных подход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ubtitle 4"/>
          <p:cNvSpPr/>
          <p:nvPr/>
        </p:nvSpPr>
        <p:spPr>
          <a:xfrm>
            <a:off x="1314360" y="3808440"/>
            <a:ext cx="640080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Arial"/>
              </a:rPr>
              <a:t>Семинар для членов  ГЭФ в расширенном соста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42d"/>
                </a:solidFill>
                <a:latin typeface="Arial"/>
              </a:rPr>
              <a:t>11–13</a:t>
            </a:r>
            <a:r>
              <a:rPr b="1" lang="ru-RU" sz="2000" spc="-1" strike="noStrike">
                <a:solidFill>
                  <a:srgbClr val="00642d"/>
                </a:solidFill>
                <a:latin typeface="Arial"/>
              </a:rPr>
              <a:t> октября</a:t>
            </a:r>
            <a:r>
              <a:rPr b="1" lang="en-US" sz="2000" spc="-1" strike="noStrike">
                <a:solidFill>
                  <a:srgbClr val="00642d"/>
                </a:solidFill>
                <a:latin typeface="Arial"/>
              </a:rPr>
              <a:t> 2011</a:t>
            </a:r>
            <a:r>
              <a:rPr b="1" lang="ru-RU" sz="2000" spc="-1" strike="noStrike">
                <a:solidFill>
                  <a:srgbClr val="00642d"/>
                </a:solidFill>
                <a:latin typeface="Arial"/>
              </a:rPr>
              <a:t>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Arial"/>
              </a:rPr>
              <a:t>Ташкент</a:t>
            </a:r>
            <a:r>
              <a:rPr b="1" lang="en-US" sz="2000" spc="-1" strike="noStrike">
                <a:solidFill>
                  <a:srgbClr val="00642d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642d"/>
                </a:solidFill>
                <a:latin typeface="Arial"/>
              </a:rPr>
              <a:t>Узбеки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дзаголовок 2"/>
          <p:cNvSpPr/>
          <p:nvPr/>
        </p:nvSpPr>
        <p:spPr>
          <a:xfrm>
            <a:off x="514440" y="582480"/>
            <a:ext cx="642960" cy="856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1218960"/>
            <a:ext cx="8182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Стандарты реализации</a:t>
            </a: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программного подхода ГЭ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04360" y="2255400"/>
            <a:ext cx="8029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граммный  подх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яется только при наличии надлежащего обоснования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Напр.,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еса бассейна реки Конго – острова Тихого океана – развитие энергетики в Африк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грамма должна базироваться на страновых приоритет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окий уровень политической и экономической привержен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верженность установлению партнерских отношений среди профильных министерств и организаций на национальном уров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крытый, прозрачный процесс, способствующий участию все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интересованных стор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одзаголовок 2"/>
          <p:cNvSpPr/>
          <p:nvPr/>
        </p:nvSpPr>
        <p:spPr>
          <a:xfrm>
            <a:off x="50472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172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СПАСИБО ЗА ВНИМАНИЕ</a:t>
            </a:r>
            <a:r>
              <a:rPr b="1" lang="en-US" sz="4000" spc="-1" strike="noStrike">
                <a:solidFill>
                  <a:srgbClr val="17375e"/>
                </a:solidFill>
                <a:latin typeface="Calibri"/>
              </a:rPr>
              <a:t>!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3505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еб-сайт ГЭ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ww.thegef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одзаголовок 2"/>
          <p:cNvSpPr/>
          <p:nvPr/>
        </p:nvSpPr>
        <p:spPr>
          <a:xfrm>
            <a:off x="50472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то такое программа</a:t>
            </a:r>
            <a:r>
              <a:rPr b="0" lang="fr-FR" sz="3600" spc="-1" strike="noStrike">
                <a:solidFill>
                  <a:srgbClr val="17375e"/>
                </a:solidFill>
                <a:latin typeface="Calibri"/>
              </a:rPr>
              <a:t> (</a:t>
            </a: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ГЭФ</a:t>
            </a:r>
            <a:r>
              <a:rPr b="0" lang="fr-FR" sz="3600" spc="-1" strike="noStrike">
                <a:solidFill>
                  <a:srgbClr val="17375e"/>
                </a:solidFill>
                <a:latin typeface="Calibri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6840" y="20570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-343080">
              <a:lnSpc>
                <a:spcPct val="80000"/>
              </a:lnSpc>
              <a:spcBef>
                <a:spcPts val="4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грам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механизм, способствующий достижению результатов в рамках общих целей и прави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ширение возможностей для формирования синергетического эффекта во всех тематических областях деятельности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при взаимодействии с партнер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граммный подход должен соответствовать стратегиям, осуществляемым в тематических областях деятельности ГЭФ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целях максимизации и последовательного наращивания глобальных благ в сфере окружающей сре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амках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ализуются программы различного уровня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обальные, региональные, национальные, тематические, отраслевые и межотраслев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грамма ГЭФ отличается от многостранового или регионального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одзаголовок 2"/>
          <p:cNvSpPr/>
          <p:nvPr/>
        </p:nvSpPr>
        <p:spPr>
          <a:xfrm>
            <a:off x="50472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8085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Во всех тематических областях</a:t>
            </a: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деятельности ГЭФ</a:t>
            </a: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имеется опыт осуществления программ</a:t>
            </a: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: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2514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39996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В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тратегические партнерства в области рыбного хозяйства в Западной Африк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ДЗ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СП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С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ИК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тратегическая программа развития энергетики в Западной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Африк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ПТО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Инициатива Кораллового треугольник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В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ИК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даптация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SzPct val="1029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ЛП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тратегическая программа в отношении бассейна реки Конг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еализация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5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33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ограмм была начата в рамках ГЭФ-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4 (1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лрд. долл. США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мобилизовано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9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лрд. долл. США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СИ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грамма стратегического инвестирова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СП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грамма странового партнерст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МГ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грамма малых грант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одзаголовок 2"/>
          <p:cNvSpPr/>
          <p:nvPr/>
        </p:nvSpPr>
        <p:spPr>
          <a:xfrm>
            <a:off x="50472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Дополнительные преимущества</a:t>
            </a:r>
            <a:r>
              <a:rPr b="0" lang="en-US" sz="3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П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4560" y="167652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ля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Э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ксимизация глобальных благ за счет синергетического эффект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кономически эффективный процес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3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силение каталитической роли ГЭФ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целях мобилизации дополнительного финансир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рощение процедур мониторинга и оцен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ля стр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ширени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ратегическог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заимодействия 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целях укрепления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</a:rPr>
              <a:t>ведущей рол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</a:rPr>
              <a:t>стра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зможность объединения ресурсов за счет различных тематических областей ГЭ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зможность объединения финансирования и привлечения партнер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ля организаций ГЭ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степени предсказуемости; снижение операционных расход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ширение стратегического взаимодействия со странами  на основе сравнительных преимуществ  организаци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</a:rPr>
              <a:t>исполнител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Э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ля партне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зможность создания партнерств,  мобилизации дополнительного  финансирования, создания синергетического эффек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одзаголовок 2"/>
          <p:cNvSpPr/>
          <p:nvPr/>
        </p:nvSpPr>
        <p:spPr>
          <a:xfrm>
            <a:off x="50472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Институциональное определ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590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овершенствование проектного цикла и доработка программного подхода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EF/C.38/5/Rev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т проектов к программам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азъяснение программного подхода в отношении портфеля проектов ГЭ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E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C.33/6, March 21,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одзаголовок 2"/>
          <p:cNvSpPr/>
          <p:nvPr/>
        </p:nvSpPr>
        <p:spPr>
          <a:xfrm>
            <a:off x="50472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Основная це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4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ение боле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сштабног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устойчивого воздействия на глобальную окружающую среду посредством интеграции глобальных задач в сфере окружающей среды в национальные или региональны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ратег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планы за счет использовани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тнерских отношений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ышение эффективности и действенности выделения значительных ресурсов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ам и регионам с использованием усовершенствованных систем отчетности и надзор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одзаголовок 2"/>
          <p:cNvSpPr/>
          <p:nvPr/>
        </p:nvSpPr>
        <p:spPr>
          <a:xfrm>
            <a:off x="50472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Calibri"/>
              </a:rPr>
              <a:t>Доработка программного подх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71120" y="1904760"/>
            <a:ext cx="79246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7375e"/>
                </a:solidFill>
                <a:latin typeface="Calibri"/>
              </a:rPr>
              <a:t>ВАРИАНТ</a:t>
            </a:r>
            <a:r>
              <a:rPr b="1" lang="en-US" sz="1900" spc="-1" strike="noStrike">
                <a:solidFill>
                  <a:srgbClr val="17375e"/>
                </a:solidFill>
                <a:latin typeface="Calibri"/>
              </a:rPr>
              <a:t> 1</a:t>
            </a:r>
            <a:r>
              <a:rPr b="1" lang="ru-RU" sz="1900" spc="-1" strike="noStrike">
                <a:solidFill>
                  <a:srgbClr val="17375e"/>
                </a:solidFill>
                <a:latin typeface="Calibri"/>
              </a:rPr>
              <a:t>:</a:t>
            </a:r>
            <a:r>
              <a:rPr b="1" lang="en-US" sz="19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1900" spc="-1" strike="noStrike">
                <a:solidFill>
                  <a:srgbClr val="17375e"/>
                </a:solidFill>
                <a:latin typeface="Calibri"/>
              </a:rPr>
              <a:t>усовершенствование действующего в настоящее время программного подхода</a:t>
            </a:r>
            <a:r>
              <a:rPr b="1" lang="en-US" sz="1900" spc="-1" strike="noStrike">
                <a:solidFill>
                  <a:srgbClr val="17375e"/>
                </a:solidFill>
                <a:latin typeface="Calibri"/>
              </a:rPr>
              <a:t>:</a:t>
            </a:r>
            <a:r>
              <a:rPr b="0" lang="en-US" sz="19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1900" spc="-1" strike="noStrike">
                <a:solidFill>
                  <a:srgbClr val="17375e"/>
                </a:solidFill>
                <a:latin typeface="Calibri"/>
              </a:rPr>
              <a:t>программа с участием ряда организаций во главе</a:t>
            </a:r>
            <a:r>
              <a:rPr b="1" lang="en-US" sz="1900" spc="-1" strike="noStrike">
                <a:solidFill>
                  <a:srgbClr val="17375e"/>
                </a:solidFill>
                <a:latin typeface="Calibri"/>
              </a:rPr>
              <a:t> c </a:t>
            </a:r>
            <a:r>
              <a:rPr b="1" lang="ru-RU" sz="1900" spc="-1" strike="noStrike">
                <a:solidFill>
                  <a:srgbClr val="17375e"/>
                </a:solidFill>
                <a:latin typeface="Calibri"/>
              </a:rPr>
              <a:t>организацией, координирующей программу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28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тверждение Советом рамочного документа по программе (РДП)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+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ФОП, в случае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готовности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се ФОП  утверждаются через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есяцев после утверждения РДП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оектный цикл аналогичен циклу обычных проектов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ФОП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ГПП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добрение ИД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ременной интервал между утверждением ФОП и одобрением ИД составляет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≤ 18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есяце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миссионное вознаграждение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: 9%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аждой участвующей организаци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28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миссионное вознаграждение за согласование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 индивидуальном порядке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риентировочная сумма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тыс. долл. США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одзаголовок 2"/>
          <p:cNvSpPr/>
          <p:nvPr/>
        </p:nvSpPr>
        <p:spPr>
          <a:xfrm>
            <a:off x="50472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ВАРИАНТ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 2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: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новый подход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: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программа одной организации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,</a:t>
            </a:r>
            <a:r>
              <a:rPr b="0" i="1" lang="az-Cyrl-AZ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az-Cyrl-AZ" sz="2000" spc="-1" strike="noStrike">
                <a:solidFill>
                  <a:srgbClr val="17375e"/>
                </a:solidFill>
                <a:latin typeface="Calibri"/>
              </a:rPr>
              <a:t>соответствующей критериям делегирования полномочий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az-Cyrl-AZ" sz="2000" spc="-1" strike="noStrike">
                <a:solidFill>
                  <a:srgbClr val="17375e"/>
                </a:solidFill>
                <a:latin typeface="Calibri"/>
              </a:rPr>
              <a:t>на утверждение проек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тверждение Советом РДП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езервирование ресурсов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раткое изложение концепции проекта в РДП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дна страница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Этап ФОП пропускается, т. к. каждая организация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az-Cyrl-AZ" sz="1700" spc="-1" strike="noStrike">
                <a:solidFill>
                  <a:srgbClr val="000000"/>
                </a:solidFill>
                <a:latin typeface="Calibri"/>
              </a:rPr>
              <a:t>соответствующ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az-Cyrl-AZ" sz="17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1700" spc="-1" strike="noStrike">
                <a:solidFill>
                  <a:srgbClr val="000000"/>
                </a:solidFill>
                <a:latin typeface="Calibri"/>
              </a:rPr>
              <a:t> критериям делегирования полномочий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1700" spc="-1" strike="noStrike">
                <a:solidFill>
                  <a:srgbClr val="000000"/>
                </a:solidFill>
                <a:latin typeface="Calibri"/>
              </a:rPr>
              <a:t>на утверждение проектов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ледует собственной процедуре подготовки проекта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одача проектной документации в Секретариат ГЭФ для одобрения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тверждения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ременной интервал между утверждением РДП и одобрением ИД составляет 18 месяцев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миссионное вознаграждение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: 8%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Грант на подготовку проекта может быть утвержден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ИД после утверждения РДП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одзаголовок 2"/>
          <p:cNvSpPr/>
          <p:nvPr/>
        </p:nvSpPr>
        <p:spPr>
          <a:xfrm>
            <a:off x="50472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4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17375e"/>
                </a:solidFill>
                <a:latin typeface="Calibri"/>
              </a:rPr>
              <a:t>Основные докуме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4920" y="243828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Calibri"/>
              </a:rPr>
              <a:t>Рамочный документ</a:t>
            </a:r>
            <a:r>
              <a:rPr b="0" lang="fr-FR" sz="2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17375e"/>
                </a:solidFill>
                <a:latin typeface="Calibri"/>
              </a:rPr>
              <a:t>по программе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ключает систему измерения результатов, базовый сценарий, перечень проектов, способствующих достижению целей и  решению задач программы, механизм мониторинга и систему показателей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(+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бюджет осуществления мониторинга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649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17375e"/>
                </a:solidFill>
                <a:latin typeface="Calibri"/>
              </a:rPr>
              <a:t>Годовой отчет о ходе реализации</a:t>
            </a:r>
            <a:r>
              <a:rPr b="1" lang="fr-FR" sz="2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грамм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одзаголовок 2"/>
          <p:cNvSpPr/>
          <p:nvPr/>
        </p:nvSpPr>
        <p:spPr>
          <a:xfrm>
            <a:off x="50472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6:29:31Z</dcterms:created>
  <dc:creator>mikec</dc:creator>
  <dc:description/>
  <dc:language>en-US</dc:language>
  <cp:lastModifiedBy>wb350798</cp:lastModifiedBy>
  <cp:lastPrinted>2011-09-29T12:30:24Z</cp:lastPrinted>
  <dcterms:modified xsi:type="dcterms:W3CDTF">2011-11-01T20:55:03Z</dcterms:modified>
  <cp:revision>153</cp:revision>
  <dc:subject/>
  <dc:title>Slide Title Here</dc:title>
</cp:coreProperties>
</file>