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1B74-A185-4BC4-AAEF-3C29AB2F9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1889-A064-4633-8966-4215EEE2F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Header Placeholder 6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3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Header Placeholder 3"/>
          <p:cNvSpPr/>
          <p:nvPr/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ЭФ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4"/>
          <p:cNvSpPr/>
          <p:nvPr/>
        </p:nvSpPr>
        <p:spPr>
          <a:xfrm>
            <a:off x="4143240" y="0"/>
            <a:ext cx="3170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0" y="9118440"/>
            <a:ext cx="317016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B89-AD93-4321-8777-C9063D4AD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A3D-236D-47A6-B4B9-7DFDD6F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577F-A7DA-4705-8344-D937A29C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71B3-19A7-4423-97F1-225EB3EB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44A-0D61-4E72-9F93-1E18BBEF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70C-E519-43A9-8726-62D8E2D1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594-5307-4793-B20E-A9179AF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5B7-2EB7-4D50-AE7E-0BC21AE3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B1B-D182-4DAB-A3B7-29D340AC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C8BB-FCDF-4D5E-8156-8C578C43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E9A-20CA-4D67-98E8-82BE1E01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ADF7-46EE-4D27-80B1-41C911B5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9DE-F16D-48A8-9773-3806B0A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5 February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ГЭФ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 Expanded Constituency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82E-E9D9-4B23-947C-1A4D609279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обилизация ресурсов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 посредство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программных подх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ubtitle 4"/>
          <p:cNvSpPr/>
          <p:nvPr/>
        </p:nvSpPr>
        <p:spPr>
          <a:xfrm>
            <a:off x="1314360" y="3808440"/>
            <a:ext cx="640080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Семинар для членов  ГЭФ в расширенном сост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0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514440" y="582480"/>
            <a:ext cx="642960" cy="856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1218960"/>
            <a:ext cx="8182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Стандарты реализации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рограммного подхода ГЭ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4360" y="2255400"/>
            <a:ext cx="8029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ный  подхо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яется только при наличии надлежащего обоснования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апр.,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еса бассейна реки Конго – острова Тихого океана – развитие энергетики в Африк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должна базироваться на страновых приорите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й уровень политической и экономической приверж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рженность установлению партнерских отношений среди профильных министерств и организаций на национальном уров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крытый, прозрачный процесс, способствующий участию все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интересованных сто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72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СПАСИБО ЗА ВНИМАНИЕ</a:t>
            </a: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!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505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б-сайт ГЭ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ww.thegef.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такое программа</a:t>
            </a:r>
            <a:r>
              <a:rPr b="0" lang="fr-FR" sz="3600" spc="-1" strike="noStrike">
                <a:solidFill>
                  <a:srgbClr val="17375e"/>
                </a:solidFill>
                <a:latin typeface="Calibri"/>
              </a:rPr>
              <a:t> (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ГЭФ</a:t>
            </a:r>
            <a:r>
              <a:rPr b="0" lang="fr-FR" sz="3600" spc="-1" strike="noStrike">
                <a:solidFill>
                  <a:srgbClr val="17375e"/>
                </a:solidFill>
                <a:latin typeface="Calibri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это механизм, способствующий достижению результатов в рамках общих целей и прави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ение возможностей для формирования синергетического эффекта во всех тематических областях деятельности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при взаимодействии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ный подход должен соответствовать стратегиям, осуществляемым в тематических областях деятельности ГЭФ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ях максимизации и последовательного наращивания глобальных благ в сфере окружающей сред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амках ГЭ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ализуются программы различного уровн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обальные, региональные, национальные, тематические, отраслевые и межотраслев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грамма ГЭФ отличается от многостранового или регионального проек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08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Во всех тематических областях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деятельности ГЭФ</a:t>
            </a:r>
            <a:r>
              <a:rPr b="0" lang="en-US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имеется опыт осуществления программ</a:t>
            </a:r>
            <a:r>
              <a:rPr b="0" lang="en-US" sz="2800" spc="-1" strike="noStrike">
                <a:solidFill>
                  <a:srgbClr val="17375e"/>
                </a:solidFill>
                <a:latin typeface="Calibri"/>
              </a:rPr>
              <a:t>: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2514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В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ие партнерства в области рыбного хозяйства в Западной Афри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З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С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С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К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ая программа развития энергетики в Западной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      Африк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П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Инициатива Кораллового треугольни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Р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К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даптац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39996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Л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тратегическая программа в отношении бассейна реки Конг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ализация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5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33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грамм была начата в рамках ГЭФ-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4 (1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мобилизован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лрд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И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стратегического инвест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СП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странового партнер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МГ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грамма малых грант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Дополнительные преимущества</a:t>
            </a:r>
            <a:r>
              <a:rPr b="0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6765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ксимизация глобальных благ за счет синергетического эффек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экономически эффективный проце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2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иление каталитической роли ГЭ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целях мобилизации дополнительного финанс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рощение процедур мониторинга и оцен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стр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атегическог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заимодействия с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Э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целях укрепления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ведущей рол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стр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бъединения ресурсов за счет различных тематических областей ГЭ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бъединения финансирования и привлечения партн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организаций ГЭ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степени предсказуемости; снижение операционных расход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ение стратегического взаимодействия со странами  на основе сравнительных преимуществ  организ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исполнител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Э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партн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создания партнерств,  мобилизации дополнительного  финансирования, создания синергетического эффек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Институциональное опреде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5909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овершенствование проектного цикла и доработка программного подхода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/C.38/5/Rev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т проектов к программам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разъяснение программного подхода в отношении портфеля проектов ГЭФ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E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C.33/6, March 21, 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Основная ц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боле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сштаб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устойчивого воздействия на глобальную окружающую среду посредством интеграции глобальных задач в сфере окружающей среды в национальные или региональ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ратег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ланы за счет использ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ртнерских отношений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и действенности выделения значительных ресурсов ГЭ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ам и регионам с использованием усовершенствованных систем отчетности и надз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Доработка программного подх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71120" y="190476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ВАРИАНТ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1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усовершенствование действующего в настоящее время программного подхода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0" lang="en-US" sz="19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программа с участием ряда организаций во главе</a:t>
            </a:r>
            <a:r>
              <a:rPr b="1" lang="en-US" sz="1900" spc="-1" strike="noStrike">
                <a:solidFill>
                  <a:srgbClr val="17375e"/>
                </a:solidFill>
                <a:latin typeface="Calibri"/>
              </a:rPr>
              <a:t> c </a:t>
            </a:r>
            <a:r>
              <a:rPr b="1" lang="ru-RU" sz="1900" spc="-1" strike="noStrike">
                <a:solidFill>
                  <a:srgbClr val="17375e"/>
                </a:solidFill>
                <a:latin typeface="Calibri"/>
              </a:rPr>
              <a:t>организацией, координирующей программу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е Советом рамочного документа по программе (РДП)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+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ФОП, в случа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товност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се ФОП  утверждаются через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сяцев после утверждения РД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ектный цикл аналогичен циклу обычных проектов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ФОП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ПП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обрение ИД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ной интервал между утверждением ФОП и одобрением ИД составляет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≤ 18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есяце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9%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аждой участвующей организа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за согласовани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индивидуальном порядк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риентировочная сумм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тыс. долл. СШ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ВАРИАНТ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2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: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новый подход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: </a:t>
            </a: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ограмма одной организации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,</a:t>
            </a:r>
            <a:r>
              <a:rPr b="0" i="1" lang="az-Cyrl-AZ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az-Cyrl-AZ" sz="2000" spc="-1" strike="noStrike">
                <a:solidFill>
                  <a:srgbClr val="17375e"/>
                </a:solidFill>
                <a:latin typeface="Calibri"/>
              </a:rPr>
              <a:t>соответствующей критериям делегирования полномочий</a:t>
            </a:r>
            <a:r>
              <a:rPr b="1" lang="en-US" sz="2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az-Cyrl-AZ" sz="2000" spc="-1" strike="noStrike">
                <a:solidFill>
                  <a:srgbClr val="17375e"/>
                </a:solidFill>
                <a:latin typeface="Calibri"/>
              </a:rPr>
              <a:t>на утверждение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е Советом РДП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резервирование ресурс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раткое изложение концепции проекта в РДП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дна страниц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Этап ФОП пропускается, т. к. каждая организац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соответствующ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 критериям делегирования полномочий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700" spc="-1" strike="noStrike">
                <a:solidFill>
                  <a:srgbClr val="000000"/>
                </a:solidFill>
                <a:latin typeface="Calibri"/>
              </a:rPr>
              <a:t>на утверждение проект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,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ледует собственной процедуре подготовки проекта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одача проектной документации в Секретариат ГЭФ для одобрен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утверждения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ременной интервал между утверждением РДП и одобрением ИД составляет 18 месяце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миссионное вознаграждение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8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рант на подготовку проекта может быть утвержден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Д после утверждения РДП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4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Осно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243828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34880">
              <a:spcBef>
                <a:spcPts val="601"/>
              </a:spcBef>
              <a:spcAft>
                <a:spcPts val="601"/>
              </a:spcAft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Рамочный документ</a:t>
            </a:r>
            <a:r>
              <a:rPr b="0" lang="fr-FR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по программ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ает систему измерения результатов, базовый сценарий, перечень проектов, способствующих достижению целей и  решению задач программы, механизм мониторинга и систему показателей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(+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юджет осуществления мониторинга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34880">
              <a:spcBef>
                <a:spcPts val="649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17375e"/>
                </a:solidFill>
                <a:latin typeface="Calibri"/>
              </a:rPr>
              <a:t>Годовой отчет о ходе реализации</a:t>
            </a:r>
            <a:r>
              <a:rPr b="1" lang="fr-FR" sz="2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грам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одзаголовок 2"/>
          <p:cNvSpPr/>
          <p:nvPr/>
        </p:nvSpPr>
        <p:spPr>
          <a:xfrm>
            <a:off x="504720" y="577800"/>
            <a:ext cx="642960" cy="125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Calibri"/>
              </a:rPr>
              <a:t>Л Е 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одзаголовок 2"/>
          <p:cNvSpPr/>
          <p:nvPr/>
        </p:nvSpPr>
        <p:spPr>
          <a:xfrm>
            <a:off x="1295280" y="228600"/>
            <a:ext cx="384984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ДВАДЦАТЬ ЛЕТ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дзаголовок 2"/>
          <p:cNvSpPr/>
          <p:nvPr/>
        </p:nvSpPr>
        <p:spPr>
          <a:xfrm>
            <a:off x="1266840" y="476280"/>
            <a:ext cx="42768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e7a47"/>
                </a:solidFill>
                <a:latin typeface="Calibri"/>
              </a:rPr>
              <a:t>ГЛОБАЛЬНЫЙ ЭКОЛОГИЧЕСКИЙ ФОН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e7a47"/>
                </a:solidFill>
                <a:latin typeface="Calibri"/>
              </a:rPr>
              <a:t>ИНВЕСТИЦИИ В НАШУ ПЛАНЕТ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29:31Z</dcterms:created>
  <dc:creator>mikec</dc:creator>
  <dc:description/>
  <dc:language>en-US</dc:language>
  <cp:lastModifiedBy>wb350798</cp:lastModifiedBy>
  <cp:lastPrinted>2011-09-29T12:30:24Z</cp:lastPrinted>
  <dcterms:modified xsi:type="dcterms:W3CDTF">2011-11-01T20:55:03Z</dcterms:modified>
  <cp:revision>153</cp:revision>
  <dc:subject/>
  <dc:title>Slide Title Here</dc:title>
</cp:coreProperties>
</file>