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750B-43A3-47E0-86E6-9234960AE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1979-F140-4E34-A2C8-4C56370D9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9E20-F5C1-4DDE-A828-08EB7805E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029-1466-422C-A74C-E16A7EA9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E2F-9F1E-4805-B591-439EA3B7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F13-2A39-4F2C-B33D-5C8F01B7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2B5-63AF-4F9F-8C65-26E5B7BB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0997-EDBA-47E1-8B4F-D8080AF9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928-E39B-47E2-B625-18C0B614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A02E-CC92-4917-AC40-3C8226FE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A77A-03F7-4E99-92AC-67DC5ED8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300A-17D2-4348-84D2-1D2243AA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ACD9-8ADF-4168-A6D6-E13E30F3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9067-15A1-4E46-93FC-02FBFA0B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2F93-2662-43BF-A127-C4F2BA03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D973-191C-4E6C-BEEB-CE639A64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59A2-5354-47A8-951F-21FEA84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4F6D-5969-4C18-8BAA-B3E5285C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9DD8-B805-459A-BA89-04A22E17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46E-2BBC-4935-8058-CC290EB4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A533-988D-4978-8E2B-3F060373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D950B-A236-4F29-841C-665BABE7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9275-5D4B-436C-90F1-ABF84BA0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2BE3-9110-4ED4-99C0-69E676F5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425BE-C6D4-4220-9CD1-8075B046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6080-2D65-49CA-8106-BFFC7C96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54811-DA02-450D-98CB-C3EBD60A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91AC-DEFD-4542-98AD-04B0B559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5FB91-3B7B-4C14-BE68-8FC7E134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5122-82D5-4CBE-B8DD-73EB8919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03F-E64D-4E74-B9D0-EB0A9CE8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FDA1-8F42-4BA3-ACE8-DAACF003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C9AE-1CA3-459A-8E22-600CA74B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FDA4-EF47-412E-9413-BD46218F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37646-535A-492B-831D-7064F5C8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EF44-D8AE-42A5-868C-328B960A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157AD-73F5-44C5-B4FB-DC7DB208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386A5-4C51-4D29-BAED-BB98F93C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E6845-C803-4641-835D-177F8AB6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2CC8A-7C6B-4141-9769-B196CA28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A3F5-A2C3-4A7E-82AA-393C3BA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FA1-F416-4798-8F3C-F75AA6CE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BDE2C-A361-44AE-A4E5-A448864C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302E-B152-43D0-9657-BB920589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4759-B581-4626-B448-CE188CCD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4C39D-FAEB-4297-82E5-98BFFA55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2E897-25A2-41AF-9DBD-240F8C14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AAD72-65BA-4B7F-A096-2F762D56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16B28-E647-4E77-8454-B0922396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F6E2D-B76F-4CD9-ACC6-0A18AFD6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6B41A-E2EC-48D3-92B8-2A2AC0AA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C1E8D-7D45-4C2B-8659-2E665328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9B9-5972-4225-B426-D5A8CBD8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6391-29D3-4CFE-A5F4-721A2A84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D5529-5D36-4D12-923A-1B0FBE98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1EB67-5144-4D3F-8C5F-8C6DD5B0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D836B-F6F3-4214-91CC-C153BCE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2F03C-B8D4-41BF-8802-7EBAAA68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C9B17-77EA-4824-B6FF-53721323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8B63F-A569-41C8-9E67-3F0F1074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1776A-0B12-410A-9394-AB82C87D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E22EF-C906-4B84-A9CC-329EF5F8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7C575-82C3-42AD-8B19-214D96A0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7C1-A408-4E26-AC58-F08CF241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BEE07-39FD-448D-981C-391613D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7FECE-0A43-4E00-9F90-9B52431A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C4911-CBB3-45B0-9E8F-8BB6E2C1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ADAE4-E2E1-4B97-A285-F5789BCC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D8885-10A2-4D2B-BA2E-85B7C154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100D0-F441-43E4-9249-442248A4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00EAE-C7C0-48CE-A3C7-1738F832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A9920-A4CD-4E3B-B2EC-7CF7E9C8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015ED-12B8-4864-9D95-34EB7911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01767-17F7-4352-8499-1C371DC1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0CC-875D-48D1-82F3-8AB9A448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5D614-A74C-4272-A2FF-E12725F7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FF380-68CA-4F23-9A6B-C6AC870F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78D0C-B13A-4475-BD2A-547E3FA7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8279-3007-4F9A-9D76-2B9FD642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2ECC1-A953-4606-BC07-7B15D8FB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7A915-F1F6-4EAA-8BC3-BD25F4C4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AD819-57BB-47FE-9201-1B2DE850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DD27B-27CA-4B0D-B4DF-E152553F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D0CC-CE97-4A28-BCA6-D45C3358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DD46-A622-4D46-B16C-1EDD7992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DFE-0478-4E4C-99DD-55083D5A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239F-2739-4F45-A142-E0DA03D2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C4E74-D07B-48DB-AF32-F9048138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94178-95E4-49D8-A450-99FA75CC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0A5E2-1FBD-4CF6-85D8-40C916F9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48980-61D1-45FD-8124-CE93721F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E7C3C-0851-4D95-B561-DA5D683A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D36D8-9644-47C8-A315-358CADDF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E0A11-44B9-4B2D-8E7A-C3FA57E7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ED488-A789-4C3C-900E-5DA02C17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7E3B7-1490-42B8-A0FC-B5DCC4C5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6BDCF-A6B0-4C73-9935-3D149A36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5BF32-F3B2-4FC1-80DC-2C8EA36C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0C81E-871D-45D6-94E8-BFB2B050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041D7-685D-4A34-9EC0-FEF2BD42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884A8-ECAC-4C4B-BB9B-D3A31ECE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8D377-593C-44BF-AAD2-38494A2B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4353F-25BD-4C94-B6F8-CB4F3F6B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570CE-5142-404F-B6D9-E54371CC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0B9E0-58F6-4515-8AF5-971CF362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FDD40-D5C7-4211-A3CB-ACEBC94A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B4312-F2B4-45E5-B58E-76B8730F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FF525-D6F4-4E61-BA89-953AA73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B85BB-BF7B-461C-A946-26B7FEEF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62367-22BB-47D5-A4C3-D5BE325B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7CB12-BE10-47E2-A344-255204A8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1D03E-1C0D-4FE1-9371-E47935DA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E796C-637C-46D2-937D-E49C34E2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508FA-D0E1-42FE-ABBD-FE2E4B9B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FAA7F-1BE2-44DE-ACB0-8684FB7C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7B8C3-7C82-46CD-B789-87AD1BBE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DABD3-5808-4AA1-A240-3F92A4C0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AAF24-8936-48A1-839A-2714F7EC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D1654-63AD-4BC6-99AA-A9460B98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DEB02-2E70-4446-B0A6-61834F29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3F1EF-D199-4FEC-BF49-DD169A3D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8890D-F05A-4752-90BF-F0BF274C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1EA8C-CAB5-49C0-8108-B27475A3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31D76-B0D1-4372-B7FC-C055A8D1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068D0-90CD-4CDE-9495-14C88056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F6514-040F-47C8-8C8F-9C15A6D5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AAE71-5415-42FC-B76F-5CA346EF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C0866-E4A1-4593-9244-7B89A8BE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76D1D-BA3E-4973-A848-CABA5284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3A149-D8B4-46EB-84AC-F1DB37B0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EFB62-E96C-4EDA-8BF0-FCCDBE5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F59F4-E73D-49DD-8C0F-B8661FE1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D7B89-BA5B-41C5-A65F-842C9A23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77FB7-9D8D-4C83-9880-1D95B63F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82C9A-DA67-478C-90B0-0B9E5BF2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48236-814D-4C63-9B61-DE6B3732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E465A-CDC2-42B8-95D3-4FFAFEFD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A10AA-CA6F-477D-AFDE-CECF8394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EEF85-5EBD-4933-AD55-2EF968C2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F6CC3-1EC1-4202-B6CE-C5CE9759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041AD-A570-41E7-AE0A-A0A39F0D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36C76-DD36-4732-8567-DAC23202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9C9E1-D22C-4879-96B2-88A665C7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CD80A-672C-4893-B8BF-85FD5A2B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90A69-5B79-4A2F-AA22-DC165043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3BFFF-B212-46F4-9EBD-1B97625D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CAE06-8A09-404A-8F4B-30D13162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FD75C-191C-4E1C-85BD-835847F3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A47E9-6A3D-40A7-930B-B4BAF910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F6492-B62C-4A58-9CEA-CCA8EFB7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D8533-831A-469A-843F-E3A1D154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208B6-DD20-4019-A9D7-E5357520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A1CC3-82D3-4E67-8457-9ACDD855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DA53A-0591-4895-91CC-9B04B2E5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E55B9-F891-4D41-8973-3A7528B7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05EE7-6D1B-444B-A56A-D15642F8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CE493-AC4F-4D76-B013-82AF191B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068D0-D722-49BC-A368-5812229B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BC6A0-6F8D-4A32-AF70-834C8DB6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024C-D7FF-46FC-95A8-56BF57077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83D5-0B40-44CF-884E-7E23725F19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AEDB-6891-412E-ADD8-CD0CF0402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B39F-2333-4270-B54D-2C2AF7E6F5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3CF3-2F95-4C72-B3D0-5884FC4F8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5A4A-6AD3-4F28-AB22-BDD7EB743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3467-6F6F-4C10-912F-696B17094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F2B4-2B79-49BA-A113-88D3DCBA8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B5D-A597-4272-9F55-F7AA8AABA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0A69-CA6E-4CD6-9EF1-ABB71F9D4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6F88-B2BA-40BB-A447-4B4740565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A462-09BF-4A65-A0D9-AC9C20D38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42d"/>
                </a:solidFill>
                <a:latin typeface="Calibri"/>
                <a:ea typeface="Arial"/>
              </a:rPr>
              <a:t>Système transparent d'allocation des res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de la Circon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  <a:ea typeface="Arial"/>
              </a:rPr>
              <a:t>25 au 27 Octobr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4"/>
          <p:cNvSpPr/>
          <p:nvPr/>
        </p:nvSpPr>
        <p:spPr>
          <a:xfrm>
            <a:off x="152280" y="1447920"/>
            <a:ext cx="868680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jets seront approuvés avec le principe du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premier arrivé, premier ser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cas d'annulation de projet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avan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six derniers mois de la FEM-5 (31 Décembre 2013), les ressources restent disponibles dans le pays pour être utilisé dans la même zone d'inter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e cas de l'annulation du projet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aprè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six derniers mois de la FEM-5 (1 Janvier 2014), les ressources peuvent être utilisées dans la même zone de convergence ou dans d'autres, à la discrétion du chef de la direction et avec l'approbation du Conse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615240" y="304920"/>
            <a:ext cx="728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édures STAR opérationnel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5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073160" y="380520"/>
            <a:ext cx="73706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édures STAR opérationnel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80880" y="1447920"/>
            <a:ext cx="8610840" cy="46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ys considérés comme «flexibles»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peuvent utiliser toute leur allocation libre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sans la nécessité de respecter les montants spécifiques des domaines d'inter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ttres d'approbation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doit se référer aux allocations STAR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chaque zone de contact concerné, y compris les frais de préparation (PPG) et frais d'ag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Une lettre d’approbation révisé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st exigé si un montant plus de 5% de l'original est demandé pendant la période autorisation du Directeur géné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4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Picture 4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44560" y="76320"/>
            <a:ext cx="737064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édures STAR opérationnel (3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5"/>
          <p:cNvSpPr/>
          <p:nvPr/>
        </p:nvSpPr>
        <p:spPr>
          <a:xfrm>
            <a:off x="457200" y="1066680"/>
            <a:ext cx="830592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es pays «flexible», il faut se référer à la quantité totale et le montant individuel pour chaque domaine d'inter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Les secrétariats des conventions pertinent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oivent être informés des cas «flexibles» dans la lettre d'approb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Pour les réunions de mai 2011 et Juin 2012 du Consei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des rapports sur l'expérience de mise en œuvre de la STAR sera four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e la réunion du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Juin 2013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le Conseil débattra une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 évaluation de la conception et la mise en œuvre STA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préparé par le Bureau de l'évaluation (OE), plus un rapport sur ​​les progrès accomplis dans l'élaboration d'indicat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haines étap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1981080" y="2133720"/>
            <a:ext cx="472464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ttre en œuvre la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questions plus détaillées, s'il vous plaît contacter le Secrétariat du F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6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ransition du FEM-4 à FEM-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Conseil du FEM a demandé des réformes dans l‘allocation des ressources (DA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Bureau de l‘Évaluation du FEM, après des consultations avec les pays bénéficiaires, a formulé des avis uti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ette présentation décrit les nouvelles règles et procédures de fonctionnement correspondant au nouvelle système d'allocation des ressources, ST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Plan de la pré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Qu’y a-t-il de nouveau dans le STAR (FEM-5) par rapport au DAR (FEM-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'ensemble des allocations du FEM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procédures opérationnelles de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Qu’y a-t-il de nouveau au STAR (FEM-5)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Nouvelle allocation des zones 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et pays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4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ersité biologique (DB) et changement climatique (C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dividuels et allocations de grou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DC et SIDS dans le grou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5638680" y="2057040"/>
            <a:ext cx="335304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ersité biologique (DB), changement climatique (CC) et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dégradation des sols (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ous les pays ont des allocations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individue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ucune allocation de grou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9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De nouvelles règ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4 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0% pour DB et 15% pour 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0% Règl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ssources Réservées: 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638320" y="2057040"/>
            <a:ext cx="3429000" cy="38862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%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B et DS,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1% pour 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$2 M pour CC, $1.5 M pour DB, et $0.5 M pour 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lexibilité pour les petits États (de règle 7 mill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ssources Réservées: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10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Programmes pas dans le ST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aux Internat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luants organiques persistants et la gestion rationnelle des produits chim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udgets d'entre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'appui aux p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projets régionaux et mondiaux et des program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e petites sub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s pour la Terre (secteur priv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4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istribution des ressources 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u FEM-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sp>
        <p:nvSpPr>
          <p:cNvPr id="1075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5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Allocations STAR initiale pour FEM-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152280" y="914400"/>
          <a:ext cx="8610840" cy="4714920"/>
        </p:xfrm>
        <a:graphic>
          <a:graphicData uri="http://schemas.openxmlformats.org/drawingml/2006/table">
            <a:tbl>
              <a:tblPr/>
              <a:tblGrid>
                <a:gridCol w="2870280"/>
                <a:gridCol w="820800"/>
                <a:gridCol w="819000"/>
                <a:gridCol w="723960"/>
                <a:gridCol w="916200"/>
                <a:gridCol w="725400"/>
                <a:gridCol w="914400"/>
                <a:gridCol w="820800"/>
              </a:tblGrid>
              <a:tr h="29520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-4 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-4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1 Milli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n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25 Milli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ocation init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 Enveloppes (M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ibo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Eryth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Ethiop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e Mau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w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ych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ud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nz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'Oug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79" name="Picture 5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1-11-17T16:30:01Z</dcterms:modified>
  <cp:revision>623</cp:revision>
  <dc:subject/>
  <dc:title>GEF</dc:title>
</cp:coreProperties>
</file>