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C43-8D2C-4092-85F8-559F7BC8C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6B3-D5D4-42AC-BE7B-97A1BE491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BC0-F92E-4934-AA28-13E76332B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7EC-7DE0-41CA-A81B-C8AA5B2F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69C-9D49-4546-B472-E4ABA74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2D0-4FA8-4644-A4F7-BCF42CE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323-31C0-4BC5-A828-7B424EF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0880-54B1-49C5-909E-D43028EF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D3C-CE1F-489D-B1BB-3DEA892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A86A-8AEF-479F-B2C5-E4DC8481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8CD0-95FB-42AC-80CA-28C04B71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7359-B2CF-43E8-8299-4ADACB0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15BB-40E9-4A16-A25B-0BA66D3D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5AF6-FC12-46CC-BE2F-32BEB8D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A86F-946E-477B-97D5-05FCC34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3D6-9801-4C42-AA21-1CA8D95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624-1B4D-4423-846D-06AE856F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7A56-1717-4EB2-B085-7BC318D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D4C-4C81-45DA-BCDB-F5454927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EE6-C81E-4051-977B-4D7CD85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0E9F-3F10-4A35-AF28-E9EB4983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49F2-E8AE-4DB2-B168-010B3990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9CBC-CD75-4797-9E38-BF71818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7DA5-0D22-4302-A7FB-85FDFEE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7848-F307-47B1-AEFE-21A74733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EEE8-E5D9-45FC-8881-633AC7E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420A-59B7-4D13-8E7E-8589F40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5554-4CF5-410C-9767-7303D70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1B05-539D-472D-9708-EEA847D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984B-FFB7-4248-9659-70787D9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D72-0161-4FF5-A5E0-A922A006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F5D4-FF5F-45C2-8A6B-730A1DCC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F933-F495-4B2E-864B-6ACEE473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DC2C-232F-4A86-A0F2-CAC13952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63AE-2346-4AEF-AD9D-C608FB51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A3E7-674B-44B2-BEBE-E1938B65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2934-ACD2-4FD5-B56E-C47D6D42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C349-1796-47B4-99F3-4F1C2D53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746C-1D3A-4688-8189-0140E50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F51D-9F8A-42FA-8144-10AF5DEB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9C6E-3B21-443A-836E-A08F9E7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45D-4464-4C03-9D0D-9137D1C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D216-3A68-4225-A8B6-69485FE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EFE0-5413-4C7A-B201-92E2570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4BBF-41B6-477D-86BD-DD56C796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9C4C-3EB2-49BF-B1E0-666737CB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47A6-2664-4D05-9734-71FE4F05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724C-2ABD-4551-9D42-0D04AE0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8B81-372B-40C5-A802-E9DCE56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409C-6A4C-4285-B7CB-C4646834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6AB9-3847-4BC9-B788-08A4D90D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516C-4F38-403C-A738-D200A0D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A35-A143-43DA-8BB7-9C0A2F6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3BE8-A980-4169-896D-E6238EE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CB03-F03A-43E9-BEA9-042972B6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D9A2-22BC-4DEB-8D78-D8DDE81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39DF-B347-4938-ACF1-367C722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F740D-9510-4505-AC4E-FBB63E48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244C-8A32-474A-B81E-F983D08F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5042-70EA-4DAF-9DD5-DC7EB8DC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85735-B43A-4A24-95AB-F531B8DB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0A95-8494-43D1-9941-95830D36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1A41-95B0-4109-B04E-3B86E8B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66A-25CB-406E-8FF8-96794AF7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5B2E-BAE7-40FC-99FB-2D79126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3400-5860-4FD3-912A-1B8887D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13B3-DB90-4EE3-B53A-8C99F87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D557-A764-40E5-A358-95E942A7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7C61-6EFB-419A-B982-1329F832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260B-9A3A-4AA9-B26F-12F0944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1FFB-66DF-46B7-AFDB-03C605D2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BDA5-4020-4998-AB82-CF739FF6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BDD1-563B-49E2-B3D1-8367ADAC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89921-D6B5-4416-899C-DA489A3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602-91DC-44D6-AF02-96B37D47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D824-3002-407A-A722-5CF7D60F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6735-B934-4FC5-A221-9BF0C9D1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6E36-0395-466B-B243-A528FD01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8E95-DBD7-4B5D-9B51-65EFBCFE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CDD08-2B38-44DB-AC91-BEA51C05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440B-8313-4E00-A29B-4AABCDA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13D5-4D79-4669-A727-9F96BB3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E79BB-79D6-4804-89F9-FE882F4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3839-8D82-4A77-B015-88E3862D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8629F-A8C4-41AD-84F4-EA17FF61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8B5-D542-46E5-9DB8-71EFA030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54800-D44E-427E-BED3-9C713F26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2796-E20A-454A-8639-9EEF506F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73632-D927-435A-9849-6EB6183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73C4-3D17-4863-8C70-1BAFDB74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0786-C446-41C2-ACF0-AEDAA07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8B1B-49AF-4611-B382-8405B84F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40CD-4393-47C4-B4D5-B331C5B8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BE1E-E7E6-450A-96AF-8C655F8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A5FB-D6DC-431A-B939-9718384B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BD28-AD2F-4534-8936-268A973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894E-65A7-4C1F-BC47-2AD863E7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9B99-500F-4020-8504-F68018E3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0D2B6-2464-4838-B6CB-4203D619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AA04F-98DC-4159-A634-8614D722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0BD3-8646-4CB1-94C7-F84E20D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5ECB9-B30F-426A-B8BD-24049792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A2B4-5E49-4658-B173-FC26860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B2B69-6275-4795-A105-3A418595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46293-045C-43BD-BA06-07B8B3EB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DD61D-DFD6-4ED7-ADE4-DCCA848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48FE8-2238-4FBF-97FD-7C8AD34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71AFB-87C3-488E-953C-3C521ECF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A76F8-08E9-43F9-8065-6D09FC46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2C094-36B0-4BB0-B2F7-082C5B53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B269D-46D6-4EA4-803C-FD07CA98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DEBD5-0D3A-408C-B12C-0BE23EE1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3E903-834D-4F77-9585-FCA0E775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E11D6-0218-4B53-BE46-C63B764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2C3A8-139A-4B86-A012-ADEDEA1C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8EEA2-B3E7-4870-86F5-6AC8E9D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2F38F-7C0A-4118-8C6A-4ED905E6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58CD8-DD11-4E06-BC17-CBB6EB9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53FC0-09A9-4348-83ED-96566FB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85EC3-323E-4E7E-ADF2-8468E71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D219-C260-40A6-B172-DE013D89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90B9B-0A18-4413-8CE5-EF1A772D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C81B-C56E-40E0-9B86-327D46F1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8B750-BB0D-4941-BB9A-83132E3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4F486-0911-4BAE-9EE3-7B9606D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1BEC7-CF30-4A0B-B292-FD284C6E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FB334-CE10-4241-9848-D0E348EB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8052A-D5D0-415F-9BA8-D9248781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7F965-4922-47C7-9645-71B6C80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0BCE-12B4-49F5-B15C-3366F5E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4AE7-09BA-4892-B4FD-116D8C8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9A78-9030-4DAF-8456-C48A065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C84C9-8387-487E-BBA8-FF56EED8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22993-5B86-4C56-9A57-3E48B7D4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337B-A43B-43D2-A6DE-8C24BFA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E1B8-D078-4735-AB24-3ACF8B88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99008-4AF7-442D-91FE-80533E45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5D4B4-A8B5-47E0-AE0A-DB9B8B15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897D5-9540-495F-9C41-583B66D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2CE88-5F58-4E7E-ACC3-CFF7E01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195B-3C81-417D-9308-AAF7F07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26F80-11CD-4334-8405-23E4059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A542B-C422-4236-BCB2-66AA5A9E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97642-D26E-4003-9B1B-B18D2B7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7CC89-2EFC-4021-8299-A974C48B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B2A18-A9AF-4518-A683-63CDF2E7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AF38F-4A30-4B10-89E7-6A8081E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344B0-870C-4E9D-BA4E-35153641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54C3E-9370-4564-BB00-702CB619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C7B35-094E-46C0-BDE3-DC928F5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73EBD-AEA6-4FBA-B698-2AF6E718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876B2-08F2-4DB0-BE38-D49790DB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042C0-3B5D-47B7-ABE7-3BBCF7A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0B286-A605-47D8-A059-896D0D1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8E92C-44D1-4457-A42B-382D5F3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2689D-B657-4E84-9EF4-845335E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BBA7D-38E3-4CBD-BAE7-89E84962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D676B-75D9-40A0-AE87-EC25EF61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63116-CFD1-4C64-A9AD-92268448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D5E-FACE-4906-A9BE-6DB8EEDEC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7ECF-BBC5-4E99-BBAA-96604F796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25B-A2CA-4B43-83B8-D6EE398A3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24F2-C221-4DF0-B456-DBAB26367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B857-BD48-4809-9DA3-92F7680F2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B7B0-2932-4014-AF0F-5500ED618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AC3-D9A5-4069-B8C3-454A2B7D1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6C31-5E71-4F65-A97A-D7F3B6840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09D-8194-4D00-B054-631762E50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6F2F-3A2D-46FF-9163-5A5FFFBF5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A2E6-6AC3-4DC9-8219-A5369FABE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DC3-7536-4440-BBCD-177B8736C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42d"/>
                </a:solidFill>
                <a:latin typeface="Calibri"/>
                <a:ea typeface="Arial"/>
              </a:rPr>
              <a:t>Système transparent d'allocation des res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de la Circon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447920"/>
            <a:ext cx="868680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seront approuvés avec le principe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remier arrivé, premier se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cas d'annulation de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v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31 Décembre 2013), les ressources restent disponibles dans le pays pour être utilisé dans la même zo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cas de l'annulation du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prè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1 Janvier 2014), les ressources peuvent être utilisées dans la même zone de convergence ou dans d'autres, à la discrétion du chef de la direction et avec l'approbation du Cons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615240" y="30492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73160" y="380520"/>
            <a:ext cx="7370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6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considérés comme «flexibles»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euvent utiliser toute leur allocation libr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ans la nécessité de respecter les montants spécifiques des domaines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ttres d'approbation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oit se référer aux allocations STAR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chaque zone de contact concerné, y compris les frais de préparation (PPG) et frais d'a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Une lettre d’approbation révisé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t exigé si un montant plus de 5% de l'original est demandé pendant la période autorisation du Directeur géné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44560" y="76320"/>
            <a:ext cx="737064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5"/>
          <p:cNvSpPr/>
          <p:nvPr/>
        </p:nvSpPr>
        <p:spPr>
          <a:xfrm>
            <a:off x="457200" y="1066680"/>
            <a:ext cx="830592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s pays «flexible», il faut se référer à la quantité totale et le montant individuel pour chaque domai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Les secrétariats des conventions pertinen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oivent être informés des cas «flexibles» dans la lettre d'approb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our les réunions de mai 2011 et Juin 2012 du Consei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des rapports sur l'expérience de mise en œuvre de la STAR sera four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 la réunion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Juin 2013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e Conseil débattra une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évaluation de la conception et la mise en œuvre STA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réparé par le Bureau de l'évaluation (OE), plus un rapport sur ​​les progrès accomplis dans l'élaboration d'indica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haines étap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981080" y="2133720"/>
            <a:ext cx="472464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ttre en œuvre l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questions plus détaillées, s'il vous plaît contacter le Secrétariat du F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6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nsition du FEM-4 à FEM-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Conseil du FEM a demandé des réformes dans l‘allocation des ressources (D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Bureau de l‘Évaluation du FEM, après des consultations avec les pays bénéficiaires, a formulé des avis uti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ette présentation décrit les nouvelles règles et procédures de fonctionnement correspondant au nouvelle système d'allocation des ressources, ST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lan de la pré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’y a-t-il de nouveau dans le STAR (FEM-5) par rapport au DAR (FEM-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'ensemble des allocations du FEM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procédures opérationnelles de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Qu’y a-t-il de nouveau au STAR (FEM-5)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Nouvelle allocation des zon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et pays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 et changement climatique (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dividuels et allocations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DC et SIDS dans l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040"/>
            <a:ext cx="335304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, changement climatique (CC) e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égradation des sols (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ays ont des allocation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individue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ucune allocation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9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e nouvelles règ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 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0% pour DB et 15% pour 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0% Rè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ssources Réservées: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862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B et DS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1% pour 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$2 M pour CC, $1.5 M pour DB, et $0.5 M pour 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lexibilité pour les petits États (de règle 7 mill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sources Réservées: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0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rogrammes pas dans l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la gestion rationnelle des produits chim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dgets d'entre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'appui aux 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rojets régionaux et mondiaux et des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petites sub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pour la Terre (secteur priv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istribution des ressourc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u FEM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1075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Allocations STAR initiale pour FEM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52280" y="914400"/>
          <a:ext cx="8610840" cy="4714920"/>
        </p:xfrm>
        <a:graphic>
          <a:graphicData uri="http://schemas.openxmlformats.org/drawingml/2006/table">
            <a:tbl>
              <a:tblPr/>
              <a:tblGrid>
                <a:gridCol w="2870280"/>
                <a:gridCol w="820800"/>
                <a:gridCol w="819000"/>
                <a:gridCol w="723960"/>
                <a:gridCol w="916200"/>
                <a:gridCol w="725400"/>
                <a:gridCol w="914400"/>
                <a:gridCol w="82080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ocation init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ibo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ryth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thiop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e Mau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w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ych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u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nz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'Oug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79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17T16:30:01Z</dcterms:modified>
  <cp:revision>623</cp:revision>
  <dc:subject/>
  <dc:title>GEF</dc:title>
</cp:coreProperties>
</file>