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40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 type="ftr" idx="41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 type="sldNum" idx="42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CC2D-F6C9-48C2-9AE0-22D740DEB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F788-3B76-4C53-8FBE-49B240726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F74A-ED37-4968-8B4E-E7CC8526D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D2C-6162-4821-ADD1-46A6FCF2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302-9971-4E03-AFD0-36860C91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7F6-60C5-4FAD-84E4-874A89D6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D2C-0B37-48F2-9100-76D89E69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D14A-A1C7-415B-A714-BA7428283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7C8-354F-4F53-A288-A489075E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6DF9-04C4-43CF-94DD-1DA74D83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69B7-96E8-4491-B51B-64849014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37DE-AA62-44BF-B3FD-620F9C8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3FF8-16CA-48E2-9BE5-70DB4EF3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7B48-8A6C-40BF-A503-CCBAE2D0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5F1F-7211-461B-9569-551E308F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1CD1-B323-4701-8448-170EB4F8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44B6-CF2F-482D-9220-3E264382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3F1F-9B81-400D-BD1A-59FF642C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FECF-C74A-4360-A432-BF40D9BC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D45-9FCA-477E-A35D-0631F628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25F3-5059-4267-BD1A-6CCB89C3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11ED-8D40-4301-8DAB-D4C25DA3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4710-93B3-4F55-AB60-F94DD16C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D30F-7AE9-494E-BB9C-897ACBDC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867D-77DD-47FC-86DF-DEC22382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1A0E-4D2E-4C8C-BAB7-C540BBAC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9ACDB-46AD-402C-9A03-A9E723F9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7BCA-A38A-4E51-9D89-9CDC01F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07D60-ECE0-45DC-941D-C12C31B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3830C-60B5-49FC-A43C-53B38F8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BC4-E879-49C3-AC05-EC4BB8BD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00DD5-748E-4941-A11E-E8B3292B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4DCD-0E35-4BA7-887E-DFC28F01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9A6E-CA23-4674-BB25-876FC729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2FB0B-9C7B-4397-8179-C0E77AD4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43B4-83DE-43FC-A79C-D53BE33A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F704-79D7-4AB1-9612-F93DA073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35697-9D0F-4DF9-AEDB-A164680F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7C654-EA49-413B-819B-C38444E0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CE1C-9BE3-4623-8031-BCD035E4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38CD-898E-4A6A-831E-47D5A30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9AEC-3309-44C4-81C5-E6357036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C8CF-8BE8-405E-99F8-804F29AC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DC027-5669-4ADC-BF16-C25CECC6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C724C-F49A-4A94-B3D3-D6A200AC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F3BAE-40FD-4977-91B1-37D7CB3D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FFE41-F9EA-4027-9C7E-F2EF74D3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EE60B-02DF-47BB-8750-B58922E9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3A48C-5EB0-438F-BC88-AA727FD4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6CFA-A785-4A5C-B435-2291B22A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5D4E1-E7E5-410E-BE77-F5D81AA3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F957-363A-435A-B1C2-6E58DDBF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4ED-CD0E-4E26-82E1-A4811285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F95AB-4BB9-4BF1-9B07-26DDDC6F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6092-DBFD-44F9-B6C2-29F0A55F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886E1-A9B3-4F96-9C9E-7E434BD2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B4571-96A9-46D5-808F-E625A66B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FBE4-E47C-4E35-A0C5-5AF58A56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5B59-F2E7-4D30-8FC5-EC32EAF6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917BC-0B73-4D33-B31D-40C5C851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2FA6A-0988-4847-B5CF-0F1BFD1E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04636-58D0-43D9-8498-63FDC50F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63A41-10E8-4676-AA70-7586BF60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5D2-BE54-49B9-91A1-DF251E6C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41F8-25DA-4826-BB12-81131E02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65C77-8F07-4EDA-8EFA-CE2BA8B2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F01AA-6BC7-45D5-8D64-269007A9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665CC-A70B-4562-B03A-6845DB5A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2327-1DA5-440A-8EA7-9A928A19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63E55-0AD8-4886-ADE2-F2C0C14B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E607E-1898-4232-BCE7-91248917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D9269-0BF0-476D-A95D-84D7231B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AD068-CB19-499B-88E4-6FF43F08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57665-B320-4E95-9B3A-557A1F9C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A05B-9A18-4E16-8E0B-24F54DED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9C09F-2ABF-4CF6-A22B-DA923EB5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45F5B-A308-46A5-B402-5B1DEB81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FF9C0-34AC-4CDA-9B32-CA1B4973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C1A6D-3D16-4B53-8BD6-0EC6FE43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E2A7C-82E9-462A-8143-6676167B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11B22-80B9-42FC-871D-0B7F64E6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D1248-63D2-4F32-B066-FF48328B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37044-969B-457F-BA84-37361DF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9CBEE-9F51-42BE-9AC7-4D50379D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652C8-BA8A-473B-9010-F57B8D5D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1F2-A03D-4E1A-BE4F-4D4ACD78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406E2-C2EE-435D-9E58-853F341A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3A02D-2A29-47C4-AEAF-34613522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4AFAA-C758-472D-852B-B662A246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9990B-C092-4154-99B4-DA688E6B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C7F06-654D-4828-909A-11A4D503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0E65C-CC4B-4BB1-938D-E5DE0231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1F097-5969-42D1-A518-6FDFBECD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AC18D-FCBD-4A14-B23B-807B264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21778-41E6-4C3F-B009-04C8334F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9E466-3269-46FE-B47D-FE3885B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32729-F003-4DB4-875C-7E847514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FB3A3-4916-4AE3-9DF2-E8F8EFCD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B8D49-0D99-4234-98A8-7A9D62CB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6C7E6-38BF-4C47-94B6-562EB7C4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49EA2-8810-44A7-A988-4031B051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F7EA5-B9EF-421B-B153-5886142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9323E-E5DB-4373-995B-F2402E83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5FF87-84A0-4797-8C68-C0F00068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399C2-1890-4A3B-8DED-515143BD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2F797-30D5-4543-B713-F0335229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9BD96-81FA-40FD-8984-BC30F6F7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FA5FB-3C2F-408E-9894-2996242A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4D096-EAD7-40A1-8895-01648212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8AE2C-0A3D-4DE0-AC7D-8C3C72D4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6AD27E-62DC-4D9F-B568-0CBB59D6C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0AEA4E-8CCD-4560-9F03-9C0BEE69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36F0C-A1FA-482C-8A8D-71E437D4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A8268-0B16-46CE-A303-495AD948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DF1C5-C851-4086-A0EA-87C149E9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89594-3A49-476B-B8F3-DAE96ED5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84F0A-C788-4019-9E07-C8E08F58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6344A-ADE3-4487-BAE7-E93206A7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428C5-B760-4B61-95BB-DEC38645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E19D3-281C-4D4C-AF15-7758EBA2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79854-B643-4342-BF89-072F71E2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0675B-5B55-44F5-9FA9-78974623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A3AAB-17A0-4407-8522-46643023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B88A6-CF61-4A19-B3B2-30DD9F2F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CD158-2070-4691-AF15-6B7D76B0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D4C90-2526-4A64-9D9D-F4ED9150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74C41-1A52-42FD-A95F-E049C1DE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C53F96-2DC9-408B-8B89-7405D661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8A0FB-ABCF-456C-8E84-EF5D0615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E0C08-DCBC-4FA6-9CF0-65DC04C5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7325B-4B8B-41A9-A59C-D8551B9A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4DCC1-F97C-4D2B-BC0F-50DD6F4C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A2EFD-03B0-4BD1-A31A-DCF2E343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992ED-94D3-490A-84B9-A04D9C1F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95113-E3BE-447B-84F3-CBB0F7B3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0CB8C-E9A7-483B-9987-2ACC66C8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0658F-0803-4D52-937E-DFF921AD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6A1EA-7533-4B03-94B4-094370A0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7A6D4-D42A-49BA-AEEA-FFAF54F8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E4698F-4DBA-4C14-AFB8-DBD15805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AD790-D51F-40AB-B523-5C84A4C9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AFF00-F973-4B0D-84D3-A750D40F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51FFE-B3BC-4C1B-8F42-EAE40B9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CFA7F-B0CA-4126-9911-E89A92F1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F6037-5A91-4A16-9C77-79590AC8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03691-FD62-40BE-9515-96B75CB6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738E6-4F88-4312-94EB-F421749F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65CB0-1773-46EE-AE5F-12C5CBBF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2F26E-F814-4FBB-981E-11BAB8F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E9BD2F-47F0-4BAD-ACF5-09A4EC0B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78A29-4003-441C-B543-8CFC3467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2A8566-1510-41C2-86BD-9574C4C7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7540F-26EA-473C-B169-CFE8EC18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447F16-2487-487E-9002-2BD8AEC3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3AAAC-5BC9-41E9-915E-B6086E8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B0DBA7-ACAF-44F0-A36C-F672384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5FA21-9D73-4871-8BEE-40F32140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8E5BC-EF6E-4AD0-93BF-B01CB4B2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05C48-0C2F-4CD7-B958-3F56D163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21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006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21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9006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930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44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21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930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2244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4D3A-7D20-45CE-9996-651BA9D86F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FF6A-4AB1-401F-B8F5-D07090EBB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454-8D2E-437E-B82A-59D218C676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61A7-CC6A-4FAD-9F31-E35F8324B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8FA6-1BC5-48A4-8D25-E9CF95590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C393-91DC-4DC8-959B-70A0D8344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53A1-009A-4C30-B92B-E4B977C65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7191-4D82-4E29-B381-5DEC6B2ED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5B97-F4A9-4287-B1B8-24503A261F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76ED-F1C8-4D3E-AC62-E6B052901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E66A-CE29-41BF-95B0-721032BC7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0EB6-CF20-4C00-B2E3-9C68CC1B8E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64771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G L O B A L   E N V I R O N M E N T   F A C I L I T Y   -   www.TheGEF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http://www.thegef.org/gef/sites/thegef.org/files/Images/GEF-notag-lowres_0.jpg"/>
          <p:cNvPicPr/>
          <p:nvPr/>
        </p:nvPicPr>
        <p:blipFill>
          <a:blip r:embed="rId2"/>
          <a:stretch/>
        </p:blipFill>
        <p:spPr>
          <a:xfrm>
            <a:off x="304920" y="6502320"/>
            <a:ext cx="304560" cy="35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304920" y="2130480"/>
            <a:ext cx="815328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642d"/>
                </a:solidFill>
                <a:latin typeface="Calibri"/>
                <a:ea typeface="Arial"/>
              </a:rPr>
              <a:t>Système transparent d'allocation des ressources - ST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  <a:ea typeface="Arial"/>
              </a:rPr>
              <a:t>Atelier Élargi de la Circon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  <a:ea typeface="Arial"/>
              </a:rPr>
              <a:t>25 au 27 Octobre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42d"/>
                </a:solidFill>
                <a:latin typeface="Calibri"/>
                <a:ea typeface="Arial"/>
              </a:rPr>
              <a:t>Nairobi, Keny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4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152280"/>
            <a:ext cx="9144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4"/>
          <p:cNvSpPr/>
          <p:nvPr/>
        </p:nvSpPr>
        <p:spPr>
          <a:xfrm>
            <a:off x="152280" y="1447920"/>
            <a:ext cx="8686800" cy="43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rojets seront approuvés avec le principe du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premier arrivé, premier ser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 cas d'annulation de projet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avan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six derniers mois de la FEM-5 (31 Décembre 2013), les ressources restent disponibles dans le pays pour être utilisé dans la même zone d'inter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le cas de l'annulation du projet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aprè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six derniers mois de la FEM-5 (1 Janvier 2014), les ressources peuvent être utilisées dans la même zone de convergence ou dans d'autres, à la discrétion du chef de la direction et avec l'approbation du Conse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615240" y="304920"/>
            <a:ext cx="72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édures STAR opérationnel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5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073160" y="380520"/>
            <a:ext cx="73706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édures STAR opérationnel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380880" y="1447920"/>
            <a:ext cx="8610840" cy="46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pays considérés comme «flexibles»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peuvent utiliser toute leur allocation libreme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sans la nécessité de respecter les montants spécifiques des domaines d'inter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ttres d'approbation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doit se référer aux allocations STAR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ans chaque zone de contact concerné, y compris les frais de préparation (PPG) et frais d'a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Une lettre d’approbation révisé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st exigé si un montant plus de 5% de l'original est demandé pendant la période autorisation du Directeur géné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4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Picture 4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844560" y="76320"/>
            <a:ext cx="737064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édures STAR opérationnel (3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5"/>
          <p:cNvSpPr/>
          <p:nvPr/>
        </p:nvSpPr>
        <p:spPr>
          <a:xfrm>
            <a:off x="457200" y="1066680"/>
            <a:ext cx="8305920" cy="47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es pays «flexible», il faut se référer à la quantité totale et le montant individuel pour chaque domaine d'interv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Les secrétariats des conventions pertinentes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oivent être informés des cas «flexibles» dans la lettre d'approb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Pour les réunions de mai 2011 et Juin 2012 du Conseil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des rapports sur l'expérience de mise en œuvre de la STAR sera four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e la réunion du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Juin 2013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le Conseil débattra une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 évaluation de la conception et la mise en œuvre STA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préparé par le Bureau de l'évaluation (OE), plus un rapport sur ​​les progrès accomplis dans l'élaboration d'indicat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Prochaines étap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1981080" y="2133720"/>
            <a:ext cx="4724640" cy="761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ettre en œuvre la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5"/>
          <p:cNvSpPr/>
          <p:nvPr/>
        </p:nvSpPr>
        <p:spPr>
          <a:xfrm>
            <a:off x="2057400" y="35812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des questions plus détaillées, s'il vous plaît contacter le Secrétariat du F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Picture 6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10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0773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Introduc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ransition du FEM-4 à FEM-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Conseil du FEM a demandé des réformes dans l‘allocation des ressources (D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Le Bureau de l‘Évaluation du FEM, après des consultations avec les pays bénéficiaires, a formulé des avis uti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ette présentation décrit les nouvelles règles et procédures de fonctionnement correspondant au nouvelle système d'allocation des ressources, ST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Plan de la pré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26744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Qu’y a-t-il de nouveau dans le STAR (FEM-5) par rapport au DAR (FEM-4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'ensemble des allocations du FEM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procédures opérationnelles de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Qu’y a-t-il de nouveau au STAR (FEM-5)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2" name="Picture 3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Nouvelle allocation des zones 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et pays</a:t>
            </a:r>
            <a:r>
              <a:rPr b="1" lang="en-US" sz="3600" spc="-1" strike="noStrike">
                <a:solidFill>
                  <a:srgbClr val="00642d"/>
                </a:solidFill>
                <a:latin typeface="Calibri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4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251424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ersité biologique (DB) et changement climatique (C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dividuels et allocations de grou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DC et SIDS dans le grou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638680" y="1294920"/>
            <a:ext cx="327672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5638680" y="2057040"/>
            <a:ext cx="3353040" cy="380988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ersité biologique (DB), changement climatique (CC) et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égradation des sols (D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ous les pays ont des allocations </a:t>
            </a:r>
            <a:r>
              <a:rPr b="0" lang="fr-FR" sz="2000" spc="-1" strike="noStrike">
                <a:solidFill>
                  <a:srgbClr val="ff0000"/>
                </a:solidFill>
                <a:latin typeface="Calibri"/>
              </a:rPr>
              <a:t>individue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ucune allocation de grou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Placeholder 2"/>
          <p:cNvSpPr/>
          <p:nvPr/>
        </p:nvSpPr>
        <p:spPr>
          <a:xfrm>
            <a:off x="228600" y="213372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Placeholder 2"/>
          <p:cNvSpPr/>
          <p:nvPr/>
        </p:nvSpPr>
        <p:spPr>
          <a:xfrm>
            <a:off x="76320" y="3809880"/>
            <a:ext cx="2361960" cy="533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LLO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Picture 9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42d"/>
                </a:solidFill>
                <a:latin typeface="Calibri"/>
              </a:rPr>
              <a:t>De nouvelles règl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304956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4 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2437920" y="2057040"/>
            <a:ext cx="3049560" cy="3809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10% pour DB et 15% pour 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50% Règl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essources Réservées: 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638320" y="1294920"/>
            <a:ext cx="34290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M-5 ST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5638320" y="2057040"/>
            <a:ext cx="3429000" cy="38862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%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B et DS,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1% pour 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$2 M pour CC, $1.5 M pour DB, et $0.5 M pour 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lexibilité pour les petits États (de règle 7 mill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ssources Réservées: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Placeholder 2"/>
          <p:cNvSpPr/>
          <p:nvPr/>
        </p:nvSpPr>
        <p:spPr>
          <a:xfrm>
            <a:off x="152280" y="220968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Placeholder 2"/>
          <p:cNvSpPr/>
          <p:nvPr/>
        </p:nvSpPr>
        <p:spPr>
          <a:xfrm>
            <a:off x="76320" y="4724280"/>
            <a:ext cx="220968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Placeholder 2"/>
          <p:cNvSpPr/>
          <p:nvPr/>
        </p:nvSpPr>
        <p:spPr>
          <a:xfrm>
            <a:off x="152280" y="3429000"/>
            <a:ext cx="1828800" cy="63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Picture 10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Programmes pas dans le ST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762120" y="1676160"/>
            <a:ext cx="8076960" cy="419076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aux Internat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lluants organiques persistants et la gestion rationnelle des produits chim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udgets d'entre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'appui aux p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projets régionaux et mondiaux et des program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gramme de petites sub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nds pour la Terre (secteur priv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2" name="Picture 4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istribution des ressources </a:t>
            </a:r>
            <a:br>
              <a:rPr sz="3600"/>
            </a:br>
            <a:r>
              <a:rPr b="1" lang="fr-FR" sz="3600" spc="-1" strike="noStrike">
                <a:solidFill>
                  <a:srgbClr val="00642d"/>
                </a:solidFill>
                <a:latin typeface="Calibri"/>
              </a:rPr>
              <a:t>du FEM-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4" name="Chart 4" descr=""/>
          <p:cNvPicPr/>
          <p:nvPr/>
        </p:nvPicPr>
        <p:blipFill>
          <a:blip r:embed="rId1"/>
          <a:stretch/>
        </p:blipFill>
        <p:spPr>
          <a:xfrm>
            <a:off x="298440" y="1517760"/>
            <a:ext cx="8547120" cy="4432320"/>
          </a:xfrm>
          <a:prstGeom prst="rect">
            <a:avLst/>
          </a:prstGeom>
          <a:ln w="0">
            <a:noFill/>
          </a:ln>
        </p:spPr>
      </p:pic>
      <p:sp>
        <p:nvSpPr>
          <p:cNvPr id="1075" name="TextBox 1"/>
          <p:cNvSpPr/>
          <p:nvPr/>
        </p:nvSpPr>
        <p:spPr>
          <a:xfrm>
            <a:off x="457200" y="1676520"/>
            <a:ext cx="1738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$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5" descr=""/>
          <p:cNvPicPr/>
          <p:nvPr/>
        </p:nvPicPr>
        <p:blipFill>
          <a:blip r:embed="rId2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642d"/>
                </a:solidFill>
                <a:latin typeface="Calibri"/>
              </a:rPr>
              <a:t>Allocations STAR initiale pour FEM-5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152280" y="914400"/>
          <a:ext cx="8610840" cy="4714920"/>
        </p:xfrm>
        <a:graphic>
          <a:graphicData uri="http://schemas.openxmlformats.org/drawingml/2006/table">
            <a:tbl>
              <a:tblPr/>
              <a:tblGrid>
                <a:gridCol w="2870280"/>
                <a:gridCol w="820800"/>
                <a:gridCol w="819000"/>
                <a:gridCol w="723960"/>
                <a:gridCol w="916200"/>
                <a:gridCol w="725400"/>
                <a:gridCol w="914400"/>
                <a:gridCol w="820800"/>
              </a:tblGrid>
              <a:tr h="295200"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-4 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-4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3.1 Milli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n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4.25 Milli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ocation init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 Enveloppes (M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ex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m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jibo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Eryth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Ethiop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en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6.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e Mau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w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ych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rou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oud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nz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7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42480" rIns="424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'Ouga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42480" rIns="4248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79" name="Picture 5" descr=""/>
          <p:cNvPicPr/>
          <p:nvPr/>
        </p:nvPicPr>
        <p:blipFill>
          <a:blip r:embed="rId1"/>
          <a:srcRect l="0" t="17650" r="0" b="0"/>
          <a:stretch/>
        </p:blipFill>
        <p:spPr>
          <a:xfrm>
            <a:off x="0" y="5791320"/>
            <a:ext cx="9144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5:45:29Z</dcterms:created>
  <dc:creator>Peter Bjornsen</dc:creator>
  <dc:description/>
  <dc:language>en-US</dc:language>
  <cp:lastModifiedBy>wb350798</cp:lastModifiedBy>
  <dcterms:modified xsi:type="dcterms:W3CDTF">2011-11-17T16:30:01Z</dcterms:modified>
  <cp:revision>623</cp:revision>
  <dc:subject/>
  <dc:title>GEF</dc:title>
</cp:coreProperties>
</file>