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561A-0E9B-46CA-8D02-328A7B4AB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5584-B53B-4B7B-8F5E-7B30D1683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97EC-D4AE-40C7-A9B9-74657DCB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918-3CDB-4803-8D4A-25736B82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120-0ACE-47AF-AE5B-6E1B36E9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BDC-B759-4535-AF27-EC71A3CF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505-1383-44D0-8598-5081AB8F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DA6-B741-40A1-BDD1-EE7E447A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8FA-4498-4AC4-AE9B-2C18E78E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906-204D-497A-8E65-C4197EB0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E91C-D8D8-446D-BDEA-49D7B25E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20F5-B11E-4FC8-AE2A-4A4D7A7C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5E8E-A3D3-4E30-A0EA-0498C7AF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D671-B3C8-40AD-9DDF-DCACFA3B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B65A-EE3B-4B88-BFED-2B0C98A69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Le FEM et les conven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25 au 27 Octobre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Nairobi, Ke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Financements par accès direct pour les rapports aux conventions : Processus de mise en œuv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Diagram 9" descr=""/>
          <p:cNvPicPr/>
          <p:nvPr/>
        </p:nvPicPr>
        <p:blipFill>
          <a:blip r:embed="rId1"/>
          <a:stretch/>
        </p:blipFill>
        <p:spPr>
          <a:xfrm>
            <a:off x="1554120" y="1579680"/>
            <a:ext cx="6194520" cy="4155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EM et les conven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FEM aide financièrement les pays en développement à respecter les objectifs des conventions internationales sur l’environnemen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FEM sert de «  mécanisme financier » pour quatre conventions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Convention sur la diversité biologique (CDB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Convention-cadre de Nations Unies sur les changements climatiques (CCNUC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Convention des Nations Unies sur la lutte contre la désertification (CL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Convention de Stockholm sur les polluants organiques persist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atégie du domaine d’intervention « Biodiversité » et directives de la CoP de la C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143000"/>
          <a:ext cx="8381880" cy="4648320"/>
        </p:xfrm>
        <a:graphic>
          <a:graphicData uri="http://schemas.openxmlformats.org/drawingml/2006/table">
            <a:tbl>
              <a:tblPr/>
              <a:tblGrid>
                <a:gridCol w="4267080"/>
                <a:gridCol w="4114800"/>
              </a:tblGrid>
              <a:tr h="2980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s du programme 2010-2014 défini par la C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fs stratégiques du FEM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1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mouvoir la préservation de la biodiversité, y compris en favorisant la durabilité des dispositifs d’aires protég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2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mouvoir l’utilisation durable de la biodiversit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mier objectif 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éliorer la durabilité des dispositifs d’aires protég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4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2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mouvoir l’utilisation durable de la biodivers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3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égrer la biodiversité aux programmes et stratégies d’élaboration des politiques sectorielles nat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uxième objectif: Intégrer la préservation et l’utilisation durable de la biodiversité aux secteurs des paysages/paysages marins  de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4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éliorer la capacité nationale à mettre en œuvre la Convention </a:t>
                      </a:r>
                      <a:r>
                        <a:rPr b="1" lang="fr-FR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 Protocole de Cartagena sur la prévention des risques biotechnolog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mier et deuxième objectifs, voir ci-dessus,  Quatrième objectif : Renforcer les capacités d’accès aux ressources génétiques et au partage des avant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quième objectif : Intégrer les obligations de la CDB aux processus nationaux de planification au moyen d’activités habilitant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isième objectif: Renforcer les capacités de mise en œuvre du Protocole de Cartagena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 la prévention des risques biotechnolog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atégie du domaine d’intervention « Biodiversité » et directives de la CoP de la C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523880"/>
          <a:ext cx="8153280" cy="4165560"/>
        </p:xfrm>
        <a:graphic>
          <a:graphicData uri="http://schemas.openxmlformats.org/drawingml/2006/table">
            <a:tbl>
              <a:tblPr/>
              <a:tblGrid>
                <a:gridCol w="4438800"/>
                <a:gridCol w="3714480"/>
              </a:tblGrid>
              <a:tr h="5796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s du programme 2010-2014 défini par la C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fs stratégiques du FEM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2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5 du Programme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mouvoir la mise en œuvre du troisième objectif de la Convention : appui à l’application du régime international sur l’accès aux ressources génétiques et au partage des avantages 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atrième objectif 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forcer les capacités d’accès aux ressources génétiques et au partage des avant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7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6 du Programme 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téger la biodivers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uxième objectif: Intégrer la préservation et l’utilisation durable de la biodiversité aux secteurs des paysages/paysages marins  de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mier objectif : Améliorer la durabilité des dispositifs d’aires protégées : c) Améliorer l’efficacité de la gestion des aires protégées exist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isième objectif: Renforcer les capacités de mise en œuvre du Protocole de Cartagena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 la prévention des risques biotechnolog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maine d’intervention des Changements climatiques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t Direction d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CNUC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ite aux directives</a:t>
            </a:r>
            <a:r>
              <a:rPr b="0" lang="fr-FR" sz="18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de Convention, le FEM a fourni le soutien financier et technique à plus de 150 non-annexe I Parties pour préparer leurs communications nationales initiales, leurs secondes, et dans certains cas leurs troisièmes communications nationales à la Conven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- Durant le  FEM-3,  FEM a subventionné un programme global pour soutenir les deuxièmes communications nationales de la plupart des pays éligible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- Pendant le FEM-5, FEM continuera à  financer les communications nationa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répondre à la décision de COP 2/CP.12, le FEM a lancé un programme stratégique  durant le FEM-4 afin de  promouvoir la réduction d'émissions de GHG d’utilisation des terres, changement d’affectation des terres et foresterie (UTCATF) dans le  domaine d’ intervention  du changement climatique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- Dans  le FEM-5,  FEM a établi l'initiative  transversale de la gestion durable des forêts (GDF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ndant  la COP13, le FEM a été prié d'élaborer un programme stratégique pour augmenter le niveau d'investissement dans le transfert de technologie pour aider des pays en voie de développement `a faire face `a  leurs besoins pour les technologies respectueuses de l'environnement – FEM a établi le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 Programme Stratégique Poznan sur le Transfert d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Stratégie d'Adaptation de Changement climatique et Direction d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CNUC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 2001, la COP7  `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 Convention-Cadre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Nations Unies sur les changement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iques (CCNUCC)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 demandé au FEM de financer le pilote d'adaptation et les projets de démonstra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FEM établit l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orité stratégique  sur les≪ projets pilotes d’adaptation au changement climatique ≫ durant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EM-3/FEM-4 sous les fonds en fidéicommis de FEM en réponse aux directives du COP. (par exemple la décision 5/CP.7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P7 a demandé au FEM de gérer deux fonds adaptation-convergés volontaires, le Fonds pour les pays les moins avances (Fonds pou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 PMA)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 Fond special pour les changements climatiques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FEM continue à faire une collecte de fond et remplit le Fond pou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 PMA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 Fonds special pour les changements climatiqu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 réponse aux directives de la Convention et les conclus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 organes subsidiair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CNUCC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(par exemple à la 26e séance d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ganes subsidiaires pour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conclusions au SBI 31 ont reconnu les étapes que le FEM a pris pour améliorer le soutien de l'implémentation d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es nationaux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’action pour l’adaptation au changement climatiqu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PA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3818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atégie du domaine d’intervention Dégradation des sols et directives de la CoP de la C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En tant que nouveau mécanisme financier pour la CLD, le FEM examine actuellement comment sa stratégie du domaine d’intervention « Dégradation des sols » contribuera directement à l’application de la CLD, y compris le Cadre de planification stratégique décennal (2008–2018) adopté à la CoP 8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orsqu’il a élaboré la dernière stratégie du domaine « Dégradation des sols », le Groupe consultatif technique (GCT) a invité un représentant de la CLD, qui a fourni des orientations dans la mesure où le GCT souhaitait accepter l’invitation de la CoP à tenir compte du plan stratégique décennal et à aligner ses opérations en conséquence afin de faciliter l’application effective de la Con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atégie du domaine d’intervention « Polluants organiques persistants » et directives de la Convention de Stockhol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ette stratégie répond aux directives adoptées par la CoP de la Convention de Stockholm, à ses quatre premières réun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dernières directives adoptées par la CoP4 en mai 2009 réaffirment le principe directeur central selon lequel le FEM doit « 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tenir compte des priorités identifiées par les Parties dans les plans d’application communiqués à la Conférence des Parties »,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t privilégient la préparation et l’actualisation des plans nationaux de mise en œuvre, les variantes au DDT pour lutter contre les vecteurs de maladies, et l’échange d’inform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mandat du FEM en tant que mécanisme financier de la Convention de Stockholm veut que la question des produits chimiques nouvellement inscrits par la Convention soit traité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ptions de financement pour les rapports aux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280" y="762120"/>
          <a:ext cx="8839440" cy="603540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1523880"/>
                <a:gridCol w="1165320"/>
                <a:gridCol w="1262160"/>
                <a:gridCol w="1263600"/>
                <a:gridCol w="12621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aine d’interven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e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diversit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Biosafety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ort à la Convention sur la prévention des risques biotechnolog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grammes -cadres du PNUE - Rég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diversit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NBSAP and 5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ational Report on Biodiver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BSAP - $220,000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ement propos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Report - $2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ort à la Convention sur la biodiversité et plans d’action nationaux pour la biodiversit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mes -cadres du P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P ou FSP si plus de $ 500.00 - utilisant les ressources de S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ment climat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qu‘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000 doll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cations nat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mes -cadres du P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P ou FSP si plus de $ 500.00 - utilisant les ressources de S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gradation des s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qu'à 150 000 doll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ut servir à aligner les programmes d’action et les stratégies nationales sur la stratégie décennale de la C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mes -cadres du P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its chim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qu'à 250 000 doll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parer et actualiser les plans nationaux de mise en œuv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8:07:52Z</dcterms:created>
  <dc:creator>wb350798</dc:creator>
  <dc:description/>
  <dc:language>en-US</dc:language>
  <cp:lastModifiedBy>wb350798</cp:lastModifiedBy>
  <dcterms:modified xsi:type="dcterms:W3CDTF">2011-11-17T16:30:32Z</dcterms:modified>
  <cp:revision>83</cp:revision>
  <dc:subject/>
  <dc:title>GEF and the conventions</dc:title>
</cp:coreProperties>
</file>