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BEB5-8024-41E9-93D1-B02A720F432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18AF-1559-4BC5-91DF-05C4E5A9FB1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881FF-E94D-43B7-8536-A49ADE40E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E524-8C3F-4D41-B67D-F82AE2828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921B4-729C-4D9D-8506-95C2A97E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D7A35-8E84-4111-BAE1-03BE96B71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E9D1-4102-4D95-9F4C-92E44B241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54ED2-B3E8-4BC3-BD2F-D3A8A049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D5DBA-E09A-491C-92AF-E59256DAC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9A32-5B71-478C-8784-BED703F65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C239-5696-4D9E-A237-E058D9D2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78E1-AA69-490C-89F1-3E17C772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96F6-ABBD-4C50-B51A-E30B30BEF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C97C-D8A1-4F1C-BDDC-18BD0F62B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E691-6AC4-4BE5-A439-12D4BB3D2C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95280" y="37339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17T16:18:15Z</dcterms:modified>
  <cp:revision>86</cp:revision>
  <dc:subject/>
  <dc:title>GEF and the conventions</dc:title>
</cp:coreProperties>
</file>