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C8FD-BBAA-4F9C-B6FF-8BF1DC152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B653-2901-4E85-A71C-2E0BAFBB9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07EC-E5D6-4643-8AA5-D52D89813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7FF73E9-3DC6-49B0-BEB8-BD5F56C7022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Date Placeholder 5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ooter Placeholder 6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Header Placeholder 7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BD7-E4DC-44E3-86A2-3BABD08B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5BB-BFE8-4BD4-97E1-AAE5FADC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3A38-245B-4B86-9C0B-24B09306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9DD-A6C3-4C4D-BB7F-23471DC4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536B-6270-4C6C-993B-B9494B2C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E690-381D-4C25-B65A-D984CDC2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59C4-3C65-4D92-8588-176DABF0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15E7-EC5B-4881-B9A5-CBF0C74B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AEA4-7384-491B-9BD4-21672DDD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24A0-AC4C-4E6B-A606-CC40D739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0122-3947-4685-A28A-77A5EB1A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74BF-986F-46DF-9305-DC231FD0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B80E-6FBD-474B-90CD-3935EF77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AD73-10D6-47D7-8F8C-D946CCE1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12B5-A5D0-43C1-9D85-362E3B41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BEBB-5B3B-4C50-B7DB-79B2410C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D4B5-DCA7-478A-9D55-36FB4F5F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436C7-AACA-454C-96AE-FDDD1AD4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4530F-16AD-42D8-8821-5DB30FD9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A2BA2-FBF9-4796-88BC-6280CC2A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B43B0-5199-41B6-AF0E-3A693F65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D9CBB-89BC-480C-B9DF-7EC92B27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1E3-F9BC-4575-96A2-62178E85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3C692-D064-4D5E-86E7-48C9F5A0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96072-4BF5-48BD-A70F-519899B4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524C-41EB-469F-90E4-D38F6F5F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0A1A1-1364-480B-8783-4CC7987A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DBC88-8148-4C3B-B587-240BD60D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428B9-DD33-4DEA-A7C8-A2D3EC79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0D0FA-9D88-4437-A6D4-04C27509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E9F0C-79BE-46EF-B7C3-7DD9D7EA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24468-74D0-441A-AF50-290130CF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87D65-14AC-43FB-B059-DC54528D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7AD0-B696-41E7-8A51-17B47A42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04999-5257-4467-96EE-3441B0C6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BB236-AB97-4B8C-A201-BE94BE3C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3B4C6-9A59-4CD7-802C-1C5BBD64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8B418-7E35-47EF-BF69-C6746F33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620B6-7F57-4B4C-9A6F-35FDDE1D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F84D6-E37D-4878-BB88-EBDD3769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8DA95-4431-40F1-A15E-0DF04219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3DB1D-74DD-4639-BDCB-8A07F46A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D3ABD-B212-455E-899F-1509A68C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B9BAE-F76E-4EC6-BFCE-79966D33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862-EA66-4385-86AD-DF5B7DA4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7D3B6-9DB3-4B6C-93DD-CDABC28A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81D79-89E0-4D7C-851A-69D03CD1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0EA14-82C5-4A4C-A223-6B124838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43011-7983-43B9-8D95-683F916F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469D0-ED78-4A76-9190-4A4FF995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D8120-031A-459B-9E2F-33F98553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5122C-A24F-4452-8C20-F40B89FA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4C23D-3F94-43C1-87A4-80147822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F1205-F17C-4A1B-A435-CB6A1B18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0BBDE-2988-4421-9FA2-784302DB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0C5-DFA9-4EEF-870D-2E34E407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997B1-E6C6-4C0B-A177-B2FE2057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6A233-23CE-4F88-932B-C3C9DC60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EE738-0A1A-4AAA-95FF-1CAEF099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6169B-6F80-455D-914E-C027B2B0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82352-CB16-4981-A8FC-FB49360E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D8AA9-811C-4BF1-BE1B-63FD57D6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CA827-74B5-4ABB-8E45-C339A078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BAABC-F6FC-4901-AF81-8FB46980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69F93-9E73-4DA3-9BEF-66A0B1B3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9D673-2432-4E87-B5DD-9EBD3D6A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429-5012-4B56-9AEB-6DCFB29F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69841-E674-4B3F-B66E-B01B9B7A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7F961-031B-4BAA-B3FA-766C110C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32069-1F43-4145-9C6D-A34FB72D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AFA47-EC87-40F1-BD0A-91B80105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1067E-691B-46E7-A985-40E11FF1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B4A1D-A1C9-43E9-B81B-C6F55F0D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1B9DD-A0B4-4C06-AD35-54FDF648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1C3D2-71C5-4D46-A7B7-CC7E4036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CF9A2-BA6A-4993-BAD2-E799A5CE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E79A4-ACE6-4669-96E8-8E5F65B5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F2C0-C330-4E1C-A5F7-CAC024C5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E0883-255A-4849-87DD-FDECC750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EA092-AACD-4CA7-9B1A-2F0EEE28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F7A4A-2D52-4013-8AF5-1DF83CD1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3369C-2EBD-4501-94AB-4952B525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5A7D6-4FB9-4D7C-A061-241BFF5B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A5206-2C3C-4092-BD94-0AE9D606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58940-C493-4A55-A86F-7A43E68C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8499A-6A07-485F-A293-1D5C862E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0D8DA-2BBF-46D2-8E5A-F92901C0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29D9D-9365-4669-89EC-EFD2E085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78EE-B5BE-4116-AB7C-9DDE4BF5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C1CFB-8960-4F91-AC60-F96F94CE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35B04-3A43-4BDE-8DE2-49DB86AF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D5B3A-1CFF-4B77-B740-EF3226EF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0D5BC-68DA-40F2-9D5E-420D51DF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AFEAD-F08D-4286-A81C-2A17041C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E00BD-0514-448E-BF40-38785E4B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1736D-4D2D-4516-A8A5-C3E89DFE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AD31-393E-4579-8A8A-E643518474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581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2740-DECB-45D5-B79A-E766F57A4B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16C7-E7B1-42FE-A40D-5DBB34185E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96BC-CA82-4245-B3A5-C6B5AE0C7B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F97D-14F5-49BB-883E-0237952CFA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9A99-B789-4E12-92BD-A9B93CE8BA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E360-2CC2-46B3-84FA-A6B9A71734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5312-0952-4942-B3A2-7245989455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caoki@thegef.org" TargetMode="External"/><Relationship Id="rId3" Type="http://schemas.openxmlformats.org/officeDocument/2006/relationships/hyperlink" Target="mailto:bbiagini@thegef.org" TargetMode="External"/><Relationship Id="rId4" Type="http://schemas.openxmlformats.org/officeDocument/2006/relationships/hyperlink" Target="mailto:isow@thegef.org" TargetMode="External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GEF and Technology Transfer: </a:t>
            </a:r>
            <a:br>
              <a:rPr sz="4100"/>
            </a:b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An Overview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ubtitle 4"/>
          <p:cNvSpPr/>
          <p:nvPr/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5 – 27 Octo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irobi, Keny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44"/>
          <p:cNvGrpSpPr/>
          <p:nvPr/>
        </p:nvGrpSpPr>
        <p:grpSpPr>
          <a:xfrm>
            <a:off x="1752480" y="1219320"/>
            <a:ext cx="6267600" cy="3809880"/>
            <a:chOff x="1752480" y="1219320"/>
            <a:chExt cx="6267600" cy="3809880"/>
          </a:xfrm>
        </p:grpSpPr>
        <p:pic>
          <p:nvPicPr>
            <p:cNvPr id="380" name="Picture 3" descr="C:\Users\wb368377\AppData\Local\Microsoft\Windows\Temporary Internet Files\Content.IE5\3I5325V1\MC910216337[1].png"/>
            <p:cNvPicPr/>
            <p:nvPr/>
          </p:nvPicPr>
          <p:blipFill>
            <a:blip r:embed="rId2"/>
            <a:stretch/>
          </p:blipFill>
          <p:spPr>
            <a:xfrm>
              <a:off x="1752480" y="1219320"/>
              <a:ext cx="62676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Oval 6"/>
            <p:cNvSpPr/>
            <p:nvPr/>
          </p:nvSpPr>
          <p:spPr>
            <a:xfrm>
              <a:off x="3173040" y="3564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>
              <a:off x="2773080" y="39333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Oval 9"/>
            <p:cNvSpPr/>
            <p:nvPr/>
          </p:nvSpPr>
          <p:spPr>
            <a:xfrm>
              <a:off x="2970000" y="29044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Oval 10"/>
            <p:cNvSpPr/>
            <p:nvPr/>
          </p:nvSpPr>
          <p:spPr>
            <a:xfrm>
              <a:off x="249660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Oval 11"/>
            <p:cNvSpPr/>
            <p:nvPr/>
          </p:nvSpPr>
          <p:spPr>
            <a:xfrm>
              <a:off x="1752480" y="3857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40968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3967200" y="31528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4932000" y="2831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79664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879160" y="19519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6555600" y="2538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820480" y="31658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60822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6014520" y="3344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5-Point Star 26"/>
            <p:cNvSpPr/>
            <p:nvPr/>
          </p:nvSpPr>
          <p:spPr>
            <a:xfrm>
              <a:off x="2902320" y="4003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5-Point Star 27"/>
            <p:cNvSpPr/>
            <p:nvPr/>
          </p:nvSpPr>
          <p:spPr>
            <a:xfrm>
              <a:off x="2808360" y="348120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5-Point Star 28"/>
            <p:cNvSpPr/>
            <p:nvPr/>
          </p:nvSpPr>
          <p:spPr>
            <a:xfrm>
              <a:off x="2699280" y="29044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5-Point Star 29"/>
            <p:cNvSpPr/>
            <p:nvPr/>
          </p:nvSpPr>
          <p:spPr>
            <a:xfrm>
              <a:off x="2766960" y="305100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5-Point Star 31"/>
            <p:cNvSpPr/>
            <p:nvPr/>
          </p:nvSpPr>
          <p:spPr>
            <a:xfrm>
              <a:off x="4796640" y="3490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5-Point Star 32"/>
            <p:cNvSpPr/>
            <p:nvPr/>
          </p:nvSpPr>
          <p:spPr>
            <a:xfrm>
              <a:off x="4120200" y="2757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5-Point Star 33"/>
            <p:cNvSpPr/>
            <p:nvPr/>
          </p:nvSpPr>
          <p:spPr>
            <a:xfrm>
              <a:off x="4120200" y="31240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5-Point Star 34"/>
            <p:cNvSpPr/>
            <p:nvPr/>
          </p:nvSpPr>
          <p:spPr>
            <a:xfrm>
              <a:off x="3917160" y="31240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5-Point Star 35"/>
            <p:cNvSpPr/>
            <p:nvPr/>
          </p:nvSpPr>
          <p:spPr>
            <a:xfrm>
              <a:off x="4052520" y="3270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5-Point Star 36"/>
            <p:cNvSpPr/>
            <p:nvPr/>
          </p:nvSpPr>
          <p:spPr>
            <a:xfrm>
              <a:off x="4999680" y="261144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5-Point Star 37"/>
            <p:cNvSpPr/>
            <p:nvPr/>
          </p:nvSpPr>
          <p:spPr>
            <a:xfrm>
              <a:off x="6082200" y="385704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5-Point Star 38"/>
            <p:cNvSpPr/>
            <p:nvPr/>
          </p:nvSpPr>
          <p:spPr>
            <a:xfrm>
              <a:off x="5946840" y="3270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5-Point Star 39"/>
            <p:cNvSpPr/>
            <p:nvPr/>
          </p:nvSpPr>
          <p:spPr>
            <a:xfrm>
              <a:off x="6149880" y="319752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5-Point Star 40"/>
            <p:cNvSpPr/>
            <p:nvPr/>
          </p:nvSpPr>
          <p:spPr>
            <a:xfrm>
              <a:off x="6082200" y="319752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5-Point Star 42"/>
            <p:cNvSpPr/>
            <p:nvPr/>
          </p:nvSpPr>
          <p:spPr>
            <a:xfrm>
              <a:off x="6014520" y="2977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Poznan Program country cove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5-Point Star 46"/>
          <p:cNvSpPr/>
          <p:nvPr/>
        </p:nvSpPr>
        <p:spPr>
          <a:xfrm>
            <a:off x="3809880" y="5791320"/>
            <a:ext cx="76320" cy="75960"/>
          </a:xfrm>
          <a:custGeom>
            <a:avLst/>
            <a:gdLst>
              <a:gd name="textAreaLeft" fmla="*/ 23400 w 76320"/>
              <a:gd name="textAreaRight" fmla="*/ 52920 w 7632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47"/>
          <p:cNvSpPr/>
          <p:nvPr/>
        </p:nvSpPr>
        <p:spPr>
          <a:xfrm>
            <a:off x="3809880" y="5562720"/>
            <a:ext cx="76320" cy="75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8"/>
          <p:cNvSpPr/>
          <p:nvPr/>
        </p:nvSpPr>
        <p:spPr>
          <a:xfrm>
            <a:off x="3962520" y="54864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lot Proje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NA Project – First Round Countries (1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9"/>
          <p:cNvSpPr/>
          <p:nvPr/>
        </p:nvSpPr>
        <p:spPr>
          <a:xfrm>
            <a:off x="0" y="658800"/>
            <a:ext cx="1752480" cy="115956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urkey &amp; Cook Islands: Hydrogen energy installations for small islands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51"/>
          <p:cNvSpPr/>
          <p:nvPr/>
        </p:nvSpPr>
        <p:spPr>
          <a:xfrm>
            <a:off x="0" y="251460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xico: Local wind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52"/>
          <p:cNvSpPr/>
          <p:nvPr/>
        </p:nvSpPr>
        <p:spPr>
          <a:xfrm>
            <a:off x="0" y="3124080"/>
            <a:ext cx="16765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le: Local solar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53"/>
          <p:cNvSpPr/>
          <p:nvPr/>
        </p:nvSpPr>
        <p:spPr>
          <a:xfrm>
            <a:off x="0" y="4572000"/>
            <a:ext cx="1752480" cy="9756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azil: Renewabl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capture &amp; storage from sugar industry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54"/>
          <p:cNvSpPr/>
          <p:nvPr/>
        </p:nvSpPr>
        <p:spPr>
          <a:xfrm>
            <a:off x="0" y="3733920"/>
            <a:ext cx="175248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te d’Ivoire: Solid waste composting (Af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55"/>
          <p:cNvSpPr/>
          <p:nvPr/>
        </p:nvSpPr>
        <p:spPr>
          <a:xfrm>
            <a:off x="7086600" y="506556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egal: Typha-based thermal insulation produc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56"/>
          <p:cNvSpPr/>
          <p:nvPr/>
        </p:nvSpPr>
        <p:spPr>
          <a:xfrm>
            <a:off x="7086600" y="5698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ussian Federation: HCFC phase-out, HFC-free, energy efficient AC &amp; Refrigera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57"/>
          <p:cNvSpPr/>
          <p:nvPr/>
        </p:nvSpPr>
        <p:spPr>
          <a:xfrm>
            <a:off x="7086600" y="21430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iland: South-South technology transfer: ethanol from cassava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086600" y="314784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mbodia: Agricultural residue biomass to energy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59"/>
          <p:cNvSpPr/>
          <p:nvPr/>
        </p:nvSpPr>
        <p:spPr>
          <a:xfrm>
            <a:off x="7086600" y="394164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ri Lanka: Bamboo processing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60"/>
          <p:cNvSpPr/>
          <p:nvPr/>
        </p:nvSpPr>
        <p:spPr>
          <a:xfrm>
            <a:off x="7086600" y="449568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rdan: Irrigation technology (IF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61"/>
          <p:cNvSpPr/>
          <p:nvPr/>
        </p:nvSpPr>
        <p:spPr>
          <a:xfrm>
            <a:off x="7086600" y="156996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na: Green truck demonstration (W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62"/>
          <p:cNvSpPr/>
          <p:nvPr/>
        </p:nvSpPr>
        <p:spPr>
          <a:xfrm>
            <a:off x="0" y="190512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amaica: Small scale wave power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traight Connector 64"/>
          <p:cNvSpPr/>
          <p:nvPr/>
        </p:nvSpPr>
        <p:spPr>
          <a:xfrm>
            <a:off x="1752480" y="1244520"/>
            <a:ext cx="3078360" cy="1440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traight Connector 66"/>
          <p:cNvSpPr/>
          <p:nvPr/>
        </p:nvSpPr>
        <p:spPr>
          <a:xfrm>
            <a:off x="1752480" y="2166840"/>
            <a:ext cx="1285920" cy="7747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69"/>
          <p:cNvSpPr/>
          <p:nvPr/>
        </p:nvSpPr>
        <p:spPr>
          <a:xfrm flipV="1">
            <a:off x="1752480" y="2720880"/>
            <a:ext cx="744480" cy="604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traight Connector 78"/>
          <p:cNvSpPr/>
          <p:nvPr/>
        </p:nvSpPr>
        <p:spPr>
          <a:xfrm>
            <a:off x="1676520" y="3390840"/>
            <a:ext cx="1106280" cy="604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81"/>
          <p:cNvSpPr/>
          <p:nvPr/>
        </p:nvSpPr>
        <p:spPr>
          <a:xfrm flipV="1">
            <a:off x="1752480" y="3333600"/>
            <a:ext cx="2401920" cy="7812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traight Connector 84"/>
          <p:cNvSpPr/>
          <p:nvPr/>
        </p:nvSpPr>
        <p:spPr>
          <a:xfrm flipV="1">
            <a:off x="1752480" y="3625560"/>
            <a:ext cx="1478160" cy="1423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traight Connector 87"/>
          <p:cNvSpPr/>
          <p:nvPr/>
        </p:nvSpPr>
        <p:spPr>
          <a:xfrm flipH="1">
            <a:off x="5913000" y="1045440"/>
            <a:ext cx="1173240" cy="9795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traight Connector 90"/>
          <p:cNvSpPr/>
          <p:nvPr/>
        </p:nvSpPr>
        <p:spPr>
          <a:xfrm flipH="1">
            <a:off x="6622920" y="1832040"/>
            <a:ext cx="463680" cy="7430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traight Connector 93"/>
          <p:cNvSpPr/>
          <p:nvPr/>
        </p:nvSpPr>
        <p:spPr>
          <a:xfrm flipH="1">
            <a:off x="6072120" y="2620080"/>
            <a:ext cx="1014480" cy="7858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traight Connector 96"/>
          <p:cNvSpPr/>
          <p:nvPr/>
        </p:nvSpPr>
        <p:spPr>
          <a:xfrm flipH="1" flipV="1">
            <a:off x="6116760" y="3342960"/>
            <a:ext cx="969840" cy="173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traight Connector 99"/>
          <p:cNvSpPr/>
          <p:nvPr/>
        </p:nvSpPr>
        <p:spPr>
          <a:xfrm flipH="1" flipV="1">
            <a:off x="5830920" y="3227400"/>
            <a:ext cx="1255680" cy="9763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traight Connector 102"/>
          <p:cNvSpPr/>
          <p:nvPr/>
        </p:nvSpPr>
        <p:spPr>
          <a:xfrm flipH="1" flipV="1">
            <a:off x="4941720" y="2841120"/>
            <a:ext cx="2144880" cy="19162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traight Connector 105"/>
          <p:cNvSpPr/>
          <p:nvPr/>
        </p:nvSpPr>
        <p:spPr>
          <a:xfrm flipH="1" flipV="1">
            <a:off x="4025880" y="3214800"/>
            <a:ext cx="3060720" cy="2232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traight Connector 110"/>
          <p:cNvSpPr/>
          <p:nvPr/>
        </p:nvSpPr>
        <p:spPr>
          <a:xfrm>
            <a:off x="1752480" y="1244520"/>
            <a:ext cx="57240" cy="2675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121"/>
          <p:cNvSpPr/>
          <p:nvPr/>
        </p:nvSpPr>
        <p:spPr>
          <a:xfrm>
            <a:off x="50292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122"/>
          <p:cNvSpPr/>
          <p:nvPr/>
        </p:nvSpPr>
        <p:spPr>
          <a:xfrm>
            <a:off x="1828800" y="28195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124"/>
          <p:cNvSpPr/>
          <p:nvPr/>
        </p:nvSpPr>
        <p:spPr>
          <a:xfrm>
            <a:off x="2895480" y="4264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125"/>
          <p:cNvSpPr/>
          <p:nvPr/>
        </p:nvSpPr>
        <p:spPr>
          <a:xfrm>
            <a:off x="3505320" y="2738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oro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126"/>
          <p:cNvSpPr/>
          <p:nvPr/>
        </p:nvSpPr>
        <p:spPr>
          <a:xfrm>
            <a:off x="3581280" y="304812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te d’Ivo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127"/>
          <p:cNvSpPr/>
          <p:nvPr/>
        </p:nvSpPr>
        <p:spPr>
          <a:xfrm>
            <a:off x="4572000" y="326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28"/>
          <p:cNvSpPr/>
          <p:nvPr/>
        </p:nvSpPr>
        <p:spPr>
          <a:xfrm>
            <a:off x="56386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angl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129"/>
          <p:cNvSpPr/>
          <p:nvPr/>
        </p:nvSpPr>
        <p:spPr>
          <a:xfrm>
            <a:off x="5867280" y="38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Indone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130"/>
          <p:cNvSpPr/>
          <p:nvPr/>
        </p:nvSpPr>
        <p:spPr>
          <a:xfrm>
            <a:off x="5211720" y="3097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ri Lan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hai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77"/>
          <p:cNvSpPr/>
          <p:nvPr/>
        </p:nvSpPr>
        <p:spPr>
          <a:xfrm>
            <a:off x="1828800" y="3581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ok Is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79"/>
          <p:cNvSpPr/>
          <p:nvPr/>
        </p:nvSpPr>
        <p:spPr>
          <a:xfrm>
            <a:off x="2362320" y="24908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ama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80"/>
          <p:cNvSpPr/>
          <p:nvPr/>
        </p:nvSpPr>
        <p:spPr>
          <a:xfrm>
            <a:off x="51814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Russian Fed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82"/>
          <p:cNvSpPr/>
          <p:nvPr/>
        </p:nvSpPr>
        <p:spPr>
          <a:xfrm>
            <a:off x="61722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83"/>
          <p:cNvSpPr/>
          <p:nvPr/>
        </p:nvSpPr>
        <p:spPr>
          <a:xfrm>
            <a:off x="2971800" y="3352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85"/>
          <p:cNvSpPr/>
          <p:nvPr/>
        </p:nvSpPr>
        <p:spPr>
          <a:xfrm>
            <a:off x="243828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88"/>
          <p:cNvSpPr/>
          <p:nvPr/>
        </p:nvSpPr>
        <p:spPr>
          <a:xfrm>
            <a:off x="4572000" y="2819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ord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89"/>
          <p:cNvSpPr/>
          <p:nvPr/>
        </p:nvSpPr>
        <p:spPr>
          <a:xfrm>
            <a:off x="4419720" y="24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ur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94"/>
          <p:cNvSpPr/>
          <p:nvPr/>
        </p:nvSpPr>
        <p:spPr>
          <a:xfrm>
            <a:off x="6172200" y="3119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ambo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Viet 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Long-Term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Climate Technology Centres and a Climate Technology Network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t global, regional, national lev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y involve technical assistance, training, information sharing, knowledge management, reflecting UNFCCC discu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Conduct Pilot Technology Projects to Foster Innovation and Investm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demonstrate innovative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upport deployment and diffusion to catalyze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Develop a Public-Private Partnership for Technology Transf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facilitate private sector engagement to support innovative financial instruments or business models for technology deploy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Technology Needs Assessments (TNAs)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:  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target low- &amp; medium-income countries to conduct and/or update T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GEF as a Catalytic Supporting Institution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Key Features of Long-Term Progra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143000"/>
            <a:ext cx="6019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11080" indent="-34272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is consistent with and support the Technology Mechanism agreed in Cancun at COP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was approved by the 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5 elements may be funded 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TAR (elements 1, 2,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lobal and Regional Set-Aside (elements 1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PP fund (element 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dditional voluntary contributions (element 2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"/>
          <a:stretch/>
        </p:blipFill>
        <p:spPr>
          <a:xfrm>
            <a:off x="6689880" y="1676520"/>
            <a:ext cx="2149200" cy="281916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5"/>
          <p:cNvSpPr/>
          <p:nvPr/>
        </p:nvSpPr>
        <p:spPr>
          <a:xfrm>
            <a:off x="6019920" y="48006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EST Transfer (GEF 2010) downloadable from: http://www.thegef.org/gef/pubs/tech-transfer-case-studies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3.  How do I know my country’s needs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for technology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2952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alibri"/>
                <a:ea typeface="Arial"/>
              </a:rPr>
              <a:t>Key entry points for climate chang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as your country carried out a TNA recent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Communications (NC) and National Adaptation Programs of Action (NAPAs) identify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policies and strategies identify specific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es your Common Country Assessment-UN Development Assistance Framework (CCA-UNDAF) identify any technology needs?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ye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your starting point could be to review the document to prioritize action for project develop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n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especially for the TNA), your starting point could be to assess the merit of conducting a TNA, or addressing technology needs more explicitly in your next N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7238880" y="3778200"/>
            <a:ext cx="1657440" cy="2147760"/>
          </a:xfrm>
          <a:prstGeom prst="rect">
            <a:avLst/>
          </a:prstGeom>
          <a:ln w="0">
            <a:noFill/>
          </a:ln>
        </p:spPr>
      </p:pic>
      <p:sp>
        <p:nvSpPr>
          <p:cNvPr id="471" name="TextBox 22"/>
          <p:cNvSpPr/>
          <p:nvPr/>
        </p:nvSpPr>
        <p:spPr>
          <a:xfrm>
            <a:off x="7772400" y="5943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DP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2" descr=""/>
          <p:cNvPicPr/>
          <p:nvPr/>
        </p:nvPicPr>
        <p:blipFill>
          <a:blip r:embed="rId3"/>
          <a:stretch/>
        </p:blipFill>
        <p:spPr>
          <a:xfrm>
            <a:off x="7086600" y="914400"/>
            <a:ext cx="1743120" cy="228924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7"/>
          <p:cNvSpPr/>
          <p:nvPr/>
        </p:nvSpPr>
        <p:spPr>
          <a:xfrm>
            <a:off x="6693840" y="3276720"/>
            <a:ext cx="24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09) downloadable f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hegef.org/gef/node/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4.  Where to go from here for climate chan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69520" y="1228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Larg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propose a single country TNA utilizing STAR allocation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mall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apply to be included multi-country TNA project from Global and Regional Set-aside, subject to competitive selection (contact GE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echnology transfer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tig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in one of the six objective areas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apt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to SCCF/LD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establish and/or take part in climate technology centre &amp; network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ational level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bmit a proposal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Global and regional lev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contact the GEF about your interest, as regional pilot may be starting in 2011 in line with Cancun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9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837720" y="457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8000"/>
                </a:solidFill>
                <a:latin typeface="Calibri"/>
              </a:rPr>
              <a:t>Thank you very much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r further information, please contact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ech Transfer and Mitigation: Chizuru Aok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nior Technology Transfer Offic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aok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mate Change Adaptation, SCCF/LDCF:  Bonizella Biagin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ead, Climate Change Adaptation Strategy and Oper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bbiagin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:  Ibrahima So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 Cluster Coordinat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isow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F Tech Transfer Website (under development):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</a:rPr>
              <a:t>http://www.thegef.org/gef/T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Overview of this 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14040" y="14475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at is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at is the GEF doing to facilitate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How do I know my country’s needs for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ere do I go from he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2209680" cy="2347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066320"/>
            <a:ext cx="55623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Technology: at the core of global environmental challe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source of environmental degradation and emi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means to address negative impacts, reduce emissions, manage natural resources, and monitor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foundation for economic development, value creation, and em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Developing, demonstrating, deploying and diffusing environmentally sound technologies (ESTs) are activities in the critical path toward an effective responsible to global environmental challenges (Agenda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6248520" y="838080"/>
            <a:ext cx="2361960" cy="1576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2361960" cy="17748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6"/>
          <p:cNvSpPr/>
          <p:nvPr/>
        </p:nvSpPr>
        <p:spPr>
          <a:xfrm>
            <a:off x="7626960" y="594360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IDO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7702200" y="41911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"/>
          <p:cNvPicPr/>
          <p:nvPr/>
        </p:nvPicPr>
        <p:blipFill>
          <a:blip r:embed="rId4"/>
          <a:stretch/>
        </p:blipFill>
        <p:spPr>
          <a:xfrm>
            <a:off x="6248520" y="4433760"/>
            <a:ext cx="23619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120" y="914400"/>
            <a:ext cx="826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Various Multilateral Environmental Agreements (MEAs) include provisions related to technology and facilitating access and transf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ounded Rectangle 6"/>
          <p:cNvSpPr/>
          <p:nvPr/>
        </p:nvSpPr>
        <p:spPr>
          <a:xfrm>
            <a:off x="838080" y="1752480"/>
            <a:ext cx="81536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UN Framework Convention for Climate Change (UNFCCC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greed on the Technology Mechanism in December 2010 to support action on technology development and transfer for mitigation and adap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ounded Rectangle 7"/>
          <p:cNvSpPr/>
          <p:nvPr/>
        </p:nvSpPr>
        <p:spPr>
          <a:xfrm>
            <a:off x="852480" y="4876920"/>
            <a:ext cx="81532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Convention on Biological Diversity (CBD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cognizes that access to and transfer of technologies among Parties is essential to achieving CBD objectiv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ounded Rectangle 8"/>
          <p:cNvSpPr/>
          <p:nvPr/>
        </p:nvSpPr>
        <p:spPr>
          <a:xfrm>
            <a:off x="852480" y="3817800"/>
            <a:ext cx="8153280" cy="94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Montreal Protocol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opted decision on environmentally sound destruction of ozone depleting substances (ODS) banks.  The Multilateral Fund is requested to continue its efforts on further cost-effective projects for the destruction of ODS banks, using appropriate technolog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ounded Rectangle 9"/>
          <p:cNvSpPr/>
          <p:nvPr/>
        </p:nvSpPr>
        <p:spPr>
          <a:xfrm>
            <a:off x="838080" y="2743200"/>
            <a:ext cx="8153640" cy="99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tockholm Convention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alls for promoting use of Best Available Techniques and Best Environmental Practices (BAT/BEP) to reduce persistent organic pollutant (POPs) releases from unintentional production (waste incinerators, aluminum production, open waste burning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560" y="12193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Many definitions and interpretations of technology transfer ex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For climate change, GEF has adopted the technology transfer definition by International Panel on Climate Change (IPCC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.a broad set of processes covering the flows of know-how, experience and equipment for mitigating and adapting to climate change amongst different stakeholders…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It goes beyond hardware, and encompasses capacity, know-how, policies and institution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 to facilitate tech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066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has financed demonstration, deployment, and diffusion of ESTs and enabling activit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ch focal area addresses technology transfer within its GEF-5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gramming depends on convention guidance and national prior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ticulation of a GEF-wide technology strategy under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Technology transfer is a priority for GEF climate change focal 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ference of the Parties (COP) of UNFCCC has given a mandate on technology transfer to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the only multilateral institution that has financed technology transfer under COP gu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largest public sector financing mechanism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climate change and tech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28240" y="11430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GEF has invested approx. $3 billion in climate change, leveraging more than $15 b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GEF-5 funding (2010-14) for mitigation is approx. $1.4 b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Special Climate Change Fund/Least Developed Countries Fund (CCF/LDCF) funding for adaptation and LDC support is approx. $530 million cumul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9" descr=""/>
          <p:cNvPicPr/>
          <p:nvPr/>
        </p:nvPicPr>
        <p:blipFill>
          <a:blip r:embed="rId1"/>
          <a:srcRect l="0" t="0" r="0" b="15786"/>
          <a:stretch/>
        </p:blipFill>
        <p:spPr>
          <a:xfrm>
            <a:off x="7143840" y="15238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3"/>
          <a:stretch/>
        </p:blipFill>
        <p:spPr>
          <a:xfrm>
            <a:off x="7148520" y="39625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2.  What is GEF doing: GEF-5 Mitigation Strategy &amp; Tech Trans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686800" cy="4701960"/>
          </a:xfrm>
          <a:prstGeom prst="rect">
            <a:avLst/>
          </a:prstGeom>
          <a:ln w="0">
            <a:noFill/>
          </a:ln>
        </p:spPr>
      </p:pic>
      <p:sp>
        <p:nvSpPr>
          <p:cNvPr id="372" name="テキスト ボックス 3"/>
          <p:cNvSpPr/>
          <p:nvPr/>
        </p:nvSpPr>
        <p:spPr>
          <a:xfrm>
            <a:off x="228600" y="91440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6 GEF-5 Climate Change Mitigation Strategy objectives address different aspects of technology transfer, from R&amp;D to diffusion of technologies + 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ectors: energy efficiency, renewable energy, transport, urban systems, LULUC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Poznan Strategic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61760" y="11430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Funding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35 million from GEF Trust Fund in GEF-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15 million from SCC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echnology Transfer Pilot Proj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4 projects were selected for support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ir implementation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N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roject was approved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5 first round countries were selected in 2010,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econd round country selection is being finaliz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ountry-level assessment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Long-Term Program on Technology Transf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lan with 5 elements submitted to UNFCCC CO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see slides 11 and 1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6272280" y="1600200"/>
            <a:ext cx="2643120" cy="34797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6"/>
          <p:cNvSpPr/>
          <p:nvPr/>
        </p:nvSpPr>
        <p:spPr>
          <a:xfrm>
            <a:off x="6248520" y="518148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Poznan Program (GEF 2010) downloadable from: http://www.thegef.org/gef/node/38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1-11-17T16:19:01Z</dcterms:modified>
  <cp:revision>793</cp:revision>
  <dc:subject/>
  <dc:title>Slide 1</dc:title>
</cp:coreProperties>
</file>