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5DC-647E-4CB2-ADEF-E88FD7D73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F6DF-974F-478F-B262-BE24AB461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28D-80BC-4106-9F05-E5919F34E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3659FE6-271C-46F4-88EF-409CE7431A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 March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50A-E477-42F4-9711-D69D7B3A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C9A-6B8B-410C-A779-75BD07D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B26-3C47-4900-9749-9C064396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787-F09B-49DE-9BE7-A4E104FA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E19-55D2-4525-9C18-181E026D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37E5-1FE7-4F8E-8354-7D2B09DF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206E-8FD1-4E71-8EA7-2E0510AE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5F66-7819-4EEF-97D4-EAC2924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A13-FD85-4651-94F0-F7FC5FA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FE6E-C4A5-4E38-8B60-D812827A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A405-3919-4E6E-AC95-E4B5F0C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9BB-92E3-4ED8-9F35-289FD8C5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FD48-87A9-4ADA-992C-A74EB05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DC2-13FB-4A9A-8CC5-61953623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6AB8-822A-4DC5-831C-C4E6B443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681A-D412-477F-904E-764996E7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1AF-B411-417E-85D0-A99A3747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7DAF-D193-4156-AB9C-B5FDA687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F805-37EF-4880-9EBF-810F3DAF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B44A-2898-4C00-B914-712310A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73B8-D064-434D-A654-57B63EE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9A8BC-21BA-4748-A983-330FDAAE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1A1-CF7F-43A1-A048-11EC24CB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0E48-0FFE-40AC-AEB4-240C5A41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1D7CD-0490-4634-AC3F-7311E94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AFEA-7ECB-4DAA-A016-3F5899B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6804-11FE-4C2B-A6E1-E776F3B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E5A4F-70D3-4D42-85C4-5398FBD5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8C66F-35DD-4AE4-A4EE-3EEDA676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5648-A674-4485-A004-4E629942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C30A-D7A1-4493-883D-DE65D7BB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ECFC-F594-4661-929F-5276A0F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894C-A06B-4A4A-8BA1-ADE22AD4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10C0-116E-4A41-8EC5-BF26260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C2F0F-DD40-4AAE-8440-88AB1E2E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81F6-DDF2-46D2-B304-277E096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60C9-D9FD-4995-A0DE-D5289676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8C22-FC87-46AA-B63E-4EFFDC8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4A8B-E961-4707-8674-2BA03DCD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B74F-036F-4DE2-87B7-27A46C48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14E7-BF92-4583-9964-C91A01F0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8C819-1991-40F7-8E56-B5466764E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4C5D-45F1-4F8C-B0CC-FF88BB93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25CB0-3CC2-458B-88B9-B61A9F03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C5F-4580-45C5-AA9B-6A7C345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4F2A9-DBC8-485F-8BBD-07945A6E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0B87E-BE73-4807-9B4F-7D026240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CCD5C-265D-4C9D-8B2F-46F959EC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75D8C-1A54-4175-8BC5-216C981E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5F68D-7AF4-4FA2-88A5-59B61C9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3A574-B8CB-487C-A116-810695A6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497CE-D868-4842-9BBC-3D27ABE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4A75-8930-4938-950C-4C92494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21F5-4B8F-4087-87D5-FBB82A5F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3595-7A29-4836-91E0-D369CB78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0443-0C7C-41F5-BB85-A05DE92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B3280-8C6D-48FF-925A-E7EA8B4A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626D-6C6E-4B36-B27A-42CCF501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404F2-DFDC-4B45-B265-2CDB8DD8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08D22-8AC5-4087-B993-484A0BA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B377-DD34-43B4-97F4-5E791CEE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1ED9-ECD1-4623-A9DC-63C47B61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9F266-2024-4A19-AC9E-BCE3FDC8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6D44-C014-4809-991E-64CEAA2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F607-2771-4FA4-9C67-5C8A75FC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C547-81B6-4563-819E-52851C5E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12C-47FB-41A0-838B-4C9081FF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25A9-8B58-43CA-940A-53AF95FD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2B4C9-FC19-411A-8F33-49C5F7DE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6DA1-13F4-4BBD-B643-0C73CA6E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3CC47-4FA7-46C0-B47F-1CE2E46C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94B1A-B293-4607-B44B-641A93D9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08EE4-598C-438A-B367-8C1F049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2F05-6B8A-4DD5-A900-B6687191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45D5E-E087-45CC-9D4F-BF3F2103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ED6CF-00B9-47D5-925D-360B89F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76F25-E55B-497F-83E2-1F3F9FC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8F4-6EFD-472C-8262-F7B1283F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E4B9E-4A52-492A-B9F5-8FC79D9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777EE-31B6-48FF-A00C-79C9F321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60B32-DEED-4EE2-A911-E28D817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E7C2-6100-4A33-95AE-7ABF497C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21555-3179-42FF-AD03-D9E8A8DF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F6378-1438-4105-B444-AA62BBF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D46F3-C28F-4444-87F8-A4E14FE2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09470-5983-4016-B9D9-8A563DDF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14F76-CF65-4F0E-9B81-F7E2DF05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06E9-FA0F-4AAB-9B18-FE42DFA5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881-FE7A-455A-924D-8B08E8FA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219D3-F1C1-4C81-A4C4-34B4D7E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7286C-51A5-4E22-8B02-2151E78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CA60-8A3E-4CEB-BC07-4DCD10F0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70ACE-48B8-4A3A-B5A1-0C9CDFA7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88B7C-FE48-419F-85BF-81F886D5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58A5F-FD5F-4003-BA1B-F5CF8E61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B8140-10DA-4A50-A0BF-31EDDE45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D38-B607-4273-81F9-BE89D868A0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4F42-FFBE-4051-A8FE-EFB88442C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E2E-487D-4F2B-A83E-D3BC84503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2B2-D1CD-4FA2-841F-1815B6FF19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DEE-1AAB-489E-AFA0-D8940CC22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EE9E-F86F-4B6A-9049-C38538CDC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4733-CC57-4790-8334-DBD384098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35BF-8CA6-47E8-9A4D-F81F1D2FAE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5 – 27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17T16:19:01Z</dcterms:modified>
  <cp:revision>793</cp:revision>
  <dc:subject/>
  <dc:title>Slide 1</dc:title>
</cp:coreProperties>
</file>