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9FF-C973-4989-BB05-ECFB46E67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20E4-2E55-4503-AC40-D64F73ECB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6531-7A02-4979-855A-EF82CCF00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20975B-DDFC-4681-B82E-653845B855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0F8-7698-4E56-BE38-C6CCC0FD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2A2-1B1C-49B5-A316-3BA95336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02D-412F-44A9-A64D-C9F0E25E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091-515B-406E-9E50-35276BD9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440D-8B05-4059-B88F-90ACEB9F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D42D-0757-4E0A-B837-DDD1E7F0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CDF0-C9A6-4DC1-900B-FFD0D1B6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11AE-CCB5-411A-9C20-1529B2F8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BDB5-487E-4A72-B26C-DB94E69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012-59CC-45C7-905C-9885A665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9F62-1B04-455A-9450-11E46E3E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D7E-C1D0-4CAA-9C09-CC8B23B4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2090-9590-49E7-B634-1045F57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12A2-C00B-4B66-8C3E-758BB45B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C94D-DA59-47C9-941D-8CC95743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E2B-28BC-497F-8311-31E0F49F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2B71-F9BB-425D-BB35-B02EF7C3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B930-1E01-4697-88CB-41B699E2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2648-4178-4EDE-A136-DB0140F0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2675F-18D1-4783-BBA4-F7BFC00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1AE4-F16A-494A-992F-14C50593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740A-56A5-430F-8548-B1086F9F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8A0-0E56-40D7-B4A8-EEE121C7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638C9-A802-4683-B00F-46CD209B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DCB5-2545-41B7-82E3-075FB7B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5761-DD5C-41FA-8184-FF01BE2E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DFE7-CF28-4D81-84D6-F19EAA47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CBF0-E8F4-4DBE-9AA6-09A42CAE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A5A3-FB20-4F28-A881-6C13FA6F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9DDC-2826-413A-A9E1-F28B6AFF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40B0-7EEA-4001-839A-448B1D23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74B4F-50F9-45DF-9055-B62B28AF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0F28-40FD-4E37-9F12-9373C7D8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B41-32A9-4F2B-8670-3A9A5668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8A15-52DF-4CE5-93E9-66AB0706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C14C2-E3FD-45BE-A815-20189598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9E8F-FD3C-42AA-9865-4ED69F1C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AE54-9772-4553-9157-CFE87503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29C9C-D21D-402E-B65A-D4D7D42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D773-03DA-4F49-A588-6FF8129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141B4-D0A1-4805-B3E6-E7946958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C3F5D-C208-4AD3-B970-05CEEBC3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A8FB-1023-4EEA-AB12-CA1932E3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356C-F95F-4DF8-981D-F935BCA8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804-09CD-4FB5-B19B-71FEAA8D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23B2-21AA-44A4-8BA7-9177CBA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FC136-5E43-4459-936F-DC130502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E533-FA1C-4F07-910C-233515E7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AE6E9-F965-422E-A117-8F9A34B7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A6CC-E065-4E27-80F9-70D19E85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21D3-6AD0-44CA-B407-79DC85DE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92F6D-1947-431E-9F91-1E7E0169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4B1EB-CD15-4BD2-8640-D3A59F37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9A4A-6465-425E-BA27-FDE62F1F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B19BF-CB5D-49B8-8776-A04DD537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771-A9D9-46DC-B0EE-310C804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C735-D5F1-4CD9-A25A-B0CA1445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9549A-AD4E-449C-A6CB-25416899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7956-DD86-4B46-B021-C66C37ED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D4BA2-5B39-4BA4-BDFC-2FC53F7B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1DB9-FED2-467D-9A03-CA5724A8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6DD50-E0D5-4E15-A9D9-3526785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0DEF6-ABEA-4B58-BCE1-2F16EE71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08B6-7B01-4E88-8E11-D549EECF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1D88D-EF2B-4D0D-A301-EBB67ECE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DCB42-2FD0-4ECA-BAF7-EB0C0EE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D0C-702E-4F6B-8501-17C4D740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CFE8D-A029-403E-A043-36B214F7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D527-B264-45D3-AEC5-1DF02E16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642F9-5070-45EE-95D9-F90C96AC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04951-099B-42FB-8235-2BF5B016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1146-C3C3-4AE0-AF2F-D7CE5F01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3E40F-F19B-42EC-A1F5-F8DC99FE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94957-6B13-44AF-920F-2A9B404F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C6DDE-AB69-4BCE-8CD7-166B0A2C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01ECF-77A9-4886-AF40-9C06121C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FC222-84FC-47B0-B23E-FB6BF516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704-EC3C-4882-9C9F-945EFEB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54E29-60A6-4D04-AD16-575A613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643C1-1F8C-4EBF-9062-F328F382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EBFF-490D-422F-ADBD-02E849AE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A33AB-D0CD-499F-AC3A-02A0EE74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FA75-C4D6-411B-9C2B-3AA7D6E5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29483-9F08-4E67-B6A8-74B3526A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22F44-8753-4601-ADC1-E201660E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50599-1F7F-4084-8D93-04CB6FA7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088E-CB7E-4A3E-83E4-631FE74D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3EDB5-7238-4124-A7AF-A0E37E0A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B4B-5B87-49F6-9E98-BB8076D1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2DD2-7DEE-4E69-AC94-0F5A45A1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0A75D-9959-47E6-B143-26C2647F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A3829-35A9-4695-BFAA-E4BC7B0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51D88-6218-41F1-B11D-6F7FF575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40D2D-7320-4732-AD5F-C1BB9FC1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86C23-DE45-45F7-A8F1-07065897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EF7EF-E0DD-437E-BB1A-CD863DC7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438A-461E-4015-AE5A-7D9E76D4D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1C9D-85D9-4825-A965-A706DD354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6B79-5D86-4863-8F6E-31DDBEC0E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1EDB-5D0E-48E9-8C40-9EE2C999C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443C-B71F-4F7B-A44F-B1F7664ED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6F30-1168-4A99-96F5-4D239A2CF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CA7C-DA22-492A-8C87-E85E4989D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575C-3E9C-48BD-ACB3-78554BE96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17T16:19:01Z</dcterms:modified>
  <cp:revision>793</cp:revision>
  <dc:subject/>
  <dc:title>Slide 1</dc:title>
</cp:coreProperties>
</file>