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788A-2C00-4C77-AD40-2CF0D5904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850-03C9-45CB-9CB2-B5DE53768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CB99-5E99-4613-B7B5-B5C70E0E4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A31A-B21C-4FCD-BF66-664614408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22D8-17F0-45B1-B648-F094696D8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F432-799C-42A0-8EF8-FE86670AA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6F0-559A-4D91-98A4-91E032636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063A-E26B-4E64-8E4E-EB428CF60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3FAB-25E1-4224-B27D-6E5B9C264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CEC5-736E-4D12-BD1D-06D0E9CB59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2DDC-F6EF-44B8-A23D-6AD982BBD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093-03AF-4F21-9261-A2714BEAD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5A7-9D69-465A-A0F0-7AB190EEE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7928-B51C-4568-A460-AAB92EDCA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1C9-9624-48B8-B4DF-953796649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364B-2704-4664-AF24-1F38946CC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D918-F2F8-41B5-9C54-63C9E1C2E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E26-2387-4ABC-A6FA-04AF00AE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C87-3D91-47B2-B7C9-5C7C2953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3A7-356B-4626-867C-9612D495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4FB-059C-4769-BBBC-E6688A88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90E2-5951-4A48-8167-7F8C608A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BA03-EA05-4702-8078-D9C6A2E1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3A51-78BE-4D46-A30E-E9EAC9E5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7033-C596-4A67-9C0B-C2B20FB8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E9A9-FB91-41B5-8079-1E5F760D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2486-24A1-4202-9CB6-4197E3B8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0B2F-0FB9-4098-88A3-514FB3A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4BF-D7E6-4D37-A662-D4C4D25C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DA8-E4F8-4F10-806E-E6F7665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927-C4F8-43F2-AB1F-7576C5EA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F9BD-CC75-4E8D-85A7-E2286C4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9EE9-FCE2-47DC-9A14-06904A30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F95E-9F72-460B-A458-4A441035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66DEF-CF5A-43B5-8762-A2E3F0095E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E269E-1DE2-42C0-AD5D-AEE964B2B7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24B0B-35C7-451D-B1B1-1232D9BE0A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8C4FA-FD03-4439-8D12-4EC26149EB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BBD86-D6A0-4DFC-A674-726EB82DC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9B7-774C-42CE-81A7-2A1AE4BA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1C4FA-0E92-4F94-BFD9-714B7286CB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23583-3E7B-4B04-BC54-1FC2B7AD50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6AE14-762D-47D1-8474-7D0CED5AC4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C479A-963C-4037-BC4E-EF5E16A549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34151-D721-45DD-AAAC-C3420A45CF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17C8E-8728-4AC3-8785-01CCDD6178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C6A4E-5623-49C7-BED1-B5066F56B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B7B-D182-4C88-83EA-44D616A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3CE-BE61-4804-9B4F-4D67BA3F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E01-1A0F-4878-9443-13F09997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D30-65EB-4052-997E-7548469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443-A951-4970-8E96-FC47E8B6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1CC-71D1-495D-9B5F-2775630E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0D68-EB01-4991-AC16-22D4760E6DB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1607-826D-4C34-9F50-815F083EA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BA54-91F7-4C64-8AFE-E9D81F04816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43F2-11C2-45A3-B2EB-7CC376094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596-328C-419C-80B0-B1CEDFEF8934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seniya Temnen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nowledge Management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F064-ADD0-41C6-9D62-F9AE0A44C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3CF0-E4EF-438F-B85E-A7F12E00E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8729-4AE3-4933-A997-6456359FD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E194-1F44-4F3F-B5E5-7D35BC43D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9CBB-CCAC-4634-8112-18751E0E9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B46-117E-42AF-B16D-AE1D0B84C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3DB5-0EDB-4F7B-920E-A9D6EBF50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E36-EDB4-4129-9C5D-0539F62F1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A6AC-BBAC-4322-9FDD-5C009E738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6E9-6784-4857-93DE-28DE925AC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4672-EC7A-446E-9A62-2925EE5C4BB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S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more would be need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s e-survey suffici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-up from OPS4 – governa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and regional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0AC-D481-4E6E-90F5-5DE67ADC9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1B8A-D152-4BBF-AA6C-497E91662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084320"/>
          <a:ext cx="7467480" cy="550224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BD, 64 CC, 22 IW, 19 LD, 35 MF, 21 POPs, 16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Active,  62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128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Active,  3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7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93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1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1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Co Financing   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menia, Azerbaijan, Belarus, Kazakhstan, Kyrgyz Republic, Kyrgyzstan, Russian Federation, Tajikistan, Turkmenistan, Uzbekist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899-9132-4C4E-A185-325CDB33C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7732-D1BB-4B17-8E65-4A963C74B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44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30BC-7736-47EF-9E09-F692BF7A96F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3C50-8AE7-437C-8B48-5CAA7F0C0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36E0-C931-489B-A5EE-93E582EA0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 of communication of evaluation findings is the most useful for your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3C15-07C8-42BD-8A7A-361F965D32E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B8DD-F183-4947-902D-5FC851D9FB2F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ADA5-1CA8-4EB4-94E0-5F3D8E7D0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C60F-2166-46BB-BD90-9E493C97224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EC38-488C-4CBA-86DB-05FBE0232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506-FECF-456B-889B-9E9B1A6E921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8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855D-1218-4864-8D92-DEF89E703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B0B7-041D-4B78-B7A2-6DF8356E4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A1BC-B9B4-4B2D-B200-C41EF20FA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36:57Z</dcterms:modified>
  <cp:revision>179</cp:revision>
  <dc:subject/>
  <dc:title>Slide 1</dc:title>
</cp:coreProperties>
</file>