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40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13.png" ContentType="image/png"/>
  <Override PartName="/ppt/media/image34.png" ContentType="image/png"/>
  <Override PartName="/ppt/media/image12.jpeg" ContentType="image/jpeg"/>
  <Override PartName="/ppt/media/image11.png" ContentType="image/png"/>
  <Override PartName="/ppt/media/image30.png" ContentType="image/png"/>
  <Override PartName="/ppt/media/image36.png" ContentType="image/png"/>
  <Override PartName="/ppt/media/image31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6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42.jpeg" ContentType="image/jpe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Pallavi Nuka" initials="PN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<Relationship Id="rId35" Type="http://schemas.openxmlformats.org/officeDocument/2006/relationships/commentAuthors" Target="commentAuthors.xml"/>
</Relationships>
</file>

<file path=ppt/comments/comment21.xml><?xml version="1.0" encoding="utf-8"?>
<p:cmLst xmlns:p="http://schemas.openxmlformats.org/presentationml/2006/main">
  <p:cm authorId="0" dt="2011-09-21T11:41:17.755000000" idx="1">
    <p:pos x="5461" y="1692"/>
    <p:text>sort order from biggest $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0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1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F407-277A-487E-91FB-6971D1DD8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4AFF-1CCF-4030-A772-B4BB54F67E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1766-B795-4285-A8D5-EDFF8DCCF8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1F3E-7504-4332-84B2-B81E311875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C65C-C31E-4AF9-AEE9-30CF6927A3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Header Placeholder 3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0764-DBFF-483F-BB5E-36DD07E6BF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Header Placeholder 3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5C93-1E28-42B0-82DF-FBAA4D8B5E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ly active projects (at the national, regional, and global levels) comprise 88% (close to 5 billion dollars) of the total portfol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4.3 billion dollars in Grant and Co-financing for national level projects, 71% goes to projects in the Russian Fede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Header Placeholder 3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EC20-D948-41EB-A5F7-53F6802E26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9568-FEF6-4761-9F9C-B899AB6C25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9F09-17A5-42A1-A1A5-28210B46AB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ooter Placeholder 5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kar, Seneg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reports in hard co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po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videos and on-line presen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ail notification about new repo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-specific summaries of evaluation findings and lessons lear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area summa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D7AD-F451-46F4-B473-6DCE7461CE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9916-213B-478A-B94B-1F4C3D9302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83F2-4A42-4304-BAE1-EC80A9833B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A32E-1120-4AF6-A177-A62511B4E6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highest level of RBM is the institution as a whole.  The lower levels should contribute towards achieving the overall goal of the GEF. The longer-term expected impact of achieving “global environmental benefits” at an institutional level cannot be monitored on a consistent, periodic basis. If however, the GEF monitors how outputs and outcomes at the project and program level are progressing towards achieving global environmental benefits, a more in-depth study, analyzing causes and effects of GEF interventions can more accurately be carried out by an evalu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ther words, the RBM system is part of a process intended to equip the GEF with the tools needed to assess how the GEF interventions contribute toward its overall goal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FF45-9083-488C-BA30-5FE8052C87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E092-FC64-46CB-91EB-A1C279A460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2DC9-B71C-41E5-A00A-88921A165F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7130-F4FD-427F-8101-0A63437A1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CF09-2E7C-4A1F-92C5-4B13958B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A2B0-3617-4885-93B6-1AF70F443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8852-7DC1-4142-A046-360C7CB1A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3227-63B3-4DCF-9ECA-993913E67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4E17-F689-4F10-BFFA-1EFF0F13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9818-D621-48AC-AFA4-64333D02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0DD4-C99A-40E7-9E43-C5F14E04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7261-147A-42E4-86F8-870415A0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DA28-E429-4CB2-9AAA-835D0355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6FBA-947D-42D7-9E7C-33E049BB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9E0C-0F56-4265-BDB9-3CB012A5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A5DE-8C2D-466A-87F8-43ACDAE8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C925-BEA0-476C-AF21-9B348401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DC5C-7DD4-47C3-8D5C-2AB3ADFE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186C-7AE5-4E28-BDE5-87247809D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C770-E031-4E87-807A-2B4A995A3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448D60-45AD-4FDC-8200-8BD317E6EDF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350F12-0A83-472B-B91A-1AEEF266F0E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AC63E4-4F05-4077-AE3E-329FB4D508E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5A4B23-0524-41F0-B5E4-896CF3E0365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26FD8D-DA79-4139-BD6B-4D81E2706F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D73D-7651-4E81-A2AA-D01F3D3A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381ED9-74D3-4C5C-988C-2DD199C5E25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BE22F1-9C93-4F3E-AECD-9EBA60D0E34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EF17D2-133E-4CB9-80EB-778888B8B56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8468FB-67B3-42B8-A595-16A9324D9D2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F967D6-9289-4840-B914-BED82165582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2019D2-696E-489A-B607-888F5EF1B78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0B07EA-6327-4BEC-87E6-30E90A67BE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3A2C-F96D-4276-A2DA-3CCE7755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43B3-8A9B-4BAF-9DB2-CE8BE948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71AE-14EB-4A08-89A6-3D61CDF8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484A-A25E-4D4B-9883-C9A036FF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8636-4292-4EEE-95DF-A27424F8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FE9F-393F-454A-B012-A484C5A6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80C7-DB1E-42EB-A341-3F297469115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400F-F945-4ED9-9646-66016E00F2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034E-83D3-4ABC-B21D-BDF11AAE494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C982-FC39-4A9A-A8D9-22F6706E50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0" y="0"/>
            <a:ext cx="16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-6480" y="-6480"/>
            <a:ext cx="1231920" cy="687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0" y="0"/>
            <a:ext cx="1219320" cy="152280"/>
          </a:xfrm>
          <a:prstGeom prst="rect">
            <a:avLst/>
          </a:prstGeom>
          <a:solidFill>
            <a:srgbClr val="50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10"/>
          <p:cNvSpPr/>
          <p:nvPr/>
        </p:nvSpPr>
        <p:spPr>
          <a:xfrm>
            <a:off x="0" y="228600"/>
            <a:ext cx="1219320" cy="1440"/>
          </a:xfrm>
          <a:prstGeom prst="line">
            <a:avLst/>
          </a:prstGeom>
          <a:ln w="3168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219320" y="0"/>
            <a:ext cx="7924680" cy="152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traight Connector 12"/>
          <p:cNvSpPr/>
          <p:nvPr/>
        </p:nvSpPr>
        <p:spPr>
          <a:xfrm>
            <a:off x="990720" y="228600"/>
            <a:ext cx="8153280" cy="1440"/>
          </a:xfrm>
          <a:prstGeom prst="line">
            <a:avLst/>
          </a:prstGeom>
          <a:ln w="2844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5028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89BE-7B7A-4EEB-A84C-1777E467D50C}" type="slidenum">
              <a:rPr b="1" lang="en-US" sz="2400" spc="-1" strike="noStrike">
                <a:solidFill>
                  <a:srgbClr val="5028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comments" Target="../comments/comment2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hyperlink" Target="http://www.climate-eval.org/" TargetMode="External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0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gefeo.org/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5410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5400" spc="-1" strike="noStrike">
                <a:solidFill>
                  <a:srgbClr val="376b4c"/>
                </a:solidFill>
                <a:latin typeface="Calibri"/>
              </a:rPr>
              <a:t>M&amp;E in the GEF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	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58672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seniya Temnenk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Knowledge Management Offi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te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1 – 13 October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ashkent, Uzbekist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285840" y="112680"/>
            <a:ext cx="1923840" cy="17161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7696080" y="0"/>
            <a:ext cx="259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5181480" y="271440"/>
            <a:ext cx="3581640" cy="11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199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72EF-4B7F-4636-97C3-45291A411B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2"/>
          <a:stretch/>
        </p:blipFill>
        <p:spPr>
          <a:xfrm>
            <a:off x="1219320" y="914400"/>
            <a:ext cx="7391160" cy="5791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1218960" y="1494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anagement response is required for all evaluation reports presented to the GEF Council by the GEF E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Council takes into account both the evaluation and the management response when taking a dec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EO reports on implementation of decisions annually (Management Action Recor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case of Country Portfolio Evaluations countries have the opportunity to provide their perspective to Council as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5642-BE56-4C87-8135-7A19CBC6D4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sign of M&amp;E P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crete and fully budgeted M&amp;E plan by CEO endorsement for FSP and CEO approval for MSP. Project logical frameworks should align with GEF focal area results frameworks. M&amp;E Plan should inclu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SMART indic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Baseline data for M&amp;E by CEO endors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Mid Term Reviews (where required or foreseen) and Terminal Evaluations included in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Organizational set up and budget for M&amp;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17B3-0955-42B2-BC7A-C3CED0E98D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1218960" y="1447560"/>
            <a:ext cx="79246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lementation of M&amp;E Pla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ct/program monitoring and supervision will include execution of the M&amp;E pla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Use of SMART indicators for process and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Use of SMART indicators for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Baseline for the project is fully established and data are compiled to review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Organizational set up for M&amp;E is operational and its budget is spent as plan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22A8-C7E1-41AF-B482-790083FEE4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218960" y="11426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/Program Evaluation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All full sized projects and programs will be evaluated at the end of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Evaluations shoul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 independent of project management or reviewed by GEF Agency evaluation u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y evaluation norms and standards of the GEF Ag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ess, as a minimum, outputs and outcomes, likelihood of sustainability, compliance with Minimum Requirements 1 &amp;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 basic project data and lessons on the evaluation itself (including TO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uld be sent to GEF EO within 12 months of completion of project/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39672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396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uidelines for evaluating MSPs/EAs will be develop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29C5-FC09-47CB-B194-165C7A14D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Title 1" descr=""/>
          <p:cNvPicPr/>
          <p:nvPr/>
        </p:nvPicPr>
        <p:blipFill>
          <a:blip r:embed="rId1"/>
          <a:stretch/>
        </p:blipFill>
        <p:spPr>
          <a:xfrm>
            <a:off x="1212840" y="298440"/>
            <a:ext cx="7937640" cy="804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1219320" y="11430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gagement of Operational Focal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90000"/>
              </a:lnSpc>
              <a:spcBef>
                <a:spcPts val="45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90000"/>
              </a:lnSpc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M&amp;E plans should include how OFPs will be engag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90000"/>
              </a:lnSpc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OFPs to be informed on M&amp;E activities, including Mid Term Reviews and Terminal Evaluations, receiving drafts for comments and final rep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90000"/>
              </a:lnSpc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OFPs invited to contribute to the management response (where applic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90000"/>
              </a:lnSpc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GEF Agencies keep track of the application of this requirement in their GEF financed projects and 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A122-B9C1-4633-A21C-B5C1E7103F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1218960" y="106668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Keep track of GEF suppor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t the national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eep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takeholders informe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onsulte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in plans, implementation and results of GEF activities in the count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Disseminat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&amp;E information, promoting use of evaluation recommendations and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lessons learn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ssist the Evaluation Offic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s the first point of entry into a country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identify major relevant stakehold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coordinate meeting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assist with agend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Calibri"/>
              </a:rPr>
              <a:t>coordinate country responses to these evalu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0755-015A-48E6-BEEE-077E5F5670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-5 cross-cutting capacity development strateg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fth component: enhancing capacities to monitor and evaluate environmental impacts and trends. This should be identified as a priority in the NCSA capacity development action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The capacity development plan should be formulated as a medium size project, or it should be integrated into a broader proposal that would be formulated as MSP or FSP – if MSP it should have 1:1 cofu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Development of regional partnerships could be consid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unding from $44m set-aside for 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A886-E4CE-4302-88A8-B155E199ED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5"/>
          <p:cNvSpPr/>
          <p:nvPr/>
        </p:nvSpPr>
        <p:spPr>
          <a:xfrm>
            <a:off x="8001000" y="6230880"/>
            <a:ext cx="587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2012-1FEA-42C3-8E48-223B864784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Rectangle 2" descr=""/>
          <p:cNvPicPr/>
          <p:nvPr/>
        </p:nvPicPr>
        <p:blipFill>
          <a:blip r:embed="rId1"/>
          <a:stretch/>
        </p:blipFill>
        <p:spPr>
          <a:xfrm>
            <a:off x="1444680" y="201600"/>
            <a:ext cx="7705800" cy="7491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295280" y="12189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olidation and strengthening of the four streams of evaluative eviden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Country Portfolio Evaluations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up to 15 during GEF-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Impact Evaluations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International Waters, Climate Change and other focal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Performance Evaluations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APR continued and strengthened as well as independent process revie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Thematic Evaluations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focal area strategies and adap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1218960" y="114300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ification and ratings of outcome and progress toward imp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verage of the reform process: GEF project cycle and modalities, direct access, STAR, paragraph 2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attention to the catalytic role of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nds in ownership and country driven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nds in global environmental problems and relevance of the GEF to the conven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in-depth look at the focal area strategies, including sustainable forestry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ter understanding of the longer term impact of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723888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85E2-24DB-4D2B-8BD4-959F4A6777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Title 1" descr=""/>
          <p:cNvPicPr/>
          <p:nvPr/>
        </p:nvPicPr>
        <p:blipFill>
          <a:blip r:embed="rId1"/>
          <a:stretch/>
        </p:blipFill>
        <p:spPr>
          <a:xfrm>
            <a:off x="1212840" y="152280"/>
            <a:ext cx="7937640" cy="9208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99072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Monitoring and evaluation (M&amp;E) and results-based management (RBM) in GEF-5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M&amp;E policy for GEF-5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M&amp;E Minimum Requirement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Involvement of focal point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Evaluation planning for GEF-5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ASK ME databas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8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mate-Eval: community of practic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5010-DF68-4B9D-B77F-B10D293B4D99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ct cycle issues: efficiency of decision making in the GEF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DS issu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keholder consultations: are the ECW developing in a continuous consultation proces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What more would be need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Is e-survey suffici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llow-up from OPS4 – governanc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obal and regional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CB7E-47BA-4D79-85FC-F6FF1703BF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1212840" y="133200"/>
            <a:ext cx="7937640" cy="708120"/>
          </a:xfrm>
          <a:prstGeom prst="rect">
            <a:avLst/>
          </a:prstGeom>
          <a:ln w="0">
            <a:noFill/>
          </a:ln>
        </p:spPr>
      </p:pic>
      <p:sp>
        <p:nvSpPr>
          <p:cNvPr id="232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A014-14AE-4B41-BD6F-AE55939DB8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371600" y="1084320"/>
          <a:ext cx="7467480" cy="5502240"/>
        </p:xfrm>
        <a:graphic>
          <a:graphicData uri="http://schemas.openxmlformats.org/drawingml/2006/table">
            <a:tbl>
              <a:tblPr/>
              <a:tblGrid>
                <a:gridCol w="1376280"/>
                <a:gridCol w="1524240"/>
                <a:gridCol w="512640"/>
                <a:gridCol w="350640"/>
                <a:gridCol w="1368720"/>
                <a:gridCol w="2334960"/>
              </a:tblGrid>
              <a:tr h="406440">
                <a:tc gridSpan="6"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Projects Approved: Active and Comple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080">
                <a:tc>
                  <a:txBody>
                    <a:bodyPr lIns="87120" rIns="87120" tIns="42840" bIns="4284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7120" rIns="87120" tIns="42840" bIns="4284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38 Pro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1 BD, 64 CC, 22 IW, 19 LD, 35 MF, 21 POPs, 16 O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6  Active,  62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cfb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760">
                <a:tc>
                  <a:txBody>
                    <a:bodyPr lIns="87120" rIns="87120" tIns="42840" bIns="42840" anchor="b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TION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87120" rIns="87120" tIns="42840" bIns="4284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5 Pro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gridSpan="2"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Focal  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Grant and Co-finanic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</a:tr>
              <a:tr h="341280">
                <a:tc gridSpan="2"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8 Active,  37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O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rowSpan="2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7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50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28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1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27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59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4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</a:tr>
              <a:tr h="1827360"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Grant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$610 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 Financing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$3.72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49320">
                <a:tc gridSpan="3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IONAL   41 Pro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Grant    $165 M  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Co Financing   $804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 BD, 2 CC, 19 IW, 5 LD 6 MF, 4 POPs, 4 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  12 Pro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Grant    $196 M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Co Financing   $216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BD, 3 CC, 2 LD, 6 M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4" name="TextBox 5"/>
          <p:cNvSpPr/>
          <p:nvPr/>
        </p:nvSpPr>
        <p:spPr>
          <a:xfrm>
            <a:off x="1371600" y="838080"/>
            <a:ext cx="77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rmenia, Azerbaijan, Belarus, Kazakhstan, Kyrgyz Republic, Kyrgyzstan, Russian Federation, Tajikistan, Turkmenistan, Uzbekista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73188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A481-8117-480C-B330-531443BF98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Chart 2" descr=""/>
          <p:cNvPicPr/>
          <p:nvPr/>
        </p:nvPicPr>
        <p:blipFill>
          <a:blip r:embed="rId2"/>
          <a:stretch/>
        </p:blipFill>
        <p:spPr>
          <a:xfrm>
            <a:off x="939960" y="787320"/>
            <a:ext cx="3835080" cy="3073320"/>
          </a:xfrm>
          <a:prstGeom prst="rect">
            <a:avLst/>
          </a:prstGeom>
          <a:ln w="0">
            <a:noFill/>
          </a:ln>
        </p:spPr>
      </p:pic>
      <p:pic>
        <p:nvPicPr>
          <p:cNvPr id="238" name="Chart 16" descr=""/>
          <p:cNvPicPr/>
          <p:nvPr/>
        </p:nvPicPr>
        <p:blipFill>
          <a:blip r:embed="rId3"/>
          <a:stretch/>
        </p:blipFill>
        <p:spPr>
          <a:xfrm>
            <a:off x="4978440" y="939960"/>
            <a:ext cx="3835440" cy="2920680"/>
          </a:xfrm>
          <a:prstGeom prst="rect">
            <a:avLst/>
          </a:prstGeom>
          <a:ln w="0">
            <a:noFill/>
          </a:ln>
        </p:spPr>
      </p:pic>
      <p:pic>
        <p:nvPicPr>
          <p:cNvPr id="239" name="Chart 17" descr=""/>
          <p:cNvPicPr/>
          <p:nvPr/>
        </p:nvPicPr>
        <p:blipFill>
          <a:blip r:embed="rId4"/>
          <a:stretch/>
        </p:blipFill>
        <p:spPr>
          <a:xfrm>
            <a:off x="1392120" y="3530520"/>
            <a:ext cx="6578640" cy="3149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1212840" y="208080"/>
            <a:ext cx="7785000" cy="590400"/>
          </a:xfrm>
          <a:prstGeom prst="rect">
            <a:avLst/>
          </a:prstGeom>
          <a:ln w="0">
            <a:noFill/>
          </a:ln>
        </p:spPr>
      </p:pic>
      <p:sp>
        <p:nvSpPr>
          <p:cNvPr id="241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D0A3-9A7A-4173-A330-ECA34A6F7E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Chart 2" descr=""/>
          <p:cNvPicPr/>
          <p:nvPr/>
        </p:nvPicPr>
        <p:blipFill>
          <a:blip r:embed="rId2"/>
          <a:stretch/>
        </p:blipFill>
        <p:spPr>
          <a:xfrm>
            <a:off x="1168560" y="863640"/>
            <a:ext cx="3987720" cy="3530520"/>
          </a:xfrm>
          <a:prstGeom prst="rect">
            <a:avLst/>
          </a:prstGeom>
          <a:ln w="0">
            <a:noFill/>
          </a:ln>
        </p:spPr>
      </p:pic>
      <p:pic>
        <p:nvPicPr>
          <p:cNvPr id="243" name="Chart 5" descr=""/>
          <p:cNvPicPr/>
          <p:nvPr/>
        </p:nvPicPr>
        <p:blipFill>
          <a:blip r:embed="rId3"/>
          <a:stretch/>
        </p:blipFill>
        <p:spPr>
          <a:xfrm>
            <a:off x="4521240" y="863640"/>
            <a:ext cx="4521240" cy="5435640"/>
          </a:xfrm>
          <a:prstGeom prst="rect">
            <a:avLst/>
          </a:prstGeom>
          <a:ln w="0">
            <a:noFill/>
          </a:ln>
        </p:spPr>
      </p:pic>
      <p:pic>
        <p:nvPicPr>
          <p:cNvPr id="244" name="Chart 9" descr=""/>
          <p:cNvPicPr/>
          <p:nvPr/>
        </p:nvPicPr>
        <p:blipFill>
          <a:blip r:embed="rId4"/>
          <a:stretch/>
        </p:blipFill>
        <p:spPr>
          <a:xfrm>
            <a:off x="1930320" y="4444920"/>
            <a:ext cx="3378240" cy="2235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1231920" cy="68709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8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523520" y="144792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diversity in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mate Change in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DCB0-3F05-4365-8D7F-FDE9DD1B901E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Right Arrow 7"/>
          <p:cNvSpPr/>
          <p:nvPr/>
        </p:nvSpPr>
        <p:spPr>
          <a:xfrm rot="3333000">
            <a:off x="3957480" y="1010880"/>
            <a:ext cx="960120" cy="67788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Title 1" descr=""/>
          <p:cNvPicPr/>
          <p:nvPr/>
        </p:nvPicPr>
        <p:blipFill>
          <a:blip r:embed="rId1"/>
          <a:stretch/>
        </p:blipFill>
        <p:spPr>
          <a:xfrm>
            <a:off x="1212840" y="244440"/>
            <a:ext cx="7937640" cy="8287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121896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ommunity of practice on evaluation of climate change and developmen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haring best practices on climate change and development evalu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500+ memb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Online tools for participation: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25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Website: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climate-eval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Linkedin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ocial me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News let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Blog (soon!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7A36-8D70-4F75-A8C1-BFC3D2BF22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1" descr=""/>
          <p:cNvPicPr/>
          <p:nvPr/>
        </p:nvPicPr>
        <p:blipFill>
          <a:blip r:embed="rId3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Title 1" descr=""/>
          <p:cNvPicPr/>
          <p:nvPr/>
        </p:nvPicPr>
        <p:blipFill>
          <a:blip r:embed="rId1"/>
          <a:stretch/>
        </p:blipFill>
        <p:spPr>
          <a:xfrm>
            <a:off x="1212840" y="244440"/>
            <a:ext cx="7937640" cy="828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tional Conference in Alexandria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ld Bank publication (boo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Calibri"/>
              </a:rPr>
              <a:t>Evaluating Climate Change and Development</a:t>
            </a: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 (van den Berg and Feinstein, 200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nic library (400+ repor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in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Meta-Evaluation of Mitigation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daptation Framework for M&amp;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3 more under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nership – SEA Change , ID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684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alibri"/>
              </a:rPr>
              <a:t>SIDA, FOEN, GEF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11E2-AAB8-420B-9E04-E54BA2B6C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1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1036800" cy="10242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344160" cy="717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1218960" y="1143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nowledge Sharing of Evalua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re you receiving GEF Evaluat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What format  of communication of evaluation findings is the most useful for your wor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2AD1-C498-4E06-8F1A-60980778002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1828800" y="1142640"/>
            <a:ext cx="69343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Calibri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gefeo.or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5"/>
          <p:cNvSpPr/>
          <p:nvPr/>
        </p:nvSpPr>
        <p:spPr>
          <a:xfrm>
            <a:off x="84240" y="6357960"/>
            <a:ext cx="587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D5DF-68C0-4686-9032-A5584223FE6B}" type="slidenum">
              <a:rPr b="1" lang="en-US" sz="2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38C9-DFC4-47AE-833B-858C2B4AEF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147" name="Title 1" descr=""/>
          <p:cNvPicPr/>
          <p:nvPr/>
        </p:nvPicPr>
        <p:blipFill>
          <a:blip r:embed="rId2"/>
          <a:stretch/>
        </p:blipFill>
        <p:spPr>
          <a:xfrm>
            <a:off x="1517760" y="298440"/>
            <a:ext cx="7480080" cy="1030320"/>
          </a:xfrm>
          <a:prstGeom prst="rect">
            <a:avLst/>
          </a:prstGeom>
          <a:ln w="0">
            <a:noFill/>
          </a:ln>
        </p:spPr>
      </p:pic>
      <p:sp>
        <p:nvSpPr>
          <p:cNvPr id="148" name="Content Placeholder 2"/>
          <p:cNvSpPr/>
          <p:nvPr/>
        </p:nvSpPr>
        <p:spPr>
          <a:xfrm>
            <a:off x="1219320" y="1600200"/>
            <a:ext cx="7696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Result based management - Setting goals and objectives, Monitoring, learning and decision mak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Evaluation is a “reality check” on RB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RBM,  especially monitoring, tell whether the organization is </a:t>
            </a:r>
            <a:r>
              <a:rPr b="0" lang="en-US" sz="3200" spc="-1" strike="noStrike">
                <a:solidFill>
                  <a:srgbClr val="006600"/>
                </a:solidFill>
                <a:latin typeface="Calibri"/>
                <a:ea typeface="Verdana"/>
              </a:rPr>
              <a:t>“</a:t>
            </a:r>
            <a:r>
              <a:rPr b="1" lang="en-US" sz="3200" spc="-1" strike="noStrike">
                <a:solidFill>
                  <a:srgbClr val="006600"/>
                </a:solidFill>
                <a:latin typeface="Calibri"/>
                <a:ea typeface="Verdana"/>
              </a:rPr>
              <a:t>on trac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Evaluation could tell whether the organization is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Verdana"/>
              </a:rPr>
              <a:t>“on the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  <a:ea typeface="Verdana"/>
              </a:rPr>
              <a:t>right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Verdana"/>
              </a:rPr>
              <a:t> track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Title 1" descr=""/>
          <p:cNvPicPr/>
          <p:nvPr/>
        </p:nvPicPr>
        <p:blipFill>
          <a:blip r:embed="rId1"/>
          <a:stretch/>
        </p:blipFill>
        <p:spPr>
          <a:xfrm>
            <a:off x="1212840" y="244440"/>
            <a:ext cx="7937640" cy="828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1294920" y="1066680"/>
            <a:ext cx="76201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Two overarching objectives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ccountabil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the achievement of GEF objectives through the assessment of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resul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effectiven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process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perform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partners involved in GEF activit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arn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eedbac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nowledge sharin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results and lessons learned among the GEF and its partners as a basis for decision making on policies, strategies, program management, programs, and projects; and to improv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nowledg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erform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E83D-BB24-4679-B5B1-D435B32823B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Title 1" descr=""/>
          <p:cNvPicPr/>
          <p:nvPr/>
        </p:nvPicPr>
        <p:blipFill>
          <a:blip r:embed="rId1"/>
          <a:stretch/>
        </p:blipFill>
        <p:spPr>
          <a:xfrm>
            <a:off x="1212840" y="-6480"/>
            <a:ext cx="7785000" cy="11588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1295280" y="13712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ference to GEF Results-based Management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(RB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engthened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knowledge sharing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lear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arification of roles and responsibil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onger role for GEF Operational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Focal Point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M&amp;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clusion of programs and jointly implemented proj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Baseline data for M&amp;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be established by CEO endors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New Minimum Requirement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 engagement of GEF Operational Focal Points in project and program M&amp;E activ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36B8-8B46-4363-8418-C4777FB5CB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Rectangle 2" descr=""/>
          <p:cNvPicPr/>
          <p:nvPr/>
        </p:nvPicPr>
        <p:blipFill>
          <a:blip r:embed="rId1"/>
          <a:stretch/>
        </p:blipFill>
        <p:spPr>
          <a:xfrm>
            <a:off x="755640" y="298440"/>
            <a:ext cx="8089920" cy="8539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609480" y="1295280"/>
            <a:ext cx="8153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Group 40"/>
          <p:cNvGrpSpPr/>
          <p:nvPr/>
        </p:nvGrpSpPr>
        <p:grpSpPr>
          <a:xfrm>
            <a:off x="1295280" y="1447920"/>
            <a:ext cx="7009920" cy="4418640"/>
            <a:chOff x="1295280" y="1447920"/>
            <a:chExt cx="7009920" cy="4418640"/>
          </a:xfrm>
        </p:grpSpPr>
        <p:sp>
          <p:nvSpPr>
            <p:cNvPr id="158" name="Text Box 56"/>
            <p:cNvSpPr/>
            <p:nvPr/>
          </p:nvSpPr>
          <p:spPr>
            <a:xfrm>
              <a:off x="1295280" y="4265280"/>
              <a:ext cx="140976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perating Leve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bottom-up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Text Box 55"/>
            <p:cNvSpPr/>
            <p:nvPr/>
          </p:nvSpPr>
          <p:spPr>
            <a:xfrm>
              <a:off x="1599840" y="1779120"/>
              <a:ext cx="118116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stitutional Leve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top-down)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0" name="Group 41"/>
            <p:cNvGrpSpPr/>
            <p:nvPr/>
          </p:nvGrpSpPr>
          <p:grpSpPr>
            <a:xfrm>
              <a:off x="3428640" y="1447920"/>
              <a:ext cx="4876560" cy="4418640"/>
              <a:chOff x="3428640" y="1447920"/>
              <a:chExt cx="4876560" cy="4418640"/>
            </a:xfrm>
          </p:grpSpPr>
          <p:sp>
            <p:nvSpPr>
              <p:cNvPr id="161" name="AutoShape 42"/>
              <p:cNvSpPr/>
              <p:nvPr/>
            </p:nvSpPr>
            <p:spPr>
              <a:xfrm>
                <a:off x="3428640" y="1447920"/>
                <a:ext cx="4876560" cy="4418640"/>
              </a:xfrm>
              <a:prstGeom prst="triangle">
                <a:avLst>
                  <a:gd name="adj" fmla="val 50000"/>
                </a:avLst>
              </a:prstGeom>
              <a:solidFill>
                <a:srgbClr val="99ccff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Text Box 43"/>
              <p:cNvSpPr/>
              <p:nvPr/>
            </p:nvSpPr>
            <p:spPr>
              <a:xfrm>
                <a:off x="5235840" y="4761720"/>
                <a:ext cx="1163160" cy="87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oject Objective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Text Box 44"/>
              <p:cNvSpPr/>
              <p:nvPr/>
            </p:nvSpPr>
            <p:spPr>
              <a:xfrm>
                <a:off x="5080320" y="3075480"/>
                <a:ext cx="1494360" cy="5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ocal Area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Goal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Text Box 45"/>
              <p:cNvSpPr/>
              <p:nvPr/>
            </p:nvSpPr>
            <p:spPr>
              <a:xfrm>
                <a:off x="5470560" y="1559160"/>
                <a:ext cx="868320" cy="71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GEF Strategic Goal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Line 46"/>
              <p:cNvSpPr/>
              <p:nvPr/>
            </p:nvSpPr>
            <p:spPr>
              <a:xfrm>
                <a:off x="4529880" y="3889800"/>
                <a:ext cx="267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5237640" y="4122360"/>
                <a:ext cx="1179720" cy="5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ocal Area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jective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Line 48"/>
              <p:cNvSpPr/>
              <p:nvPr/>
            </p:nvSpPr>
            <p:spPr>
              <a:xfrm>
                <a:off x="3979080" y="4820040"/>
                <a:ext cx="3775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Line 49"/>
              <p:cNvSpPr/>
              <p:nvPr/>
            </p:nvSpPr>
            <p:spPr>
              <a:xfrm>
                <a:off x="5159160" y="2726640"/>
                <a:ext cx="1415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9" name="Text Box 50"/>
            <p:cNvSpPr/>
            <p:nvPr/>
          </p:nvSpPr>
          <p:spPr>
            <a:xfrm>
              <a:off x="2705040" y="1839240"/>
              <a:ext cx="1714320" cy="36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EB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mpact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come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Line 51"/>
            <p:cNvSpPr/>
            <p:nvPr/>
          </p:nvSpPr>
          <p:spPr>
            <a:xfrm flipV="1">
              <a:off x="3352680" y="3657240"/>
              <a:ext cx="1440" cy="64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Line 52"/>
            <p:cNvSpPr/>
            <p:nvPr/>
          </p:nvSpPr>
          <p:spPr>
            <a:xfrm>
              <a:off x="3352680" y="2552760"/>
              <a:ext cx="1440" cy="64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AutoShape 53"/>
            <p:cNvSpPr/>
            <p:nvPr/>
          </p:nvSpPr>
          <p:spPr>
            <a:xfrm flipH="1">
              <a:off x="2666880" y="1779120"/>
              <a:ext cx="304560" cy="1104840"/>
            </a:xfrm>
            <a:custGeom>
              <a:avLst/>
              <a:gdLst>
                <a:gd name="textAreaLeft" fmla="*/ 360 w 304560"/>
                <a:gd name="textAreaRight" fmla="*/ 110160 w 304560"/>
                <a:gd name="textAreaTop" fmla="*/ 30600 h 1104840"/>
                <a:gd name="textAreaBottom" fmla="*/ 1074240 h 11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60"/>
                    <a:pt x="10800" y="1920"/>
                  </a:cubicBezTo>
                  <a:lnTo>
                    <a:pt x="10800" y="8880"/>
                  </a:lnTo>
                  <a:cubicBezTo>
                    <a:pt x="10800" y="9840"/>
                    <a:pt x="16200" y="10800"/>
                    <a:pt x="21600" y="10800"/>
                  </a:cubicBezTo>
                  <a:cubicBezTo>
                    <a:pt x="16200" y="10800"/>
                    <a:pt x="10800" y="11760"/>
                    <a:pt x="10800" y="12720"/>
                  </a:cubicBezTo>
                  <a:lnTo>
                    <a:pt x="10800" y="19680"/>
                  </a:lnTo>
                  <a:cubicBezTo>
                    <a:pt x="10800" y="2064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AutoShape 54"/>
            <p:cNvSpPr/>
            <p:nvPr/>
          </p:nvSpPr>
          <p:spPr>
            <a:xfrm flipH="1">
              <a:off x="2666880" y="4099320"/>
              <a:ext cx="304560" cy="1380960"/>
            </a:xfrm>
            <a:custGeom>
              <a:avLst/>
              <a:gdLst>
                <a:gd name="textAreaLeft" fmla="*/ 360 w 304560"/>
                <a:gd name="textAreaRight" fmla="*/ 110160 w 304560"/>
                <a:gd name="textAreaTop" fmla="*/ 36360 h 1380960"/>
                <a:gd name="textAreaBottom" fmla="*/ 1344600 h 138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12"/>
                    <a:pt x="10800" y="1824"/>
                  </a:cubicBezTo>
                  <a:lnTo>
                    <a:pt x="10800" y="8976"/>
                  </a:lnTo>
                  <a:cubicBezTo>
                    <a:pt x="10800" y="9888"/>
                    <a:pt x="16200" y="10800"/>
                    <a:pt x="21600" y="10800"/>
                  </a:cubicBezTo>
                  <a:cubicBezTo>
                    <a:pt x="16200" y="10800"/>
                    <a:pt x="10800" y="11712"/>
                    <a:pt x="10800" y="12624"/>
                  </a:cubicBezTo>
                  <a:lnTo>
                    <a:pt x="10800" y="19776"/>
                  </a:lnTo>
                  <a:cubicBezTo>
                    <a:pt x="10800" y="20688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75" name="Slide Number Placeholder 3"/>
          <p:cNvSpPr/>
          <p:nvPr/>
        </p:nvSpPr>
        <p:spPr>
          <a:xfrm>
            <a:off x="6934320" y="62643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A6E6-33ED-4396-95C0-5289F27C771A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Rectangle 2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4"/>
          <p:cNvGrpSpPr/>
          <p:nvPr/>
        </p:nvGrpSpPr>
        <p:grpSpPr>
          <a:xfrm>
            <a:off x="1143000" y="1447920"/>
            <a:ext cx="7543440" cy="4113360"/>
            <a:chOff x="1143000" y="1447920"/>
            <a:chExt cx="7543440" cy="4113360"/>
          </a:xfrm>
        </p:grpSpPr>
        <p:sp>
          <p:nvSpPr>
            <p:cNvPr id="178" name="Text Box 5"/>
            <p:cNvSpPr/>
            <p:nvPr/>
          </p:nvSpPr>
          <p:spPr>
            <a:xfrm>
              <a:off x="1143000" y="1447920"/>
              <a:ext cx="26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oject and Program Desig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Text Box 6"/>
            <p:cNvSpPr/>
            <p:nvPr/>
          </p:nvSpPr>
          <p:spPr>
            <a:xfrm>
              <a:off x="3809520" y="1447920"/>
              <a:ext cx="243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mplemen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Text Box 7"/>
            <p:cNvSpPr/>
            <p:nvPr/>
          </p:nvSpPr>
          <p:spPr>
            <a:xfrm>
              <a:off x="6255360" y="1447920"/>
              <a:ext cx="243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valu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Line 8"/>
            <p:cNvSpPr/>
            <p:nvPr/>
          </p:nvSpPr>
          <p:spPr>
            <a:xfrm>
              <a:off x="3810960" y="1598760"/>
              <a:ext cx="379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Line 9"/>
            <p:cNvSpPr/>
            <p:nvPr/>
          </p:nvSpPr>
          <p:spPr>
            <a:xfrm>
              <a:off x="6098040" y="1598760"/>
              <a:ext cx="60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Text Box 10"/>
            <p:cNvSpPr/>
            <p:nvPr/>
          </p:nvSpPr>
          <p:spPr>
            <a:xfrm>
              <a:off x="1479240" y="2077200"/>
              <a:ext cx="191556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FA/Results framework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&amp;E Pla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AutoShape 11"/>
            <p:cNvSpPr/>
            <p:nvPr/>
          </p:nvSpPr>
          <p:spPr>
            <a:xfrm>
              <a:off x="2781720" y="3493440"/>
              <a:ext cx="3994560" cy="1415880"/>
            </a:xfrm>
            <a:prstGeom prst="rightArrow">
              <a:avLst>
                <a:gd name="adj1" fmla="val 50000"/>
                <a:gd name="adj2" fmla="val 7053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Text Box 12"/>
            <p:cNvSpPr/>
            <p:nvPr/>
          </p:nvSpPr>
          <p:spPr>
            <a:xfrm>
              <a:off x="2745720" y="3965400"/>
              <a:ext cx="335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nagement, monitoring, and learn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Text Box 13"/>
            <p:cNvSpPr/>
            <p:nvPr/>
          </p:nvSpPr>
          <p:spPr>
            <a:xfrm>
              <a:off x="3581280" y="2077200"/>
              <a:ext cx="266652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nitoring of progress; midpoint course correction as need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Text Box 14"/>
            <p:cNvSpPr/>
            <p:nvPr/>
          </p:nvSpPr>
          <p:spPr>
            <a:xfrm>
              <a:off x="6428880" y="2077200"/>
              <a:ext cx="217080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erminal Evaluation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essons Learne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Text Box 16"/>
            <p:cNvSpPr/>
            <p:nvPr/>
          </p:nvSpPr>
          <p:spPr>
            <a:xfrm>
              <a:off x="4557600" y="5223960"/>
              <a:ext cx="281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ssons learned; Good practi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9" name="Text Box 17"/>
          <p:cNvSpPr/>
          <p:nvPr/>
        </p:nvSpPr>
        <p:spPr>
          <a:xfrm>
            <a:off x="1468800" y="6245280"/>
            <a:ext cx="70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dapted from the World Bank’s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Results Focus in Country Assistance Strategie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July 2005, p. 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934320" y="632448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D62E-D6E6-4E01-87FF-3CBF7CE73F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1" name="AutoShape 15"/>
          <p:cNvCxnSpPr/>
          <p:nvPr/>
        </p:nvCxnSpPr>
        <p:spPr>
          <a:xfrm rot="5400000">
            <a:off x="4942800" y="237960"/>
            <a:ext cx="219960" cy="5077440"/>
          </a:xfrm>
          <a:prstGeom prst="bentConnector3">
            <a:avLst>
              <a:gd name="adj1" fmla="val 149131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1295280" y="10666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&amp;E contributes to knowledge building and organizational improve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ndings and lessons should be accessible to target audiences in a user-friendly wa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Evaluation reports should be subject to a dynamic dissemination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nowledge sharing enables partners to capitalize on lessons learned from experien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pose of KM in the GE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Promotion of a culture of lea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pplication of lessons lear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eedback to new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9921-8489-483C-A168-70291D883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84160"/>
          </a:xfrm>
          <a:prstGeom prst="rect">
            <a:avLst/>
          </a:prstGeom>
          <a:ln w="0">
            <a:noFill/>
          </a:ln>
        </p:spPr>
      </p:pic>
      <p:sp>
        <p:nvSpPr>
          <p:cNvPr id="196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E286-6490-456F-A8CD-75700B7BF9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Object 2" descr=""/>
          <p:cNvPicPr/>
          <p:nvPr/>
        </p:nvPicPr>
        <p:blipFill>
          <a:blip r:embed="rId2"/>
          <a:stretch/>
        </p:blipFill>
        <p:spPr>
          <a:xfrm>
            <a:off x="1523880" y="1219320"/>
            <a:ext cx="7358040" cy="5410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20:45:39Z</dcterms:created>
  <dc:creator>Soledad</dc:creator>
  <dc:description/>
  <dc:language>en-US</dc:language>
  <cp:lastModifiedBy>wb350798</cp:lastModifiedBy>
  <dcterms:modified xsi:type="dcterms:W3CDTF">2011-11-01T20:36:57Z</dcterms:modified>
  <cp:revision>179</cp:revision>
  <dc:subject/>
  <dc:title>Slide 1</dc:title>
</cp:coreProperties>
</file>