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BF57-964B-4A84-B88A-FB62B115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84BD-65D1-4125-8FA6-287A4A31D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25B6-38B0-4AAC-A01E-14EB7DDE1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85BB-FA79-461D-AE84-072168389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85A4-4DD2-4E13-8CBC-9229DD1C4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295-1172-4722-9562-89E654703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09F9-5BC0-40E4-9269-4C25310B7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B89F-3F39-45C8-81E6-F2B7465E5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E65-4E71-4881-9FB6-19428CD55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1E8E-CCAF-4F12-9AA6-69C3A0B731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10DD-F5E8-48DC-96A5-965338AE9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F7D8-3B9A-495E-8A53-4B494D961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BCE-107E-42DF-8892-63EC2FB24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A90A-3250-40BD-8BB4-E908F47E2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8450-9A23-4D4C-A872-44F829524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C152-5963-4CEC-AA43-621165778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1E98-DA0A-4084-986D-9EEB849B7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EA2-4DFB-4973-8B02-85F32C3C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FB4-A16F-477E-9289-02936B97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768-4536-474F-AF63-3D1D159A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125-2751-4480-BF3E-F2C558F1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A034-4964-429D-B3DB-65AEA79C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44D5-A990-4B4D-8776-157B2AE3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A625-0CFF-4C43-9DC6-AC74006A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9366-C0B4-4011-9DDD-41826AD7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7835-CBCA-4CB8-9DDB-1F946FD4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C600-A1B5-45CA-94B0-4E977F44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192F-DA4F-4311-A407-14695FBD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5E0-BF3D-4B3A-A830-87CE2C9B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1EC6-F156-447E-8CD0-9E8CAE4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37CD-BDB5-4CD6-98BF-23DE6D3B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F13F-98EA-4C7B-8330-068B3293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35DA-E6EB-486A-B8FD-A75B5934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320E-2220-4226-B98F-7C771874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E79E6-FF91-460F-ADC1-D944FBE663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DF478-1F1B-4CBD-A4FE-EBB77F913B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25E85-7375-42E5-A3BF-7CD6A42369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0C421-A83E-4045-9126-C7A6F10DCC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1BA74-CF1C-4EDA-B476-BDDFF95D12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777-07BC-4976-939E-7D00472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EE14A-E294-4344-83F5-F272A2B9A1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8A89D-CA72-4672-A96E-9E0D76B955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14BDD-04A1-4A20-8022-C28E079297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6CCC6-8572-4054-BE09-6C71A34E1F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28113-8C2B-4D54-A27A-FC1EA19E5F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26D18-D368-417B-B75B-22AEC8B883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A9852-5DE0-4A44-9EFF-31FB270E9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433-CCC1-4D7A-87BB-4BCB1409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D04-1FE7-4262-AF86-93FC0594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020-F4CA-4BFA-87B3-4237B8B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41A-D861-4B9D-863F-74ABC3AE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B9B-1796-400C-A69F-48958A4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88F-6C2F-4610-A5C5-4411D008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A401-4BE8-4E05-BD51-B11D48AA65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1C82-A9DD-4F0A-9740-AE60EC2DF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5360-A545-48CA-BE67-7E91782F42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64E4-FFBD-4C46-BF80-7F653EA04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02DE-7CC0-4DCD-ABAB-39E01F1AE1DB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seniya Temnenk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nowledge Management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66F3-C35A-4DEB-AE6C-B1E98C823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DA7A-CC01-4FE7-BFDB-8F891B426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A1D1-02C0-40C4-ADA2-9DF3DEE89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6B61-D354-41EA-BFC9-7611D9739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385-C466-44DD-82EA-E8E12C7AC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EE24-673A-462F-9587-B8ABEE600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042B-1F19-469C-9595-DF15B7AB0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BF54-9CE3-4E5C-BED8-FA0BFAE19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1FD3-6110-49C0-9B00-A7D8CF8B5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6A31-BF31-441C-BB31-5E5F2AC8F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5C71-2A16-42E9-8D95-3B2799D268D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S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more would be need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s e-survey suffici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-up from OPS4 – governa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and regional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4DA-42FA-4BFB-B08B-E8F01C7C8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365A-8A85-4E68-81E2-423C3F159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084320"/>
          <a:ext cx="7467480" cy="550224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BD, 64 CC, 22 IW, 19 LD, 35 MF, 21 POPs, 16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Active,  62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128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Active,  3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7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93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1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1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Co Financing   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menia, Azerbaijan, Belarus, Kazakhstan, Kyrgyz Republic, Kyrgyzstan, Russian Federation, Tajikistan, Turkmenistan, Uzbekist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AC7F-306E-48AE-8C17-511785BEE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8913-EF6E-4B50-9CF6-AD5F90BBE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44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782E-B9E7-4CA7-AC22-5746272B36F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62DA-B94A-4A0E-8068-641B7F7C2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6B29-676C-427A-A530-0ACB20B08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 of communication of evaluation findings is the most useful for your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B84B-50C2-4025-96C4-773AD5DA284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EB17-81B6-4C9F-932A-4A44FEDDD6BF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FDDB-FF6C-4D78-B0B4-F4E99D298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419-0A2B-4459-99FC-34325484F55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D9D0-DF62-4897-A004-0B4235C42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80A0-9145-48E6-98EB-3FBBE9260E3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8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B914-8097-4668-9CF6-AE5D6215B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1461-FCE2-46CD-A0E1-568A1949B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E051-9A4E-4D01-917B-DB3F2A54C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36:57Z</dcterms:modified>
  <cp:revision>179</cp:revision>
  <dc:subject/>
  <dc:title>Slide 1</dc:title>
</cp:coreProperties>
</file>