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1.wmf" ContentType="image/x-wmf"/>
  <Override PartName="/ppt/media/image28.png" ContentType="image/png"/>
  <Override PartName="/ppt/media/image36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Pallavi Nuka" initials="P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11-09-21T11:41:17.755000000" idx="1">
    <p:pos x="5461" y="1692"/>
    <p:text>sort order from biggest $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1D3A-71F8-4D07-BA2A-66D34793C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188F-E7B7-4AE7-9691-C0B2E2859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FC0A-DDF2-4ADD-89A5-A6A79E6ED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31D0-6AF2-499E-81BD-9D4892FDF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B990-A7AF-4D25-B4D6-FD744DE83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9638-FB04-4D4D-BEE4-A0A14B309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47F9-40F8-4291-A8FE-557D27C55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 active projects (at the national, regional, and global levels) comprise 88% (close to 5 billion dollars) of the total portfol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4.3 billion dollars in Grant and Co-financing for national level projects, 71% goes to projects in the Russian Fe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AC34-2BC3-467A-BCCE-40B860DC1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43BD-06BB-40FA-9498-B2CC35DF4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4EE9-FEAD-4D4F-B35F-F872C92BDA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reports in hard 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p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videos and on-line prese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ail notification about new rep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-specific summaries of evaluation findings and lessons lear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area summa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D7B5-BEFD-4E10-AEDB-6FBD4F41B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B265-87D7-4DC5-AF21-743893C2B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1C4C-C268-44DB-A826-6EAE694C2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44ED-19C0-4C02-B14D-5A0A3FB4B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9D8F-A2FD-40ED-B856-711D5397B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s implemented through GEF financing are the basis of the proposed RBM framework.  As such, tracking results begin from a project vantage point.  At a project level, results are tracked during implementation and evaluated upon project completion. While the tracking tools will be utilized during implementation it is important that the three major phases in a project’s evolution are linked:  (i) project design; (ii) implementation; and (iii) evaluation. Breaking down the project cycle into these three phases, highlights the learning and management aspect of the RBM framewor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racking results at the program, focal area, overall GEF portfolio level. Annual Monitoring Report presents a synthesis of this information to the Counc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1C06-483B-406E-A2B3-D729EE9F2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1799-489C-4789-ADF1-F39D9D169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E9F-006C-48D7-8F8A-4DD6D1FB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5310-B81D-413B-866A-7D576054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45F4-452E-4C89-BDF3-68C094AC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4E2-9D21-43A9-830C-F46B32BF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FAE8-1786-4827-A30F-1C4794F7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D93C-1C69-42E4-BE9B-86546EEC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67ED-F01B-42D8-AE5C-CCF17CC6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FF92-2BB7-4B34-8C0A-93C614D3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23D8-6F23-4E42-8631-20AB7DCF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E39A-1587-4737-9030-EA26C2D6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94A7-5AE8-4B73-88C7-9FE89EF4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72A-45AC-4696-AA44-30CA554A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0610-83C5-48F0-9E61-5DCABD47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8279-30D9-4DB1-8EC2-492F80C2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1167-BF85-46EB-B16F-F30F2B76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6C7D-76D9-4778-AE9B-EDBB09B5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7FFF-49BC-4E12-96C9-6401CE7E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60E4B-6DEF-4550-B521-F27715394E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16AEE-F0AD-4346-A024-762F4285CA5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F7F8E-789B-40DE-B1F3-0351E72A5E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9C2EC-E54E-49BE-9001-B3F0F65854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115DB-88D9-4CF8-A411-FE7F58A5B2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604-C4DB-4C73-9B91-08F67379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001F1-2EC4-4B8D-ABDB-AA01D1D50B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A7322-0E68-40B7-AE07-9F12460810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8256E-5E63-4C54-A482-8B59CAC8AC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BB745-DCD6-4C6A-A53B-8D62571387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0BE7D-4E41-4B4C-9A35-E6033C3153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F3039-189D-43EC-A09B-4F2421C415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7C95F8-BF04-48D9-8368-085F9B20F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875-12E0-4BB7-9C7D-88BEE812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E23-A30D-4DB5-AD38-537EC947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1E8-9B7D-4E9A-BBD3-DA917CBB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F97-5607-4469-8DA7-3954C53E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D07-CCC0-4658-A4D9-ECCCFC76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0EB-ED47-4164-BE25-7898CF54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BD4D-68BD-4564-BEA4-AB2D05DEC6B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B3DF-5546-4B9E-AE12-C311948287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CBD5-F509-4D8B-B25E-88EBCEA7EAF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EA99-74DC-4A22-9223-4FF2D986A1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873D-0038-45B4-9407-D2FBA43EBBB1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95120" y="175248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376b4c"/>
                </a:solidFill>
                <a:latin typeface="Calibri"/>
              </a:rPr>
              <a:t>МиО в ГЭФ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2743200" y="31237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сения Темнен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фис  оценки ГЭ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еминар ГЭФ для стран-чле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нтральная Аз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 – 13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ктябр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ашкент, Узбекис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le 1" descr=""/>
          <p:cNvPicPr/>
          <p:nvPr/>
        </p:nvPicPr>
        <p:blipFill>
          <a:blip r:embed="rId1"/>
          <a:stretch/>
        </p:blipFill>
        <p:spPr>
          <a:xfrm>
            <a:off x="1122480" y="268200"/>
            <a:ext cx="8113680" cy="804960"/>
          </a:xfrm>
          <a:prstGeom prst="rect">
            <a:avLst/>
          </a:prstGeom>
          <a:ln w="0">
            <a:noFill/>
          </a:ln>
        </p:spPr>
      </p:pic>
      <p:pic>
        <p:nvPicPr>
          <p:cNvPr id="200" name="Content Placeholder 4" descr=""/>
          <p:cNvPicPr/>
          <p:nvPr/>
        </p:nvPicPr>
        <p:blipFill>
          <a:blip r:embed="rId2"/>
          <a:stretch/>
        </p:blipFill>
        <p:spPr>
          <a:xfrm>
            <a:off x="438120" y="1859040"/>
            <a:ext cx="7956720" cy="501156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2FD7-C8FC-401A-A334-D544F6A250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4375080" y="1146600"/>
            <a:ext cx="4821480" cy="5767200"/>
            <a:chOff x="4375080" y="1146600"/>
            <a:chExt cx="4821480" cy="5767200"/>
          </a:xfrm>
        </p:grpSpPr>
        <p:sp>
          <p:nvSpPr>
            <p:cNvPr id="203" name="Rectangle 5"/>
            <p:cNvSpPr/>
            <p:nvPr/>
          </p:nvSpPr>
          <p:spPr>
            <a:xfrm rot="19314600">
              <a:off x="4723920" y="1371240"/>
              <a:ext cx="1270800" cy="15706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O</a:t>
              </a:r>
              <a:r>
                <a:rPr b="0" lang="az-Cyrl-AZ" sz="1600" spc="-1" strike="noStrike">
                  <a:solidFill>
                    <a:srgbClr val="ffffff"/>
                  </a:solidFill>
                  <a:latin typeface="Calibri"/>
                </a:rPr>
                <a:t>тдел по оценке ГЭ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 rot="19361400">
              <a:off x="5694480" y="2606400"/>
              <a:ext cx="1257120" cy="1643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O</a:t>
              </a: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тдел по оценке ГЭФ, партнеры по оценк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 rot="19306800">
              <a:off x="6686640" y="3900960"/>
              <a:ext cx="1214280" cy="1523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z-Cyrl-AZ" sz="1600" spc="-1" strike="noStrike">
                  <a:solidFill>
                    <a:srgbClr val="ffffff"/>
                  </a:solidFill>
                  <a:latin typeface="Calibri"/>
                </a:rPr>
                <a:t>Секретариат ГЭФ, агентства ГЭФ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 rot="19392600">
              <a:off x="7605000" y="5041800"/>
              <a:ext cx="1209960" cy="16761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Calibri"/>
                </a:rPr>
                <a:t>Страны-партнеры, НГО, частный сектор, сообшеств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" name="Flowchart: Decision 10"/>
          <p:cNvSpPr/>
          <p:nvPr/>
        </p:nvSpPr>
        <p:spPr>
          <a:xfrm>
            <a:off x="1600200" y="1066680"/>
            <a:ext cx="1981080" cy="12193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ffffff"/>
                </a:solidFill>
                <a:latin typeface="Calibri"/>
              </a:rPr>
              <a:t>Сов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380880" y="9907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Благоприятные усло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990720" y="22096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Надз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3124080" y="914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Политика МИ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7772400" y="2895480"/>
            <a:ext cx="1066680" cy="83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6781680" y="2286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218960" y="1494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фициальная рекация менеджмента требуется на все отчеты, представленные Офисом по оценке ГЭФ перед Советом ГЭФ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принятии решений Совет ГЭФ принимает во внимание и оценку и официальную реакцию менеджмен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фис по оценке ГЭФ ежегодно отчитывается о выполении решений по итогам оценки (Отчет о мерах, принятых менеджментом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случае оценок портфелей проектов на уровне страны, страны имеют возможность представить свое мнение Совет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12D2-671D-495F-838E-608746A20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аботка планов по М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кретный план по МиО полностью обеспеченный бюджетом за подписью Исполнительного Директора (в случае ПМП) и утвержденный Исполнительным Директором (в случае СМП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огические рамки проектов должны быть в согласовании с результатами ГЭФ в тематических областях.   Планы по МиО должны включа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Индикаторы 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SMART</a:t>
            </a: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Исходные данные по МиО за подписью Исполнительного Дир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ланы по проведнию промежуточных обзоров проекта (если они необходимы или предусмотрены планом) и планы по проведению окончательной оценк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рганизационная структура и бюджет М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3050-82BB-418D-8206-8528012EF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218960" y="14475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ализация планов по Ми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ниторинг и надзор за программой и проектом включает в себя реализацию плана по Ми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спользование индикаторов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 по процессу и реализации проекта /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спользование индикаторов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</a:t>
            </a: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по результа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Исходные данные проекта полностью собраны и данные собираются для оценки прогресса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Calibri"/>
              </a:rPr>
              <a:t>Организационная структура по МиО работает и средства расходуются по пла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6998-C84C-4D63-BC6E-2BA8A0687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ценка проектов/программ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Все полномасштабные проекты  и программы должны пройти оценку в конц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Оценка должна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одиться независимо от руководства проектом или результаты проверяются отделом по оценке Учреждения ГЭ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нять нормы и стандарты по оценке Учреждения ГЭ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ценить, как минимум, промежуточные результаты, среднесрочные результаты, вероятность устойчивости, а также выполенение минимальных требования 1 и 2 к Ми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ржать основные проектные данные и уроки, извлеченные из оценки (включая ТЗ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8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ыть предоставлена в Офис по оценке ГЭФ в течении 12 месяцев по окончании проекта / программ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Инстпукции по проведению оценки СМП и ЕА будут разрботан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E2E5-084E-474C-85BA-115BB1B37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2840" y="298440"/>
            <a:ext cx="7937640" cy="8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090440" y="268200"/>
            <a:ext cx="8169480" cy="804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21932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астие оперативных коориднаторов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374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ланы по МиО должны указывать, каким образом операционные координаторы будут участвовать в Ми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перационные координаторы должны быть проинформированы о МиО, в том числе о промежуточных обзорах  и заключительных оценках, должны получать проекты отчетов для комментариев и окончательные версии отч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перативные коордираторы приглашаются принять участие в формулировке офицальной реакции менеджмента (если это примени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80000"/>
              </a:lnSpc>
              <a:spcBef>
                <a:spcPts val="60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рганизации-исполнители ГЭФ следят за выполнением этого требования по своим проектам и программам финансируемым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E77E-5920-44F4-9D3A-CD8369B30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218960" y="10666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Отслеживать деятельность, поддерживаемую ГЭФ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национальном уров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формировать и проводить консультации с заинтересованными сторонами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поводу планов, реализации и результатов деятельности ГЭФ в стра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Распространять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нформацию  по МиО, продвигая использование рекомендаций по оценке и извлеченных уро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могать Офису по оценке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качастве первого контакта со страной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Определять, кто является основными заинтересованными сторонами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Координировать встреч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Помогать в составлении повести дн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00"/>
                </a:solidFill>
                <a:latin typeface="Calibri"/>
              </a:rPr>
              <a:t>Координировать  составление официальной реакции страны на эти оценки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F8A2-CF88-4D64-B931-A89A5CDD3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ногоотраслевая стратегия развития ГЭФ5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Пятый компонент: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укрепление потенциала для мониторинга и оценки экологических результатов и тенденций.  Укрепление должно быть определено как приоритет в Плане дейстий по наращиванию потенциа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План по наращиванию потенциала должен быть составлен как среднемасштабный проект, или должен быть включен в более широкое предложение, которое будет составлено как среднемасштабный или полномасштабный проект – если в рамках СМП – финансирование должно осуществляться в пропорции 1: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Развитие региональных партнерств будет принятно во внима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$44</a:t>
            </a: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 миллиона зарезервировано на наращивание потенциала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1F4D-C158-40FE-99BF-8E59BFCF3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0D91-575D-4B50-B306-C71D483A4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1438200" y="201600"/>
            <a:ext cx="7712280" cy="7491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олидация и укрепление четырех направлений по оцен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ценка портфеля программ на уровне старны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15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о время ГЭФ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ценка влияния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еждународные воды, изменение климата и другие тематические напра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ценка  деятельности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годовой отчет по оценке деятельности, а также независимые 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Тематические оценки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траслевые стратегии и их адапт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1212840" y="109440"/>
            <a:ext cx="7937640" cy="1017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у и оценку результатов и прогресса в направлении достижения долгосрочных результа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смотрение процесса реформ: проектный цикл ГЭФ и методы, прямой доступ,Система прозрачного распределения ресурсов, параграф 2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внимания к роли ГЭФ в качестве катализа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нденции, как страны провлют собственность и инициа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нденции в глобальных экологических проблемах и соотвествие ГЭФ конвенц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олее глубокий взгляд на стратегии основных тематических областей, включая относительно устойчивого управления лесными ресурс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учшее осмысление долгосрочных результатов ГЭ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5701-E98E-47AF-944E-647690435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52280"/>
            <a:ext cx="7937640" cy="920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9907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Мониторинг и оценка (МиО) и управление по результатам (УпР) в ГЭФ-5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литика по МиО в ГЭФ-5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МиО: минимальные требовани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частие национальных координаторов в МиО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ланирование по оценке для ГЭФ-5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База данных по оценке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рактическое сообщество по оценке в области изменения климата (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mate-Eval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1683-6CFE-42E9-80CF-3F1B3DBADE6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1152360" y="109440"/>
            <a:ext cx="8131320" cy="1017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 цикла проект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ффективность принятия решений в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ультации с заинтересованными сторонами:  семинары ГЭФ для стран-члено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ются ли они как постоянный консультационный процес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Что будет нужно для такой оцен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Будет ли достаточно электронного опроса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, поднятые в Общем обзоре деятельности ГЭФ4 – управление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обальные и региональные прое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667F-9E11-4FE4-8170-A1B5D078D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1212840" y="133200"/>
            <a:ext cx="7937640" cy="70812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8F1A-1EF5-46B7-B39E-95CE87CA7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371600" y="1084320"/>
          <a:ext cx="7467480" cy="6167520"/>
        </p:xfrm>
        <a:graphic>
          <a:graphicData uri="http://schemas.openxmlformats.org/drawingml/2006/table">
            <a:tbl>
              <a:tblPr/>
              <a:tblGrid>
                <a:gridCol w="1376280"/>
                <a:gridCol w="1524240"/>
                <a:gridCol w="512640"/>
                <a:gridCol w="350640"/>
                <a:gridCol w="1368720"/>
                <a:gridCol w="2334960"/>
              </a:tblGrid>
              <a:tr h="406440">
                <a:tc gridSpan="6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Утвержденные проекты: активные и заверше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0240">
                <a:tc>
                  <a:txBody>
                    <a:bodyPr lIns="87120" rIns="87120" tIns="42840" bIns="4284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2840" bIns="4284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8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иоразнообразие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64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зменения клмимат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22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ждунарожные воды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19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еградация земель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35 MF, 21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имические вещест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16 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6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ных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 62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верш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>
                  <a:txBody>
                    <a:bodyPr lIns="87120" rIns="87120" tIns="42840" bIns="4284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циональ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Направ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Грант и ко-финансир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42720">
                <a:tc gridSpan="2"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8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 37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верш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7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28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1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182484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нт ГЭФ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$610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-финансирование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$3.72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8600"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гиональных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41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нт ГЭФ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65 M 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-финансировани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80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BD, 2 CC, 19 IW, 5 LD 6 MF, 4 POPs, 4 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лобальных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ант ГЭФ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196 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-финансировани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21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BD, 3 CC, 2 LD, 6 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TextBox 5"/>
          <p:cNvSpPr/>
          <p:nvPr/>
        </p:nvSpPr>
        <p:spPr>
          <a:xfrm>
            <a:off x="1371600" y="83808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рмения, Азербайджан, Беларусь, Казахстан, Респубилка Кыргызстан, Российская Федерация, Таджикистан, Туркменистан, Узбекис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1212840" y="146160"/>
            <a:ext cx="7937640" cy="877680"/>
          </a:xfrm>
          <a:prstGeom prst="rect">
            <a:avLst/>
          </a:prstGeom>
          <a:ln w="0">
            <a:noFill/>
          </a:ln>
        </p:spPr>
      </p:pic>
      <p:sp>
        <p:nvSpPr>
          <p:cNvPr id="24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CBB4-3FCE-4FC8-90BA-F7364F16F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Chart 2" descr=""/>
          <p:cNvPicPr/>
          <p:nvPr/>
        </p:nvPicPr>
        <p:blipFill>
          <a:blip r:embed="rId2"/>
          <a:stretch/>
        </p:blipFill>
        <p:spPr>
          <a:xfrm>
            <a:off x="939960" y="787320"/>
            <a:ext cx="3835080" cy="3073320"/>
          </a:xfrm>
          <a:prstGeom prst="rect">
            <a:avLst/>
          </a:prstGeom>
          <a:ln w="0">
            <a:noFill/>
          </a:ln>
        </p:spPr>
      </p:pic>
      <p:pic>
        <p:nvPicPr>
          <p:cNvPr id="250" name="Chart 16" descr=""/>
          <p:cNvPicPr/>
          <p:nvPr/>
        </p:nvPicPr>
        <p:blipFill>
          <a:blip r:embed="rId3"/>
          <a:stretch/>
        </p:blipFill>
        <p:spPr>
          <a:xfrm>
            <a:off x="4978440" y="939960"/>
            <a:ext cx="3835440" cy="2920680"/>
          </a:xfrm>
          <a:prstGeom prst="rect">
            <a:avLst/>
          </a:prstGeom>
          <a:ln w="0">
            <a:noFill/>
          </a:ln>
        </p:spPr>
      </p:pic>
      <p:pic>
        <p:nvPicPr>
          <p:cNvPr id="251" name="Chart 17" descr=""/>
          <p:cNvPicPr/>
          <p:nvPr/>
        </p:nvPicPr>
        <p:blipFill>
          <a:blip r:embed="rId4"/>
          <a:stretch/>
        </p:blipFill>
        <p:spPr>
          <a:xfrm>
            <a:off x="1392120" y="3530520"/>
            <a:ext cx="6578640" cy="31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1212840" y="-19080"/>
            <a:ext cx="7785000" cy="1019160"/>
          </a:xfrm>
          <a:prstGeom prst="rect">
            <a:avLst/>
          </a:prstGeom>
          <a:ln w="0">
            <a:noFill/>
          </a:ln>
        </p:spPr>
      </p:pic>
      <p:sp>
        <p:nvSpPr>
          <p:cNvPr id="25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4BE8-168C-4C1B-895C-F118E1836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Chart 2" descr=""/>
          <p:cNvPicPr/>
          <p:nvPr/>
        </p:nvPicPr>
        <p:blipFill>
          <a:blip r:embed="rId2"/>
          <a:stretch/>
        </p:blipFill>
        <p:spPr>
          <a:xfrm>
            <a:off x="1168560" y="863640"/>
            <a:ext cx="3987720" cy="3530520"/>
          </a:xfrm>
          <a:prstGeom prst="rect">
            <a:avLst/>
          </a:prstGeom>
          <a:ln w="0">
            <a:noFill/>
          </a:ln>
        </p:spPr>
      </p:pic>
      <p:pic>
        <p:nvPicPr>
          <p:cNvPr id="255" name="Chart 5" descr=""/>
          <p:cNvPicPr/>
          <p:nvPr/>
        </p:nvPicPr>
        <p:blipFill>
          <a:blip r:embed="rId3"/>
          <a:stretch/>
        </p:blipFill>
        <p:spPr>
          <a:xfrm>
            <a:off x="4521240" y="863640"/>
            <a:ext cx="4521240" cy="5435640"/>
          </a:xfrm>
          <a:prstGeom prst="rect">
            <a:avLst/>
          </a:prstGeom>
          <a:ln w="0">
            <a:noFill/>
          </a:ln>
        </p:spPr>
      </p:pic>
      <p:pic>
        <p:nvPicPr>
          <p:cNvPr id="256" name="Chart 9" descr=""/>
          <p:cNvPicPr/>
          <p:nvPr/>
        </p:nvPicPr>
        <p:blipFill>
          <a:blip r:embed="rId4"/>
          <a:stretch/>
        </p:blipFill>
        <p:spPr>
          <a:xfrm>
            <a:off x="1930320" y="4444920"/>
            <a:ext cx="3378240" cy="223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0CCB-90CB-42E5-BE98-49ADEDA7960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1" descr=""/>
          <p:cNvPicPr/>
          <p:nvPr/>
        </p:nvPicPr>
        <p:blipFill>
          <a:blip r:embed="rId1"/>
          <a:stretch/>
        </p:blipFill>
        <p:spPr>
          <a:xfrm>
            <a:off x="-152280" y="347760"/>
            <a:ext cx="8223120" cy="8287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актическое сообщество по оценке изменений климата и развит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мен практиками в области оценки изменений климата и развит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00+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лен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струменты для участия он-лай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76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Вебсайт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Группа в </a:t>
            </a: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Linked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Социльные меди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55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Calibri"/>
              </a:rPr>
              <a:t>Бюллетен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64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970A-98E3-4AE4-A95B-07B8451E0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1" descr=""/>
          <p:cNvPicPr/>
          <p:nvPr/>
        </p:nvPicPr>
        <p:blipFill>
          <a:blip r:embed="rId3"/>
          <a:stretch/>
        </p:blipFill>
        <p:spPr>
          <a:xfrm>
            <a:off x="7848720" y="304920"/>
            <a:ext cx="1036440" cy="1023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F4C2-C2E8-43E6-8D54-F0A43DD0F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правлениние знаниями в оцен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олучаете ли Вы оценки ГЭФ</a:t>
            </a: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Какой формат передачи результатов по оценке наиболее подходит для Вас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EFD1-F45D-4BF1-B92E-9983AA83A74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1828800" y="11426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Calibri"/>
              </a:rPr>
              <a:t>Спасиб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E933-F1AC-4568-8B97-6706F3F9E65A}" type="slidenum">
              <a:rPr b="1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5C19-B786-4965-AA46-EDF248C7C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517760" y="298440"/>
            <a:ext cx="7480080" cy="10303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1932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Управление по результата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Verdana"/>
              </a:rPr>
              <a:t>–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определение целей и задач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мониторинг , обучение и принятие реш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Оценка – это проверка УпР реальность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УпР, особенно мониторинг, показывает, находится ли организация на пути к достижению результат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Verdana"/>
              </a:rPr>
              <a:t>Оценка может показать, движется ли организация верным курс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Две основные цели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йств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дотчетност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достижении целей ГЭФ, с помощью оценки </a:t>
            </a:r>
            <a:r>
              <a:rPr b="0" lang="ru-RU" sz="2600" spc="-1" strike="noStrike">
                <a:solidFill>
                  <a:srgbClr val="006600"/>
                </a:solidFill>
                <a:latin typeface="Calibri"/>
              </a:rPr>
              <a:t>результатов, эффективности, процессов и деятельност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артнеров, вовлеченных в деятельность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действ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бучению, обратной связи и обмену зания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 результатах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извлеченных уроках между ГЭФ и партнерами в качестве основы для принятия решений по мерам политики, стратегиям, управлению программами и проектами; а также для пополне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знани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 улучше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эффектив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B453-A97D-4E89-B25B-C97F69129DFB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365120" y="171360"/>
            <a:ext cx="7785360" cy="120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952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оминание  управления по результатам (УпР) в ГЭ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ольше внимания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обмену знания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бучению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точнение ролей и обязанносте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вышение роли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национальных координаторов  ГЭФ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и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ение программ и совместно реализуемых проекто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ходные данные для МиО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тверждаются подписью Исполнительного Директо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Новое минимальное требование: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частие оперативных координаторов ГЭФ в МиО проектов и програм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6F35-0BCF-49A2-8686-125AC46CF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089920" cy="853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304920" y="1447920"/>
            <a:ext cx="8000640" cy="4418640"/>
            <a:chOff x="304920" y="1447920"/>
            <a:chExt cx="8000640" cy="4418640"/>
          </a:xfrm>
        </p:grpSpPr>
        <p:sp>
          <p:nvSpPr>
            <p:cNvPr id="158" name="Text Box 56"/>
            <p:cNvSpPr/>
            <p:nvPr/>
          </p:nvSpPr>
          <p:spPr>
            <a:xfrm>
              <a:off x="1067040" y="4265280"/>
              <a:ext cx="16383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перационный уровен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низу вверх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55"/>
            <p:cNvSpPr/>
            <p:nvPr/>
          </p:nvSpPr>
          <p:spPr>
            <a:xfrm>
              <a:off x="304920" y="1779120"/>
              <a:ext cx="24764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нституциональный уровен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верху вниз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41"/>
            <p:cNvGrpSpPr/>
            <p:nvPr/>
          </p:nvGrpSpPr>
          <p:grpSpPr>
            <a:xfrm>
              <a:off x="3429000" y="1447920"/>
              <a:ext cx="4876560" cy="4418640"/>
              <a:chOff x="3429000" y="1447920"/>
              <a:chExt cx="4876560" cy="4418640"/>
            </a:xfrm>
          </p:grpSpPr>
          <p:sp>
            <p:nvSpPr>
              <p:cNvPr id="161" name="AutoShape 42"/>
              <p:cNvSpPr/>
              <p:nvPr/>
            </p:nvSpPr>
            <p:spPr>
              <a:xfrm>
                <a:off x="342900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43"/>
              <p:cNvSpPr/>
              <p:nvPr/>
            </p:nvSpPr>
            <p:spPr>
              <a:xfrm>
                <a:off x="523620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Задачи проектов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Text Box 44"/>
              <p:cNvSpPr/>
              <p:nvPr/>
            </p:nvSpPr>
            <p:spPr>
              <a:xfrm>
                <a:off x="5105160" y="2896560"/>
                <a:ext cx="1494360" cy="5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Цели в конкретных тематических областях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Text Box 45"/>
              <p:cNvSpPr/>
              <p:nvPr/>
            </p:nvSpPr>
            <p:spPr>
              <a:xfrm>
                <a:off x="4877640" y="1559160"/>
                <a:ext cx="182844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Стратегические цели ГЭФ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453024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523800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Times New Roman"/>
                  </a:rPr>
                  <a:t>Задачи в конкретных областях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48"/>
              <p:cNvSpPr/>
              <p:nvPr/>
            </p:nvSpPr>
            <p:spPr>
              <a:xfrm>
                <a:off x="397944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49"/>
              <p:cNvSpPr/>
              <p:nvPr/>
            </p:nvSpPr>
            <p:spPr>
              <a:xfrm>
                <a:off x="515952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Text Box 50"/>
            <p:cNvSpPr/>
            <p:nvPr/>
          </p:nvSpPr>
          <p:spPr>
            <a:xfrm>
              <a:off x="270540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лияние ГЭ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ромежуточные результаты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раткосрочные результаты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 flipV="1">
              <a:off x="335304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335304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 flipH="1">
              <a:off x="266724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 flipH="1">
              <a:off x="266724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6FC1-47C1-4828-BC06-3AA143326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990720" y="1455840"/>
            <a:ext cx="26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аботка проекта 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3736800" y="1455840"/>
            <a:ext cx="243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256440" y="1455840"/>
            <a:ext cx="24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3659040" y="1606680"/>
            <a:ext cx="608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5996160" y="1606680"/>
            <a:ext cx="606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479600" y="2084400"/>
            <a:ext cx="191592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истема результат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лан МИ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2782800" y="3502080"/>
            <a:ext cx="3994200" cy="1415880"/>
          </a:xfrm>
          <a:prstGeom prst="rightArrow">
            <a:avLst>
              <a:gd name="adj1" fmla="val 50000"/>
              <a:gd name="adj2" fmla="val 1278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3040200" y="3973680"/>
            <a:ext cx="276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, мониторинг и 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3824280" y="2084400"/>
            <a:ext cx="217188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ониторинг прогресса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 необходимости, в середине процесса вносятся корректив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6429240" y="2084400"/>
            <a:ext cx="2171880" cy="42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кончательная оце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своенные уро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7" name="AutoShape 15"/>
          <p:cNvCxnSpPr>
            <a:endCxn id="182" idx="2"/>
          </p:cNvCxnSpPr>
          <p:nvPr/>
        </p:nvCxnSpPr>
        <p:spPr>
          <a:xfrm rot="10800000">
            <a:off x="2436120" y="2523240"/>
            <a:ext cx="5259960" cy="29631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Text Box 16"/>
          <p:cNvSpPr/>
          <p:nvPr/>
        </p:nvSpPr>
        <p:spPr>
          <a:xfrm>
            <a:off x="4335480" y="4998960"/>
            <a:ext cx="30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военные уроки, оптимальная 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2231640" y="5562720"/>
            <a:ext cx="561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Bank’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B193-A23A-4716-A578-A00F94A30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20"/>
          <p:cNvSpPr/>
          <p:nvPr/>
        </p:nvSpPr>
        <p:spPr>
          <a:xfrm flipV="1">
            <a:off x="7696080" y="27432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129528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О способствует накомлению знан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Выводы и извлеченные уроки должны быть доступны целевым аудиториям в доходчивом и понятном ви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четы по оценке должны диманично распространять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мен знаниями позволяет партнерам получать пользу от уроков, извлеченных на практи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 управления знаниями в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родвижение культуры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Применение усвоенных уро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Calibri"/>
              </a:rPr>
              <a:t>Обратная связь о новой деяте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4271-F330-4952-B1CA-34E82F988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itle 1" descr=""/>
          <p:cNvPicPr/>
          <p:nvPr/>
        </p:nvPicPr>
        <p:blipFill>
          <a:blip r:embed="rId1"/>
          <a:stretch/>
        </p:blipFill>
        <p:spPr>
          <a:xfrm>
            <a:off x="1079640" y="268200"/>
            <a:ext cx="8192880" cy="1494000"/>
          </a:xfrm>
          <a:prstGeom prst="rect">
            <a:avLst/>
          </a:prstGeom>
          <a:ln w="0">
            <a:noFill/>
          </a:ln>
        </p:spPr>
      </p:pic>
      <p:sp>
        <p:nvSpPr>
          <p:cNvPr id="197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9EBC-005D-4B7B-A1BD-1BF73E0A0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Object 2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8864640" cy="4076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1-11-01T20:55:50Z</dcterms:modified>
  <cp:revision>252</cp:revision>
  <dc:subject/>
  <dc:title>Slide 1</dc:title>
</cp:coreProperties>
</file>