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56C4-59CF-4A7C-8316-15BD0310A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E5DD-0070-4F5D-B8CB-5875875BF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849-2C7F-486B-B63C-8A3CC20E3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513-FE11-4DA6-BA02-F0D2B38DB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54A-3F78-4482-9E49-5D6AFE4C1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C877-31F4-40F0-8078-9D119CD05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D566-5DE6-4272-90DD-62A52FBFA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738C-04B2-43C4-864C-54DC344E5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505-9B6B-438D-A7D9-C015F3DC5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C05-0D6D-4F00-A869-7CA46EA46D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1A42-8DB8-420E-A61C-F3D0C94F4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93C9-2E0D-4060-B2E2-6F73D76E1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AC83-8A9E-4A4B-8D22-4B73A27A2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153F-3166-4F97-8905-D425865DF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989-662C-4B0C-A592-0A18E9DA3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racking results at the program, focal area, overall GEF portfolio level. Annual Monitoring Report presents a synthesis of this information to the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28D-73A9-4857-83CB-F27C37976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5DE-7CAC-46EF-B218-FB327BD13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2BE-CF9F-4881-9857-1022DC9A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B58-E50A-4FE9-839A-78F753D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FB4-A493-44A6-9668-E20EF161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2F2-26F1-4756-8285-9FAA6D8D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2814-BB93-4B9C-B968-0509ADF4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2350-D681-4835-9A79-09C8C803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03AC-A259-48A1-8828-7FCC9E4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E2C-96AD-4634-AB9A-053AF75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B960-E9AD-412C-9D50-1BF7B80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9C01-B494-490A-876F-1433856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8F1E-868A-43EC-B665-946E7F6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931-4401-46F8-B50B-04AF03DD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242-0090-4E18-AB91-5CEEFCD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2755-A285-44B3-BAE5-59AC33C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A1CA-6F63-4070-AD94-125E11C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0CC2-AC28-4D36-BDB6-012DA757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2160-BC79-49B4-AB22-84295BF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6340F-D118-4542-9B12-B94BC5DFD1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703C3-53B9-40D0-B095-43EFCBE6EB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7EBF8-9934-47A4-9A00-B5A8DED977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2AEA7-8F46-4F23-BEDE-C6581CEE0A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847E7-B14D-48B8-89C7-E39A02087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ACF-1E71-4BBB-A7E7-829F924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FD086-24D4-4D8C-8C31-5BB24AA334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7ECEC-9E3B-4FC9-8583-02F20F802A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9818-1848-4DCF-9A51-4CFF90694F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67AD9-C28E-4199-99D5-48BA7F0AE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A5804-B382-495B-B484-7E6DF9E932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C9199-CAE5-4F71-B97B-D9DD987D5A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D4F49-C4B3-473C-8DE8-197A6D69C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CD2-C6CA-473C-92EF-81760AA6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456-84EA-4CF0-B62B-4C8723F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FA4-C866-416F-B97C-57F23CF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195-8BDC-4371-ABA0-070EBDEA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45E-9932-4820-95E2-9667A3B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D5A-E8D6-43FF-B5D1-0B0627F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EFF-4EE8-4138-A1E8-49F30D0437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9C71-6613-4C18-B113-EE2629FA8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99B-2554-4301-B359-A5877D9935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CB12-D3D0-4575-97B3-8A9A77D1A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FFC6-49E8-48E2-9774-379F6309FDAF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17524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76b4c"/>
                </a:solidFill>
                <a:latin typeface="Calibri"/>
              </a:rPr>
              <a:t>МиО в ГЭФ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сения Темн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фис  оценк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инар ГЭФ для стран-чл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438120" y="1859040"/>
            <a:ext cx="7956720" cy="50115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CBC0-86A4-4A81-A3B8-695781C7A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375080" y="1146600"/>
            <a:ext cx="4821480" cy="5767200"/>
            <a:chOff x="4375080" y="1146600"/>
            <a:chExt cx="4821480" cy="5767200"/>
          </a:xfrm>
        </p:grpSpPr>
        <p:sp>
          <p:nvSpPr>
            <p:cNvPr id="203" name="Rectangle 5"/>
            <p:cNvSpPr/>
            <p:nvPr/>
          </p:nvSpPr>
          <p:spPr>
            <a:xfrm rot="19314600">
              <a:off x="4723920" y="1371240"/>
              <a:ext cx="1270800" cy="1570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тдел по оценке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9361400">
              <a:off x="5694480" y="2606400"/>
              <a:ext cx="1257120" cy="1643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тдел по оценке ГЭФ, партнеры по оце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9306800">
              <a:off x="6686640" y="3900960"/>
              <a:ext cx="1214280" cy="1523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Секретариат ГЭФ, агентства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19392600">
              <a:off x="7605000" y="5041800"/>
              <a:ext cx="1209960" cy="1676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Страны-партнеры, НГО, частный сектор, сообше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Flowchart: Decision 10"/>
          <p:cNvSpPr/>
          <p:nvPr/>
        </p:nvSpPr>
        <p:spPr>
          <a:xfrm>
            <a:off x="1600200" y="1066680"/>
            <a:ext cx="1981080" cy="12193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880" y="990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Благоприятны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3124080" y="914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Политика М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772400" y="2895480"/>
            <a:ext cx="10666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6781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циальная рекация менеджмента требуется на все отчеты, представленные Офисом по оценке ГЭФ перед Советом ГЭ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принятии решений Совет ГЭФ принимает во внимание и оценку и официальную реакцию менеджм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с по оценке ГЭФ ежегодно отчитывается о выполении решений по итогам оценки (Отчет о мерах, принятых менеджмен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оценок портфелей проектов на уровне страны, страны имеют возможность представить свое мнение Сове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EBB-0334-4C54-99C1-6F8D6D27C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ка планов по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ый план по МиО полностью обеспеченный бюджетом за подписью Исполнительного Директора (в случае ПМП) и утвержденный Исполнительным Директором (в случае СМП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еские рамки проектов должны быть в согласовании с результатами ГЭФ в тематических областях.   Планы по МиО должны включ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ндикаторы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сходные данные по МиО за подписью Исполнительн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проведнию промежуточных обзоров проекта (если они необходимы или предусмотрены планом) и планы по проведению окончательной оцен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онная структура и бюджет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327-CA7C-402B-8A74-5CD4BEF9D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изация планов по М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и надзор за программой и проектом включает в себя реализацию плана по М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по процессу и реализации проекта /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 результа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ходные данные проекта полностью собраны и данные собираются для оценки прогресс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рганизационная структура по МиО работает и средства расходуются по пл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9BBC-485E-441B-BF79-8ECE1ECC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ценка проектов/программ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се полномасштабные проекты  и программы должны пройти оценку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Оценка должна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ься независимо от руководства проектом или результаты проверяются отделом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ть нормы и стандарты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ть, как минимум, промежуточные результаты, среднесрочные результаты, вероятность устойчивости, а также выполенение минимальных требования 1 и 2 к М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ь основные проектные данные и уроки, извлеченные из оценки (включая ТЗ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предоставлена в Офис по оценке ГЭФ в течении 12 месяцев по окончании проекта / програ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пукции по проведению оценки СМП и ЕА будут разрбот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2DB8-0B13-43C1-9CF7-43C1C363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090440" y="268200"/>
            <a:ext cx="816948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ие оперативных коориднатор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374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МиО должны указывать, каким образом операционные координаторы будут участвовать в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ционные координаторы должны быть проинформированы о МиО, в том числе о промежуточных обзорах  и заключительных оценках, должны получать проекты отчетов для комментариев и окончательные версии от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тивные коордираторы приглашаются принять участие в формулировке офицальной реакции менеджмента (если это примен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и-исполнители ГЭФ следят за выполнением этого требования по своим проектам и программам финансируемым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FB38-DBDE-4E7F-A417-C09A08CEC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тслеживать деятельность, поддерживаемую ГЭФ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формировать и проводить консультации с заинтересованными сторона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воду планов, реализации и результатов деятельности ГЭФ в ст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ю  по МиО, продвигая использование рекомендаций по оценке и извлеченных ур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могать Офису по оценк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астве первого контакта со стран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Определять, кто является основными заинтересованными сторонам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встреч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Помогать в составлении повести д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 составление официальной реакции страны на эти оценк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1B3F-22BD-4E7C-B7A5-C939BC0ED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оотраслевая стратегия развития ГЭФ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ятый компонент: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укрепление потенциала для мониторинга и оценки экологических результатов и тенденций.  Укрепление должно быть определено как приоритет в Плане дейстий по наращиванию потенц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лан по наращиванию потенциала должен быть составлен как среднемасштабный проект, или должен быть включен в более широкое предложение, которое будет составлено как среднемасштабный или полномасштабный проект – если в рамках СМП – финансирование должно осуществляться в пропорции 1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Развитие региональных партнерств будет принятно во вним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$44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 миллиона зарезервировано на наращивание потенциала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B92-ED41-48BD-AA1E-47DE02835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1AD8-4B5B-4182-8002-CF72A7CFA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438200" y="201600"/>
            <a:ext cx="7712280" cy="749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портфеля программ на уровне старн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5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время ГЭФ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влияни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ждународные воды, изменение климата и другие тематические на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 деятельнос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годовой отчет по оценке деятельности, а также независимые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матические оценк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раслевые стратегии и их адап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212840" y="1094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у и оценку результатов и прогресса в направлении достижения долгосрочных результа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роцесса реформ: проектный цикл ГЭФ и методы, прямой доступ,Система прозрачного распределения ресурсов, параграф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внимания к роли ГЭФ в качестве катал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, как страны провлют собствен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 в глобальных экологических проблемах и соотвествие ГЭФ конвен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глубокий взгляд на стратегии основных тематических областей, включая относительно устойчивого управления лесными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е осмысление долгосрочных результат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614-4274-4530-920C-16521FD5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ониторинг и оценка (МиО) и управление по результатам (УпР)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литика по МиО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иО: минимальные требова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частие национальных координаторов в Ми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ланирование по оценке для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База данных по оцен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в области изменения климата 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mate-Ev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CC1F-ECD4-4574-855A-E61DF87A3C2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152360" y="109440"/>
            <a:ext cx="8131320" cy="101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цикла про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ность принятия решений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:  семинары ГЭФ для стран-член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тся ли они как постоянный консультационный проц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Что будет нужно для такой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Будет ли достаточно электронного опроса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, поднятые в Общем обзоре деятельности ГЭФ4 – управлени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12C-E73B-4C6B-BC3F-8D650FFFD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E60-EAED-429E-A133-1ACAF28E0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084320"/>
          <a:ext cx="7467480" cy="616752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твержденные проекты: активные и заверш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024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разнообрази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64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ения клмима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2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жные во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9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градация земе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35 MF, 2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имические вещест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6 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ы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6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циональ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нт и ко-финанс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272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3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484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860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ьны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4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обаль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мения, Азербайджан, Беларусь, Казахстан, Респубилка Кыргызстан, Российская Федерация, Таджикистан, Туркменистан, Узбекис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212840" y="146160"/>
            <a:ext cx="7937640" cy="87768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7B7A-D327-42D9-A78F-CAF0C747A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50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-19080"/>
            <a:ext cx="7785000" cy="10191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FF6-241D-4B5E-BAF1-C60B09958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55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56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930-06BD-4584-80FD-8EDB3C1B503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-152280" y="347760"/>
            <a:ext cx="8223120" cy="8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3E16-B6A6-4CAF-87B2-E542A04F4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984-D995-4B4A-849D-B8A63A2A3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ние знаниями в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учаете ли Вы оценки ГЭФ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кой формат передачи результатов по оценке наиболее подходит для Вас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F4FD-392D-4EBD-8D8F-92C0BD65619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Calibri"/>
              </a:rPr>
              <a:t>Спасиб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2DD-845F-4696-B4F2-243B16B4866B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BD7C-9BD4-45DB-8AD0-5373C74EF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 по результата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, обучение и принятие ре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пР реа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, особенно мониторинг, показывает, находится ли организация на пути к достижению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 движется ли организация верным курс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Две основные цели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тчет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остижении целей ГЭФ, с помощью оценки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результатов, эффективности, процессов и деятель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тнеров, вовлеченных в деятельность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учению, обратной связи и обмену з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 результатах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извлеченных уроках между ГЭФ и партнерами в качестве основы для принятия решений по мерам политики, стратегиям, управлению программами и проектами; а также для пополн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нан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улучш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082-33CD-4717-93F1-315A08EAAE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365120" y="171360"/>
            <a:ext cx="7785360" cy="120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минание  управления по результатам (УпР) в ГЭ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ольше внимания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обмену зн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буче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очнение ролей и обязанно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роли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ациональных координаторов  ГЭФ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и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программ и совместно реализуемых проект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ходные данные для Ми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аются подписью Исполнительного Дирек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овое минимальное требование: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 в МиО проектов и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E022-5CC5-4A9F-8BB4-D3E670CD9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04920" y="1447920"/>
            <a:ext cx="8000640" cy="4418640"/>
            <a:chOff x="304920" y="1447920"/>
            <a:chExt cx="800064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067040" y="4265280"/>
              <a:ext cx="1638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ерацион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низу вверх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304920" y="1779120"/>
              <a:ext cx="24764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ституциональ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9000" y="1447920"/>
              <a:ext cx="4876560" cy="4418640"/>
              <a:chOff x="342900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900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620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105160" y="2896560"/>
                <a:ext cx="149436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Цели в конкрет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4877640" y="1559160"/>
                <a:ext cx="18284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3024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800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конкретны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44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52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40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лияние ГЭ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межут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раткоср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304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304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724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724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7F5-6FDC-45BA-B5C6-C7AF72655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145584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аботка проекта 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36800" y="1455840"/>
            <a:ext cx="24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56440" y="1455840"/>
            <a:ext cx="24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659040" y="160668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996160" y="1606680"/>
            <a:ext cx="60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79600" y="2084400"/>
            <a:ext cx="1915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истема результа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лан МИ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782800" y="3502080"/>
            <a:ext cx="3994200" cy="1415880"/>
          </a:xfrm>
          <a:prstGeom prst="rightArrow">
            <a:avLst>
              <a:gd name="adj1" fmla="val 50000"/>
              <a:gd name="adj2" fmla="val 1278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040200" y="3973680"/>
            <a:ext cx="27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, мониторинг и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824280" y="2084400"/>
            <a:ext cx="217188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ониторинг прогресс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необходимости, в середине процесса вносятся корректив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29240" y="2084400"/>
            <a:ext cx="21718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кончательная оце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военные уро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AutoShape 15"/>
          <p:cNvCxnSpPr>
            <a:endCxn id="182" idx="2"/>
          </p:cNvCxnSpPr>
          <p:nvPr/>
        </p:nvCxnSpPr>
        <p:spPr>
          <a:xfrm rot="10800000">
            <a:off x="2436120" y="2523240"/>
            <a:ext cx="5259960" cy="29631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16"/>
          <p:cNvSpPr/>
          <p:nvPr/>
        </p:nvSpPr>
        <p:spPr>
          <a:xfrm>
            <a:off x="4335480" y="499896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военные уроки, оптимальная 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231640" y="5562720"/>
            <a:ext cx="561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87B-34FC-454B-962C-28DAFD4E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0"/>
          <p:cNvSpPr/>
          <p:nvPr/>
        </p:nvSpPr>
        <p:spPr>
          <a:xfrm flipV="1">
            <a:off x="7696080" y="27432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О способствует накомле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ыводы и извлеченные уроки должны быть доступны целевым аудиториям в доходчивом и поня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четы по оценке должны диманично распростран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получать пользу от уроков, извлеченных на прак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одвижение культур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именение усвоенных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братная связь о нов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CF4-8050-4CD5-A36A-E784965F7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1079640" y="268200"/>
            <a:ext cx="8192880" cy="1494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7B8-DC68-4C3B-A0A2-874521804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886464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55:50Z</dcterms:modified>
  <cp:revision>252</cp:revision>
  <dc:subject/>
  <dc:title>Slide 1</dc:title>
</cp:coreProperties>
</file>