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1.wmf" ContentType="image/x-wmf"/>
  <Override PartName="/ppt/media/image28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A1AD-D44C-424A-8E5A-31942B1F7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99B2-E87F-4B23-B4E4-124899B15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B78A-8901-414D-9513-7A7F301A4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1270-CB17-4847-B53E-D1CC11A16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8B55-6693-4E61-BFB8-65788E4A1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501E-4886-47A5-A677-93AD331EA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1A53-D8E9-4FC3-9FC7-3C2C145F1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 active projects (at the national, regional, and global levels) comprise 88% (close to 5 billion dollars) of the tota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4.3 billion dollars in Grant and Co-financing for national level projects, 71% goes to projects in the Russian Fe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2F3A-B17E-4F28-B890-316CEFCD0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F128-83D3-485B-9F3D-E985346DE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6C16-DEBB-48B4-80CC-196F708E17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reports in 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p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videos and on-line prese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notification about new re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-specific summaries of evaluation findings and lessons lear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area summa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F5D3-ACEF-4D11-B6A2-0EE53B7D4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DA9B-6995-4D94-91CA-0CD21E15D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A8CC-60F6-4897-8CE7-BD445EA97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337D-1170-46E7-B88E-FE0B3031F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BE73-E168-4F70-B951-C357168BA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racking results at the program, focal area, overall GEF portfolio level. Annual Monitoring Report presents a synthesis of this information to the Counc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12A1-C909-4492-A0C4-E5330CD67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DEE-EAB2-462F-9521-C4006F1C7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24A-686B-4929-9461-84723436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93F-EA08-4354-AEAE-1DC0C6B9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34A-8259-46A3-B189-347197E0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FEC-48AD-429C-B46B-4BD618A3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29BD-6CAB-4889-9126-1A33855B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5D56-7F6B-469B-BC6E-2089E7F1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2324-CD2D-40F9-9B34-CB0974B6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EFAA-CFD0-41FF-990E-5A1F7D8D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3124-1920-44AC-A810-6530D09E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F3B6-CB85-458C-9591-78F89C3B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FD80-D027-4FB8-BD45-C11D79FB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216-2C19-46F8-919F-3FBBF849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F39A-9950-41DD-A283-76C5C710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2A84-B215-49B6-A5F4-B2BD765D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5FCE-5C13-4BFF-9500-B7A4736B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181B-4427-4038-970C-97325517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4866-F6B4-427F-BD83-AB6D3610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D8E02-6845-4794-AA0C-C2031E8BE8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52F07-21FB-47F3-8EC9-44561E3E45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A9755-D538-4E23-801B-F66AB38772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F224B-1A61-4A7B-AF13-13F52C1242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1BA08-1059-41FC-8E47-2F8561C6F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6D1-B3DF-4AF9-9A79-7962C0A2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8FAC4-8A10-4048-A3BA-A633319282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BFBB2-3014-4402-B997-CAB4C3B84D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6C93F-AF5B-45C6-9284-779E5AE030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827A0-6436-42E8-8EE7-3A75176A25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6D618-0DFC-4ABE-B90B-DE727390F4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F1195-8AAB-45FF-8CA6-FC8D9B802C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4EE01-7D3C-49B9-97F7-6E431436D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BE6-D068-4A13-B76E-930405CE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EEE-6881-4F30-9005-F2C24ECE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4DF-B10E-4734-8E45-3B7037C1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FC1-CA7B-4674-82E2-1EC1112E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5AF-13E4-4D98-82E1-1655125F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A3C-526B-4F58-821C-2E600E43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C015-0D71-40E1-BFDC-EF99F61118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3031-FC76-48D0-A0F5-86B725C4EE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CCC8-F014-4C5A-85A1-9B2DC48A8A9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FBFC-45DD-4C5D-95F7-71179F975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748B-4729-4084-9DBB-6D3B9C7C8268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175248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376b4c"/>
                </a:solidFill>
                <a:latin typeface="Calibri"/>
              </a:rPr>
              <a:t>МиО в ГЭФ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743200" y="31237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сения Темнен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фис  оценки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минар ГЭФ для стран-чле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тральная Аз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 – 13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тябр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шкент, Узбеки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1122480" y="268200"/>
            <a:ext cx="8113680" cy="804960"/>
          </a:xfrm>
          <a:prstGeom prst="rect">
            <a:avLst/>
          </a:prstGeom>
          <a:ln w="0">
            <a:noFill/>
          </a:ln>
        </p:spPr>
      </p:pic>
      <p:pic>
        <p:nvPicPr>
          <p:cNvPr id="200" name="Content Placeholder 4" descr=""/>
          <p:cNvPicPr/>
          <p:nvPr/>
        </p:nvPicPr>
        <p:blipFill>
          <a:blip r:embed="rId2"/>
          <a:stretch/>
        </p:blipFill>
        <p:spPr>
          <a:xfrm>
            <a:off x="438120" y="1859040"/>
            <a:ext cx="7956720" cy="501156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01D0-5EBE-447D-9A94-D230991A4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4375080" y="1146600"/>
            <a:ext cx="4821480" cy="5767200"/>
            <a:chOff x="4375080" y="1146600"/>
            <a:chExt cx="4821480" cy="5767200"/>
          </a:xfrm>
        </p:grpSpPr>
        <p:sp>
          <p:nvSpPr>
            <p:cNvPr id="203" name="Rectangle 5"/>
            <p:cNvSpPr/>
            <p:nvPr/>
          </p:nvSpPr>
          <p:spPr>
            <a:xfrm rot="19314600">
              <a:off x="4723920" y="1371240"/>
              <a:ext cx="1270800" cy="15706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</a:t>
              </a:r>
              <a:r>
                <a:rPr b="0" lang="az-Cyrl-AZ" sz="1600" spc="-1" strike="noStrike">
                  <a:solidFill>
                    <a:srgbClr val="ffffff"/>
                  </a:solidFill>
                  <a:latin typeface="Calibri"/>
                </a:rPr>
                <a:t>тдел по оценке ГЭ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 rot="19361400">
              <a:off x="5694480" y="2606400"/>
              <a:ext cx="1257120" cy="1643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</a:t>
              </a: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тдел по оценке ГЭФ, партнеры по оценк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 rot="19306800">
              <a:off x="6686640" y="3900960"/>
              <a:ext cx="1214280" cy="1523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600" spc="-1" strike="noStrike">
                  <a:solidFill>
                    <a:srgbClr val="ffffff"/>
                  </a:solidFill>
                  <a:latin typeface="Calibri"/>
                </a:rPr>
                <a:t>Секретариат ГЭФ, агентства ГЭ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 rot="19392600">
              <a:off x="7605000" y="5041800"/>
              <a:ext cx="1209960" cy="1676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Страны-партнеры, НГО, частный сектор, сообшеств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Flowchart: Decision 10"/>
          <p:cNvSpPr/>
          <p:nvPr/>
        </p:nvSpPr>
        <p:spPr>
          <a:xfrm>
            <a:off x="1600200" y="1066680"/>
            <a:ext cx="1981080" cy="12193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ffffff"/>
                </a:solidFill>
                <a:latin typeface="Calibri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380880" y="9907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Благоприятные 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990720" y="220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Надз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3124080" y="914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Политика МИ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7772400" y="2895480"/>
            <a:ext cx="106668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6781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фициальная рекация менеджмента требуется на все отчеты, представленные Офисом по оценке ГЭФ перед Советом ГЭФ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принятии решений Совет ГЭФ принимает во внимание и оценку и официальную реакцию менеджм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фис по оценке ГЭФ ежегодно отчитывается о выполении решений по итогам оценки (Отчет о мерах, принятых менеджментом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случае оценок портфелей проектов на уровне страны, страны имеют возможность представить свое мнение Совет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4632-B989-4EA0-A2DD-36D9F5FC0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аботка планов по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ретный план по МиО полностью обеспеченный бюджетом за подписью Исполнительного Директора (в случае ПМП) и утвержденный Исполнительным Директором (в случае СМП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ические рамки проектов должны быть в согласовании с результатами ГЭФ в тематических областях.   Планы по МиО должны включа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Индикаторы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Исходные данные по МиО за подписью Исполнительного Дир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ланы по проведнию промежуточных обзоров проекта (если они необходимы или предусмотрены планом) и планы по проведению окончательной оценк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рганизационная структура и бюджет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8AD2-C1BA-49A8-A6DB-DDCC7A013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ализация планов по Ми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инг и надзор за программой и проектом включает в себя реализацию плана по Ми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пользование индикаторов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 по процессу и реализации проекта /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пользование индикаторов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о результа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ходные данные проекта полностью собраны и данные собираются для оценки прогресс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Организационная структура по МиО работает и средства расходуются по пла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988A-A03E-4BE4-993F-029A227EF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ценка проектов/программ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Все полномасштабные проекты  и программы должны пройти оценку в конц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Оценка должна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одиться независимо от руководства проектом или результаты проверяются отделом по оценке Учреждения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ять нормы и стандарты по оценке Учреждения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ценить, как минимум, промежуточные результаты, среднесрочные результаты, вероятность устойчивости, а также выполенение минимальных требования 1 и 2 к Ми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ь основные проектные данные и уроки, извлеченные из оценки (включая ТЗ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ть предоставлена в Офис по оценке ГЭФ в течении 12 месяцев по окончании проекта / программ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нстпукции по проведению оценки СМП и ЕА будут разрбот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3101-4C78-47B5-9BE5-C583892C8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090440" y="268200"/>
            <a:ext cx="8169480" cy="804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астие оперативных коориднаторов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374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ланы по МиО должны указывать, каким образом операционные координаторы будут участвовать в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перационные координаторы должны быть проинформированы о МиО, в том числе о промежуточных обзорах  и заключительных оценках, должны получать проекты отчетов для комментариев и окончательные версии отч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перативные коордираторы приглашаются принять участие в формулировке офицальной реакции менеджмента (если это примени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рганизации-исполнители ГЭФ следят за выполнением этого требования по своим проектам и программам финансируемым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FB0F-27BB-4096-B688-456A3CBF4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тслеживать деятельность, поддерживаемую ГЭФ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национальном уров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формировать и проводить консультации с заинтересованными сторона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поводу планов, реализации и результатов деятельности ГЭФ в стр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спространять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ацию  по МиО, продвигая использование рекомендаций по оценке и извлеченных уро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могать Офису по оценк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ачастве первого контакта со страно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Определять, кто является основными заинтересованными сторонам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Координировать встреч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Помогать в составлении повести дн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Координировать  составление официальной реакции страны на эти оценк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CB5B-7BF9-4F39-8BB0-AD08D5CC4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ногоотраслевая стратегия развития ГЭФ5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Пятый компонент: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укрепление потенциала для мониторинга и оценки экологических результатов и тенденций.  Укрепление должно быть определено как приоритет в Плане дейстий по наращиванию потенциа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План по наращиванию потенциала должен быть составлен как среднемасштабный проект, или должен быть включен в более широкое предложение, которое будет составлено как среднемасштабный или полномасштабный проект – если в рамках СМП – финансирование должно осуществляться в пропорции 1: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Развитие региональных партнерств будет принятно во вним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$44</a:t>
            </a: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 миллиона зарезервировано на наращивание потенциала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1BB2-2012-485E-BE84-F6AA1A927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EE31-4325-4D7D-A24C-AAEBB3CAA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1438200" y="201600"/>
            <a:ext cx="7712280" cy="7491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олидация и укрепление четырех направлений по оцен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портфеля программ на уровне старны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15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о время ГЭФ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влияния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еждународные воды, изменение климата и другие тематические напра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 деятельност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годовой отчет по оценке деятельности, а также независимые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Тематические оценк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траслевые стратегии и их адап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1212840" y="109440"/>
            <a:ext cx="7937640" cy="1017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у и оценку результатов и прогресса в направлении достижения долгосрочных результа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процесса реформ: проектный цикл ГЭФ и методы, прямой доступ,Система прозрачного распределения ресурсов, параграф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внимания к роли ГЭФ в качестве катализ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денции, как страны провлют собственность и иници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денции в глобальных экологических проблемах и соотвествие ГЭФ конвенц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е глубокий взгляд на стратегии основных тематических областей, включая относительно устойчивого управления лесными ресур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шее осмысление долгосрочных результатов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9EC9-DC6A-4B75-83B2-BFA1F28D1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907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Мониторинг и оценка (МиО) и управление по результатам (УпР) в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литика по МиО в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МиО: минимальные требова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частие национальных координаторов в МиО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ланирование по оценке для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База данных по оценк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в области изменения климата (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mate-Eval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03EF-603A-4E5C-B80C-3F1AFA1B978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152360" y="109440"/>
            <a:ext cx="8131320" cy="1017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 цикла проект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ффективность принятия решений 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ультации с заинтересованными сторонами:  семинары ГЭФ для стран-член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тся ли они как постоянный консультационный процес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Что будет нужно для такой оцен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Будет ли достаточно электронного опроса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, поднятые в Общем обзоре деятельности ГЭФ4 – управление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обальные и региональные про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E195-8B19-4263-937A-18BD0CE63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1212840" y="13320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5A18-4E17-4960-BA67-C5B6D7DD2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084320"/>
          <a:ext cx="7467480" cy="6167520"/>
        </p:xfrm>
        <a:graphic>
          <a:graphicData uri="http://schemas.openxmlformats.org/drawingml/2006/table">
            <a:tbl>
              <a:tblPr/>
              <a:tblGrid>
                <a:gridCol w="1376280"/>
                <a:gridCol w="1524240"/>
                <a:gridCol w="512640"/>
                <a:gridCol w="350640"/>
                <a:gridCol w="1368720"/>
                <a:gridCol w="2334960"/>
              </a:tblGrid>
              <a:tr h="40644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Утвержденные проекты: активные и заверш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024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иоразнообрази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64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менения клмимат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2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ждунарожные воды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19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градация земе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35 MF, 2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имические вещест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16 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6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ны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 6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вер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циональ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рант и ко-финанс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4272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 37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верш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82484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610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3.72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860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гиональны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41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65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0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BD, 2 CC, 19 IW, 5 LD 6 MF, 4 POPs, 4 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лобальных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96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D, 3 CC, 2 LD, 6 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TextBox 5"/>
          <p:cNvSpPr/>
          <p:nvPr/>
        </p:nvSpPr>
        <p:spPr>
          <a:xfrm>
            <a:off x="1371600" y="8380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мения, Азербайджан, Беларусь, Казахстан, Респубилка Кыргызстан, Российская Федерация, Таджикистан, Туркменистан, Узбекис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1212840" y="146160"/>
            <a:ext cx="7937640" cy="877680"/>
          </a:xfrm>
          <a:prstGeom prst="rect">
            <a:avLst/>
          </a:prstGeom>
          <a:ln w="0">
            <a:noFill/>
          </a:ln>
        </p:spPr>
      </p:pic>
      <p:sp>
        <p:nvSpPr>
          <p:cNvPr id="24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FFD7-FA77-46BE-A68A-20F7A9C06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50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51" name="Chart 17" descr=""/>
          <p:cNvPicPr/>
          <p:nvPr/>
        </p:nvPicPr>
        <p:blipFill>
          <a:blip r:embed="rId4"/>
          <a:stretch/>
        </p:blipFill>
        <p:spPr>
          <a:xfrm>
            <a:off x="1392120" y="3530520"/>
            <a:ext cx="6578640" cy="31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1212840" y="-19080"/>
            <a:ext cx="7785000" cy="101916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9446-F66A-43AE-9853-573DDC715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987720" cy="3530520"/>
          </a:xfrm>
          <a:prstGeom prst="rect">
            <a:avLst/>
          </a:prstGeom>
          <a:ln w="0">
            <a:noFill/>
          </a:ln>
        </p:spPr>
      </p:pic>
      <p:pic>
        <p:nvPicPr>
          <p:cNvPr id="255" name="Chart 5" descr=""/>
          <p:cNvPicPr/>
          <p:nvPr/>
        </p:nvPicPr>
        <p:blipFill>
          <a:blip r:embed="rId3"/>
          <a:stretch/>
        </p:blipFill>
        <p:spPr>
          <a:xfrm>
            <a:off x="4521240" y="863640"/>
            <a:ext cx="4521240" cy="5435640"/>
          </a:xfrm>
          <a:prstGeom prst="rect">
            <a:avLst/>
          </a:prstGeom>
          <a:ln w="0">
            <a:noFill/>
          </a:ln>
        </p:spPr>
      </p:pic>
      <p:pic>
        <p:nvPicPr>
          <p:cNvPr id="256" name="Chart 9" descr=""/>
          <p:cNvPicPr/>
          <p:nvPr/>
        </p:nvPicPr>
        <p:blipFill>
          <a:blip r:embed="rId4"/>
          <a:stretch/>
        </p:blipFill>
        <p:spPr>
          <a:xfrm>
            <a:off x="1930320" y="4444920"/>
            <a:ext cx="337824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8769-2638-442D-9357-BBE5EECA751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-152280" y="347760"/>
            <a:ext cx="8223120" cy="828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изменений климата и развит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мен практиками в области оценки изменений климата и развит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0+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лен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струменты для участия он-лай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Вебсайт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Группа в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Социльные меди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Бюллет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F6E1-4AC5-4682-8BE3-D4BDD22AF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" descr=""/>
          <p:cNvPicPr/>
          <p:nvPr/>
        </p:nvPicPr>
        <p:blipFill>
          <a:blip r:embed="rId3"/>
          <a:stretch/>
        </p:blipFill>
        <p:spPr>
          <a:xfrm>
            <a:off x="7848720" y="304920"/>
            <a:ext cx="1036440" cy="10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254A-CB47-405E-98AD-C662F0B1A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ние знаниями в оцен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олучаете ли Вы оценки ГЭФ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Какой формат передачи результатов по оценке наиболее подходит для Вас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2235-BFAC-4EB4-AF53-277D93AE477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Calibri"/>
              </a:rPr>
              <a:t>Спасиб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E7A8-F0E6-4976-A9D2-90D815782935}" type="slidenum">
              <a:rPr b="1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6F54-0A6A-49DD-9D86-4FB4443C2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Управление по результата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Verdana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пределение целей и зада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мониторинг , обучение и принятие реш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– это проверка УпР реальность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УпР, особенно мониторинг, показывает, находится ли организация на пути к достижению результа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может показать, движется ли организация верным курс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Две основные цели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дотчетност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достижении целей ГЭФ, с помощью оценки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результатов, эффективности, процессов и деятельност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ртнеров, вовлеченных в деятельность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учению, обратной связи и обмену зания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 результатах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извлеченных уроках между ГЭФ и партнерами в качестве основы для принятия решений по мерам политики, стратегиям, управлению программами и проектами; а также для пополне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нани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улучше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5CD9-4F70-4EFA-9051-10ED138EFE7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365120" y="171360"/>
            <a:ext cx="7785360" cy="120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минание  управления по результатам (УпР) в ГЭ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ольше внимания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обмену знания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бучен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очнение ролей и обязаннос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ышение роли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национальных координаторов  ГЭФ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и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программ и совместно реализуемых проект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ходные данные для МиО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верждаются подписью Исполнительного Директо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Новое минимальное требование: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оперативных координаторов ГЭФ в МиО проектов и програм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5A43-F497-406D-AA21-BF40A91B5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304920" y="1447920"/>
            <a:ext cx="8000640" cy="4418640"/>
            <a:chOff x="304920" y="1447920"/>
            <a:chExt cx="8000640" cy="4418640"/>
          </a:xfrm>
        </p:grpSpPr>
        <p:sp>
          <p:nvSpPr>
            <p:cNvPr id="158" name="Text Box 56"/>
            <p:cNvSpPr/>
            <p:nvPr/>
          </p:nvSpPr>
          <p:spPr>
            <a:xfrm>
              <a:off x="1067040" y="4265280"/>
              <a:ext cx="16383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ерационный уровен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низу вверх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304920" y="1779120"/>
              <a:ext cx="24764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нституциональный уровен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верху вниз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429000" y="1447920"/>
              <a:ext cx="4876560" cy="4418640"/>
              <a:chOff x="3429000" y="1447920"/>
              <a:chExt cx="4876560" cy="441864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42900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23620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проекто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105160" y="2896560"/>
                <a:ext cx="1494360" cy="5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Цели в конкретных тематически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4877640" y="1559160"/>
                <a:ext cx="182844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Стратегические цели ГЭФ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53024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23800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в конкретны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397944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15952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0540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лияние ГЭ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омежуточные результат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раткосрочные результат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35304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35304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66724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66724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088E-6D2E-4786-87B9-6216152A1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990720" y="1455840"/>
            <a:ext cx="26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аботка проекта 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736800" y="1455840"/>
            <a:ext cx="24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256440" y="1455840"/>
            <a:ext cx="24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3659040" y="1606680"/>
            <a:ext cx="608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5996160" y="1606680"/>
            <a:ext cx="60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79600" y="2084400"/>
            <a:ext cx="191592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истема результат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лан МИ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2782800" y="3502080"/>
            <a:ext cx="3994200" cy="1415880"/>
          </a:xfrm>
          <a:prstGeom prst="rightArrow">
            <a:avLst>
              <a:gd name="adj1" fmla="val 50000"/>
              <a:gd name="adj2" fmla="val 1278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3040200" y="3973680"/>
            <a:ext cx="276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, мониторинг и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3824280" y="2084400"/>
            <a:ext cx="217188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ониторинг прогресса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 необходимости, в середине процесса вносятся корректив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6429240" y="2084400"/>
            <a:ext cx="21718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кончательная оце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своенные уро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7" name="AutoShape 15"/>
          <p:cNvCxnSpPr>
            <a:endCxn id="182" idx="2"/>
          </p:cNvCxnSpPr>
          <p:nvPr/>
        </p:nvCxnSpPr>
        <p:spPr>
          <a:xfrm rot="10800000">
            <a:off x="2436120" y="2523240"/>
            <a:ext cx="5259960" cy="29631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Text Box 16"/>
          <p:cNvSpPr/>
          <p:nvPr/>
        </p:nvSpPr>
        <p:spPr>
          <a:xfrm>
            <a:off x="4335480" y="4998960"/>
            <a:ext cx="30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военные уроки, оптимальная 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2231640" y="5562720"/>
            <a:ext cx="561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Bank’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C105-5782-49E9-9672-18B6CFCC1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20"/>
          <p:cNvSpPr/>
          <p:nvPr/>
        </p:nvSpPr>
        <p:spPr>
          <a:xfrm flipV="1">
            <a:off x="7696080" y="27432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О способствует накомлению знан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Выводы и извлеченные уроки должны быть доступны целевым аудиториям в доходчивом и поня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четы по оценке должны диманично распространя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мен знаниями позволяет партнерам получать пользу от уроков, извлеченных на практ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управления знаниями 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родвижение культуры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рименение усвоенных ур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братная связь о нов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AA23-FF37-48D0-9F05-54C69FEA9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1" descr=""/>
          <p:cNvPicPr/>
          <p:nvPr/>
        </p:nvPicPr>
        <p:blipFill>
          <a:blip r:embed="rId1"/>
          <a:stretch/>
        </p:blipFill>
        <p:spPr>
          <a:xfrm>
            <a:off x="1079640" y="268200"/>
            <a:ext cx="8192880" cy="1494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16BB-CFBB-4FDE-A8FE-0CF62DF88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ject 2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8864640" cy="4076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20:55:50Z</dcterms:modified>
  <cp:revision>252</cp:revision>
  <dc:subject/>
  <dc:title>Slide 1</dc:title>
</cp:coreProperties>
</file>