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E29B-6727-46B9-88AE-7154BD19950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0500-309D-48A7-A6C6-E5EE8AA0915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8734-2D29-4602-BCAB-B455770D98D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C4F5-1401-43C2-B63C-F2FB7072C2A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862F-D3CD-47C6-A3CD-20E1C4EB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5D12-F21A-4D76-A322-ABDF5BD8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F54D-65F3-4729-864B-77A71B63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4D83-3335-478E-B149-5A9463EB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82B8-F337-4FE0-932F-2F59986C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A61-70FC-41C5-ADA6-6ED17B85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C8AA-25D2-42AA-8BF8-E67F6C76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85E9-1954-427D-BBFB-6F35B765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13F7-DEAE-4199-8754-54207A2C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73FE-378D-4F05-8735-A045D340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4790-783E-4F1A-B5EC-FBF14D4A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9E0-3C55-401E-9AEB-DCE85D74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5C1C-1D26-4D04-9E07-3096A5A43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Biodivers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762120" y="3809880"/>
            <a:ext cx="7467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 - 13 Octobe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990720" y="3808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o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990720" y="1600200"/>
            <a:ext cx="75438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Goa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the conservation and sustainable use of biodiversity and the maintenance of ecosystem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vention on Biologic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209680" y="1522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057400" y="160020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rove the sustainability of protected are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Sustainable Financing of Protected Area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 Marine and Terrestrial Ecosystem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 Threatened Species Represent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Management Effectiveness of Existing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2"/>
          <a:stretch/>
        </p:blipFill>
        <p:spPr>
          <a:xfrm>
            <a:off x="0" y="304920"/>
            <a:ext cx="1778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447920" y="137160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) mainstream biodiversity conservation and sustainable use into production landscapes/ seascapes and se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Policy and Regulatory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 Invasive Alien Species Management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 Biodiversity-friendly Goods and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2"/>
          <p:cNvGraphicFramePr/>
          <p:nvPr/>
        </p:nvGraphicFramePr>
        <p:xfrm>
          <a:off x="6629400" y="4978440"/>
          <a:ext cx="2514600" cy="18795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4978440"/>
                    <a:ext cx="25146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3809880" y="1295280"/>
            <a:ext cx="4800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) Build capacity to implement the Cartagena Protocol on Bio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-country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or sub-regional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matic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a5.sphotos.ak.fbcdn.net/hphotos-ak-snc4/40657_143878558968574_131120676911029_284703_2862555_n.jpg"/>
          <p:cNvPicPr/>
          <p:nvPr/>
        </p:nvPicPr>
        <p:blipFill>
          <a:blip r:embed="rId2"/>
          <a:stretch/>
        </p:blipFill>
        <p:spPr>
          <a:xfrm>
            <a:off x="0" y="2438280"/>
            <a:ext cx="366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04920" y="990720"/>
            <a:ext cx="86104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4) Build capacity on access to genetic resources and benefit-sha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apacity building of governments for meeting their obligations under Article 15 of the CB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uilding capacity within key stakeholder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ommunity Environmental Surveillance Committee- Santiago Quiotepec"/>
          <p:cNvPicPr/>
          <p:nvPr/>
        </p:nvPicPr>
        <p:blipFill>
          <a:blip r:embed="rId2"/>
          <a:stretch/>
        </p:blipFill>
        <p:spPr>
          <a:xfrm>
            <a:off x="2362320" y="2743200"/>
            <a:ext cx="426708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4495680" y="990720"/>
            <a:ext cx="426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) Integrate CBD obligations into national planning processes through enabl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abling activity support could be provided for revising NBSAPs in line with the CBD’s new strategic 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ation of guidance related to the Clearing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Reached Agreement for ABS"/>
          <p:cNvPicPr/>
          <p:nvPr/>
        </p:nvPicPr>
        <p:blipFill>
          <a:blip r:embed="rId2"/>
          <a:stretch/>
        </p:blipFill>
        <p:spPr>
          <a:xfrm>
            <a:off x="380880" y="1828800"/>
            <a:ext cx="4370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533520" y="152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ponds to Key Drivers of Biodiversity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6400800" y="1295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2"/>
          <p:cNvGraphicFramePr/>
          <p:nvPr/>
        </p:nvGraphicFramePr>
        <p:xfrm>
          <a:off x="395280" y="614520"/>
          <a:ext cx="8748720" cy="61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14520"/>
                    <a:ext cx="8748720" cy="61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4"/>
          <a:stretch/>
        </p:blipFill>
        <p:spPr>
          <a:xfrm>
            <a:off x="304920" y="1066680"/>
            <a:ext cx="3768480" cy="167652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8"/>
          <p:cNvSpPr/>
          <p:nvPr/>
        </p:nvSpPr>
        <p:spPr>
          <a:xfrm>
            <a:off x="685800" y="9144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10"/>
          <p:cNvSpPr/>
          <p:nvPr/>
        </p:nvSpPr>
        <p:spPr>
          <a:xfrm>
            <a:off x="518148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12"/>
          <p:cNvSpPr/>
          <p:nvPr/>
        </p:nvSpPr>
        <p:spPr>
          <a:xfrm>
            <a:off x="701028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16"/>
          <p:cNvSpPr/>
          <p:nvPr/>
        </p:nvSpPr>
        <p:spPr>
          <a:xfrm>
            <a:off x="762120" y="34290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17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8"/>
          <p:cNvSpPr/>
          <p:nvPr/>
        </p:nvSpPr>
        <p:spPr>
          <a:xfrm>
            <a:off x="762120" y="449568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9"/>
          <p:cNvSpPr/>
          <p:nvPr/>
        </p:nvSpPr>
        <p:spPr>
          <a:xfrm>
            <a:off x="762120" y="52578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20"/>
          <p:cNvSpPr/>
          <p:nvPr/>
        </p:nvSpPr>
        <p:spPr>
          <a:xfrm>
            <a:off x="762120" y="48006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03Z</dcterms:created>
  <dc:creator>wb350798</dc:creator>
  <dc:description/>
  <dc:language>en-US</dc:language>
  <cp:lastModifiedBy>wb350798</cp:lastModifiedBy>
  <dcterms:modified xsi:type="dcterms:W3CDTF">2011-11-01T20:37:22Z</dcterms:modified>
  <cp:revision>18</cp:revision>
  <dc:subject/>
  <dc:title>Focal Area and Cross Cutting Strategies – Biodiversity</dc:title>
</cp:coreProperties>
</file>