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D0F6-E2A8-4320-94A5-4852ED1EB58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AC47-EFDF-412D-A63C-B907FB97CBF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2707-669C-4C17-B34F-F7FA3C1861C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E7D2-9B27-4313-ACE7-AF5EC19DCAE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C0A-BD54-4F38-8A92-B4B02968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2D0-4163-4FB4-840B-8D3DB816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EA0-DDA9-47CE-AF90-BAE0FE1F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76C-6B22-4AEA-9292-CD24FB0E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B52-00DB-480C-BCB8-37FE8444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E95-0657-4B2C-9A1B-70C039F7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8AE-B092-4BE1-93BF-22A4C516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9F8-75F4-48E2-B53B-6718F7CB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F7D-DAD0-4641-95A0-9B08BA49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0A35-C495-4878-B148-4C0716D2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07ED-F565-46E8-9625-A593C370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498-473E-4CBC-8751-A38C2333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4B15-43D7-43D7-ABC1-1D5346A0B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Biodiver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762120" y="3809880"/>
            <a:ext cx="74674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- 13 October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990720" y="3808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o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990720" y="1600200"/>
            <a:ext cx="75438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the conservation and sustainable use of biodiversity and the maintenance of ecosystem good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vention on Biologic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209680" y="1522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057400" y="160020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rove the sustainability of protected are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Sustainable Financing of Protected Area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Marine and Terrestrial Ecosystem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 Threatened Species Represen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Management Effectiveness of Existing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447920" y="137160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mainstream biodiversity conservation and sustainable use into production landscapes/ seascapes and se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licy and Regulatory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 Invasive Alien Species Management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e Biodiversity-friendly Goods and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2"/>
          <p:cNvGraphicFramePr/>
          <p:nvPr/>
        </p:nvGraphicFramePr>
        <p:xfrm>
          <a:off x="6629400" y="4978440"/>
          <a:ext cx="2514600" cy="18795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497844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809880" y="129528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Build capacity to implement the Cartagena Protocol on Bio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-country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or sub-regional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matic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a5.sphotos.ak.fbcdn.net/hphotos-ak-snc4/40657_143878558968574_131120676911029_284703_2862555_n.jpg"/>
          <p:cNvPicPr/>
          <p:nvPr/>
        </p:nvPicPr>
        <p:blipFill>
          <a:blip r:embed="rId2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04920" y="99072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4) Build capacity on access to genetic resources and benefit-sha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apacity building of governments for meeting their obligations under Article 15 of the CB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uilding capacity within key stakeholder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1828800" y="2286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ommunity Environmental Surveillance Committee- Santiago Quiotepec"/>
          <p:cNvPicPr/>
          <p:nvPr/>
        </p:nvPicPr>
        <p:blipFill>
          <a:blip r:embed="rId2"/>
          <a:stretch/>
        </p:blipFill>
        <p:spPr>
          <a:xfrm>
            <a:off x="2362320" y="274320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4495680" y="990720"/>
            <a:ext cx="42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) Integrate CBD obligations into national planning processes through enabl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abling activity support could be provided for revising NBSAPs in line with the CBD’s new strategic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of guidance related to the Clearing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odiversity Strategy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Reached Agreement for ABS"/>
          <p:cNvPicPr/>
          <p:nvPr/>
        </p:nvPicPr>
        <p:blipFill>
          <a:blip r:embed="rId2"/>
          <a:stretch/>
        </p:blipFill>
        <p:spPr>
          <a:xfrm>
            <a:off x="380880" y="182880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ponds to Key Drivers of Biodiversit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2"/>
          <p:cNvGraphicFramePr/>
          <p:nvPr/>
        </p:nvGraphicFramePr>
        <p:xfrm>
          <a:off x="395280" y="614520"/>
          <a:ext cx="874872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14520"/>
                    <a:ext cx="874872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304920" y="1066680"/>
            <a:ext cx="3768480" cy="16765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10"/>
          <p:cNvSpPr/>
          <p:nvPr/>
        </p:nvSpPr>
        <p:spPr>
          <a:xfrm>
            <a:off x="51814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2"/>
          <p:cNvSpPr/>
          <p:nvPr/>
        </p:nvSpPr>
        <p:spPr>
          <a:xfrm>
            <a:off x="7010280" y="1295280"/>
            <a:ext cx="0" cy="39625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16"/>
          <p:cNvSpPr/>
          <p:nvPr/>
        </p:nvSpPr>
        <p:spPr>
          <a:xfrm>
            <a:off x="762120" y="34290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7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8"/>
          <p:cNvSpPr/>
          <p:nvPr/>
        </p:nvSpPr>
        <p:spPr>
          <a:xfrm>
            <a:off x="762120" y="449568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9"/>
          <p:cNvSpPr/>
          <p:nvPr/>
        </p:nvSpPr>
        <p:spPr>
          <a:xfrm>
            <a:off x="762120" y="52578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0"/>
          <p:cNvSpPr/>
          <p:nvPr/>
        </p:nvSpPr>
        <p:spPr>
          <a:xfrm>
            <a:off x="762120" y="4800600"/>
            <a:ext cx="7619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Thank you for your att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dcterms:modified xsi:type="dcterms:W3CDTF">2011-11-01T20:37:22Z</dcterms:modified>
  <cp:revision>18</cp:revision>
  <dc:subject/>
  <dc:title>Focal Area and Cross Cutting Strategies – Biodiversity</dc:title>
</cp:coreProperties>
</file>