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6B1-CABE-4185-AA10-DF091E8A16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369-4C85-4F18-B4C1-0A01E221DC9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48F-59A3-41C7-B801-D7EF500DC6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1B9D-095C-4635-91FD-E584734B0A6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B9E-6910-40ED-B8F8-1DDCFC42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ACB-3DF3-475A-9CEF-9DB1F50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B07-BD55-498D-BAD1-96503FA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192-A2BF-48F7-8420-7EDF5110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B62-B41E-4F74-BB9D-F4A6632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40B-CFAA-4EA5-A80A-EBFA65FA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430-ED5B-425A-816C-891BDBD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72D-B6B6-4815-BCD1-5E67665F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DE7-5030-4429-B0C2-7A79DDCF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1DC-AF4E-4D4B-A4FF-851C103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CB6-724C-4E62-99DC-85A4DAB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EEB-2D3E-4288-B61C-E3402D9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9A2E-3C22-420A-B4CF-3CDA455A3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01T20:37:22Z</dcterms:modified>
  <cp:revision>18</cp:revision>
  <dc:subject/>
  <dc:title>Focal Area and Cross Cutting Strategies – Biodiversity</dc:title>
</cp:coreProperties>
</file>