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FD0B-AB40-4EB9-A635-F3C25F9C931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C61A-1084-40B4-BA88-348312A2989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9D2A-5760-42DD-B840-E35FB33AA4C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93A5-BCA5-4143-84D4-3621BAF0D18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877-92C4-4D66-9650-2C0415DF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A75-7AB1-4D7D-90C0-6B827CFB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A73-335E-444F-9CD7-AC87F3B0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101-02CB-4A2E-A09D-8140E3C0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F3D-6D28-448C-85E2-1BEDC934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5D0-C1D0-4210-9FFB-C17F2D3C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832-6260-4A95-A73E-DC30EECF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758-3D2A-4F34-AB63-FF7EA6C2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A07-C965-404B-A49F-66E1EB18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4D5-2F8D-403E-9B33-F3D0924D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8C2-9004-4C53-A224-1811B663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2BD2-587A-4597-96F2-BC2341D5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A6AB-C5BD-4148-BCC4-3E27F5F80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Biodivers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5 – 27 Octo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990720" y="3808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90720" y="1600200"/>
            <a:ext cx="7543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o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 conservation and sustainable use of biodiversity and the maintenance of ecosystem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tion on Biologic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20968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057400" y="160020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rove the sustainability of protected are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Sustainable Financing of Protected Area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Marine and Terrestrial Ecosystem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Threatened Species Represen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Management Effectiveness of Existing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0" y="304920"/>
            <a:ext cx="177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447920" y="1371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mainstream biodiversity conservation and sustainable use into production landscapes/ seascapes and s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licy and Regulatory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 Invasive Alien Species Management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 Biodiversity-friendly Goods and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2"/>
          <p:cNvGraphicFramePr/>
          <p:nvPr/>
        </p:nvGraphicFramePr>
        <p:xfrm>
          <a:off x="6629400" y="4978440"/>
          <a:ext cx="2514600" cy="18795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497844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809880" y="1295280"/>
            <a:ext cx="4800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Build capacity to implement the Cartagena Protocol on Bio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country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or sub-regional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matic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a5.sphotos.ak.fbcdn.net/hphotos-ak-snc4/40657_143878558968574_131120676911029_284703_2862555_n.jpg"/>
          <p:cNvPicPr/>
          <p:nvPr/>
        </p:nvPicPr>
        <p:blipFill>
          <a:blip r:embed="rId2"/>
          <a:stretch/>
        </p:blipFill>
        <p:spPr>
          <a:xfrm>
            <a:off x="0" y="243828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04920" y="990720"/>
            <a:ext cx="86104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4) Build capacity on access to genetic resources and benefit-sha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apacity building of governments for meeting their obligations under Article 15 of the CB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uilding capacity within key stakeholder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ommunity Environmental Surveillance Committee- Santiago Quiotepec"/>
          <p:cNvPicPr/>
          <p:nvPr/>
        </p:nvPicPr>
        <p:blipFill>
          <a:blip r:embed="rId2"/>
          <a:stretch/>
        </p:blipFill>
        <p:spPr>
          <a:xfrm>
            <a:off x="2362320" y="2743200"/>
            <a:ext cx="4267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4495680" y="990720"/>
            <a:ext cx="42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) Integrate CBD obligations into national planning processes through enabl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abling activity support could be provided for revising NBSAPs in line with the CBD’s new strategic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of guidance related to the Clearing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Reached Agreement for ABS"/>
          <p:cNvPicPr/>
          <p:nvPr/>
        </p:nvPicPr>
        <p:blipFill>
          <a:blip r:embed="rId2"/>
          <a:stretch/>
        </p:blipFill>
        <p:spPr>
          <a:xfrm>
            <a:off x="380880" y="182880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ponds to Key Drivers of Biodiversity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2"/>
          <p:cNvGraphicFramePr/>
          <p:nvPr/>
        </p:nvGraphicFramePr>
        <p:xfrm>
          <a:off x="395280" y="614520"/>
          <a:ext cx="8748720" cy="61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14520"/>
                    <a:ext cx="8748720" cy="61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304920" y="1066680"/>
            <a:ext cx="3768480" cy="1676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10"/>
          <p:cNvSpPr/>
          <p:nvPr/>
        </p:nvSpPr>
        <p:spPr>
          <a:xfrm>
            <a:off x="51814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12"/>
          <p:cNvSpPr/>
          <p:nvPr/>
        </p:nvSpPr>
        <p:spPr>
          <a:xfrm>
            <a:off x="70102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16"/>
          <p:cNvSpPr/>
          <p:nvPr/>
        </p:nvSpPr>
        <p:spPr>
          <a:xfrm>
            <a:off x="762120" y="34290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7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8"/>
          <p:cNvSpPr/>
          <p:nvPr/>
        </p:nvSpPr>
        <p:spPr>
          <a:xfrm>
            <a:off x="762120" y="449568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9"/>
          <p:cNvSpPr/>
          <p:nvPr/>
        </p:nvSpPr>
        <p:spPr>
          <a:xfrm>
            <a:off x="762120" y="5257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0"/>
          <p:cNvSpPr/>
          <p:nvPr/>
        </p:nvSpPr>
        <p:spPr>
          <a:xfrm>
            <a:off x="762120" y="48006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wb350798</cp:lastModifiedBy>
  <dcterms:modified xsi:type="dcterms:W3CDTF">2011-11-17T16:20:10Z</dcterms:modified>
  <cp:revision>19</cp:revision>
  <dc:subject/>
  <dc:title>Focal Area and Cross Cutting Strategies – Biodiversity</dc:title>
</cp:coreProperties>
</file>