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FA04-380B-46CC-8E9B-45C1FFAEF0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F38A-E93D-45A7-BF4F-4FE0B9968E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635-477D-4935-925D-7606E427FE1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974B-2A74-4948-9883-7147F0FCA7E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1E3-DDB7-4FED-878F-8FD0FA981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53D-BB05-4B1D-BBEA-76DCB73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B5C-4550-472B-811D-52E2C67C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3D7-D756-4B08-9FDC-9D6A1956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3F8-D762-44D7-9414-06B4745C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57D-43DD-4CBB-9A93-753359DC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7F9-2F6A-4541-A213-7B63ADF2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9B9-5B61-4464-823B-6E8BF06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FC3-566C-477A-B29D-FEDD8472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000-6A60-4703-AC5D-7B848D5C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9FF-C028-43F4-9893-87FDE997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D1BF-217B-4DE6-BB8A-6B1E243C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E45C-4DEE-43D1-93FB-058FB0F69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04920" y="99072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7432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395280" y="614520"/>
          <a:ext cx="874872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14520"/>
                    <a:ext cx="874872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17T16:20:10Z</dcterms:modified>
  <cp:revision>19</cp:revision>
  <dc:subject/>
  <dc:title>Focal Area and Cross Cutting Strategies – Biodiversity</dc:title>
</cp:coreProperties>
</file>