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E387-5433-40B8-B0AF-072F2C37A86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088B-97C7-48E3-BA62-B8660369F20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4CF3-E0B8-4BDA-B6BA-6A6F1DCAA23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0191-1F1E-4A23-9D61-4BB7C665A03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234E-94E2-42DD-86F7-EACB7E0F5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C512-5A4C-4C51-93D7-BBC0F852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A894-9798-4C35-B626-0C0755B15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A7AF-CDF8-4D44-8BE7-3CF299683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E4CD-FE01-4CF9-B91B-0954817E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BBC0-4EC5-47DC-A046-062CBF67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5C72-92DF-44A2-B0FB-F1809D20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AAF2-CE01-4D55-9406-123E75D0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4019-D563-4A6D-9161-A2E83520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8DC0-D194-4555-BF50-8AE708F9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8917-8DAD-4716-B009-09A80915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3A8C-26B7-47C5-945A-E4D6486B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BABB-D48B-403E-B2C9-B046716F0E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image" Target="../media/image1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Focal Area and Cross Cutting Strategies – Biodivers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4"/>
          <p:cNvSpPr/>
          <p:nvPr/>
        </p:nvSpPr>
        <p:spPr>
          <a:xfrm>
            <a:off x="762120" y="3809880"/>
            <a:ext cx="7467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25 – 27 October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Nairobi, Ken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990720" y="38088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iod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990720" y="1600200"/>
            <a:ext cx="75438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Goal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the conservation and sustainable use of biodiversity and the maintenance of ecosystem goods an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vention on Biological 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2209680" y="1522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odiversity Strategy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2057400" y="1600200"/>
            <a:ext cx="6400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rove the sustainability of protected area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 Sustainable Financing of Protected Area Sys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 Marine and Terrestrial Ecosystem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 Threatened Species Represent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 Management Effectiveness of Existing Prot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2"/>
          <a:stretch/>
        </p:blipFill>
        <p:spPr>
          <a:xfrm>
            <a:off x="0" y="304920"/>
            <a:ext cx="1778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1447920" y="137160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) mainstream biodiversity conservation and sustainable use into production landscapes/ seascapes and se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 Policy and Regulatory Framewor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 Invasive Alien Species Management Framewor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e Biodiversity-friendly Goods and Serv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1828800" y="228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odiversity Strategy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Object 2"/>
          <p:cNvGraphicFramePr/>
          <p:nvPr/>
        </p:nvGraphicFramePr>
        <p:xfrm>
          <a:off x="6629400" y="4978440"/>
          <a:ext cx="2514600" cy="187956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4978440"/>
                    <a:ext cx="251460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3809880" y="1295280"/>
            <a:ext cx="4800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) Build capacity to implement the Cartagena Protocol on Bio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-country pro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al or sub-regional pro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matic pro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1828800" y="228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odiversity Strategy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a5.sphotos.ak.fbcdn.net/hphotos-ak-snc4/40657_143878558968574_131120676911029_284703_2862555_n.jpg"/>
          <p:cNvPicPr/>
          <p:nvPr/>
        </p:nvPicPr>
        <p:blipFill>
          <a:blip r:embed="rId2"/>
          <a:stretch/>
        </p:blipFill>
        <p:spPr>
          <a:xfrm>
            <a:off x="0" y="2438280"/>
            <a:ext cx="3665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304920" y="990720"/>
            <a:ext cx="861048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4) Build capacity on access to genetic resources and benefit-sha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apacity building of governments for meeting their obligations under Article 15 of the CB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building capacity within key stakeholder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1828800" y="228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odiversity Strategy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ommunity Environmental Surveillance Committee- Santiago Quiotepec"/>
          <p:cNvPicPr/>
          <p:nvPr/>
        </p:nvPicPr>
        <p:blipFill>
          <a:blip r:embed="rId2"/>
          <a:stretch/>
        </p:blipFill>
        <p:spPr>
          <a:xfrm>
            <a:off x="2362320" y="2743200"/>
            <a:ext cx="426708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4495680" y="990720"/>
            <a:ext cx="426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) Integrate CBD obligations into national planning processes through enabl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abling activity support could be provided for revising NBSAPs in line with the CBD’s new strategic pl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ation of guidance related to the Clearing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304920" y="3049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odiversity Strategy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Reached Agreement for ABS"/>
          <p:cNvPicPr/>
          <p:nvPr/>
        </p:nvPicPr>
        <p:blipFill>
          <a:blip r:embed="rId2"/>
          <a:stretch/>
        </p:blipFill>
        <p:spPr>
          <a:xfrm>
            <a:off x="380880" y="1828800"/>
            <a:ext cx="4370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2"/>
          <p:cNvSpPr/>
          <p:nvPr/>
        </p:nvSpPr>
        <p:spPr>
          <a:xfrm>
            <a:off x="533520" y="1522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ponds to Key Drivers of Biodiversity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6400800" y="1295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Object 2"/>
          <p:cNvGraphicFramePr/>
          <p:nvPr/>
        </p:nvGraphicFramePr>
        <p:xfrm>
          <a:off x="395280" y="614520"/>
          <a:ext cx="8748720" cy="612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14520"/>
                    <a:ext cx="8748720" cy="61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4"/>
          <a:stretch/>
        </p:blipFill>
        <p:spPr>
          <a:xfrm>
            <a:off x="304920" y="1066680"/>
            <a:ext cx="3768480" cy="1676520"/>
          </a:xfrm>
          <a:prstGeom prst="rect">
            <a:avLst/>
          </a:prstGeom>
          <a:ln w="0">
            <a:noFill/>
          </a:ln>
        </p:spPr>
      </p:pic>
      <p:sp>
        <p:nvSpPr>
          <p:cNvPr id="81" name="Straight Connector 8"/>
          <p:cNvSpPr/>
          <p:nvPr/>
        </p:nvSpPr>
        <p:spPr>
          <a:xfrm>
            <a:off x="685800" y="91440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10"/>
          <p:cNvSpPr/>
          <p:nvPr/>
        </p:nvSpPr>
        <p:spPr>
          <a:xfrm>
            <a:off x="5181480" y="1295280"/>
            <a:ext cx="0" cy="396252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12"/>
          <p:cNvSpPr/>
          <p:nvPr/>
        </p:nvSpPr>
        <p:spPr>
          <a:xfrm>
            <a:off x="7010280" y="1295280"/>
            <a:ext cx="0" cy="396252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16"/>
          <p:cNvSpPr/>
          <p:nvPr/>
        </p:nvSpPr>
        <p:spPr>
          <a:xfrm>
            <a:off x="762120" y="342900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17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18"/>
          <p:cNvSpPr/>
          <p:nvPr/>
        </p:nvSpPr>
        <p:spPr>
          <a:xfrm>
            <a:off x="762120" y="449568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9"/>
          <p:cNvSpPr/>
          <p:nvPr/>
        </p:nvSpPr>
        <p:spPr>
          <a:xfrm>
            <a:off x="762120" y="525780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20"/>
          <p:cNvSpPr/>
          <p:nvPr/>
        </p:nvSpPr>
        <p:spPr>
          <a:xfrm>
            <a:off x="762120" y="480060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Thank you for your att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9:14:03Z</dcterms:created>
  <dc:creator>wb350798</dc:creator>
  <dc:description/>
  <dc:language>en-US</dc:language>
  <cp:lastModifiedBy>wb350798</cp:lastModifiedBy>
  <dcterms:modified xsi:type="dcterms:W3CDTF">2011-11-17T16:20:10Z</dcterms:modified>
  <cp:revision>19</cp:revision>
  <dc:subject/>
  <dc:title>Focal Area and Cross Cutting Strategies – Biodiversity</dc:title>
</cp:coreProperties>
</file>