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9C48-8146-46F2-AD1A-46F0517B563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3F38-AFEE-47DA-883A-A6E35D05BC7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74E1-89C7-45F3-9D54-578CA3C7E50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359E-4C30-4568-949F-D6759145E4E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7B8-35E7-41F8-A8A1-CB7EA5C2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DDD-D083-472B-85D2-14A94C3B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4BB-BB52-4FE5-965F-C3682748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595-46BC-4110-872B-35A0090E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C8AF-BCF2-48F4-B558-0C0B7454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12D9-A049-4349-A0E9-1E3F9C3B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AAFB-F2F4-418B-8873-737357C3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6A0-B8EF-415F-915B-423F11A0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C72-DA32-47B0-9C83-6102BB0C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D50-FB3C-4F75-8B14-E073C96F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54E-BE8B-420A-959D-396254A6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6583-DC58-40F6-B63E-873B9D03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62B5-32B7-4051-8F00-9BAF5F5C5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42d"/>
                </a:solidFill>
                <a:latin typeface="Calibri"/>
                <a:ea typeface="Arial"/>
              </a:rPr>
              <a:t>Stratégies des domaines d’intervention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642d"/>
                </a:solidFill>
                <a:latin typeface="Calibri"/>
                <a:ea typeface="Arial"/>
              </a:rPr>
              <a:t>Diversité bi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5238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25 au 27 Octobre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Nairobi, Ke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990720" y="38088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versité biolog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990720" y="1600200"/>
            <a:ext cx="754380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ut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Préservation et utilisation durable de la biodiversité et conservation des produits et des services écosystémiq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vention sur la diversité biolog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1752480" y="1522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bjectifs de la Stratégie Biodivers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2057400" y="1600200"/>
            <a:ext cx="64008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nforcer la viabilité des dispositifs d’aires protégé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ndre plus durable le financement des dispositifs d’aires protégées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roître la représentation des écosystèmes marins et terrestres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roître la représentation des espèces menacées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méliorer l’efficacité de la gestion des aires protégées existantes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1778040" cy="457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609480" y="1295280"/>
            <a:ext cx="678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rendre systématiquement en compte la biodiversité dans les zones terrestres et marines et les secteurs d’activité économiq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nforcer les politiques publiques et les cadres réglementaires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ttre en place des cadres de gestion des espèces invasives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duire des biens et services respectueux de la biodiversité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609480" y="2286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bjectifs de la stratégie Biodivers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5867280" y="4408560"/>
          <a:ext cx="3276720" cy="2449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4408560"/>
                    <a:ext cx="327672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3657600" y="1295280"/>
            <a:ext cx="525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Renforcer la capacité de mise en œuvre du Protocole  de Cartagena sur la prévention des risques biotechnolog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s nationau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ts régionaux ou sous-régionau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ts théma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8088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es objectifs de la stratégie Biodivers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a5.sphotos.ak.fbcdn.net/hphotos-ak-snc4/40657_143878558968574_131120676911029_284703_2862555_n.jpg"/>
          <p:cNvPicPr/>
          <p:nvPr/>
        </p:nvPicPr>
        <p:blipFill>
          <a:blip r:embed="rId2"/>
          <a:stretch/>
        </p:blipFill>
        <p:spPr>
          <a:xfrm>
            <a:off x="0" y="1828800"/>
            <a:ext cx="366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304920" y="762120"/>
            <a:ext cx="86104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1" lang="fr-FR" sz="2300" spc="-1" strike="noStrike">
                <a:solidFill>
                  <a:srgbClr val="000000"/>
                </a:solidFill>
                <a:latin typeface="Calibri"/>
              </a:rPr>
              <a:t>Renforcer les capacités d’accès aux ressources génétiques et de partage des avantage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forcement des capacités des gouvernements pour se conformer à leurs obligations de l'article 15 de la CD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forcement des capacités des acteurs cl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1828800" y="228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Objectifs de la stratégie Biodiversi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ommunity Environmental Surveillance Committee- Santiago Quiotepec"/>
          <p:cNvPicPr/>
          <p:nvPr/>
        </p:nvPicPr>
        <p:blipFill>
          <a:blip r:embed="rId2"/>
          <a:stretch/>
        </p:blipFill>
        <p:spPr>
          <a:xfrm>
            <a:off x="2362320" y="2590920"/>
            <a:ext cx="426708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4343400" y="1143000"/>
            <a:ext cx="46483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ntégrer les obligations au titre de la CDB aux processus de planification nationale par le biais d’activités habilit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Soutenir les activités habilitation pourrait être prévue pour la révision des NBSAPs en conformité avec le nouveau plan stratégique de la CDB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onner suite aux directives liées au Centre d’é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304920" y="304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objectifs de la stratégie de la biodivers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Reached Agreement for ABS"/>
          <p:cNvPicPr/>
          <p:nvPr/>
        </p:nvPicPr>
        <p:blipFill>
          <a:blip r:embed="rId2"/>
          <a:stretch/>
        </p:blipFill>
        <p:spPr>
          <a:xfrm>
            <a:off x="152280" y="1676520"/>
            <a:ext cx="4370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533520" y="15228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éponses aux facteurs-clés de la perte de la biodivers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6400800" y="1295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Object 2"/>
          <p:cNvGraphicFramePr/>
          <p:nvPr/>
        </p:nvGraphicFramePr>
        <p:xfrm>
          <a:off x="385920" y="609480"/>
          <a:ext cx="8665920" cy="6086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920" y="609480"/>
                    <a:ext cx="866592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"/>
          <p:cNvPicPr/>
          <p:nvPr/>
        </p:nvPicPr>
        <p:blipFill>
          <a:blip r:embed="rId4"/>
          <a:stretch/>
        </p:blipFill>
        <p:spPr>
          <a:xfrm>
            <a:off x="304920" y="1066680"/>
            <a:ext cx="3768480" cy="167652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8"/>
          <p:cNvSpPr/>
          <p:nvPr/>
        </p:nvSpPr>
        <p:spPr>
          <a:xfrm>
            <a:off x="685800" y="9144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10"/>
          <p:cNvSpPr/>
          <p:nvPr/>
        </p:nvSpPr>
        <p:spPr>
          <a:xfrm>
            <a:off x="5486400" y="1295280"/>
            <a:ext cx="0" cy="43434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traight Connector 12"/>
          <p:cNvSpPr/>
          <p:nvPr/>
        </p:nvSpPr>
        <p:spPr>
          <a:xfrm>
            <a:off x="7238880" y="1295280"/>
            <a:ext cx="0" cy="43434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16"/>
          <p:cNvSpPr/>
          <p:nvPr/>
        </p:nvSpPr>
        <p:spPr>
          <a:xfrm>
            <a:off x="762120" y="5638680"/>
            <a:ext cx="7696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17"/>
          <p:cNvSpPr/>
          <p:nvPr/>
        </p:nvSpPr>
        <p:spPr>
          <a:xfrm>
            <a:off x="609480" y="3733920"/>
            <a:ext cx="792504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18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9"/>
          <p:cNvSpPr/>
          <p:nvPr/>
        </p:nvSpPr>
        <p:spPr>
          <a:xfrm>
            <a:off x="762120" y="5257800"/>
            <a:ext cx="7696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traight Connector 20"/>
          <p:cNvSpPr/>
          <p:nvPr/>
        </p:nvSpPr>
        <p:spPr>
          <a:xfrm>
            <a:off x="685800" y="4724280"/>
            <a:ext cx="77724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300" spc="-1" strike="noStrike">
                <a:solidFill>
                  <a:srgbClr val="00642d"/>
                </a:solidFill>
                <a:latin typeface="Calibri"/>
              </a:rPr>
              <a:t>Je vous remercie pour votre attention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03Z</dcterms:created>
  <dc:creator>wb350798</dc:creator>
  <dc:description/>
  <dc:language>en-US</dc:language>
  <cp:lastModifiedBy>wb350798</cp:lastModifiedBy>
  <dcterms:modified xsi:type="dcterms:W3CDTF">2011-11-17T16:32:49Z</dcterms:modified>
  <cp:revision>89</cp:revision>
  <dc:subject/>
  <dc:title>Focal Area and Cross Cutting Strategies – Biodiversity</dc:title>
</cp:coreProperties>
</file>