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0E70-F195-43DB-BD1E-C5C068D1B8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9794-BCDC-4861-B006-32B1DAEFA28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B616-F55A-4CAA-896A-F4AC19826E1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9A4D-DA52-4F97-AD91-775E26D8B9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415-5357-4518-BE1B-C0AA4695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4B6-18C0-4C57-A5F5-D895A774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3AE-2E46-458F-BF29-0AD3C560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E1D-F79C-49A9-BD79-84FD2B13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6A5-5C3D-4E70-8166-C5B1C533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EFB-EE48-49B3-A90A-C809B380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C89-7F5E-4158-8A3B-8AEFEC3C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A30-5D63-4E0B-937B-09798310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74E-B617-4B37-9892-E549A586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B34-C121-48B2-96C9-D9A7BD82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F52-9AD2-46F6-A19C-5109B4A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9CF-35A8-4823-A5E6-8D3486C9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5FF3-906F-4429-9213-D6F2216BB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42d"/>
                </a:solidFill>
                <a:latin typeface="Calibri"/>
                <a:ea typeface="Arial"/>
              </a:rPr>
              <a:t>Stratégies des domaines d’intervention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642d"/>
                </a:solidFill>
                <a:latin typeface="Calibri"/>
                <a:ea typeface="Arial"/>
              </a:rPr>
              <a:t>Diversité b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990720" y="38088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versité biolog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1600200"/>
            <a:ext cx="75438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t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Préservation et utilisation durable de la biodiversité et conservation des produits et des services écosystémiq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sur la diversité biolog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1752480" y="1522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ifs de la Stratégie Biodivers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057400" y="1600200"/>
            <a:ext cx="64008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nforcer la viabilité des dispositifs d’aires protégé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dre plus durable le financement des dispositifs d’aires protégé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roître la représentation des écosystèmes marins et terrestr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roître la représentation des espèces menacé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méliorer l’efficacité de la gestion des aires protégées existantes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609480" y="1295280"/>
            <a:ext cx="678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endre systématiquement en compte la biodiversité dans les zones terrestres et marines et les secteurs d’activité économiq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forcer les politiques publiques et les cadres réglementair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ttre en place des cadres de gestion des espèces invasiv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duire des biens et services respectueux de la biodiversité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60948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ifs de la stratégie Biodivers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5867280" y="4408560"/>
          <a:ext cx="3276720" cy="2449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4408560"/>
                    <a:ext cx="327672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3657600" y="129528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enforcer la capacité de mise en œuvre du Protocole  de Cartagena sur la prévention des risques biotechnolog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s nationau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ts régionaux ou sous-régionau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ts thé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88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s objectifs de la stratégie Biodivers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a5.sphotos.ak.fbcdn.net/hphotos-ak-snc4/40657_143878558968574_131120676911029_284703_2862555_n.jpg"/>
          <p:cNvPicPr/>
          <p:nvPr/>
        </p:nvPicPr>
        <p:blipFill>
          <a:blip r:embed="rId2"/>
          <a:stretch/>
        </p:blipFill>
        <p:spPr>
          <a:xfrm>
            <a:off x="0" y="182880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304920" y="762120"/>
            <a:ext cx="86104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Renforcer les capacités d’accès aux ressources génétiques et de partage des avantage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ment des capacités des gouvernements pour se conformer à leurs obligations de l'article 15 de la CD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ment des capacités des acteurs cl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bjectifs de la stratégie Biodivers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ommunity Environmental Surveillance Committee- Santiago Quiotepec"/>
          <p:cNvPicPr/>
          <p:nvPr/>
        </p:nvPicPr>
        <p:blipFill>
          <a:blip r:embed="rId2"/>
          <a:stretch/>
        </p:blipFill>
        <p:spPr>
          <a:xfrm>
            <a:off x="2362320" y="2590920"/>
            <a:ext cx="42670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4343400" y="1143000"/>
            <a:ext cx="46483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ntégrer les obligations au titre de la CDB aux processus de planification nationale par le biais d’activités habili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outenir les activités habilitation pourrait être prévue pour la révision des NBSAPs en conformité avec le nouveau plan stratégique de la CDB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onner suite aux directives liées au Centre d’é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objectifs de la stratégie de la biodivers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Reached Agreement for ABS"/>
          <p:cNvPicPr/>
          <p:nvPr/>
        </p:nvPicPr>
        <p:blipFill>
          <a:blip r:embed="rId2"/>
          <a:stretch/>
        </p:blipFill>
        <p:spPr>
          <a:xfrm>
            <a:off x="152280" y="167652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533520" y="1522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éponses aux facteurs-clés de la perte de la biodivers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Object 2"/>
          <p:cNvGraphicFramePr/>
          <p:nvPr/>
        </p:nvGraphicFramePr>
        <p:xfrm>
          <a:off x="385920" y="609480"/>
          <a:ext cx="8665920" cy="608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609480"/>
                    <a:ext cx="866592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0"/>
          <p:cNvSpPr/>
          <p:nvPr/>
        </p:nvSpPr>
        <p:spPr>
          <a:xfrm>
            <a:off x="5486400" y="1295280"/>
            <a:ext cx="0" cy="43434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12"/>
          <p:cNvSpPr/>
          <p:nvPr/>
        </p:nvSpPr>
        <p:spPr>
          <a:xfrm>
            <a:off x="7238880" y="1295280"/>
            <a:ext cx="0" cy="43434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762120" y="5638680"/>
            <a:ext cx="7696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609480" y="3733920"/>
            <a:ext cx="792504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18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9"/>
          <p:cNvSpPr/>
          <p:nvPr/>
        </p:nvSpPr>
        <p:spPr>
          <a:xfrm>
            <a:off x="762120" y="5257800"/>
            <a:ext cx="7696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20"/>
          <p:cNvSpPr/>
          <p:nvPr/>
        </p:nvSpPr>
        <p:spPr>
          <a:xfrm>
            <a:off x="685800" y="4724280"/>
            <a:ext cx="77724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300" spc="-1" strike="noStrike">
                <a:solidFill>
                  <a:srgbClr val="00642d"/>
                </a:solidFill>
                <a:latin typeface="Calibri"/>
              </a:rPr>
              <a:t>Je vous remercie pour votre atten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dcterms:modified xsi:type="dcterms:W3CDTF">2011-11-17T16:32:49Z</dcterms:modified>
  <cp:revision>89</cp:revision>
  <dc:subject/>
  <dc:title>Focal Area and Cross Cutting Strategies – Biodiversity</dc:title>
</cp:coreProperties>
</file>