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969D-8B91-478A-8BB1-73FBA67FF56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8599-D02E-4F7D-947C-ED0F8102DEF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372F-BF2B-4D27-917D-0CCF036C68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4B53-4851-4463-915A-794A187B72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6BF-3B3E-4351-8CF0-409F5B5C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04B-BBFB-46D3-B6E1-1DEF4C35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CCB-7A98-4FBF-B58B-BF7A3332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3F6-8AF8-48C0-AC22-45787219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F8AD-0851-4026-975D-CAADFD68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CE0C-9AE3-4DAC-BD39-9C5FCE92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B3B7-05A1-4BFF-A173-5C793AAF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17FF-9C43-44E6-AD48-7E78F48E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5808-592F-4D46-8B26-A926AED3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2317-9640-436E-87FB-7F752A6D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92E2-873B-424D-AFCF-136A2F50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980-E024-4F3B-9C0A-663F982E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2F0A-2880-4C3A-9C02-4609B6D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74E9-B43F-4B65-B3B4-B9C1E3F7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F40A-99D7-4311-A6CB-F334F339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EF4C-32E9-4777-B7A3-192D7144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AC61-F523-4046-BEA2-39063632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BF07-2655-4740-8B52-D70CDFAB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275-924B-4C6A-9BB2-7A8EAA35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866-6C03-467B-87EB-A496B2F4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4B2-E98A-474A-BF99-A4786C44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497-348C-47F9-A446-F473496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6B64-1855-474D-B48D-5CBFC9D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5DF-7301-472C-BA9E-995899EA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5182-AE3D-4DBC-AB15-D55EB1998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A687-900C-4815-B6EF-E668AF2414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Тематическая область и межотраслевые стратеги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Биоразнообраз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ubtitle 4"/>
          <p:cNvSpPr/>
          <p:nvPr/>
        </p:nvSpPr>
        <p:spPr>
          <a:xfrm>
            <a:off x="762120" y="3809880"/>
            <a:ext cx="7467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 ГЭФ в 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990720" y="38088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иоразнообраз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990720" y="1600200"/>
            <a:ext cx="75438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Цел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хранение и устойчивое использование биоразнообразия и поддержание качества экосистемных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венция о биологичес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нооб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4"/>
          <p:cNvSpPr/>
          <p:nvPr/>
        </p:nvSpPr>
        <p:spPr>
          <a:xfrm>
            <a:off x="2209680" y="1522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2057400" y="1600200"/>
            <a:ext cx="640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вышение устойчивости систем охраняемых рай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устойчивого финансирования систем охраняемых район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представления о морских и наземных экосистем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представления о видах, находящихся под угрозой исчезновени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эффективности управления существующими охраняемыми з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304920"/>
            <a:ext cx="1778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066680" y="1371600"/>
            <a:ext cx="723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т задач по сохранению и устойчивому использованию  биоразнообразия в сфере производства, в частности, на море и в сект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крепление рамок политики и нормативно-правовой  баз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дрение системы управления инвазивными чужеродными видам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о не угрожающих биоразнообразию товаров и услу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295280" y="22860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8"/>
          <p:cNvGraphicFramePr/>
          <p:nvPr/>
        </p:nvGraphicFramePr>
        <p:xfrm>
          <a:off x="6629400" y="3962520"/>
          <a:ext cx="2514600" cy="1879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3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962520"/>
                    <a:ext cx="251460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3809880" y="1295280"/>
            <a:ext cx="4800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для реализации Картахенского протокола по био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в отдельных страна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гиональные и субрегиональные проекты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тические проекты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3808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a5.sphotos.ak.fbcdn.net/hphotos-ak-snc4/40657_143878558968574_131120676911029_284703_2862555_n.jpg"/>
          <p:cNvPicPr/>
          <p:nvPr/>
        </p:nvPicPr>
        <p:blipFill>
          <a:blip r:embed="rId1"/>
          <a:stretch/>
        </p:blipFill>
        <p:spPr>
          <a:xfrm>
            <a:off x="0" y="2438280"/>
            <a:ext cx="3665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914400"/>
            <a:ext cx="861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в области доступа к генетическим ресурсам и распределения бл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правительств для выполнения обязательств, предусмотренных Статьей 15 КБ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ращивание потенциала ключевых групп заинтересованных сто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049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ommunity Environmental Surveillance Committee- Santiago Quiotepec"/>
          <p:cNvPicPr/>
          <p:nvPr/>
        </p:nvPicPr>
        <p:blipFill>
          <a:blip r:embed="rId1"/>
          <a:stretch/>
        </p:blipFill>
        <p:spPr>
          <a:xfrm>
            <a:off x="2362320" y="3292560"/>
            <a:ext cx="4267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733920" y="990720"/>
            <a:ext cx="5105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ирование  обязательств, предусмотренных КБР, в процесс национального планирования посредством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вспомогательных 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жет быть оказана поддержка вспомогательным мероприятиям по пересмотру национальных стратегий и планов действий по сохранению биоразнообразия в соответствии с  новым стратегическим планом КБР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рекомендаций, касающихся центра обмена информа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1523880" y="304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Цели стратегии в области биоразно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Reached Agreement for ABS"/>
          <p:cNvPicPr/>
          <p:nvPr/>
        </p:nvPicPr>
        <p:blipFill>
          <a:blip r:embed="rId1"/>
          <a:stretch/>
        </p:blipFill>
        <p:spPr>
          <a:xfrm>
            <a:off x="-838080" y="1447920"/>
            <a:ext cx="4370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533520" y="15228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тветные меры в отношении основных причин утраты биоразнообраз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6400800" y="1295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37"/>
          <p:cNvGraphicFramePr/>
          <p:nvPr/>
        </p:nvGraphicFramePr>
        <p:xfrm>
          <a:off x="228600" y="609480"/>
          <a:ext cx="9809280" cy="49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98092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609480" y="1219320"/>
            <a:ext cx="3276720" cy="167616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8"/>
          <p:cNvSpPr/>
          <p:nvPr/>
        </p:nvSpPr>
        <p:spPr>
          <a:xfrm>
            <a:off x="685800" y="914400"/>
            <a:ext cx="8077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642d"/>
                </a:solidFill>
                <a:latin typeface="Calibri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9:14:03Z</dcterms:created>
  <dc:creator>wb350798</dc:creator>
  <dc:description/>
  <dc:language>en-US</dc:language>
  <cp:lastModifiedBy>wb350798</cp:lastModifiedBy>
  <cp:lastPrinted>2011-09-28T12:14:00Z</cp:lastPrinted>
  <dcterms:modified xsi:type="dcterms:W3CDTF">2011-11-01T20:56:42Z</dcterms:modified>
  <cp:revision>49</cp:revision>
  <dc:subject/>
  <dc:title>Focal Area and Cross Cutting Strategies – Biodiversity</dc:title>
</cp:coreProperties>
</file>