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media/image10.wmf" ContentType="image/x-wmf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9F619-4BD3-4C53-A011-81AA4CEA373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F0CDC-6B73-48AC-9022-0AB0FE8CAD5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0BD0F-7D18-4DFD-B66E-7399FF4D36F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51ACA-63EC-497E-BCE6-186A4A74B4F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0025-2611-47B7-8DC0-6AF5E501E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2F78-09CE-4993-8839-AA1F654A8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6319-70B5-48BD-BB43-D79724B53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0B7D-37E4-448D-9CE2-DCCA26EC5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8BA98-F297-48AB-A0AD-B8ABAE339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32FF9-D2EB-4868-AC7C-385A20A9F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9B03D-4E9A-482F-ADA7-9F6F52180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42AA5-24F4-4186-9EB1-4CA71303A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01672-B4FD-4482-B86D-0A24CC4F7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6D743-E6FE-4BCF-B741-6A5859886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E9E65-2D49-425F-9869-15A67FBF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3CA2-37A5-4F14-9E4A-AF97BC96A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7BBFA-27F4-401C-BD2E-7F331C8C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113DA-A32D-4302-94F4-902A0422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A5BDD-BC1B-4900-AE85-DE3CE2E90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2784B-9224-4705-9C83-1FB141D85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6606E-7AF0-413D-8C2B-A5C55C072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8204-649F-451F-AEE5-F912197F9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32B4-B352-4A99-BEFC-2C139254E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6942-2B35-42FF-964E-6D70336C2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41BC-6449-4EC2-9A18-16BDBDAA1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11D2-7BE1-4A7B-936A-66505DB3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4A40-19D9-4178-8AE8-987D21C0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37D0-55F1-4CBE-9CFB-75E9E1E3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4ABD7-F9B2-4F2B-B199-C79048671E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6" descr="GEF-20-PPT-BG-blank.png"/>
          <p:cNvPicPr/>
          <p:nvPr/>
        </p:nvPicPr>
        <p:blipFill>
          <a:blip r:embed="rId2"/>
          <a:stretch/>
        </p:blipFill>
        <p:spPr>
          <a:xfrm>
            <a:off x="-19080" y="-6480"/>
            <a:ext cx="9182160" cy="25736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GEF-RU-LOGO.gif"/>
          <p:cNvPicPr/>
          <p:nvPr/>
        </p:nvPicPr>
        <p:blipFill>
          <a:blip r:embed="rId3"/>
          <a:stretch/>
        </p:blipFill>
        <p:spPr>
          <a:xfrm>
            <a:off x="609480" y="152280"/>
            <a:ext cx="409752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AA67C-72F1-4579-9B0F-1901A500D1B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GEF_20Years_Wave_ru2.png"/>
          <p:cNvPicPr/>
          <p:nvPr/>
        </p:nvPicPr>
        <p:blipFill>
          <a:blip r:embed="rId2"/>
          <a:stretch/>
        </p:blipFill>
        <p:spPr>
          <a:xfrm>
            <a:off x="0" y="5273640"/>
            <a:ext cx="9144000" cy="158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42d"/>
                </a:solidFill>
                <a:latin typeface="Calibri"/>
              </a:rPr>
              <a:t>Тематическая область и межотраслевые стратегии</a:t>
            </a:r>
            <a:r>
              <a:rPr b="1" lang="en-US" sz="3600" spc="-1" strike="noStrike">
                <a:solidFill>
                  <a:srgbClr val="00642d"/>
                </a:solidFill>
                <a:latin typeface="Calibri"/>
              </a:rPr>
              <a:t> – </a:t>
            </a:r>
            <a:r>
              <a:rPr b="1" lang="ru-RU" sz="3600" spc="-1" strike="noStrike">
                <a:solidFill>
                  <a:srgbClr val="00642d"/>
                </a:solidFill>
                <a:latin typeface="Calibri"/>
              </a:rPr>
              <a:t>Биоразнообразие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ubtitle 4"/>
          <p:cNvSpPr/>
          <p:nvPr/>
        </p:nvSpPr>
        <p:spPr>
          <a:xfrm>
            <a:off x="762120" y="3809880"/>
            <a:ext cx="746748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42d"/>
                </a:solidFill>
                <a:latin typeface="Arial"/>
              </a:rPr>
              <a:t>Семинар для членов  ГЭФ в расширенном соста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42d"/>
                </a:solidFill>
                <a:latin typeface="Arial"/>
              </a:rPr>
              <a:t>11–13</a:t>
            </a:r>
            <a:r>
              <a:rPr b="1" lang="ru-RU" sz="2400" spc="-1" strike="noStrike">
                <a:solidFill>
                  <a:srgbClr val="00642d"/>
                </a:solidFill>
                <a:latin typeface="Arial"/>
              </a:rPr>
              <a:t> октября</a:t>
            </a:r>
            <a:r>
              <a:rPr b="1" lang="en-US" sz="2400" spc="-1" strike="noStrike">
                <a:solidFill>
                  <a:srgbClr val="00642d"/>
                </a:solidFill>
                <a:latin typeface="Arial"/>
              </a:rPr>
              <a:t> 2011</a:t>
            </a:r>
            <a:r>
              <a:rPr b="1" lang="ru-RU" sz="2400" spc="-1" strike="noStrike">
                <a:solidFill>
                  <a:srgbClr val="00642d"/>
                </a:solidFill>
                <a:latin typeface="Arial"/>
              </a:rPr>
              <a:t>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42d"/>
                </a:solidFill>
                <a:latin typeface="Arial"/>
              </a:rPr>
              <a:t>Ташкент</a:t>
            </a:r>
            <a:r>
              <a:rPr b="1" lang="en-US" sz="2400" spc="-1" strike="noStrike">
                <a:solidFill>
                  <a:srgbClr val="00642d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642d"/>
                </a:solidFill>
                <a:latin typeface="Arial"/>
              </a:rPr>
              <a:t>Узбекис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95" name="TextBox 4"/>
          <p:cNvSpPr/>
          <p:nvPr/>
        </p:nvSpPr>
        <p:spPr>
          <a:xfrm>
            <a:off x="990720" y="38088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Биоразнообраз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990720" y="1600200"/>
            <a:ext cx="754380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Цель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: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сохранение и устойчивое использование биоразнообразия и поддержание качества экосистемных товаров и усл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Конвенция о биологическ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разнообраз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4"/>
          <p:cNvSpPr/>
          <p:nvPr/>
        </p:nvSpPr>
        <p:spPr>
          <a:xfrm>
            <a:off x="2209680" y="15228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Цели стратегии в области биоразнообраз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2057400" y="1600200"/>
            <a:ext cx="6400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вышение устойчивости систем охраняемых райо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еспечение устойчивого финансирования систем охраняемых район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ширение представления о морских и наземных экосистема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ширение представления о видах, находящихся под угрозой исчезновения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вышение эффективности управления существующими охраняемыми зон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0" y="304920"/>
            <a:ext cx="17780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"/>
          <p:cNvSpPr/>
          <p:nvPr/>
        </p:nvSpPr>
        <p:spPr>
          <a:xfrm>
            <a:off x="1066680" y="1371600"/>
            <a:ext cx="7239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чет задач по сохранению и устойчивому использованию  биоразнообразия в сфере производства, в частности, на море и в сектор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крепление рамок политики и нормативно-правовой  базы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недрение системы управления инвазивными чужеродными видам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изводство не угрожающих биоразнообразию товаров и услу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"/>
          <p:cNvSpPr/>
          <p:nvPr/>
        </p:nvSpPr>
        <p:spPr>
          <a:xfrm>
            <a:off x="1295280" y="228600"/>
            <a:ext cx="65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Цели стратегии в области биоразнообраз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Object 28"/>
          <p:cNvGraphicFramePr/>
          <p:nvPr/>
        </p:nvGraphicFramePr>
        <p:xfrm>
          <a:off x="6629400" y="3962520"/>
          <a:ext cx="2514600" cy="18795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3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3962520"/>
                    <a:ext cx="251460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"/>
          <p:cNvSpPr/>
          <p:nvPr/>
        </p:nvSpPr>
        <p:spPr>
          <a:xfrm>
            <a:off x="3809880" y="1295280"/>
            <a:ext cx="480060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ращивание потенциала для реализации Картахенского протокола по биобезопас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екты в отдельных странах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гиональные и субрегиональные проекты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матические проекты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380880" y="4572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Цели стратегии в области биоразнообраз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http://a5.sphotos.ak.fbcdn.net/hphotos-ak-snc4/40657_143878558968574_131120676911029_284703_2862555_n.jpg"/>
          <p:cNvPicPr/>
          <p:nvPr/>
        </p:nvPicPr>
        <p:blipFill>
          <a:blip r:embed="rId1"/>
          <a:stretch/>
        </p:blipFill>
        <p:spPr>
          <a:xfrm>
            <a:off x="0" y="2438280"/>
            <a:ext cx="3665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"/>
          <p:cNvSpPr/>
          <p:nvPr/>
        </p:nvSpPr>
        <p:spPr>
          <a:xfrm>
            <a:off x="228600" y="914400"/>
            <a:ext cx="8610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)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ращивание потенциала в области доступа к генетическим ресурсам и распределения бл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ращивание потенциала правительств для выполнения обязательств, предусмотренных Статьей 15 КБ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ращивание потенциала ключевых групп заинтересованных стор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3049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Цели стратегии в области биоразнообраз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Community Environmental Surveillance Committee- Santiago Quiotepec"/>
          <p:cNvPicPr/>
          <p:nvPr/>
        </p:nvPicPr>
        <p:blipFill>
          <a:blip r:embed="rId1"/>
          <a:stretch/>
        </p:blipFill>
        <p:spPr>
          <a:xfrm>
            <a:off x="2362320" y="3292560"/>
            <a:ext cx="42670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733920" y="990720"/>
            <a:ext cx="51051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5)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тегрирование  обязательств, предусмотренных КБР, в процесс национального планирования посредством </a:t>
            </a: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вспомогательных мероприят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жет быть оказана поддержка вспомогательным мероприятиям по пересмотру национальных стратегий и планов действий по сохранению биоразнообразия в соответствии с  новым стратегическим планом КБР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полнение рекомендаций, касающихся центра обмена информаци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1523880" y="3049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Цели стратегии в области биоразнообра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Reached Agreement for ABS"/>
          <p:cNvPicPr/>
          <p:nvPr/>
        </p:nvPicPr>
        <p:blipFill>
          <a:blip r:embed="rId1"/>
          <a:stretch/>
        </p:blipFill>
        <p:spPr>
          <a:xfrm>
            <a:off x="-838080" y="1447920"/>
            <a:ext cx="43704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2"/>
          <p:cNvSpPr/>
          <p:nvPr/>
        </p:nvSpPr>
        <p:spPr>
          <a:xfrm>
            <a:off x="533520" y="15228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тветные меры в отношении основных причин утраты биоразнообраз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6400800" y="12952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Object 37"/>
          <p:cNvGraphicFramePr/>
          <p:nvPr/>
        </p:nvGraphicFramePr>
        <p:xfrm>
          <a:off x="228600" y="609480"/>
          <a:ext cx="9809280" cy="4902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Object 3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09480"/>
                    <a:ext cx="9809280" cy="490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7" name="Picture 2" descr=""/>
          <p:cNvPicPr/>
          <p:nvPr/>
        </p:nvPicPr>
        <p:blipFill>
          <a:blip r:embed="rId3"/>
          <a:stretch/>
        </p:blipFill>
        <p:spPr>
          <a:xfrm>
            <a:off x="609480" y="1219320"/>
            <a:ext cx="3276720" cy="1676160"/>
          </a:xfrm>
          <a:prstGeom prst="rect">
            <a:avLst/>
          </a:prstGeom>
          <a:ln w="0">
            <a:noFill/>
          </a:ln>
        </p:spPr>
      </p:pic>
      <p:sp>
        <p:nvSpPr>
          <p:cNvPr id="118" name="Straight Connector 8"/>
          <p:cNvSpPr/>
          <p:nvPr/>
        </p:nvSpPr>
        <p:spPr>
          <a:xfrm>
            <a:off x="685800" y="914400"/>
            <a:ext cx="8077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00642d"/>
                </a:solidFill>
                <a:latin typeface="Calibri"/>
              </a:rPr>
              <a:t>Спасибо за внима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19:14:03Z</dcterms:created>
  <dc:creator>wb350798</dc:creator>
  <dc:description/>
  <dc:language>en-US</dc:language>
  <cp:lastModifiedBy>wb350798</cp:lastModifiedBy>
  <cp:lastPrinted>2011-09-28T12:14:00Z</cp:lastPrinted>
  <dcterms:modified xsi:type="dcterms:W3CDTF">2011-11-01T20:56:42Z</dcterms:modified>
  <cp:revision>49</cp:revision>
  <dc:subject/>
  <dc:title>Focal Area and Cross Cutting Strategies – Biodiversity</dc:title>
</cp:coreProperties>
</file>