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10.wmf" ContentType="image/x-wmf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69A6-71A6-4420-A5E8-493E727DED3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719E-E64C-49E8-A302-5FE60255CC4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02D8-92A9-4402-AB97-D76AB7AA7B7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A2F2-1772-40D5-ADE3-06B0F55EA36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72C1-C3B2-4D95-8998-E1AF2263D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A8D9-DC8E-4C26-862A-FAA355E4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4176-DA6F-4B43-AEC4-D13FFB855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C6BE-7446-422D-B292-C603C59ED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718D-0275-4295-BB7F-66B3B79D5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854D-CC3F-437B-B854-AC083564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8CCA-BE35-4DAA-867E-765FDDED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FD50-4498-4E61-92A3-23EEAAA0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C2E6-A8F2-4C36-95D1-1DDDD036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8B4B-C2C2-423D-B43E-FD97A7B8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3701-E6C4-485D-8D4F-25C60EF1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B1D9-05F7-4A0F-B0A1-21E5822D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D3FA-6291-45BF-8A4C-966184FD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2EC2-2DF1-42C7-9FC5-941514E7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A200-D392-49A1-B0CA-4E23004E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2F51-A1A3-4290-ABFE-83E2F132B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16A6-6A4F-4964-ABD3-B19CA1034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C6A8-6CC9-4FAD-9924-5F3C92D3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1B4F-1C6A-44CE-945D-B35EB69C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DB06-3465-4324-8836-797CA6DD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3599-42EB-4AF3-8FB2-F04C5687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2C7E-4649-41D8-AC74-A557699B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31CE-1426-4ABE-BD78-0BDCC11A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405A-E855-4632-AD12-8DF58218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7BCD-55CD-4520-8681-82BCB85FC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GEF-20-PPT-BG-blank.png"/>
          <p:cNvPicPr/>
          <p:nvPr/>
        </p:nvPicPr>
        <p:blipFill>
          <a:blip r:embed="rId2"/>
          <a:stretch/>
        </p:blipFill>
        <p:spPr>
          <a:xfrm>
            <a:off x="-19080" y="-6480"/>
            <a:ext cx="9182160" cy="2573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GEF-RU-LOGO.gif"/>
          <p:cNvPicPr/>
          <p:nvPr/>
        </p:nvPicPr>
        <p:blipFill>
          <a:blip r:embed="rId3"/>
          <a:stretch/>
        </p:blipFill>
        <p:spPr>
          <a:xfrm>
            <a:off x="609480" y="152280"/>
            <a:ext cx="409752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75DC-EF32-4699-AAF3-E2DE21F76F9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GEF_20Years_Wave_ru2.png"/>
          <p:cNvPicPr/>
          <p:nvPr/>
        </p:nvPicPr>
        <p:blipFill>
          <a:blip r:embed="rId2"/>
          <a:stretch/>
        </p:blipFill>
        <p:spPr>
          <a:xfrm>
            <a:off x="0" y="5273640"/>
            <a:ext cx="9144000" cy="15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Тематическая область и межотраслевые стратегии</a:t>
            </a: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 – </a:t>
            </a: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Биоразнообрази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ubtitle 4"/>
          <p:cNvSpPr/>
          <p:nvPr/>
        </p:nvSpPr>
        <p:spPr>
          <a:xfrm>
            <a:off x="762120" y="3809880"/>
            <a:ext cx="746748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Семинар для членов  ГЭФ в расширенном соста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2d"/>
                </a:solidFill>
                <a:latin typeface="Arial"/>
              </a:rPr>
              <a:t>11–13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 октября</a:t>
            </a:r>
            <a:r>
              <a:rPr b="1" lang="en-US" sz="2400" spc="-1" strike="noStrike">
                <a:solidFill>
                  <a:srgbClr val="00642d"/>
                </a:solidFill>
                <a:latin typeface="Arial"/>
              </a:rPr>
              <a:t> 2011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Ташкент</a:t>
            </a:r>
            <a:r>
              <a:rPr b="1" lang="en-US" sz="2400" spc="-1" strike="noStrike">
                <a:solidFill>
                  <a:srgbClr val="00642d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Узбекис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990720" y="38088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Биоразнообраз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990720" y="1600200"/>
            <a:ext cx="754380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Цель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охранение и устойчивое использование биоразнообразия и поддержание качества экосистемных товаров и усл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онвенция о биологическ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разнообраз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4"/>
          <p:cNvSpPr/>
          <p:nvPr/>
        </p:nvSpPr>
        <p:spPr>
          <a:xfrm>
            <a:off x="2209680" y="15228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Цели стратегии в области биоразнообра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2057400" y="1600200"/>
            <a:ext cx="6400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вышение устойчивости систем охраняемых рай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ение устойчивого финансирования систем охраняемых район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ширение представления о морских и наземных экосистем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ширение представления о видах, находящихся под угрозой исчезновени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ышение эффективности управления существующими охраняемыми зо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0" y="304920"/>
            <a:ext cx="1778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1066680" y="1371600"/>
            <a:ext cx="723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чет задач по сохранению и устойчивому использованию  биоразнообразия в сфере производства, в частности, на море и в секто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крепление рамок политики и нормативно-правовой  баз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недрение системы управления инвазивными чужеродными видам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водство не угрожающих биоразнообразию товаров и услу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1295280" y="228600"/>
            <a:ext cx="65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Цели стратегии в области биоразнообра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28"/>
          <p:cNvGraphicFramePr/>
          <p:nvPr/>
        </p:nvGraphicFramePr>
        <p:xfrm>
          <a:off x="6629400" y="3962520"/>
          <a:ext cx="2514600" cy="18795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3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3962520"/>
                    <a:ext cx="251460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3809880" y="1295280"/>
            <a:ext cx="48006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ращивание потенциала для реализации Картахенского протокола по био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екты в отдельных страна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гиональные и субрегиональные проект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матические проект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380880" y="4572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Цели стратегии в области биоразнообра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a5.sphotos.ak.fbcdn.net/hphotos-ak-snc4/40657_143878558968574_131120676911029_284703_2862555_n.jpg"/>
          <p:cNvPicPr/>
          <p:nvPr/>
        </p:nvPicPr>
        <p:blipFill>
          <a:blip r:embed="rId1"/>
          <a:stretch/>
        </p:blipFill>
        <p:spPr>
          <a:xfrm>
            <a:off x="0" y="2438280"/>
            <a:ext cx="3665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228600" y="914400"/>
            <a:ext cx="861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ращивание потенциала в области доступа к генетическим ресурсам и распределения бл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ращивание потенциала правительств для выполнения обязательств, предусмотренных Статьей 15 КБ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ращивание потенциала ключевых групп заинтересованных ст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3049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Цели стратегии в области биоразнообраз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Community Environmental Surveillance Committee- Santiago Quiotepec"/>
          <p:cNvPicPr/>
          <p:nvPr/>
        </p:nvPicPr>
        <p:blipFill>
          <a:blip r:embed="rId1"/>
          <a:stretch/>
        </p:blipFill>
        <p:spPr>
          <a:xfrm>
            <a:off x="2362320" y="3292560"/>
            <a:ext cx="4267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733920" y="990720"/>
            <a:ext cx="5105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)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тегрирование  обязательств, предусмотренных КБР, в процесс национального планирования посредством 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вспомогательных меропри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т быть оказана поддержка вспомогательным мероприятиям по пересмотру национальных стратегий и планов действий по сохранению биоразнообразия в соответствии с  новым стратегическим планом КБР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полнение рекомендаций, касающихся центра обмена информац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1523880" y="3049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Цели стратегии в области биоразнообр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Reached Agreement for ABS"/>
          <p:cNvPicPr/>
          <p:nvPr/>
        </p:nvPicPr>
        <p:blipFill>
          <a:blip r:embed="rId1"/>
          <a:stretch/>
        </p:blipFill>
        <p:spPr>
          <a:xfrm>
            <a:off x="-838080" y="1447920"/>
            <a:ext cx="4370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2"/>
          <p:cNvSpPr/>
          <p:nvPr/>
        </p:nvSpPr>
        <p:spPr>
          <a:xfrm>
            <a:off x="533520" y="15228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тветные меры в отношении основных причин утраты биоразнообраз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6400800" y="1295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37"/>
          <p:cNvGraphicFramePr/>
          <p:nvPr/>
        </p:nvGraphicFramePr>
        <p:xfrm>
          <a:off x="228600" y="609480"/>
          <a:ext cx="9809280" cy="490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9480"/>
                    <a:ext cx="9809280" cy="49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Picture 2" descr=""/>
          <p:cNvPicPr/>
          <p:nvPr/>
        </p:nvPicPr>
        <p:blipFill>
          <a:blip r:embed="rId3"/>
          <a:stretch/>
        </p:blipFill>
        <p:spPr>
          <a:xfrm>
            <a:off x="609480" y="1219320"/>
            <a:ext cx="3276720" cy="1676160"/>
          </a:xfrm>
          <a:prstGeom prst="rect">
            <a:avLst/>
          </a:prstGeom>
          <a:ln w="0">
            <a:noFill/>
          </a:ln>
        </p:spPr>
      </p:pic>
      <p:sp>
        <p:nvSpPr>
          <p:cNvPr id="118" name="Straight Connector 8"/>
          <p:cNvSpPr/>
          <p:nvPr/>
        </p:nvSpPr>
        <p:spPr>
          <a:xfrm>
            <a:off x="685800" y="91440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642d"/>
                </a:solidFill>
                <a:latin typeface="Calibri"/>
              </a:rPr>
              <a:t>Спасибо за вним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9:14:03Z</dcterms:created>
  <dc:creator>wb350798</dc:creator>
  <dc:description/>
  <dc:language>en-US</dc:language>
  <cp:lastModifiedBy>wb350798</cp:lastModifiedBy>
  <cp:lastPrinted>2011-09-28T12:14:00Z</cp:lastPrinted>
  <dcterms:modified xsi:type="dcterms:W3CDTF">2011-11-01T20:56:42Z</dcterms:modified>
  <cp:revision>49</cp:revision>
  <dc:subject/>
  <dc:title>Focal Area and Cross Cutting Strategies – Biodiversity</dc:title>
</cp:coreProperties>
</file>