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965E-A504-475A-8C9F-FE75586C8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65A0-E4BE-43D6-B597-7AC1BAD09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1DBF-01CD-456A-BCBD-714288526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A9E-60D5-4BFD-9340-4C0681C2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4F0-2BBD-43FE-A3F3-7121D075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C88-DC24-4885-A0E9-83410CE1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555-169A-46A0-BE45-B14EB436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2AC-FAD7-4EDF-8189-DC5DCDEB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05B-0AE4-4CF4-963F-1D767EC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DE1-2E8A-467A-BA47-209F45E7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DDE-DEFF-488E-AFFC-F013C9CB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CAA-0AB7-4FE9-BB06-3642195D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F58-5866-4749-B165-7DC26C6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E8D-5A93-4D67-9FD1-5DC2A8D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388-CC65-44B0-8986-5F57F13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E511-EFDB-4CE5-8C3A-193CAFDD5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01T20:37:47Z</dcterms:modified>
  <cp:revision>46</cp:revision>
  <dc:subject/>
  <dc:title>Focal Area and Cross Cutting Strategies – Land Degradation</dc:title>
</cp:coreProperties>
</file>