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95E5-5B4D-4975-A6D5-6EBE46F57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1DC9-2D4B-45F5-87CC-18D2830C8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3BB5-E8E7-4408-B9B1-8172E006D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9C7-2778-4729-AE6E-4DD62888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BAC-BD94-4EE6-A2F1-7ECAC900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465-782A-4BC8-BB9B-5008B74D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1FCA-3AAE-4452-861D-45A63E6B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1D64-642A-41BF-8EC5-345380F9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BE04-8B31-4929-AEC4-C22614D8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9FD-1E3B-4532-9E44-042AEF62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7FE-7D31-4F03-B29E-DC3C916B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013F-ABC8-4752-AACA-6F380DB5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062-EF0C-4BDA-96EA-9275F7F1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C5A-20C0-44F0-A66B-C6BCA237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0DE8-E7A7-43B3-AAF2-B1515256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DD7A-CC0A-4A02-BBB3-95217928A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Land Degra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143000" y="36576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October 11 – 13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Questions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Land Degradation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Focal Area Strategy</a:t>
            </a:r>
            <a:br>
              <a:rPr sz="5400"/>
            </a:b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(Combating Desertification and Defores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600200" y="10663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and LD portfolio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4 eligible countries through inclusion of LD into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three ma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ivers of ecosystem degrad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nd use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-sustainable natural resources management and consumption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mate chang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abling fram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port to UNCC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mplementation of 10-year strateg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focus on production system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- agriculture rangelands, and forest landsca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F-5 Pri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1600200"/>
            <a:ext cx="167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5238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bjective 1: Maintain or improve flows of agro-ecosystem services to sustain livelihoods of local commun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 enabling environment within the agricultur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agriculture management and sustainable flow of services in agro-eco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investments in SL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5029200" y="5257800"/>
            <a:ext cx="4114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52280" y="1295280"/>
            <a:ext cx="61722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2: Generate sustainable flows of forest ecosystem services in arid, semi-arid and sub-humid zones, including sustaining livelihoods of forest-dependen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d enabling environment within the forest sector in drylands dominat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d forest management and sustained flows of forest ecosystem services in dryla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investments in SFM in dryland forest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6400800" y="2109960"/>
            <a:ext cx="24256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121932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ive 3: Reduce pressures on natural resources from competing land uses in the wider landsca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d cross-sector enabling environment for integrated landscap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ed landscape management practices adopted by local communi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investments in integrated landscap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7010280" y="1752480"/>
            <a:ext cx="152424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304920" y="114300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4: Increase capacity to apply adaptive management tools in S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s-monitoring of UNCCD acti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streaming synergies and best practices for Natural Resour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guidelines and tools for assessing ecosystem stability, resilience and maintenance of regulat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80866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bal Environmental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560" y="11430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roved provision of agro-ecosystem and forest ecosystem goods and serv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d GHG emissions from agriculture, deforestation and forest degradation and increased carbon sequest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d vulnerability of agro-ecosystem and forest ecosystems to climate change and other human-induced impa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914400" y="4572000"/>
            <a:ext cx="73152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ational Socio-economic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76160"/>
            <a:ext cx="4794120" cy="3809880"/>
          </a:xfrm>
          <a:prstGeom prst="rect">
            <a:avLst/>
          </a:prstGeom>
          <a:noFill/>
          <a:ln w="66600">
            <a:solidFill>
              <a:srgbClr val="77933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stained livelihoods for people dependent on the use and management of natural resources (land, water, and biodiversit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duced vulnerability to impacts of CC of people dependent on the use and management of natural resources in agricultural and forest ecosyst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6324480" y="4210200"/>
            <a:ext cx="2438640" cy="1191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Millen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Developmen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1" name="Right Arrow 6"/>
          <p:cNvSpPr/>
          <p:nvPr/>
        </p:nvSpPr>
        <p:spPr>
          <a:xfrm>
            <a:off x="5410080" y="4648320"/>
            <a:ext cx="762120" cy="7617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324480" y="1523880"/>
            <a:ext cx="2316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3:57Z</dcterms:created>
  <dc:creator>wb350798</dc:creator>
  <dc:description/>
  <dc:language>en-US</dc:language>
  <cp:lastModifiedBy>wb350798</cp:lastModifiedBy>
  <dcterms:modified xsi:type="dcterms:W3CDTF">2011-11-01T20:37:47Z</dcterms:modified>
  <cp:revision>46</cp:revision>
  <dc:subject/>
  <dc:title>Focal Area and Cross Cutting Strategies – Land Degradation</dc:title>
</cp:coreProperties>
</file>