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2F1C-41FF-489D-8DE9-F37219D86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F50A-E748-44C4-B8D8-FC938268B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Header Placeholder 3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C438-3BE5-4E0A-B944-71B5E4B3A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883-12F6-45F9-BB89-8DF2D092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265-578A-40DD-98B4-B53CFE66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8D17-90F3-4E8F-B72A-8F97BA74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50F7-09EB-413E-A09E-CC0E53F5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CB5-7507-46CF-A152-170EF2A6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A78-B3D3-4254-952B-C2532FDE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C34-DB05-4705-8E6A-21F964DD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7D7-2AC0-418B-A333-06D15DC7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E89-E9D7-47A7-A4B9-7426532A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058-F5B2-46B9-82D9-92A87EB0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D4C-C91F-478F-B40D-97805DCD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322-19A9-40E8-8264-857237E0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35D2-54C3-44EA-8FA6-65D6E87C6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Land Degra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143000" y="36576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Questions?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5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Land Degradation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Focal Area Strategy</a:t>
            </a:r>
            <a:br>
              <a:rPr sz="5400"/>
            </a:b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(Combating Desertification and Defores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00200" y="10663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and LD portfolio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4 eligible countries through inclusion of LD into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three ma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ivers of ecosystem degrad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nd use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-sustainable natural resources management and consumption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mate chang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abling frame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upport to UNCC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mplementation of 10-year strateg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focus on production syste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- agriculture rangelands, and forest landsca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F-5 Pri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0" y="16002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5238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bjective 1: Maintain or improve flows of agro-ecosystem services to sustain livelihoods of local commun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ed enabling environment within the agricultural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agriculture management and sustainable flow of services in agro-eco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investments in SL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0720" indent="-271440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029200" y="5257800"/>
            <a:ext cx="4114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52280" y="1295280"/>
            <a:ext cx="61722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2: Generate sustainable flows of forest ecosystem services in arid, semi-arid and sub-humid zones, including sustaining livelihoods of forest-dependent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enabling environment within the forest sector in drylands dominated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d forest management and sustained flows of forest ecosystem services in dryla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SFM in dryland forest eco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4928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6400800" y="2109960"/>
            <a:ext cx="242568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12193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jective 3: Reduce pressures on natural resources from competing land uses in the wider landsca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hanced cross-sector enabling environment for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ed landscape management practices adopted by local communit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investments in integrated landscap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7010280" y="1752480"/>
            <a:ext cx="152424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nd Degradation Objectiv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ontent Placeholder 2"/>
          <p:cNvSpPr/>
          <p:nvPr/>
        </p:nvSpPr>
        <p:spPr>
          <a:xfrm>
            <a:off x="304920" y="114300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4: Increase capacity to apply adaptive management tools in S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s-monitoring of UNCCD acti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streaming synergies and best practices for Natural Resourc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guidelines and tools for assessing ecosystem stability, resilience and maintenance of regulat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33520" y="4038480"/>
            <a:ext cx="80866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bal Environmental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560" y="11430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ed provision of agro-ecosystem and forest ecosystem goods and servi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GHG emissions from agriculture, deforestation and forest degradation and increased carbon seque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d vulnerability of agro-ecosystem and forest ecosystems to climate change and other human-induced impa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731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ational Socio-economic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76160"/>
            <a:ext cx="4794120" cy="3809880"/>
          </a:xfrm>
          <a:prstGeom prst="rect">
            <a:avLst/>
          </a:prstGeom>
          <a:noFill/>
          <a:ln w="66600">
            <a:solidFill>
              <a:srgbClr val="77933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stained livelihoods for people dependent on the use and management of natural resources (land, water, and biodiversity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duced vulnerability to impacts of CC of people dependent on the use and management of natural resources in agricultural and forest ecosyst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6324480" y="4210200"/>
            <a:ext cx="2438640" cy="1191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Millen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Developm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6"/>
          <p:cNvSpPr/>
          <p:nvPr/>
        </p:nvSpPr>
        <p:spPr>
          <a:xfrm>
            <a:off x="5410080" y="4648320"/>
            <a:ext cx="762120" cy="7617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324480" y="1523880"/>
            <a:ext cx="2316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3:57Z</dcterms:created>
  <dc:creator>wb350798</dc:creator>
  <dc:description/>
  <dc:language>en-US</dc:language>
  <cp:lastModifiedBy>wb350798</cp:lastModifiedBy>
  <dcterms:modified xsi:type="dcterms:W3CDTF">2011-11-01T20:37:47Z</dcterms:modified>
  <cp:revision>46</cp:revision>
  <dc:subject/>
  <dc:title>Focal Area and Cross Cutting Strategies – Land Degradation</dc:title>
</cp:coreProperties>
</file>