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C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2 March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3F0F-7C9E-4B76-94FB-224AAA3696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94CF-3750-49C5-A644-79039CA432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2 March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C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2594-7951-4400-9F83-6D2F05EB7F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2 March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C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003C-7A3F-44DC-8E75-5EF656CFCC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2 March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C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074A-A864-4D18-9DF8-1EB0CC9086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2 March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C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7660-D63A-47C4-85F7-DBFF910690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2 March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C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C977-AA00-4DA3-BB3F-DE025CA793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2 March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C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239B-B21D-42EC-929E-98858C2A13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2 March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C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6FB3-623D-4462-AF19-91D31FB367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2 March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C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86A4-0B88-4BE7-965C-9929CD22AF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Date Placeholder 4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2 March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oter Placeholder 5"/>
          <p:cNvSpPr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yiv, Ukrai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F EC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91BF-4D7F-43F4-8298-6522709B5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2387-5B82-46C7-8440-AD8C6F62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2B1E-6230-46C6-A722-09999782C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AE0D-95AE-4A28-A32E-B8E40CFC3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6C61-AE63-4AC8-AD44-1614CCA3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C5C5-3EE8-4D6D-8E9D-B8AA4735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A94D-2940-4955-9EFD-46653856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725B-D026-44AF-97E6-4174B148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7D21-566F-41B7-A540-04E3BA45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1740-C5E9-471B-B27C-D1C53327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978F-71B1-4C2E-BACB-2BB15E82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9197-2B31-481D-A9FB-BB35A03F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1BBF-75A8-477B-9B66-2F262A8F7B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az-Cyrl-AZ" sz="3600" spc="-1" strike="noStrike">
                <a:solidFill>
                  <a:srgbClr val="00642d"/>
                </a:solidFill>
                <a:latin typeface="Calibri"/>
              </a:rPr>
              <a:t>Стратегии по</a:t>
            </a:r>
            <a:br>
              <a:rPr sz="3600"/>
            </a:br>
            <a:r>
              <a:rPr b="1" lang="az-Cyrl-AZ" sz="3600" spc="-1" strike="noStrike">
                <a:solidFill>
                  <a:srgbClr val="00642d"/>
                </a:solidFill>
                <a:latin typeface="Calibri"/>
              </a:rPr>
              <a:t>тематическим</a:t>
            </a: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 </a:t>
            </a:r>
            <a:r>
              <a:rPr b="1" lang="az-Cyrl-AZ" sz="3600" spc="-1" strike="noStrike">
                <a:solidFill>
                  <a:srgbClr val="00642d"/>
                </a:solidFill>
                <a:latin typeface="Calibri"/>
              </a:rPr>
              <a:t>и сквозным областям деятельности</a:t>
            </a: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– </a:t>
            </a:r>
            <a:r>
              <a:rPr b="1" lang="ru-RU" sz="3600" spc="-1" strike="noStrike">
                <a:solidFill>
                  <a:srgbClr val="00642d"/>
                </a:solidFill>
                <a:latin typeface="Calibri"/>
              </a:rPr>
              <a:t>Деградация земель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ubtitle 4"/>
          <p:cNvSpPr/>
          <p:nvPr/>
        </p:nvSpPr>
        <p:spPr>
          <a:xfrm>
            <a:off x="1066680" y="441972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642d"/>
                </a:solidFill>
                <a:latin typeface="Calibri"/>
              </a:rPr>
              <a:t>Семинар для членов ГЭФ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n-US" sz="1700" spc="-1" strike="noStrike">
                <a:solidFill>
                  <a:srgbClr val="00642d"/>
                </a:solidFill>
                <a:latin typeface="Calibri"/>
              </a:rPr>
              <a:t>11 – 13</a:t>
            </a:r>
            <a:r>
              <a:rPr b="1" lang="ru-RU" sz="1700" spc="-1" strike="noStrike">
                <a:solidFill>
                  <a:srgbClr val="00642d"/>
                </a:solidFill>
                <a:latin typeface="Calibri"/>
              </a:rPr>
              <a:t> октября </a:t>
            </a:r>
            <a:r>
              <a:rPr b="1" lang="en-US" sz="1700" spc="-1" strike="noStrike">
                <a:solidFill>
                  <a:srgbClr val="00642d"/>
                </a:solidFill>
                <a:latin typeface="Calibri"/>
              </a:rPr>
              <a:t>2011</a:t>
            </a:r>
            <a:r>
              <a:rPr b="1" lang="ru-RU" sz="1700" spc="-1" strike="noStrike">
                <a:solidFill>
                  <a:srgbClr val="00642d"/>
                </a:solidFill>
                <a:latin typeface="Calibri"/>
              </a:rPr>
              <a:t> г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642d"/>
                </a:solidFill>
                <a:latin typeface="Calibri"/>
              </a:rPr>
              <a:t>Ташкент, Узбекистан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460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br>
              <a:rPr sz="4900"/>
            </a:br>
            <a:r>
              <a:rPr b="1" lang="ru-RU" sz="4900" spc="-1" strike="noStrike">
                <a:solidFill>
                  <a:srgbClr val="000000"/>
                </a:solidFill>
                <a:latin typeface="Calibri"/>
              </a:rPr>
              <a:t>Стратегия по тематической области </a:t>
            </a: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ru-RU" sz="4900" spc="-1" strike="noStrike">
                <a:solidFill>
                  <a:srgbClr val="000000"/>
                </a:solidFill>
                <a:latin typeface="Calibri"/>
              </a:rPr>
              <a:t>деградация</a:t>
            </a: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900" spc="-1" strike="noStrike">
                <a:solidFill>
                  <a:srgbClr val="000000"/>
                </a:solidFill>
                <a:latin typeface="Calibri"/>
              </a:rPr>
              <a:t>земель</a:t>
            </a: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”</a:t>
            </a:r>
            <a:br>
              <a:rPr sz="4900"/>
            </a:br>
            <a:r>
              <a:rPr b="1" lang="en-GB" sz="25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Стратегия предотвращения опустынивания и обезлесивания</a:t>
            </a:r>
            <a:r>
              <a:rPr b="1" lang="en-GB" sz="2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828440" y="15235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асширение портфеля проектов в  – 144 отвечающих соответствующим требованиям стран за счет включения проблематики ДЗ в СТА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мягчение последствий действия трех основных причин деградации экосистем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менение характера землепольз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рациональное использование и потребление природных ресурс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менение клима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оздание благоприятных услов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казание поддержки в реализации Конвенции ООН по борьбе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 опустыниванием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еализация стратегии на десятилетний период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вышение внимания к производственным системам – пастбищным угодьям и лесным ландшафта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оритеты ГЭФ-5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тематической области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градаци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емел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”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152280" y="1828800"/>
            <a:ext cx="1676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еградация земель: Цель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0948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ДДЕРЖКА И РАСШИРЕНИЕ ПРИТОКА УСЛУГ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СЕЛЬСКОХОЗЯЙСТВЕННЫХ ЭКОСИСТЕМ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В ЦЕЛЯХ ПОДДЕРЖАНИЯ ИСТОЧНИКОВ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ДОХОДОВ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СТНОГО НАСЕЛ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ращивание потенциала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в целях совершенствования процесса принятия решений по вопросам рационального использования продуктивных ландшафтов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ts val="1397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вышение эффективности сельскохозяйственного производства силами общин, в том числе путем вовлечения местного населения в процесс принятия решений и обеспечения гендерного равенств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ts val="1397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спользование технических и институциональных возможностей для мониторинга и сокращения выбросов парниковых газов в связи с сельскохозяйственным производством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ts val="1397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вышение эффективности нейтрализации последствий изменения климат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ts val="1397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недрение инновационного механизма финансирования, основанного на оценке стоимости экологических услуг (ПЭУ и другие рыночные механизмы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ts val="1397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вышение эффективности управления пастбищными угодьями и устойчивое пастбищное животноводство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еградация земель: Цель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533520" y="1295280"/>
            <a:ext cx="8001000" cy="41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ОБЕСПЕЧЕНИЕ УСТОЙЧИВОГО ПРИТО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СЛУГ ЛЕСНЫХ ЭКОСИСТЕМ В ЗАСУШЛИВЫХ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ПОЛУЗАСУШЛИВЫХ И СЛАБООРОШАЕМЫХ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ЙОНАХ, В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ОМ ЧИСЛЕ В ЦЕЛЯХ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ПОДДЕРЖАНИЯ ИСТОЧНИКОВ ДОХОДОВ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ЛЕСОЗАВИСИМОГО НА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ts val="1397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Наращивание потенциал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политика в отношении лесных ресурсов и связанная с ней нормативно-правовая основ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ts val="1397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Устойчивое использован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лесов и деревьев вне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лесных массивов для получения древесины и недревесной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z-Cyrl-AZ" sz="1400" spc="-1" strike="noStrike">
                <a:solidFill>
                  <a:srgbClr val="000000"/>
                </a:solidFill>
                <a:latin typeface="Calibri"/>
                <a:ea typeface="Arial"/>
              </a:rPr>
              <a:t>продукции лес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ts val="1397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осстановление лесных массивов и использование местных видов, в том числе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z-Cyrl-AZ" sz="1400" spc="-1" strike="noStrike">
                <a:solidFill>
                  <a:srgbClr val="000000"/>
                </a:solidFill>
                <a:latin typeface="Calibri"/>
                <a:ea typeface="Arial"/>
              </a:rPr>
              <a:t>агролесоводство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ts val="1397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400" spc="-1" strike="noStrike">
                <a:solidFill>
                  <a:srgbClr val="000000"/>
                </a:solidFill>
                <a:latin typeface="Calibri"/>
                <a:ea typeface="Arial"/>
              </a:rPr>
              <a:t>Совершенствован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e</a:t>
            </a:r>
            <a:r>
              <a:rPr b="0" lang="az-Cyrl-AZ" sz="1400" spc="-1" strike="noStrike">
                <a:solidFill>
                  <a:srgbClr val="000000"/>
                </a:solidFill>
                <a:latin typeface="Calibri"/>
                <a:ea typeface="Arial"/>
              </a:rPr>
              <a:t> управления воздействием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изменения климата на лесные земли, практику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лесовозобновления и выбор видов для этих цел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lnSpc>
                <a:spcPts val="1397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Механизмы совершенствования и более широкого внедрения передовой практики при помощи частного сектора, общинных организаций, служб распространения знаний и средств массовой информаци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еградация земель: Цель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0880" y="1523880"/>
            <a:ext cx="83822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СНИЖЕНИЕ НАГРУЗКИ НА ПРИРОДНЫЕ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РЕСУРСЫ, ВЫЗЫВАЕМОЙ КОНКУРИРУЮЩИМ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ВИДАМИ ЗЕМЛЕПОЛЬЗОВАНИЯ В МАСШТАБАХ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ЛАНДШАФТА В ЦЕЛ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ращивание потенциала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в целях совершенствования процесса принятия решений по вопросам рационального использования продуктивных ландшафтов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работка инновационных механизмов финансирования, таких как плата за экосистемные услуг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вышение эффективности сельскохозяйственного производства в непосредственной близости от охраняемых районов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мплексное управление водными и земельными ресурсами водосборных бассейнов, в том числе в трансграничных зонах, где устойчивое управление земельными ресурсами может повысить эффективность гидрологических функций и служб, способствующих повышению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z-Cyrl-AZ" sz="1400" spc="-1" strike="noStrike">
                <a:solidFill>
                  <a:srgbClr val="000000"/>
                </a:solidFill>
                <a:latin typeface="Calibri"/>
              </a:rPr>
              <a:t>продуктивности агроэкосистем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(растениеводств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и животноводств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еградация земель: Цель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Content Placeholder 2"/>
          <p:cNvSpPr/>
          <p:nvPr/>
        </p:nvSpPr>
        <p:spPr>
          <a:xfrm>
            <a:off x="457200" y="12193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НАРАЩИВАНИЕ ПОТЕНЦИАЛА ПРИМЕ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МЕХАНИЗМОВ АДАПТИВНОГО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1800" spc="-1" strike="noStrike">
                <a:solidFill>
                  <a:srgbClr val="000000"/>
                </a:solidFill>
                <a:latin typeface="Calibri"/>
              </a:rPr>
              <a:t>В СФЕРЕ УЗ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Мониторинг результатов в рамках программ, реализуемых в соответствии с Конвенцией ООН по борьбе с опустыниванием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Согласован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национальных докладов с пересмотренными программами действий КООНБО в свете её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z-Cyrl-AZ" sz="1400" spc="-1" strike="noStrike">
                <a:solidFill>
                  <a:srgbClr val="000000"/>
                </a:solidFill>
                <a:latin typeface="Calibri"/>
                <a:ea typeface="Arial"/>
              </a:rPr>
              <a:t>10-летней стратег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Внедрение синергии и примеров оптимальной практик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рационального использования природных ресурсов сред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az-Cyrl-AZ" sz="1400" spc="-1" strike="noStrike">
                <a:solidFill>
                  <a:srgbClr val="000000"/>
                </a:solidFill>
                <a:latin typeface="Calibri"/>
                <a:ea typeface="Arial"/>
              </a:rPr>
              <a:t>региональных центров/сетей передового опы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Разработк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руководящих указаний и инструментов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для оценки стабильности экосистем, их гибкости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и способности обеспечивать регулирующие услу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лобальные экологические благ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37720" y="2057400"/>
            <a:ext cx="38862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вышение эффективности деятельности, направленной на создание глобальных благ, связанных с агроэкосистемами и лесными экосистемам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кращение выбросов парниковых газов в процессе сельскохозяйственного производства, в результате обезлесивания и деградации лесных ресурсов сельском хозяйстве, а также связывание углеро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нижение уязвимости агроэкосистем и лесных экосистем от изменения климата и других последствий деятельности челове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5029200" y="2057400"/>
            <a:ext cx="335268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оциально-экономические благ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114800" y="1676520"/>
            <a:ext cx="4572000" cy="2209680"/>
          </a:xfrm>
          <a:prstGeom prst="rect">
            <a:avLst/>
          </a:prstGeom>
          <a:solidFill>
            <a:srgbClr val="ffffff"/>
          </a:solidFill>
          <a:ln w="38160">
            <a:solidFill>
              <a:srgbClr val="c3d69b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Обеспечени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средств к существованию для населения, зависящего от использования и управления природными ресурсами (земля, вода и биоразнообразие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нижение уязвимости к последствиям изменения климата населения, зависящего от использования и управления природными ресурсами, в частности, от сельского хозяйства и экосистем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5257800" y="4876920"/>
            <a:ext cx="2362320" cy="70380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000" spc="-1" strike="noStrike">
                <a:solidFill>
                  <a:srgbClr val="f2f2f2"/>
                </a:solidFill>
                <a:latin typeface="Calibri"/>
              </a:rPr>
              <a:t>Цели Развития Тысячеле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grpSp>
        <p:nvGrpSpPr>
          <p:cNvPr id="77" name="Right Arrow 6"/>
          <p:cNvGrpSpPr/>
          <p:nvPr/>
        </p:nvGrpSpPr>
        <p:grpSpPr>
          <a:xfrm>
            <a:off x="5962680" y="4078440"/>
            <a:ext cx="876240" cy="718920"/>
            <a:chOff x="5962680" y="4078440"/>
            <a:chExt cx="876240" cy="718920"/>
          </a:xfrm>
        </p:grpSpPr>
        <p:pic>
          <p:nvPicPr>
            <p:cNvPr id="78" name="Right Arrow 6" descr=""/>
            <p:cNvPicPr/>
            <p:nvPr/>
          </p:nvPicPr>
          <p:blipFill>
            <a:blip r:embed="rId2"/>
            <a:stretch/>
          </p:blipFill>
          <p:spPr>
            <a:xfrm>
              <a:off x="5962680" y="4078440"/>
              <a:ext cx="8762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 rot="5400000">
              <a:off x="6172200" y="415296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Picture 2" descr=""/>
          <p:cNvPicPr/>
          <p:nvPr/>
        </p:nvPicPr>
        <p:blipFill>
          <a:blip r:embed="rId3"/>
          <a:stretch/>
        </p:blipFill>
        <p:spPr>
          <a:xfrm>
            <a:off x="914400" y="1600200"/>
            <a:ext cx="24606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6:04:58Z</dcterms:created>
  <dc:creator/>
  <dc:description/>
  <dc:language>en-US</dc:language>
  <cp:lastModifiedBy/>
  <dcterms:modified xsi:type="dcterms:W3CDTF">2011-11-01T20:57:18Z</dcterms:modified>
  <cp:revision>1</cp:revision>
  <dc:subject/>
  <dc:title/>
</cp:coreProperties>
</file>