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EA8B-352B-4083-B507-BF61C3F88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5A9-0D04-415C-8104-F4558055D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53B-3F3A-4CF5-9308-71A3C360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0C5-4F40-4452-8A93-9C996E2DD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441-316D-411F-826E-76CECAEC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8EA7-76AD-4EED-ABA1-93BED208C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3F48-9561-4233-AEDE-F68922AFF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018-CBDF-4361-A773-EE691779D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3FE9-D37C-40BD-8534-5898B59EA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E625-12DD-4C17-953C-A9CB571EA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3D6-AA37-44C5-9104-C2054EB9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569-010F-437B-AF09-111D3A51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C28-88CF-4252-9755-B5AFA6DF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79F-7785-4DE6-8EC6-8CBC3BAD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BE5-0522-4602-BBE7-4B441EA8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E75-445F-4D7C-8CAA-45E9F2A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F1F-8632-4703-9E2D-A8E65808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DDE-C610-4302-A53A-EF8B7B9A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E53-84E0-4631-82C5-8936FC64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292-B772-4ECC-B08F-02A7EFA0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5CF-D59F-4B74-9161-FBCDB5B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C1F-0A84-43D9-AF81-78139D3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9DB-DA71-4DB4-B32D-03B5943D4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Деградация земел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066680" y="4419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Семинар для членов ГЭ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11 – 13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октября </a:t>
            </a: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2011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тратегия по тематической области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900"/>
            </a:b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атегия предотвращения опустынивания и обезлесивания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4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ширение портфеля проектов в  – 144 отвечающих соответствующим требованиям стран за счет включения проблематики ДЗ в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ягчение последствий действия трех основных причин деградации эко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характера земле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рациональное использование и потребление прир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ание поддержки в реализации Конвенции ООН по борьб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опустыниванием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тратегии на десятилетний пери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внимания к производственным системам – пастбищным угодьям и лесным ландшафт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ритеты ГЭФ-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ематическ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ДЕРЖКА И РАСШИРЕНИЕ ПРИТОКА УСЛУ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ЕЛЬСКОХОЗЯЙСТВЕННЫХ ЭКОСИСТЕ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ЦЕЛЯХ ПОДДЕРЖАНИЯ ИСТОЧНИК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ДОХОД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силами общин, в том числе путем вовлечения местного населения в процесс принятия решений и обеспечения гендерного равен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технических и институциональных возможностей для мониторинга и сокращения выбросов парниковых газов в связи с сельскохозяйственным производств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нейтрализации последствий изменения клим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дрение инновационного механизма финансирования, основанного на оценке стоимости экологических услуг (ПЭУ и другие рыночные механизмы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пастбищными угодьями и устойчивое пастбищное животн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1295280"/>
            <a:ext cx="80010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ОБЕСПЕЧЕНИЕ УСТОЙЧИВОГО ПРИТО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 ЛЕСНЫХ ЭКОСИСТЕМ В ЗАСУШЛИВЫХ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ЛУЗАСУШЛИВЫХ И СЛАБООРОШАЕМ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АХ, 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М ЧИСЛЕ В ЦЕЛЯ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ДДЕРЖАНИЯ ИСТОЧНИКОВ ДОХОД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ЕСОЗАВИСИМ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ращивание потенци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в отношении лесных ресурсов и связанная с ней нормативно-правовая осно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ое использ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лесов и деревьев в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ных массивов для получения древесины и недревесно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укции лес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сстановление лесных массивов и использование местных видов, в том числ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агролес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Совершенств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 управления воздейств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климата на лесные земли, практик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овозобновления и выбор видов для эти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совершенствования и более широкого внедрения передовой практики при помощи частного сектора, общинных организаций, служб распространения знаний и средств массовой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523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НИЖЕНИЕ НАГРУЗКИ НА ПРИРОДНЫ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РЕСУРСЫ, ВЫЗЫВАЕМОЙ КОНКУРИРУЮЩИМ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ИДАМИ ЗЕМЛЕПОЛЬЗОВАНИЯ В МАСШТАБА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АНДШАФТА В ЦЕ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инновационных механизмов финансирования, таких как плата за экосистемные услуг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в непосредственной близости от охраняемых район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плексное управление водными и земельными ресурсами водосборных бассейнов, в том числе в трансграничных зонах, где устойчивое управление земельными ресурсами может повысить эффективность гидрологических функций и служб, способствующих повышени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продуктивности агроэкосист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растение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животно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НАРАЩИВАНИЕ ПОТЕНЦИАЛА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МЕХАНИЗМОВ АДАПТИВ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СФЕРЕ УЗ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 результатов в рамках программ, реализуемых в соответствии с Конвенцией ООН по борьбе с опустыниван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глас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национальных докладов с пересмотренными программами действий КООНБО в свете е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10-летней страте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синергии и примеров оптимальной практи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ционального использования природных ресурсов сред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ых центров/сетей передового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уководящих указаний и инструмент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ля оценки стабильности экосистем, их гибкост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способности обеспечивать регулир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бальные эколог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057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деятельности, направленной на создание глобальных благ, связанных с агроэкосистемами и лесными экосистем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в процессе сельскохозяйственного производства, в результате обезлесивания и деградации лесных ресурсов сельском хозяйстве, а также связывание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ижение уязвимости агроэкосистем и лесных экосистем от изменения климата и других последствий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циально-эконом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676520"/>
            <a:ext cx="4572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3d69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средств к существованию для населения, зависящего от использования и управления природными ресурсами (земля, вода и биоразнообразие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жение уязвимости к последствиям изменения климата населения, зависящего от использования и управления природными ресурсами, в частности, от сельского хозяйства и экосисте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57800" y="4876920"/>
            <a:ext cx="2362320" cy="703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f2f2f2"/>
                </a:solidFill>
                <a:latin typeface="Calibri"/>
              </a:rPr>
              <a:t>Цели Развития Тысяче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7" name="Right Arrow 6"/>
          <p:cNvGrpSpPr/>
          <p:nvPr/>
        </p:nvGrpSpPr>
        <p:grpSpPr>
          <a:xfrm>
            <a:off x="5962680" y="4078440"/>
            <a:ext cx="876240" cy="718920"/>
            <a:chOff x="5962680" y="4078440"/>
            <a:chExt cx="876240" cy="718920"/>
          </a:xfrm>
        </p:grpSpPr>
        <p:pic>
          <p:nvPicPr>
            <p:cNvPr id="78" name="Right Arrow 6" descr=""/>
            <p:cNvPicPr/>
            <p:nvPr/>
          </p:nvPicPr>
          <p:blipFill>
            <a:blip r:embed="rId2"/>
            <a:stretch/>
          </p:blipFill>
          <p:spPr>
            <a:xfrm>
              <a:off x="5962680" y="4078440"/>
              <a:ext cx="876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6172200" y="415296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46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04:58Z</dcterms:created>
  <dc:creator/>
  <dc:description/>
  <dc:language>en-US</dc:language>
  <cp:lastModifiedBy/>
  <dcterms:modified xsi:type="dcterms:W3CDTF">2011-11-01T20:57:18Z</dcterms:modified>
  <cp:revision>1</cp:revision>
  <dc:subject/>
  <dc:title/>
</cp:coreProperties>
</file>