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60B8-F074-4FDD-9B25-44153868D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7CCA-3A15-4058-A654-D96FA679D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5ED-9B1F-44F9-9F68-5B79DFA42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118-E1BD-4592-BE71-CB116E30D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198-1779-4B23-96A2-E95B3AAE5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8F2-FE40-421D-9241-3B199AEA7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7B3-21F8-4D0D-80E8-E1DAC094F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65F6-903B-448A-B295-3942243F3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7F8-F843-49E4-A3F5-356948888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05D2-86B7-4D3B-A41C-A68F90AE1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EC1-EE9D-4B51-A2F7-CD97F313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EC1-CF53-4173-A834-217B4B1E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200-B3C9-4DBF-A152-9BC39483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A68-4903-48F3-850B-C71A579F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10F-E49F-47CE-A647-891343B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CC9-B828-44C9-A0AE-B29340C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74C-258B-41BB-80C7-8A7EADBA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E1C-4E09-4CA0-83D9-00CB3711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D5A-B737-4F7F-B0D5-4E2997AE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88-0CC5-4C2D-9176-8011E03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D9B-90F7-4810-B6B7-73A50C6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E58-0BA5-4910-B4AA-FFE6F7A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642-48F2-4691-B6E9-7CEFF7245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Деградация земел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066680" y="4419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Семинар для членов ГЭ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11 – 13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октября </a:t>
            </a: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2011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тратегия по тематической области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900"/>
            </a:b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атегия предотвращения опустынивания и обезлесивания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4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ширение портфеля проектов в  – 144 отвечающих соответствующим требованиям стран за счет включения проблематики ДЗ в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ягчение последствий действия трех основных причин деградации эко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характера земле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рациональное использование и потребление прир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ание поддержки в реализации Конвенции ООН по борьб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опустыниванием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тратегии на десятилетний пери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внимания к производственным системам – пастбищным угодьям и лесным ландшафт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ритеты ГЭФ-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ематическ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ДЕРЖКА И РАСШИРЕНИЕ ПРИТОКА УСЛУ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ЕЛЬСКОХОЗЯЙСТВЕННЫХ ЭКОСИСТЕ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ЦЕЛЯХ ПОДДЕРЖАНИЯ ИСТОЧНИК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ДОХОД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силами общин, в том числе путем вовлечения местного населения в процесс принятия решений и обеспечения гендерного равен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технических и институциональных возможностей для мониторинга и сокращения выбросов парниковых газов в связи с сельскохозяйственным производств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нейтрализации последствий изменения клим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дрение инновационного механизма финансирования, основанного на оценке стоимости экологических услуг (ПЭУ и другие рыночные механизмы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пастбищными угодьями и устойчивое пастбищное животн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1295280"/>
            <a:ext cx="80010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ОБЕСПЕЧЕНИЕ УСТОЙЧИВОГО ПРИТО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 ЛЕСНЫХ ЭКОСИСТЕМ В ЗАСУШЛИВЫХ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ЛУЗАСУШЛИВЫХ И СЛАБООРОШАЕМ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АХ, 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М ЧИСЛЕ В ЦЕЛЯ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ДДЕРЖАНИЯ ИСТОЧНИКОВ ДОХОД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ЕСОЗАВИСИМ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ращивание потенци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в отношении лесных ресурсов и связанная с ней нормативно-правовая осно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ое использ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лесов и деревьев в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ных массивов для получения древесины и недревесно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укции лес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сстановление лесных массивов и использование местных видов, в том числ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агролес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Совершенств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 управления воздейств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климата на лесные земли, практик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овозобновления и выбор видов для эти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совершенствования и более широкого внедрения передовой практики при помощи частного сектора, общинных организаций, служб распространения знаний и средств массовой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523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НИЖЕНИЕ НАГРУЗКИ НА ПРИРОДНЫ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РЕСУРСЫ, ВЫЗЫВАЕМОЙ КОНКУРИРУЮЩИМ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ИДАМИ ЗЕМЛЕПОЛЬЗОВАНИЯ В МАСШТАБА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АНДШАФТА В ЦЕ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инновационных механизмов финансирования, таких как плата за экосистемные услуг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в непосредственной близости от охраняемых район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плексное управление водными и земельными ресурсами водосборных бассейнов, в том числе в трансграничных зонах, где устойчивое управление земельными ресурсами может повысить эффективность гидрологических функций и служб, способствующих повышени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продуктивности агроэкосист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растение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животно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НАРАЩИВАНИЕ ПОТЕНЦИАЛА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МЕХАНИЗМОВ АДАПТИВ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СФЕРЕ УЗ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 результатов в рамках программ, реализуемых в соответствии с Конвенцией ООН по борьбе с опустыниван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глас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национальных докладов с пересмотренными программами действий КООНБО в свете е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10-летней страте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синергии и примеров оптимальной практи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ционального использования природных ресурсов сред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ых центров/сетей передового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уководящих указаний и инструмент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ля оценки стабильности экосистем, их гибкост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способности обеспечивать регулир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бальные эколог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057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деятельности, направленной на создание глобальных благ, связанных с агроэкосистемами и лесными экосистем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в процессе сельскохозяйственного производства, в результате обезлесивания и деградации лесных ресурсов сельском хозяйстве, а также связывание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ижение уязвимости агроэкосистем и лесных экосистем от изменения климата и других последствий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циально-эконом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676520"/>
            <a:ext cx="4572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3d69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средств к существованию для населения, зависящего от использования и управления природными ресурсами (земля, вода и биоразнообразие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жение уязвимости к последствиям изменения климата населения, зависящего от использования и управления природными ресурсами, в частности, от сельского хозяйства и экосисте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57800" y="4876920"/>
            <a:ext cx="2362320" cy="703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f2f2f2"/>
                </a:solidFill>
                <a:latin typeface="Calibri"/>
              </a:rPr>
              <a:t>Цели Развития Тысяче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7" name="Right Arrow 6"/>
          <p:cNvGrpSpPr/>
          <p:nvPr/>
        </p:nvGrpSpPr>
        <p:grpSpPr>
          <a:xfrm>
            <a:off x="5962680" y="4078440"/>
            <a:ext cx="876240" cy="718920"/>
            <a:chOff x="5962680" y="4078440"/>
            <a:chExt cx="876240" cy="718920"/>
          </a:xfrm>
        </p:grpSpPr>
        <p:pic>
          <p:nvPicPr>
            <p:cNvPr id="78" name="Right Arrow 6" descr=""/>
            <p:cNvPicPr/>
            <p:nvPr/>
          </p:nvPicPr>
          <p:blipFill>
            <a:blip r:embed="rId2"/>
            <a:stretch/>
          </p:blipFill>
          <p:spPr>
            <a:xfrm>
              <a:off x="5962680" y="4078440"/>
              <a:ext cx="876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6172200" y="415296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46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04:58Z</dcterms:created>
  <dc:creator/>
  <dc:description/>
  <dc:language>en-US</dc:language>
  <cp:lastModifiedBy/>
  <dcterms:modified xsi:type="dcterms:W3CDTF">2011-11-01T20:57:18Z</dcterms:modified>
  <cp:revision>1</cp:revision>
  <dc:subject/>
  <dc:title/>
</cp:coreProperties>
</file>