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5EAC-C020-44C4-9744-1091DD475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61F-2C63-4B2F-BFD3-47FD3CA4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21C-7259-498B-9EB4-422455353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84B-205E-4E1E-A671-1ECA779A5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BAA-CD0D-45A2-83AC-B6C4A0C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842-6450-4C4A-8DEF-453EE16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185-93CB-4095-B237-F63D32E8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E87-68F8-4EC2-A2A4-617F3711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4C0-184E-46D4-9B26-AF9FA1C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695-7791-4FD7-B9F5-AB65F677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85C-8ED2-441F-9F4F-8BF0A025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136-6309-462D-BB2D-A6AE62E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BB8-03BA-4B21-8644-C2F3976A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9F1-AD49-4EB4-A3A5-E5E6947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BCF-96DE-4F38-92AF-5703612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C2-240E-4432-A64F-D1AD8A7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4DD-6EC9-4C69-9C58-12BEF5361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18:16:03Z</dcterms:modified>
  <cp:revision>24</cp:revision>
  <dc:subject/>
  <dc:title>Focal Area and Cross Cutting Strategies – International Waters</dc:title>
</cp:coreProperties>
</file>