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26B7-D2C2-4B5D-BEF6-211A6142A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2627-476F-4AAA-890A-FC01CDA45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5388-97AB-4D2E-99DA-E744B3213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B3A2-BEAB-4D4A-8CCF-DF11097F8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C1D-2960-454C-8E2A-9094CEF7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CC1-C480-48EC-96D9-829AF72A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3AA-44CF-4E39-8A75-1EDFF2A7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1E7-B877-422B-B79D-FB8980A6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D8F-A906-4D5D-8F42-8F29D815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7AB-5C4F-4B19-A7AA-16E6D375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D9B-7156-4386-8ECE-3A8AD24B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9A0-5A93-4E46-903C-CC9058EB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140-7454-43FE-A816-D266AC97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6C0-AE67-4E07-AFAF-3C80644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4B1-E764-410E-B181-612669B1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B9D-6900-4C46-A68D-4E18A703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1DE9-AB7A-45B4-95B7-089D6BF7B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590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      (GPA Mekong River Basin/delta - World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 Si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dcterms:modified xsi:type="dcterms:W3CDTF">2011-11-01T18:16:03Z</dcterms:modified>
  <cp:revision>24</cp:revision>
  <dc:subject/>
  <dc:title>Focal Area and Cross Cutting Strategies – International Waters</dc:title>
</cp:coreProperties>
</file>