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560-D72D-47B8-9ECC-3068912BE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9DBC-188F-452E-A3CD-9D1A073D2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3604-BB01-4E10-B94B-961A527E2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E8ED-C537-4CBD-87C7-282B51372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AE3-3AB0-4594-B9AC-2365785F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15C-F1D3-4075-804B-BA12DF7A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DFF-2A9F-4F52-BED9-C1179EA6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351-1B51-4F2F-B103-DED08B5A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68A-5CB9-4EE3-B51A-E95636AB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E0E-D73E-4A67-B3DC-E1A05773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D96-0550-4591-800C-3ADD9A9C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9D53-8CC7-49AC-83C1-8B9B2891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06C-70B1-4868-A09F-21320B02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EA1-75F0-4803-B9E8-82A275B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288-6604-445C-89DD-EE3BE961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87C-0A8E-4F7D-87A0-7E6F476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A07-6378-4798-ADAD-549CA73FC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18:16:03Z</dcterms:modified>
  <cp:revision>24</cp:revision>
  <dc:subject/>
  <dc:title>Focal Area and Cross Cutting Strategies – International Waters</dc:title>
</cp:coreProperties>
</file>