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B2C3-B44F-48EF-84EB-EE3450598ED4}" type="datetime">
              <a:rPr b="0" lang="en-US" sz="13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AA31-7086-4ACC-B1BC-363C3A037AB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4C1B-ABC6-40B7-847D-3FD100D8214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ic variability and change explicitly included for freshwater basins and LMEs and their co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ifers/groundwater explicitly included for true integrated water resources management (100 x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M Critical in all marine projects for climatic vari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36AC-7E75-40EB-8EF4-23ED70A7B23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essive funding provided to countries adopting progressive commitments to joint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foundational capacity building projects- build trust &amp; confidence, undertake joint fact-finding, make commit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-up projects &amp; programs to help implement  joint commitments to national/local reforms and investments and support for waterbody-based adaptive management institutions for IWRM in basins and ICM at coa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EBE8-0301-4794-960E-796D37D22EC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91D-91CF-4802-BDF4-B3A19F9A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AAC-5BFF-4329-ABF4-F7FEE2BD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7C6-EB35-4786-ABD5-6580F831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40C-ECC7-4292-924C-F0A1B0CC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D8A5-E310-483F-8884-09DEAD64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5CDE-097A-4788-B6E9-FC7796FC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3823-7F10-4F5F-ACCF-B1A49139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B16-2DFC-4147-AECA-8C34FE45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2C0-E170-475A-A2B8-88A2DC28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FDDA-8D6E-445F-B490-EB1123D8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C9E-9FB1-419A-BC3F-EA009DE8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46E-3A4C-4F4B-84F3-A6D1558D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9A7D-71AE-4581-AF6F-2F45DE836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wlearn.net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Focal Area and Cross Cutting Strategies – International Wa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1143000" y="3886200"/>
            <a:ext cx="6705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GEF Expanded Constituency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October 11 – 13, 20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42d"/>
                </a:solidFill>
                <a:latin typeface="Calibri"/>
              </a:rPr>
              <a:t>Tashkent, Uzbekist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1: Catalyze multi-state cooperation to balance conflicting water uses in transboundary surface and groundwater basins while considering climatic variability and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development and implementation of regional policies and measures identified in agreed SA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609480" y="2819520"/>
            <a:ext cx="3962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4800600" y="1981080"/>
          <a:ext cx="380988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981080"/>
                    <a:ext cx="380988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4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talyze multi-state cooperation to rebuild marine fisheries and reduce pollution of coasts and Large Marine Ecosystems while considering climatic variability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ementation of SAPs with reforms and investments that produce results - policy, legal, institutio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rms and multi-agency strategic partnershi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380880" y="1981080"/>
          <a:ext cx="42274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42274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ive 3:  Support foundational capacity building, portfolio learning, and targeted research needs for joint, ecosystem-based management of trans-boundary water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onal inter-ministry committees would contribute to development of SAP, to establish or strengthen institutions for multi-state, collective management and subsequent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Object 3"/>
          <p:cNvGraphicFramePr/>
          <p:nvPr/>
        </p:nvGraphicFramePr>
        <p:xfrm>
          <a:off x="4572000" y="1905120"/>
          <a:ext cx="4191120" cy="339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911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4832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4: Promote  effective management of Marine Areas Beyond National Jurisdiction (ABNJ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nd test technology and management arrangements for both pelagic and deep-sea environments and seamounts or help reduce tuna/other by-cat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F5 IW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457200" y="1828800"/>
          <a:ext cx="4100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4100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2" descr=""/>
          <p:cNvPicPr/>
          <p:nvPr/>
        </p:nvPicPr>
        <p:blipFill>
          <a:blip r:embed="rId3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0" y="2590920"/>
            <a:ext cx="493092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7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IW Ecosystem-Based Approach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nagement at Multiple 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296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 Marine Ecosystem Sca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outh China Sea LME-UN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astal Municipality/Provincial ICM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Da Nang, Vietnam - UNDP PEMSE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ver Basin Linkage Sca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       (GPA Mekong River Basin/delta - World Bank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 Community-based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mo Si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Phu Quoc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Fish Refugia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Vietnam- UNE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nitoring &amp; Evaluation Indicators to Track Results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of Transboundary Water Projec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828440" y="14479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Process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Adoption of agreed processes &amp; reforms regionally and nationally for particular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Stress Reduction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Implementation of on-the-ground measures leading to reduced str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Environmental/Water Resources Status indicator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Actual improvement in water resources/water environment/socio-economic condi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rtfolio learning, experience sharing, KM (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wlearn.ne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0" y="838080"/>
            <a:ext cx="18111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42d"/>
                </a:solidFill>
                <a:latin typeface="Calibri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40:46Z</dcterms:created>
  <dc:creator>wb350798</dc:creator>
  <dc:description/>
  <dc:language>en-US</dc:language>
  <cp:lastModifiedBy>wb350798</cp:lastModifiedBy>
  <dcterms:modified xsi:type="dcterms:W3CDTF">2011-11-01T20:39:20Z</dcterms:modified>
  <cp:revision>23</cp:revision>
  <dc:subject/>
  <dc:title>Focal Area and Cross Cutting Strategies – International Waters</dc:title>
</cp:coreProperties>
</file>