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4B7-9449-4D14-8CE1-1600D2116CFC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B65-8A01-4D82-A3CB-1A5AB85F25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221F-B33C-48E1-9ADF-D2C3158D4F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3C9-554F-40AA-91C8-0BB4452A9E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1B8-C581-436B-9E24-7E5B810311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13F-DF0D-4BCD-8EB3-30406DB5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C19-E651-48A1-9727-050FA03E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4A2-C904-4EF9-AAA1-87F0EC1D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AF2-17B7-46C1-9325-73BA2BDE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98E-20DF-4FD6-A5B0-1B38001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FF6-5EE5-4E4E-9FC6-04C40A0B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E24-119E-4817-AAFF-231FD8E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DAC-FBD2-4A7B-9D67-7D4DD21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B60-8CD4-4644-95A3-DCFB465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F71-96BF-451B-A9F6-80B34D3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EF2-4F0A-4201-A380-6F33D28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4EE-AF6F-41A7-9E35-57D5FC5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DD99-EDD1-4982-8E92-09CD48189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8862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20:39:20Z</dcterms:modified>
  <cp:revision>23</cp:revision>
  <dc:subject/>
  <dc:title>Focal Area and Cross Cutting Strategies – International Waters</dc:title>
</cp:coreProperties>
</file>