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423-DD8E-4205-A2E5-F17F5F493038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7B89-BBE8-44C9-A71E-8734BEACAC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484E-0288-47CB-86EB-81096A95559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978D-C029-4F63-A34B-9CA42A8D2F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6977-BBF3-4CD7-A6B7-BE7F18A5E2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D12-0FE0-4773-BB52-CC9F198C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DBE-FC0B-4CF7-B548-868FA705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CA3-B167-49F8-8438-1E7AC069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ADC-3344-4B69-A8A5-A5B57826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358-0878-4FA2-95E3-2149D1B6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2DD-FFE2-4585-B10E-F0CF1AC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CF9-1FD1-4BB0-B98B-05863BE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591-2036-4826-9B59-C0178B98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6F9-110E-463F-A4C9-40D54FFE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BF6-998E-435D-AF69-6DBA320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98B-2469-47C2-9A14-83F7B7A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1B0-3EF4-4307-A16F-D1EC80B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68D9-A4C4-456A-996F-F28926A0B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8862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20:39:20Z</dcterms:modified>
  <cp:revision>23</cp:revision>
  <dc:subject/>
  <dc:title>Focal Area and Cross Cutting Strategies – International Waters</dc:title>
</cp:coreProperties>
</file>