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6B5-820C-4522-BA46-E75626141E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9E5-0ADE-4956-BBFA-D491DCDDB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AA0B-8942-4E8E-AED0-970E36A92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07E-E774-4AAB-906D-555E05E3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07B-AF6A-4522-8AF1-A693FB4C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48D-CC3C-4F18-BE4C-B6E6F40D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C41-FE68-4F58-BFF5-23DA0653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708C-E78B-41AC-9B11-2E2E209B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32D7-ECD8-4DC4-9675-30A79F45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DB33-1772-42D6-B646-4B80CD1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936F-A895-4366-8D47-356AD49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F394-5007-4448-B606-F0CF0CA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191-71AA-4F0F-B9CE-89419503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82BF-77F3-4B2E-9FA0-8A151500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6D7-0576-4199-91BD-3B6C428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3FC9-E1FA-48A0-91E6-0398723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55E3-9B6D-4D7F-B4D5-4706E650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57B-8379-4F6E-8152-D5B29A2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70B-9912-4440-9810-852AF426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60F-5E84-45FD-9E0B-B0B225E8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4155-EACB-47FC-872E-88E84A17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C4D0-80D7-46E2-89D9-C47DC18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3A9B-B84C-4CA7-B4CC-35E96D9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A581-E0CE-448C-85E2-8F0B725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7C08-B3F4-4899-8B8E-DEF1483E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BE20-5265-4F76-B5AC-164585F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2EFD-2B05-470C-919B-A4CDD23B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E6F54-1779-4A0E-B218-EC3A51CD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9A79-8839-4E3C-AEF4-D8FEAC69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79B1-2E57-487E-8244-2B3AF61F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A7E79-21B3-42B1-AF15-39D379AE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A0B2A-E20A-4F85-B929-6E931115B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86F2-88C9-4B12-B7A6-9F5300D6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6A8-3634-47B1-B520-28A0F6F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1C6-1A29-4A64-B1C9-8A38FC5A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7AAA-43C6-4C27-A1B2-50F2A7B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CB8-181D-4228-88E9-5F7AA149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72E-D74F-4428-977E-BE31402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01D6-A03C-4C08-8319-FDC7149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F05E-9BFE-47B7-9372-52165D3B0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0DB-1F6D-48B8-AACC-F4D514265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GEF-20-PPT-BG-blank.png"/>
          <p:cNvPicPr/>
          <p:nvPr/>
        </p:nvPicPr>
        <p:blipFill>
          <a:blip r:embed="rId2"/>
          <a:stretch/>
        </p:blipFill>
        <p:spPr>
          <a:xfrm>
            <a:off x="-19080" y="-6480"/>
            <a:ext cx="9182160" cy="257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GEF-RU-LOGO.gif"/>
          <p:cNvPicPr/>
          <p:nvPr/>
        </p:nvPicPr>
        <p:blipFill>
          <a:blip r:embed="rId3"/>
          <a:stretch/>
        </p:blipFill>
        <p:spPr>
          <a:xfrm>
            <a:off x="609480" y="152280"/>
            <a:ext cx="40975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6DF5-50EC-49A5-ADCC-7DCD79C9E87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13D5-D08B-48E4-A106-1703A348D9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EF_20Years_Wave_ru2.png"/>
          <p:cNvPicPr/>
          <p:nvPr/>
        </p:nvPicPr>
        <p:blipFill>
          <a:blip r:embed="rId2"/>
          <a:stretch/>
        </p:blipFill>
        <p:spPr>
          <a:xfrm>
            <a:off x="0" y="5273640"/>
            <a:ext cx="914400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9C81-C2B0-4673-B3DB-96C06EFE27B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00A9-CF8D-48E9-9BBF-1735CBAE81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16761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Международные во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ubtitle 4"/>
          <p:cNvSpPr/>
          <p:nvPr/>
        </p:nvSpPr>
        <p:spPr>
          <a:xfrm>
            <a:off x="838080" y="37339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Семинар для членов ГЭФ в расширенном со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11–13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октября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 2011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Ташкент</a:t>
            </a:r>
            <a:r>
              <a:rPr b="1" lang="en-US" sz="2400" spc="-1" strike="noStrike">
                <a:solidFill>
                  <a:srgbClr val="00642d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42d"/>
                </a:solidFill>
                <a:latin typeface="Arial"/>
              </a:rPr>
              <a:t>Узбекист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7" name="Подзаголовок 2"/>
          <p:cNvSpPr/>
          <p:nvPr/>
        </p:nvSpPr>
        <p:spPr>
          <a:xfrm>
            <a:off x="990720" y="3200400"/>
            <a:ext cx="5767200" cy="129528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т горных вершин до риф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ОДНЫЕ  РЕСУРСЫ, ОКРУЖАЮЩАЯ СРЕДА И БЕЗОПАСНОСТЬ НА УРОВНЕ ОБЩИН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ЭФ В ОБЛАСТИ  ТРАНСГРАНИЧНЫХ В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0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Международн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воды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цели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 рамках ГЭФ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990720"/>
            <a:ext cx="7238880" cy="12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особствовать налаживанию межгосударственного сотрудничества в согласовании конкурирующих видов водопользования в международных бассейнах поверхностных и грунтовых вод, с учетом изменчивости климата и его измен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164"/>
          <p:cNvGraphicFramePr/>
          <p:nvPr/>
        </p:nvGraphicFramePr>
        <p:xfrm>
          <a:off x="23760" y="838080"/>
          <a:ext cx="1676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16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0" y="838080"/>
                    <a:ext cx="1676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7"/>
          <p:cNvGrpSpPr/>
          <p:nvPr/>
        </p:nvGrpSpPr>
        <p:grpSpPr>
          <a:xfrm>
            <a:off x="152280" y="4935600"/>
            <a:ext cx="9144000" cy="1465200"/>
            <a:chOff x="152280" y="4935600"/>
            <a:chExt cx="9144000" cy="1465200"/>
          </a:xfrm>
        </p:grpSpPr>
        <p:sp>
          <p:nvSpPr>
            <p:cNvPr id="148" name="Content Placeholder 2"/>
            <p:cNvSpPr/>
            <p:nvPr/>
          </p:nvSpPr>
          <p:spPr>
            <a:xfrm>
              <a:off x="1904760" y="4935600"/>
              <a:ext cx="7391520" cy="11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4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эффективному управлению морскими районами за пределами действия национальной юрисдикции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ABNJ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9" name="Object 165"/>
            <p:cNvGraphicFramePr/>
            <p:nvPr/>
          </p:nvGraphicFramePr>
          <p:xfrm>
            <a:off x="152280" y="5181120"/>
            <a:ext cx="1600200" cy="12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" name="Object 16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2280" y="5181120"/>
                      <a:ext cx="1600200" cy="12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" name="Group 19"/>
          <p:cNvGrpSpPr/>
          <p:nvPr/>
        </p:nvGrpSpPr>
        <p:grpSpPr>
          <a:xfrm>
            <a:off x="0" y="2089080"/>
            <a:ext cx="9001080" cy="1460520"/>
            <a:chOff x="0" y="2089080"/>
            <a:chExt cx="9001080" cy="1460520"/>
          </a:xfrm>
        </p:grpSpPr>
        <p:sp>
          <p:nvSpPr>
            <p:cNvPr id="152" name="Content Placeholder 2"/>
            <p:cNvSpPr/>
            <p:nvPr/>
          </p:nvSpPr>
          <p:spPr>
            <a:xfrm>
              <a:off x="1676160" y="2089080"/>
              <a:ext cx="73249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2: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лаживанию межгосударственного сотрудничества в восстановлении морского рыболовного промысла и снижении уровня загрязненности прибрежных районов и крупных морских экосистем, с учетом изменчивости климата и его измен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ts val="1199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buClr>
                  <a:srgbClr val="ff9900"/>
                </a:buClr>
                <a:buSzPct val="120000"/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3" name="Object 166"/>
            <p:cNvGraphicFramePr/>
            <p:nvPr/>
          </p:nvGraphicFramePr>
          <p:xfrm>
            <a:off x="0" y="2102040"/>
            <a:ext cx="1676160" cy="1445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6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2102040"/>
                      <a:ext cx="1676160" cy="144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" name="Group 22"/>
          <p:cNvGrpSpPr/>
          <p:nvPr/>
        </p:nvGrpSpPr>
        <p:grpSpPr>
          <a:xfrm>
            <a:off x="114480" y="3726000"/>
            <a:ext cx="9075600" cy="1295280"/>
            <a:chOff x="114480" y="3726000"/>
            <a:chExt cx="9075600" cy="1295280"/>
          </a:xfrm>
        </p:grpSpPr>
        <p:sp>
          <p:nvSpPr>
            <p:cNvPr id="156" name="Content Placeholder 2"/>
            <p:cNvSpPr/>
            <p:nvPr/>
          </p:nvSpPr>
          <p:spPr>
            <a:xfrm>
              <a:off x="1943280" y="3726000"/>
              <a:ext cx="7246800" cy="12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Цель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: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Способствовать наращиванию основополагающего потенциала, обучению в рамках проектов и проведению целевых исследований в целях совместного, основанного н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экосистемном подходе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 управлении  трансграничными водными систем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7" name="Object 167"/>
            <p:cNvGraphicFramePr/>
            <p:nvPr/>
          </p:nvGraphicFramePr>
          <p:xfrm>
            <a:off x="114480" y="3726000"/>
            <a:ext cx="1600200" cy="12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8" name="Object 16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4480" y="3726000"/>
                      <a:ext cx="16002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4027680" cy="3654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Экосистемный комплексный подход ГЭФ к управлению международными вод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62160" y="1218960"/>
            <a:ext cx="5599080" cy="9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ные морские экосистем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4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КМЭ "Южно-Китайское море " – ЮНЭП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335480" y="2122560"/>
            <a:ext cx="4572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ное управление водосборными площадя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CM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рибрежных муниципалитета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инци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 Нанг, Вьетнам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МСИ ПРО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ы ре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ПД в бассейне/дельте р. Меконг – Всемирный бан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ные демонстрационные площад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у Куок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ish Refugi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ьетнам, - ЮНЕ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оказатели, используемые для мониторинга и оценки результатов реализации проектов в трансграничных в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проц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согласованных процедур и реформ в региональном и национальном масштабах в конкретном сект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ослабления стресс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нятие мер на местах с целью ослабления стре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ндикаторы состояния окружающей среды/водных ресурсо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ическое улучшение состояния водных ресурсов/водной среды/социально-экономической си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учение на основе опыта реализации проектов, обмен опытом, управление знаниям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ww.iwlearn.n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0" t="-3969" r="0" b="0"/>
          <a:stretch/>
        </p:blipFill>
        <p:spPr>
          <a:xfrm>
            <a:off x="304920" y="1295280"/>
            <a:ext cx="156996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3429000" y="2819520"/>
            <a:ext cx="236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cp:lastPrinted>2011-10-06T11:32:06Z</cp:lastPrinted>
  <dcterms:modified xsi:type="dcterms:W3CDTF">2011-11-01T20:58:02Z</dcterms:modified>
  <cp:revision>38</cp:revision>
  <dc:subject/>
  <dc:title>Focal Area and Cross Cutting Strategies – International Waters</dc:title>
</cp:coreProperties>
</file>