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62140-8E11-4DAC-9B40-606458923E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matic variability and change explicitly included for freshwater basins and LMEs and their coas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quifers/groundwater explicitly included for true integrated water resources management (100 x water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CM Critical in all marine projects for climatic variabil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CF866-1863-470A-8538-0AA8D9DD50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Date Placeholder 1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gressive funding provided to countries adopting progressive commitments to joint a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rst, foundational capacity building projects- build trust &amp; confidence, undertake joint fact-finding, make commit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llow-up projects &amp; programs to help implement  joint commitments to national/local reforms and investments and support for waterbody-based adaptive management institutions for IWRM in basins and ICM at coas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DDBF3-D235-4327-9376-513AD701EC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Date Placeholder 1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3040E-5FE0-4B31-8138-BA6C204A7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5FE08-58E9-45D3-A457-E10F6F9DE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3618E-916F-4AB1-943C-E654B752F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F283E-4C46-4766-8F1A-E64B7359B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DA517-E81A-4CCB-B24D-2FEB6D692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376DC-C11C-4373-827B-BCF4EB0EA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18544-29E8-4BBF-BF67-F3F7F2B22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0F96B-8872-48AC-9943-6828D899E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500EC-A081-44FC-9817-AA5090044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8F2C2-E7B5-4CB8-8F68-A5129ECF2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00D25-2C07-4899-8FBE-2E1DFFFC6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03862-2EC2-4077-878D-885970C3F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58121-BC8C-4EEB-B202-3C5C44A2D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D7D82-26C2-4548-A076-C9258C4C2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0842A-F07B-423D-BA1E-933ED9458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C67CC-4EFD-4510-80FD-4DE8F3FCA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75800-6C8B-49DE-AE51-637FD5C12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2B23F3-17BC-446E-A473-F3808B099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3D7C00-782E-4CC5-81DC-1F5106DDF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4B9B4B-0924-4BD6-9A46-7321CE6F0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EA39F8-49BB-4FE1-A0DA-8FD2F4245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00BCFA-D3A1-4CD3-97CA-4AE870D0F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4E1D7-2C47-4A21-A57B-CE214E11A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06B421-669E-46AF-A107-F5471E2AE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23A9BB-D38E-4A3A-8D41-010F46D41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174AE0-C67A-49EE-B523-20BC16C07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E114AC-5321-4F74-AE39-7702D542B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0CFC1C-511B-4FC7-B61B-ADB3DCCCE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89FE4F-60B3-4FEA-B983-C8C43C5A6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724C1E-70DF-45B8-96C5-A7BC3532D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C1A12-580C-4216-BC39-7DCD587A6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400D0-3916-47C7-8D80-F2E28AFBE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6BE0E-FE91-4F57-A545-897E3AFD8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C0A67-42DB-400F-9CBC-39137977C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9D40E-4A0B-4C86-B2BB-02AEC8FEE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1F868-DCBE-4581-8204-FFD60E0B0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C2257-9EFB-426C-AD53-7B4CFFE19D6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B953D-3F8E-4FEE-9ADC-795F8CF6C2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8" descr="GEF-20-PPT-BG-blank.png"/>
          <p:cNvPicPr/>
          <p:nvPr/>
        </p:nvPicPr>
        <p:blipFill>
          <a:blip r:embed="rId2"/>
          <a:stretch/>
        </p:blipFill>
        <p:spPr>
          <a:xfrm>
            <a:off x="-19080" y="-6480"/>
            <a:ext cx="9182160" cy="2573640"/>
          </a:xfrm>
          <a:prstGeom prst="rect">
            <a:avLst/>
          </a:prstGeom>
          <a:ln w="0">
            <a:noFill/>
          </a:ln>
        </p:spPr>
      </p:pic>
      <p:pic>
        <p:nvPicPr>
          <p:cNvPr id="6" name="Picture 9" descr="GEF-RU-LOGO.gif"/>
          <p:cNvPicPr/>
          <p:nvPr/>
        </p:nvPicPr>
        <p:blipFill>
          <a:blip r:embed="rId3"/>
          <a:stretch/>
        </p:blipFill>
        <p:spPr>
          <a:xfrm>
            <a:off x="609480" y="152280"/>
            <a:ext cx="409752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C6675-79EA-4F0C-B3C3-836100E2754E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2F543-AC73-45F1-B44A-13FF6AAD045C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6" descr="GEF_20Years_Wave_ru2.png"/>
          <p:cNvPicPr/>
          <p:nvPr/>
        </p:nvPicPr>
        <p:blipFill>
          <a:blip r:embed="rId2"/>
          <a:stretch/>
        </p:blipFill>
        <p:spPr>
          <a:xfrm>
            <a:off x="0" y="5273640"/>
            <a:ext cx="9144000" cy="1584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6" descr="GEF_20Years_Wave_ru2.png"/>
          <p:cNvPicPr/>
          <p:nvPr/>
        </p:nvPicPr>
        <p:blipFill>
          <a:blip r:embed="rId2"/>
          <a:stretch/>
        </p:blipFill>
        <p:spPr>
          <a:xfrm>
            <a:off x="0" y="5273640"/>
            <a:ext cx="9144000" cy="158436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6F8D8-F2DE-4871-A060-42BEE329BF54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7F2A6-583D-48AE-8D06-04736520B1FA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25.xml"/><Relationship Id="rId10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80520" y="1676160"/>
            <a:ext cx="8077320" cy="190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z-Cyrl-AZ" sz="3600" spc="-1" strike="noStrike">
                <a:solidFill>
                  <a:srgbClr val="00642d"/>
                </a:solidFill>
                <a:latin typeface="Calibri"/>
              </a:rPr>
              <a:t>Стратегии по</a:t>
            </a:r>
            <a:br>
              <a:rPr sz="3600"/>
            </a:br>
            <a:r>
              <a:rPr b="1" lang="az-Cyrl-AZ" sz="3600" spc="-1" strike="noStrike">
                <a:solidFill>
                  <a:srgbClr val="00642d"/>
                </a:solidFill>
                <a:latin typeface="Calibri"/>
              </a:rPr>
              <a:t>тематическим</a:t>
            </a:r>
            <a:r>
              <a:rPr b="1" lang="en-US" sz="3600" spc="-1" strike="noStrike">
                <a:solidFill>
                  <a:srgbClr val="00642d"/>
                </a:solidFill>
                <a:latin typeface="Calibri"/>
              </a:rPr>
              <a:t> </a:t>
            </a:r>
            <a:r>
              <a:rPr b="1" lang="az-Cyrl-AZ" sz="3600" spc="-1" strike="noStrike">
                <a:solidFill>
                  <a:srgbClr val="00642d"/>
                </a:solidFill>
                <a:latin typeface="Calibri"/>
              </a:rPr>
              <a:t>и сквозным областям деятельности</a:t>
            </a:r>
            <a:r>
              <a:rPr b="1" lang="en-US" sz="3600" spc="-1" strike="noStrike">
                <a:solidFill>
                  <a:srgbClr val="00642d"/>
                </a:solidFill>
                <a:latin typeface="Calibri"/>
              </a:rPr>
              <a:t>–– </a:t>
            </a:r>
            <a:r>
              <a:rPr b="1" lang="ru-RU" sz="3600" spc="-1" strike="noStrike">
                <a:solidFill>
                  <a:srgbClr val="00642d"/>
                </a:solidFill>
                <a:latin typeface="Calibri"/>
              </a:rPr>
              <a:t>Международные вод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Subtitle 4"/>
          <p:cNvSpPr/>
          <p:nvPr/>
        </p:nvSpPr>
        <p:spPr>
          <a:xfrm>
            <a:off x="838080" y="3733920"/>
            <a:ext cx="746784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42d"/>
                </a:solidFill>
                <a:latin typeface="Arial"/>
              </a:rPr>
              <a:t>Семинар для членов ГЭФ в расширенном состав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42d"/>
                </a:solidFill>
                <a:latin typeface="Arial"/>
              </a:rPr>
              <a:t>11–13</a:t>
            </a:r>
            <a:r>
              <a:rPr b="1" lang="ru-RU" sz="2400" spc="-1" strike="noStrike">
                <a:solidFill>
                  <a:srgbClr val="00642d"/>
                </a:solidFill>
                <a:latin typeface="Arial"/>
              </a:rPr>
              <a:t> октября</a:t>
            </a:r>
            <a:r>
              <a:rPr b="1" lang="en-US" sz="2400" spc="-1" strike="noStrike">
                <a:solidFill>
                  <a:srgbClr val="00642d"/>
                </a:solidFill>
                <a:latin typeface="Arial"/>
              </a:rPr>
              <a:t> 2011</a:t>
            </a:r>
            <a:r>
              <a:rPr b="1" lang="ru-RU" sz="2400" spc="-1" strike="noStrike">
                <a:solidFill>
                  <a:srgbClr val="00642d"/>
                </a:solidFill>
                <a:latin typeface="Arial"/>
              </a:rPr>
              <a:t> г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42d"/>
                </a:solidFill>
                <a:latin typeface="Arial"/>
              </a:rPr>
              <a:t>Ташкент</a:t>
            </a:r>
            <a:r>
              <a:rPr b="1" lang="en-US" sz="2400" spc="-1" strike="noStrike">
                <a:solidFill>
                  <a:srgbClr val="00642d"/>
                </a:solidFill>
                <a:latin typeface="Arial"/>
              </a:rPr>
              <a:t>, </a:t>
            </a:r>
            <a:r>
              <a:rPr b="1" lang="ru-RU" sz="2400" spc="-1" strike="noStrike">
                <a:solidFill>
                  <a:srgbClr val="00642d"/>
                </a:solidFill>
                <a:latin typeface="Arial"/>
              </a:rPr>
              <a:t>Узбекист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10280"/>
          </a:xfrm>
          <a:prstGeom prst="rect">
            <a:avLst/>
          </a:prstGeom>
          <a:ln w="0">
            <a:noFill/>
          </a:ln>
        </p:spPr>
      </p:pic>
      <p:sp>
        <p:nvSpPr>
          <p:cNvPr id="137" name="Подзаголовок 2"/>
          <p:cNvSpPr/>
          <p:nvPr/>
        </p:nvSpPr>
        <p:spPr>
          <a:xfrm>
            <a:off x="990720" y="3200400"/>
            <a:ext cx="5767200" cy="1295280"/>
          </a:xfrm>
          <a:prstGeom prst="rect">
            <a:avLst/>
          </a:prstGeom>
          <a:solidFill>
            <a:srgbClr val="3185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От горных вершин до риф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ВОДНЫЕ  РЕСУРСЫ, ОКРУЖАЮЩАЯ СРЕДА И БЕЗОПАСНОСТЬ НА УРОВНЕ ОБЩИН</a:t>
            </a: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-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ДЕЯТЕЛЬНОСТЬ</a:t>
            </a: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ГЭФ В ОБЛАСТИ  ТРАНСГРАНИЧНЫХ ВОДНЫХ РЕСУРС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2203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Calibri"/>
              </a:rPr>
              <a:t>Международны</a:t>
            </a: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e</a:t>
            </a:r>
            <a:r>
              <a:rPr b="1" lang="ru-RU" sz="2800" spc="-1" strike="noStrike">
                <a:solidFill>
                  <a:srgbClr val="1f497d"/>
                </a:solidFill>
                <a:latin typeface="Calibri"/>
              </a:rPr>
              <a:t> воды</a:t>
            </a: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:</a:t>
            </a:r>
            <a:r>
              <a:rPr b="1" lang="ru-RU" sz="2800" spc="-1" strike="noStrike">
                <a:solidFill>
                  <a:srgbClr val="1f497d"/>
                </a:solidFill>
                <a:latin typeface="Calibri"/>
              </a:rPr>
              <a:t> цели</a:t>
            </a: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1f497d"/>
                </a:solidFill>
                <a:latin typeface="Calibri"/>
              </a:rPr>
              <a:t>в рамках ГЭФ-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1905120" y="990720"/>
            <a:ext cx="7238880" cy="12189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Цель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1: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пособствовать налаживанию межгосударственного сотрудничества в согласовании конкурирующих видов водопользования в международных бассейнах поверхностных и грунтовых вод, с учетом изменчивости климата и его изменен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Content Placeholder 2"/>
          <p:cNvSpPr/>
          <p:nvPr/>
        </p:nvSpPr>
        <p:spPr>
          <a:xfrm>
            <a:off x="609480" y="2819520"/>
            <a:ext cx="396252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00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2" name="Object 164"/>
          <p:cNvGraphicFramePr/>
          <p:nvPr/>
        </p:nvGraphicFramePr>
        <p:xfrm>
          <a:off x="23760" y="838080"/>
          <a:ext cx="1676520" cy="12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Object 16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60" y="838080"/>
                    <a:ext cx="1676520" cy="12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Group 17"/>
          <p:cNvGrpSpPr/>
          <p:nvPr/>
        </p:nvGrpSpPr>
        <p:grpSpPr>
          <a:xfrm>
            <a:off x="152280" y="4935600"/>
            <a:ext cx="9144000" cy="1465200"/>
            <a:chOff x="152280" y="4935600"/>
            <a:chExt cx="9144000" cy="1465200"/>
          </a:xfrm>
        </p:grpSpPr>
        <p:sp>
          <p:nvSpPr>
            <p:cNvPr id="148" name="Content Placeholder 2"/>
            <p:cNvSpPr/>
            <p:nvPr/>
          </p:nvSpPr>
          <p:spPr>
            <a:xfrm>
              <a:off x="1904760" y="4935600"/>
              <a:ext cx="7391520" cy="114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Calibri"/>
                </a:rPr>
                <a:t>Цель</a:t>
              </a: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 4:  </a:t>
              </a:r>
              <a:r>
                <a:rPr b="1" lang="ru-RU" sz="1800" spc="-1" strike="noStrike">
                  <a:solidFill>
                    <a:srgbClr val="000000"/>
                  </a:solidFill>
                  <a:latin typeface="Calibri"/>
                </a:rPr>
                <a:t>Способствовать эффективному управлению морскими районами за пределами действия национальной юрисдикции</a:t>
              </a: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 (ABNJ)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49" name="Object 165"/>
            <p:cNvGraphicFramePr/>
            <p:nvPr/>
          </p:nvGraphicFramePr>
          <p:xfrm>
            <a:off x="152280" y="5181120"/>
            <a:ext cx="1600200" cy="12196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50" name="Object 165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52280" y="5181120"/>
                      <a:ext cx="1600200" cy="1219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51" name="Group 19"/>
          <p:cNvGrpSpPr/>
          <p:nvPr/>
        </p:nvGrpSpPr>
        <p:grpSpPr>
          <a:xfrm>
            <a:off x="0" y="2089080"/>
            <a:ext cx="9001080" cy="1460520"/>
            <a:chOff x="0" y="2089080"/>
            <a:chExt cx="9001080" cy="1460520"/>
          </a:xfrm>
        </p:grpSpPr>
        <p:sp>
          <p:nvSpPr>
            <p:cNvPr id="152" name="Content Placeholder 2"/>
            <p:cNvSpPr/>
            <p:nvPr/>
          </p:nvSpPr>
          <p:spPr>
            <a:xfrm>
              <a:off x="1676160" y="2089080"/>
              <a:ext cx="7324920" cy="146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1" lang="ru-RU" sz="1800" spc="-1" strike="noStrike">
                  <a:solidFill>
                    <a:srgbClr val="000000"/>
                  </a:solidFill>
                  <a:latin typeface="Calibri"/>
                </a:rPr>
                <a:t>Цель</a:t>
              </a: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 2: </a:t>
              </a:r>
              <a:r>
                <a:rPr b="1" lang="ru-RU" sz="1800" spc="-1" strike="noStrike">
                  <a:solidFill>
                    <a:srgbClr val="000000"/>
                  </a:solidFill>
                  <a:latin typeface="Calibri"/>
                </a:rPr>
                <a:t>Способствовать налаживанию межгосударственного сотрудничества в восстановлении морского рыболовного промысла и снижении уровня загрязненности прибрежных районов и крупных морских экосистем, с учетом изменчивости климата и его изменени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ts val="1199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buClr>
                  <a:srgbClr val="ff9900"/>
                </a:buClr>
                <a:buSzPct val="120000"/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53" name="Object 166"/>
            <p:cNvGraphicFramePr/>
            <p:nvPr/>
          </p:nvGraphicFramePr>
          <p:xfrm>
            <a:off x="0" y="2102040"/>
            <a:ext cx="1676160" cy="14454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54" name="Object 166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0" y="2102040"/>
                      <a:ext cx="1676160" cy="1445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55" name="Group 22"/>
          <p:cNvGrpSpPr/>
          <p:nvPr/>
        </p:nvGrpSpPr>
        <p:grpSpPr>
          <a:xfrm>
            <a:off x="114480" y="3726000"/>
            <a:ext cx="9075600" cy="1295280"/>
            <a:chOff x="114480" y="3726000"/>
            <a:chExt cx="9075600" cy="1295280"/>
          </a:xfrm>
        </p:grpSpPr>
        <p:sp>
          <p:nvSpPr>
            <p:cNvPr id="156" name="Content Placeholder 2"/>
            <p:cNvSpPr/>
            <p:nvPr/>
          </p:nvSpPr>
          <p:spPr>
            <a:xfrm>
              <a:off x="1943280" y="3726000"/>
              <a:ext cx="7246800" cy="121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Calibri"/>
                </a:rPr>
                <a:t>Цель </a:t>
              </a: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3:  </a:t>
              </a:r>
              <a:r>
                <a:rPr b="1" lang="ru-RU" sz="1800" spc="-1" strike="noStrike">
                  <a:solidFill>
                    <a:srgbClr val="000000"/>
                  </a:solidFill>
                  <a:latin typeface="Calibri"/>
                </a:rPr>
                <a:t>Способствовать наращиванию основополагающего потенциала, обучению в рамках проектов и проведению целевых исследований в целях совместного, основанного на</a:t>
              </a: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ru-RU" sz="1800" spc="-1" strike="noStrike">
                  <a:solidFill>
                    <a:srgbClr val="000000"/>
                  </a:solidFill>
                  <a:latin typeface="Calibri"/>
                </a:rPr>
                <a:t>экосистемном подходе</a:t>
              </a: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ru-RU" sz="1800" spc="-1" strike="noStrike">
                  <a:solidFill>
                    <a:srgbClr val="000000"/>
                  </a:solidFill>
                  <a:latin typeface="Calibri"/>
                </a:rPr>
                <a:t>  управлении  трансграничными водными системам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57" name="Object 167"/>
            <p:cNvGraphicFramePr/>
            <p:nvPr/>
          </p:nvGraphicFramePr>
          <p:xfrm>
            <a:off x="114480" y="3726000"/>
            <a:ext cx="1600200" cy="12952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58" name="Object 167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14480" y="3726000"/>
                      <a:ext cx="1600200" cy="1295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155520" y="1676520"/>
            <a:ext cx="4027680" cy="365436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2203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Calibri"/>
              </a:rPr>
              <a:t>Экосистемный комплексный подход ГЭФ к управлению международными водам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962160" y="1218960"/>
            <a:ext cx="5599080" cy="90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40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40000"/>
              </a:lnSpc>
              <a:spcBef>
                <a:spcPts val="4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4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рупные морские экосистемы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40000"/>
              </a:lnSpc>
              <a:spcBef>
                <a:spcPts val="3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40000"/>
              </a:lnSpc>
              <a:spcBef>
                <a:spcPts val="3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КМЭ "Южно-Китайское море " – ЮНЭП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3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Rectangle 1"/>
          <p:cNvSpPr/>
          <p:nvPr/>
        </p:nvSpPr>
        <p:spPr>
          <a:xfrm>
            <a:off x="4335480" y="2122560"/>
            <a:ext cx="4572000" cy="34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мплексное управление водосборными площадями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ICM)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прибрежных муниципалитетах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винциях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а Нанг, Вьетнам,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ЕМСИ ПРОО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ассейны ре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ПД в бассейне/дельте р. Меконг – Всемирный банк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естные демонстрационные площадки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Фу Куок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ish Refugia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, Вьетнам, - ЮНЕП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71625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Calibri"/>
              </a:rPr>
              <a:t>Показатели, используемые для мониторинга и оценки результатов реализации проектов в трансграничных вода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2057400" y="2057400"/>
            <a:ext cx="69343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SzPct val="6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Индикаторы процесса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инятие согласованных процедур и реформ в региональном и национальном масштабах в конкретном сектор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SzPct val="6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Индикаторы ослабления стресса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инятие мер на местах с целью ослабления стресс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SzPct val="6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Индикаторы состояния окружающей среды/водных ресурсов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фактическое улучшение состояния водных ресурсов/водной среды/социально-экономической ситуаци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SzPct val="6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бучение на основе опыта реализации проектов, обмен опытом, управление знаниями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www.iwlearn.net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5" name="Picture 2" descr=""/>
          <p:cNvPicPr/>
          <p:nvPr/>
        </p:nvPicPr>
        <p:blipFill>
          <a:blip r:embed="rId1"/>
          <a:srcRect l="0" t="-3969" r="0" b="0"/>
          <a:stretch/>
        </p:blipFill>
        <p:spPr>
          <a:xfrm>
            <a:off x="304920" y="1295280"/>
            <a:ext cx="1569960" cy="416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1"/>
          <p:cNvSpPr/>
          <p:nvPr/>
        </p:nvSpPr>
        <p:spPr>
          <a:xfrm>
            <a:off x="3429000" y="2819520"/>
            <a:ext cx="23623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опросы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8T15:40:46Z</dcterms:created>
  <dc:creator>wb350798</dc:creator>
  <dc:description/>
  <dc:language>en-US</dc:language>
  <cp:lastModifiedBy>wb350798</cp:lastModifiedBy>
  <cp:lastPrinted>2011-10-06T11:32:06Z</cp:lastPrinted>
  <dcterms:modified xsi:type="dcterms:W3CDTF">2011-11-01T20:58:02Z</dcterms:modified>
  <cp:revision>38</cp:revision>
  <dc:subject/>
  <dc:title>Focal Area and Cross Cutting Strategies – International Waters</dc:title>
</cp:coreProperties>
</file>