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39CE-1D8E-4C7B-9C9C-42C0A677A0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tic variability and change explicitly included for freshwater basins and LMEs and their coa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quifers/groundwater explicitly included for true integrated water resources management (100 x wa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M Critical in all marine projects for climatic vari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8F8D-CE01-4F66-9795-E9C2CB81E3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Date Placeholder 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essive funding provided to countries adopting progressive commitments to joint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, foundational capacity building projects- build trust &amp; confidence, undertake joint fact-finding, make commit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-up projects &amp; programs to help implement  joint commitments to national/local reforms and investments and support for waterbody-based adaptive management institutions for IWRM in basins and ICM at coas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55E2-FC01-465E-AA43-BDF6F922B2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ate Placeholder 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6188-6EB0-4B46-AB0A-9BE15DC85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BD44-E093-45BE-BB93-6DB6B21B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A71C-058C-45CD-8B22-7B60C3175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95CD-F8AA-48EF-A9FC-AB6254FD9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AEF3-5B6E-4602-9138-D899AE69E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2518D-1AF2-4C8E-BB00-7CAD9745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3836-A082-43FF-BDE8-C5C15F47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6082-1E47-41BE-AD1A-1D7359DD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0B8DD-D1C7-4931-A959-61DF0C8C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E8ED-7346-4669-B150-7EABFFA2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08A4-BCCC-4C81-A0B4-69EA7E3C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9ADA-C44A-42B6-BAE2-48B120E6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EC01-ABBE-4F60-A8CD-65409027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A7F5F-A6BA-4FEA-A9AA-71C121EF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B3CC-BEBA-468C-B34E-DA714C25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DCD9-10B7-4655-A778-9C8E9CE83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8E42-A998-4996-A570-C372F65FE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A5A15-D3EB-4C7B-833F-714361458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A7655-47B9-48D5-A7FD-85599A21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C917C-A6D2-4467-BE6B-2F47354C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6DF61-CF5C-40A5-A46B-3DE001BD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725A8-1CDA-4771-B599-B8E52796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A09F-BD6B-4F89-9C90-959805EB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4AEA5-A0B9-4B0B-9344-80C0AB3C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385E6-DE6D-46E2-ACF6-83F60F63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DB482-9F14-4947-A5B3-F8A3AFC8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A9ACD-BF3A-48BF-A772-D7CBDAB9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A7C43-0B90-48F8-9860-E1244EC9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44475-DFD3-459E-A867-7E65018CC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539FF-DA72-4D75-9A4F-FE1B1D96D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390B-D29A-485D-B7F4-73124F9F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1B13-6CE3-43B7-BF1C-3109ED3A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CB3B-C6DD-4010-BF81-1070506D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65CF-E452-40A1-B110-C810E1C8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A638-79B0-449A-8D0E-6274C6D3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D60F-71D7-4332-BBB8-EF1C4A5F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AE68-20CE-4309-B309-5C6E4E79BD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B61E-4C9E-4F22-9495-B40BFEC09A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GEF-20-PPT-BG-blank.png"/>
          <p:cNvPicPr/>
          <p:nvPr/>
        </p:nvPicPr>
        <p:blipFill>
          <a:blip r:embed="rId2"/>
          <a:stretch/>
        </p:blipFill>
        <p:spPr>
          <a:xfrm>
            <a:off x="-19080" y="-6480"/>
            <a:ext cx="9182160" cy="2573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GEF-RU-LOGO.gif"/>
          <p:cNvPicPr/>
          <p:nvPr/>
        </p:nvPicPr>
        <p:blipFill>
          <a:blip r:embed="rId3"/>
          <a:stretch/>
        </p:blipFill>
        <p:spPr>
          <a:xfrm>
            <a:off x="609480" y="152280"/>
            <a:ext cx="409752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5F5D-ED2C-46C7-B1DB-EE02B2D8F136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0D98-4ADE-4F92-9F67-B96EE9CF5BE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GEF_20Years_Wave_ru2.png"/>
          <p:cNvPicPr/>
          <p:nvPr/>
        </p:nvPicPr>
        <p:blipFill>
          <a:blip r:embed="rId2"/>
          <a:stretch/>
        </p:blipFill>
        <p:spPr>
          <a:xfrm>
            <a:off x="0" y="5273640"/>
            <a:ext cx="9144000" cy="158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GEF_20Years_Wave_ru2.png"/>
          <p:cNvPicPr/>
          <p:nvPr/>
        </p:nvPicPr>
        <p:blipFill>
          <a:blip r:embed="rId2"/>
          <a:stretch/>
        </p:blipFill>
        <p:spPr>
          <a:xfrm>
            <a:off x="0" y="5273640"/>
            <a:ext cx="9144000" cy="15843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5481-0F45-478A-B7B6-70FD208B2B00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A704-659D-4A4E-9969-E51D793E123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1676160"/>
            <a:ext cx="807732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3600" spc="-1" strike="noStrike">
                <a:solidFill>
                  <a:srgbClr val="00642d"/>
                </a:solidFill>
                <a:latin typeface="Calibri"/>
              </a:rPr>
              <a:t>Стратегии по</a:t>
            </a:r>
            <a:br>
              <a:rPr sz="3600"/>
            </a:br>
            <a:r>
              <a:rPr b="1" lang="az-Cyrl-AZ" sz="3600" spc="-1" strike="noStrike">
                <a:solidFill>
                  <a:srgbClr val="00642d"/>
                </a:solidFill>
                <a:latin typeface="Calibri"/>
              </a:rPr>
              <a:t>тематическим</a:t>
            </a: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 </a:t>
            </a:r>
            <a:r>
              <a:rPr b="1" lang="az-Cyrl-AZ" sz="3600" spc="-1" strike="noStrike">
                <a:solidFill>
                  <a:srgbClr val="00642d"/>
                </a:solidFill>
                <a:latin typeface="Calibri"/>
              </a:rPr>
              <a:t>и сквозным областям деятельности</a:t>
            </a: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–– </a:t>
            </a:r>
            <a:r>
              <a:rPr b="1" lang="ru-RU" sz="3600" spc="-1" strike="noStrike">
                <a:solidFill>
                  <a:srgbClr val="00642d"/>
                </a:solidFill>
                <a:latin typeface="Calibri"/>
              </a:rPr>
              <a:t>Международные вод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ubtitle 4"/>
          <p:cNvSpPr/>
          <p:nvPr/>
        </p:nvSpPr>
        <p:spPr>
          <a:xfrm>
            <a:off x="838080" y="3733920"/>
            <a:ext cx="74678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Семинар для членов ГЭФ в расширенном соста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2d"/>
                </a:solidFill>
                <a:latin typeface="Arial"/>
              </a:rPr>
              <a:t>11–13</a:t>
            </a: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 октября</a:t>
            </a:r>
            <a:r>
              <a:rPr b="1" lang="en-US" sz="2400" spc="-1" strike="noStrike">
                <a:solidFill>
                  <a:srgbClr val="00642d"/>
                </a:solidFill>
                <a:latin typeface="Arial"/>
              </a:rPr>
              <a:t> 2011</a:t>
            </a: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Ташкент</a:t>
            </a:r>
            <a:r>
              <a:rPr b="1" lang="en-US" sz="2400" spc="-1" strike="noStrike">
                <a:solidFill>
                  <a:srgbClr val="00642d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Узбекис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137" name="Подзаголовок 2"/>
          <p:cNvSpPr/>
          <p:nvPr/>
        </p:nvSpPr>
        <p:spPr>
          <a:xfrm>
            <a:off x="990720" y="3200400"/>
            <a:ext cx="5767200" cy="1295280"/>
          </a:xfrm>
          <a:prstGeom prst="rect">
            <a:avLst/>
          </a:pr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От горных вершин до риф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ОДНЫЕ  РЕСУРСЫ, ОКРУЖАЮЩАЯ СРЕДА И БЕЗОПАСНОСТЬ НА УРОВНЕ ОБЩИН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ЕЯТЕЛЬНОСТЬ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ГЭФ В ОБЛАСТИ  ТРАНСГРАНИЧНЫХ ВОДНЫХ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2203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Международны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e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 воды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: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 цели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в рамках ГЭФ-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905120" y="990720"/>
            <a:ext cx="7238880" cy="1218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ль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: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пособствовать налаживанию межгосударственного сотрудничества в согласовании конкурирующих видов водопользования в международных бассейнах поверхностных и грунтовых вод, с учетом изменчивости климата и его измен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Content Placeholder 2"/>
          <p:cNvSpPr/>
          <p:nvPr/>
        </p:nvSpPr>
        <p:spPr>
          <a:xfrm>
            <a:off x="609480" y="2819520"/>
            <a:ext cx="39625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164"/>
          <p:cNvGraphicFramePr/>
          <p:nvPr/>
        </p:nvGraphicFramePr>
        <p:xfrm>
          <a:off x="23760" y="838080"/>
          <a:ext cx="167652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16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60" y="838080"/>
                    <a:ext cx="167652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17"/>
          <p:cNvGrpSpPr/>
          <p:nvPr/>
        </p:nvGrpSpPr>
        <p:grpSpPr>
          <a:xfrm>
            <a:off x="152280" y="4935600"/>
            <a:ext cx="9144000" cy="1465200"/>
            <a:chOff x="152280" y="4935600"/>
            <a:chExt cx="9144000" cy="1465200"/>
          </a:xfrm>
        </p:grpSpPr>
        <p:sp>
          <p:nvSpPr>
            <p:cNvPr id="148" name="Content Placeholder 2"/>
            <p:cNvSpPr/>
            <p:nvPr/>
          </p:nvSpPr>
          <p:spPr>
            <a:xfrm>
              <a:off x="1904760" y="4935600"/>
              <a:ext cx="7391520" cy="114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Цель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4:  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Способствовать эффективному управлению морскими районами за пределами действия национальной юрисдикции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(ABNJ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9" name="Object 165"/>
            <p:cNvGraphicFramePr/>
            <p:nvPr/>
          </p:nvGraphicFramePr>
          <p:xfrm>
            <a:off x="152280" y="5181120"/>
            <a:ext cx="1600200" cy="1219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0" name="Object 16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2280" y="5181120"/>
                      <a:ext cx="1600200" cy="121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1" name="Group 19"/>
          <p:cNvGrpSpPr/>
          <p:nvPr/>
        </p:nvGrpSpPr>
        <p:grpSpPr>
          <a:xfrm>
            <a:off x="0" y="2089080"/>
            <a:ext cx="9001080" cy="1460520"/>
            <a:chOff x="0" y="2089080"/>
            <a:chExt cx="9001080" cy="1460520"/>
          </a:xfrm>
        </p:grpSpPr>
        <p:sp>
          <p:nvSpPr>
            <p:cNvPr id="152" name="Content Placeholder 2"/>
            <p:cNvSpPr/>
            <p:nvPr/>
          </p:nvSpPr>
          <p:spPr>
            <a:xfrm>
              <a:off x="1676160" y="2089080"/>
              <a:ext cx="7324920" cy="14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Цель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2: 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Способствовать налаживанию межгосударственного сотрудничества в восстановлении морского рыболовного промысла и снижении уровня загрязненности прибрежных районов и крупных морских экосистем, с учетом изменчивости климата и его измен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ts val="1199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ff9900"/>
                </a:buClr>
                <a:buSzPct val="120000"/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3" name="Object 166"/>
            <p:cNvGraphicFramePr/>
            <p:nvPr/>
          </p:nvGraphicFramePr>
          <p:xfrm>
            <a:off x="0" y="2102040"/>
            <a:ext cx="1676160" cy="1445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4" name="Object 16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2102040"/>
                      <a:ext cx="1676160" cy="144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5" name="Group 22"/>
          <p:cNvGrpSpPr/>
          <p:nvPr/>
        </p:nvGrpSpPr>
        <p:grpSpPr>
          <a:xfrm>
            <a:off x="114480" y="3726000"/>
            <a:ext cx="9075600" cy="1295280"/>
            <a:chOff x="114480" y="3726000"/>
            <a:chExt cx="9075600" cy="1295280"/>
          </a:xfrm>
        </p:grpSpPr>
        <p:sp>
          <p:nvSpPr>
            <p:cNvPr id="156" name="Content Placeholder 2"/>
            <p:cNvSpPr/>
            <p:nvPr/>
          </p:nvSpPr>
          <p:spPr>
            <a:xfrm>
              <a:off x="1943280" y="3726000"/>
              <a:ext cx="7246800" cy="12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Цель 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3:  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Способствовать наращиванию основополагающего потенциала, обучению в рамках проектов и проведению целевых исследований в целях совместного, основанного на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экосистемном подходе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  управлении  трансграничными водными система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7" name="Object 167"/>
            <p:cNvGraphicFramePr/>
            <p:nvPr/>
          </p:nvGraphicFramePr>
          <p:xfrm>
            <a:off x="114480" y="3726000"/>
            <a:ext cx="1600200" cy="1295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8" name="Object 16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4480" y="3726000"/>
                      <a:ext cx="1600200" cy="12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155520" y="1676520"/>
            <a:ext cx="4027680" cy="36543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220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Экосистемный комплексный подход ГЭФ к управлению международными вод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962160" y="1218960"/>
            <a:ext cx="5599080" cy="90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4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40000"/>
              </a:lnSpc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4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упные морские экосистем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4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4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КМЭ "Южно-Китайское море " – ЮНЭП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1"/>
          <p:cNvSpPr/>
          <p:nvPr/>
        </p:nvSpPr>
        <p:spPr>
          <a:xfrm>
            <a:off x="4335480" y="2122560"/>
            <a:ext cx="4572000" cy="34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плексное управление водосборными площадям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CM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рибрежных муниципалитета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инция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 Нанг, Вьетнам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МСИ ПРО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ссейны ре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ПД в бассейне/дельте р. Меконг – Всемирный бан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стные демонстрационные площадк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у Куок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ish Refugi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Вьетнам, - ЮНЕ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Показатели, используемые для мониторинга и оценки результатов реализации проектов в трансграничных вод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057400" y="205740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Индикаторы процесс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нятие согласованных процедур и реформ в региональном и национальном масштабах в конкретном сектор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Индикаторы ослабления стресс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нятие мер на местах с целью ослабления стре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Индикаторы состояния окружающей среды/водных ресурсо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актическое улучшение состояния водных ресурсов/водной среды/социально-экономической ситу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учение на основе опыта реализации проектов, обмен опытом, управление знаниям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www.iwlearn.ne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rcRect l="0" t="-3969" r="0" b="0"/>
          <a:stretch/>
        </p:blipFill>
        <p:spPr>
          <a:xfrm>
            <a:off x="304920" y="1295280"/>
            <a:ext cx="1569960" cy="41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"/>
          <p:cNvSpPr/>
          <p:nvPr/>
        </p:nvSpPr>
        <p:spPr>
          <a:xfrm>
            <a:off x="3429000" y="2819520"/>
            <a:ext cx="2362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прос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0:46Z</dcterms:created>
  <dc:creator>wb350798</dc:creator>
  <dc:description/>
  <dc:language>en-US</dc:language>
  <cp:lastModifiedBy>wb350798</cp:lastModifiedBy>
  <cp:lastPrinted>2011-10-06T11:32:06Z</cp:lastPrinted>
  <dcterms:modified xsi:type="dcterms:W3CDTF">2011-11-01T20:58:02Z</dcterms:modified>
  <cp:revision>38</cp:revision>
  <dc:subject/>
  <dc:title>Focal Area and Cross Cutting Strategies – International Waters</dc:title>
</cp:coreProperties>
</file>