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6A2F-8111-47B7-BB55-A9EF1FB672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696960"/>
            <a:ext cx="4646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3400-C778-4AD2-99E8-5BF540CA0A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4"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696960"/>
            <a:ext cx="46465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0DD8-7551-4E09-A2C5-9A07CEFBF1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696960"/>
            <a:ext cx="46465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7728-F097-4D6C-A600-8CEDF5CA0E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9"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696960"/>
            <a:ext cx="46465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Footer Placeholder 4"/>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33" name="Header Placeholder 5"/>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696960"/>
            <a:ext cx="46465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Potential projects: </a:t>
            </a:r>
            <a:r>
              <a:rPr b="0" lang="en-US" sz="13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3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1098-FD95-4AB2-98C6-8D625A5612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696960"/>
            <a:ext cx="46465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571E-B3E4-49BD-A7C5-18F3764D63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5008-B0A5-4796-889E-420102749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804A-B7A8-4ADE-A320-D78A790A2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25425-6FA0-4104-ABEB-8BE75ACED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6060E-D436-4D02-880E-AED12A4DB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6CD1F-56CE-417E-B638-A0A09966B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2EBF-AF70-4C40-A536-B63F8BF2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2F9AF-3C54-4C76-88B4-86717DCF4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C842E-6F50-4EC0-86D9-3C978D13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434C-73A0-43C4-BC0A-80506BD49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F893-EFDC-4F0F-895A-0FE66EB8B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4662-A315-4445-B570-612267203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596A-62FD-4F75-9BBF-EC30C861D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DDB5-C1C1-4E60-BBCA-4861D75944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1"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2: Strengthen the enabling environment to reduce GHG emissions </a:t>
            </a:r>
            <a:r>
              <a:rPr b="0" lang="en-US" sz="2200" spc="-1" strike="noStrike">
                <a:solidFill>
                  <a:srgbClr val="000000"/>
                </a:solidFill>
                <a:latin typeface="Calibri"/>
              </a:rPr>
              <a:t>from deforestation and forest degradation (REDD+)</a:t>
            </a:r>
            <a:endParaRPr b="0" lang="en-US" sz="2200" spc="-1" strike="noStrike">
              <a:solidFill>
                <a:srgbClr val="000000"/>
              </a:solidFill>
              <a:latin typeface="Calibri"/>
            </a:endParaRPr>
          </a:p>
        </p:txBody>
      </p:sp>
      <p:sp>
        <p:nvSpPr>
          <p:cNvPr id="7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7"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3" descr=""/>
          <p:cNvPicPr/>
          <p:nvPr/>
        </p:nvPicPr>
        <p:blipFill>
          <a:blip r:embed="rId1"/>
          <a:stretch/>
        </p:blipFill>
        <p:spPr>
          <a:xfrm>
            <a:off x="0" y="5943600"/>
            <a:ext cx="9144000" cy="914400"/>
          </a:xfrm>
          <a:prstGeom prst="rect">
            <a:avLst/>
          </a:prstGeom>
          <a:ln w="0">
            <a:noFill/>
          </a:ln>
        </p:spPr>
      </p:pic>
      <p:pic>
        <p:nvPicPr>
          <p:cNvPr id="79"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Calibri"/>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Calibri"/>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Calibri"/>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Calibri"/>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Calibri"/>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Calibri"/>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Calibri"/>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Calibri"/>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Calibri"/>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Calibri"/>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18:16:27Z</dcterms:modified>
  <cp:revision>27</cp:revision>
  <dc:subject/>
  <dc:title>Focal Area and Cross Cutting Strategies –Sustainable Forest Management</dc:title>
</cp:coreProperties>
</file>