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394F-351F-414A-916B-3C23648B5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6640" y="696960"/>
            <a:ext cx="46465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E3F3-A2AC-431A-B0CB-71BFBC6DC9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4"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6640" y="696960"/>
            <a:ext cx="46465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52AD-0863-4C2E-9228-49A8A48F08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696960"/>
            <a:ext cx="46465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7748-BE91-4C25-ACE1-343E5C789E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9"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6640" y="696960"/>
            <a:ext cx="46465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Footer Placeholder 4"/>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33" name="Header Placeholder 5"/>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6640" y="696960"/>
            <a:ext cx="46465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Potential projects: </a:t>
            </a:r>
            <a:r>
              <a:rPr b="0" lang="en-US" sz="13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3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42CF-F258-4C5A-B9A4-CE4BB36F50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696960"/>
            <a:ext cx="46465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A472-3D12-4AD1-A1A3-D84AEABD5B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AEBC8-753E-49F2-9CFE-3347FF04B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6730-D248-4EDF-8F12-935F0A1DD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B251C-3F8C-4E62-96BA-8B3AE8D2C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25B87-81FE-47F4-98A2-087C9762D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198A-E5B6-4198-B07B-432BC0A3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A983F-0413-42A5-B111-EE8E9A28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43E87-7F87-4929-877C-F0AB88AB2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89572-F135-49D6-9D3C-DEF9E8998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73542-3352-4224-84B4-BC167525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4E66-2EBC-4C2D-99D9-BB715237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DDFD-5C18-4D73-BFCE-8DF1AD4E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35E5D-ACE3-489F-9F1B-215AEB40D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F0A3-FD22-4FC0-82D4-45DCC1A293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1"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2: Strengthen the enabling environment to reduce GHG emissions </a:t>
            </a:r>
            <a:r>
              <a:rPr b="0" lang="en-US" sz="2200" spc="-1" strike="noStrike">
                <a:solidFill>
                  <a:srgbClr val="000000"/>
                </a:solidFill>
                <a:latin typeface="Calibri"/>
              </a:rPr>
              <a:t>from deforestation and forest degradation (REDD+)</a:t>
            </a:r>
            <a:endParaRPr b="0" lang="en-US" sz="2200" spc="-1" strike="noStrike">
              <a:solidFill>
                <a:srgbClr val="000000"/>
              </a:solidFill>
              <a:latin typeface="Calibri"/>
            </a:endParaRPr>
          </a:p>
        </p:txBody>
      </p:sp>
      <p:sp>
        <p:nvSpPr>
          <p:cNvPr id="7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7"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3" descr=""/>
          <p:cNvPicPr/>
          <p:nvPr/>
        </p:nvPicPr>
        <p:blipFill>
          <a:blip r:embed="rId1"/>
          <a:stretch/>
        </p:blipFill>
        <p:spPr>
          <a:xfrm>
            <a:off x="0" y="5943600"/>
            <a:ext cx="9144000" cy="914400"/>
          </a:xfrm>
          <a:prstGeom prst="rect">
            <a:avLst/>
          </a:prstGeom>
          <a:ln w="0">
            <a:noFill/>
          </a:ln>
        </p:spPr>
      </p:pic>
      <p:pic>
        <p:nvPicPr>
          <p:cNvPr id="79"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Calibri"/>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Calibri"/>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Calibri"/>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Calibri"/>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Calibri"/>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Calibri"/>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Calibri"/>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Calibri"/>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Calibri"/>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Calibri"/>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18:16:27Z</dcterms:modified>
  <cp:revision>27</cp:revision>
  <dc:subject/>
  <dc:title>Focal Area and Cross Cutting Strategies –Sustainable Forest Management</dc:title>
</cp:coreProperties>
</file>