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5760" rIns="9576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BAAA-118F-41D0-AE19-2EFA753133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1928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3AE2-84F1-4483-8F71-D17CECA466B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1928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9F7D-3561-45B8-9F51-48E372CDDAC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2A8A-1FA4-4BE9-981A-9B073BBB6D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1"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Date Placeholder 3"/>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5" name="Footer Placeholder 4"/>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6" name="Header Placeholder 5"/>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1928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Potential projects: </a:t>
            </a:r>
            <a:r>
              <a:rPr b="0" lang="en-US" sz="14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4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785A-D548-4183-AC2C-EED1E5FC3C3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1928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7CFC-3501-4E49-9239-807FE1FEBF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550C0-67FA-41BD-8A39-72F227C0E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4D7FD-33DA-44CD-9FC7-05562490D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20178-8D84-43D8-B023-CB2E04AD4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FB67F-F84C-429F-9790-6438C3A42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8D480-AAB5-4307-B5B2-03238CE7E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77B04-D6C2-43F6-9936-2E3EF627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E6BB1-9087-49A6-917A-26D2463FE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50D35-3FEC-420A-9FC0-D54466E4E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66868-C309-42E9-8713-4F908BE98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ECB8C-AFED-4F2F-8A7E-8EAA280CB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5D3DD-0F5F-48B0-857B-349D58D1E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63E2C-A8C1-4545-8691-D2950FD86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B834-48C5-405E-B3B5-AFA40389A7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11 - 13 October 2011</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Tashkent, Uzbeksitan</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Arial"/>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1"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pic>
        <p:nvPicPr>
          <p:cNvPr id="73"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5"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2: Strengthen the enabling environment to reduce GHG emissions </a:t>
            </a:r>
            <a:r>
              <a:rPr b="0" lang="en-US" sz="2400" spc="-1" strike="noStrike">
                <a:solidFill>
                  <a:srgbClr val="000000"/>
                </a:solidFill>
                <a:latin typeface="Calibri"/>
              </a:rPr>
              <a:t>from deforestation and forest degradation (REDD+)</a:t>
            </a:r>
            <a:endParaRPr b="0" lang="en-US" sz="2400" spc="-1" strike="noStrike">
              <a:solidFill>
                <a:srgbClr val="000000"/>
              </a:solidFill>
              <a:latin typeface="Calibri"/>
            </a:endParaRPr>
          </a:p>
        </p:txBody>
      </p:sp>
      <p:sp>
        <p:nvSpPr>
          <p:cNvPr id="78"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Arial"/>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Arial"/>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Arial"/>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Arial"/>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Arial"/>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Arial"/>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Arial"/>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Arial"/>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Arial"/>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Arial"/>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Arial"/>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Arial"/>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01T20:39:46Z</dcterms:modified>
  <cp:revision>26</cp:revision>
  <dc:subject/>
  <dc:title>Focal Area and Cross Cutting Strategies –Sustainable Forest Management</dc:title>
</cp:coreProperties>
</file>