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DABF-9328-40A7-B2E1-938B188DD1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9C6C7-E82D-4C85-8296-1358CDAB6B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B291-AA13-43D1-A688-CE732A399E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626E-5362-4802-BB2D-0B952BFD05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B40F-01F7-4F83-99FE-F528492D4B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D2D6-E45C-497D-9066-B273EF2DAD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EF3E3-9651-4699-8726-71735D49B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D7EFD-CDBC-4A01-A1CF-37CAA669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AD786-F132-42D6-9D2C-AC7DDDC37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2F5C-0CAF-4419-AC2E-EC0F7BEE9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341F5-223A-448B-84EF-781A7FAA0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A24F8-EB7C-40FA-AB07-02D3C6C9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37C1-5F53-47EA-B5D0-41D7C7FF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8FE82-8AC7-4A65-8FF3-4B2C634A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89C83-BEB6-4E8E-8FC7-FEE29668C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55E9B-13FF-417E-89A0-4AEA4B3B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83D1-9C5B-4936-A231-DA818E25C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B68B-F98C-41D6-9BA6-197453F4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7E19-CA9F-48AF-8F0D-FA7270212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11 - 13 Octo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sitan</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20:39:46Z</dcterms:modified>
  <cp:revision>26</cp:revision>
  <dc:subject/>
  <dc:title>Focal Area and Cross Cutting Strategies –Sustainable Forest Management</dc:title>
</cp:coreProperties>
</file>