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7C7C-E92D-4927-BF63-A7A93B96B80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1928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DB58-B444-41ED-ADFE-7DE90E59A0C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3"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24"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25"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1928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A327-86BE-4233-86B5-0F8FDB70EE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1928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3854-5DF3-4F32-A865-81A8D688430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129" name="Date Placeholder 4"/>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0" name="Footer Placeholder 5"/>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1" name="Header Placeholder 6"/>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7480" y="719280"/>
            <a:ext cx="4800600" cy="3600360"/>
          </a:xfrm>
          <a:prstGeom prst="rect">
            <a:avLst/>
          </a:prstGeom>
          <a:ln w="0">
            <a:noFill/>
          </a:ln>
        </p:spPr>
      </p:sp>
      <p:sp>
        <p:nvSpPr>
          <p:cNvPr id="1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Date Placeholder 3"/>
          <p:cNvSpPr/>
          <p:nvPr/>
        </p:nvSpPr>
        <p:spPr>
          <a:xfrm>
            <a:off x="4143240" y="0"/>
            <a:ext cx="3170520" cy="479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22 March 2011</a:t>
            </a:r>
            <a:endParaRPr b="0" lang="en-US" sz="1300" spc="-1" strike="noStrike">
              <a:solidFill>
                <a:srgbClr val="000000"/>
              </a:solidFill>
              <a:latin typeface="Arial"/>
            </a:endParaRPr>
          </a:p>
        </p:txBody>
      </p:sp>
      <p:sp>
        <p:nvSpPr>
          <p:cNvPr id="135" name="Footer Placeholder 4"/>
          <p:cNvSpPr/>
          <p:nvPr/>
        </p:nvSpPr>
        <p:spPr>
          <a:xfrm>
            <a:off x="0" y="9120240"/>
            <a:ext cx="3170160" cy="479520"/>
          </a:xfrm>
          <a:prstGeom prst="rect">
            <a:avLst/>
          </a:prstGeom>
          <a:noFill/>
          <a:ln w="0">
            <a:noFill/>
          </a:ln>
        </p:spPr>
        <p:style>
          <a:lnRef idx="0"/>
          <a:fillRef idx="0"/>
          <a:effectRef idx="0"/>
          <a:fontRef idx="minor"/>
        </p:style>
        <p:txBody>
          <a:bodyPr lIns="95760" rIns="9576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Kyiv, Ukraine</a:t>
            </a:r>
            <a:endParaRPr b="0" lang="en-US" sz="1300" spc="-1" strike="noStrike">
              <a:solidFill>
                <a:srgbClr val="000000"/>
              </a:solidFill>
              <a:latin typeface="Arial"/>
            </a:endParaRPr>
          </a:p>
        </p:txBody>
      </p:sp>
      <p:sp>
        <p:nvSpPr>
          <p:cNvPr id="136" name="Header Placeholder 5"/>
          <p:cNvSpPr/>
          <p:nvPr/>
        </p:nvSpPr>
        <p:spPr>
          <a:xfrm>
            <a:off x="0" y="0"/>
            <a:ext cx="3170160" cy="479520"/>
          </a:xfrm>
          <a:prstGeom prst="rect">
            <a:avLst/>
          </a:prstGeom>
          <a:noFill/>
          <a:ln w="0">
            <a:noFill/>
          </a:ln>
        </p:spPr>
        <p:style>
          <a:lnRef idx="0"/>
          <a:fillRef idx="0"/>
          <a:effectRef idx="0"/>
          <a:fontRef idx="minor"/>
        </p:style>
        <p:txBody>
          <a:bodyPr lIns="95760" rIns="9576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1928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Potential projects: </a:t>
            </a:r>
            <a:r>
              <a:rPr b="0" lang="en-US" sz="14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4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D138-27CB-4725-9DE5-F9934C6CD7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1928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9E2E-6CE8-4132-8FB1-2AC454A1F68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382D0-1ED4-49D9-9DF4-BBD03963C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EFA04-61DC-4370-8BAC-566F1F3A2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CD6F5-BED7-422E-BA61-1C69275D4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F9459-F512-48EF-8BD3-116BC1EA2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2A25F-7BAC-4F61-9C90-A99043834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C856D-E674-4FD2-8B33-6D60A9248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B5095-F8B8-48D0-9026-F9668CDB8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F257-F4F7-4092-B6DF-E9BC368A6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69A8C-8194-4F02-B30E-75932437D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14CAD-AF04-4F8D-84EC-968FFA314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C75D-06DA-4BA9-90E4-584AEE719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F5B5-C23C-4FDD-9F3C-0BD24F929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3E3D-A49D-46B1-9C43-7D8340536E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11 - 13 October 2011</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Tashkent, Uzbeksitan</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Arial"/>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1"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pic>
        <p:nvPicPr>
          <p:cNvPr id="73"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5"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2: Strengthen the enabling environment to reduce GHG emissions </a:t>
            </a:r>
            <a:r>
              <a:rPr b="0" lang="en-US" sz="2400" spc="-1" strike="noStrike">
                <a:solidFill>
                  <a:srgbClr val="000000"/>
                </a:solidFill>
                <a:latin typeface="Calibri"/>
              </a:rPr>
              <a:t>from deforestation and forest degradation (REDD+)</a:t>
            </a:r>
            <a:endParaRPr b="0" lang="en-US" sz="2400" spc="-1" strike="noStrike">
              <a:solidFill>
                <a:srgbClr val="000000"/>
              </a:solidFill>
              <a:latin typeface="Calibri"/>
            </a:endParaRPr>
          </a:p>
        </p:txBody>
      </p:sp>
      <p:sp>
        <p:nvSpPr>
          <p:cNvPr id="78"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Arial"/>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Arial"/>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Arial"/>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Arial"/>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Arial"/>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Arial"/>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Arial"/>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Arial"/>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Arial"/>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Arial"/>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Arial"/>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Arial"/>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Arial"/>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Arial"/>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Arial"/>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20:39:46Z</dcterms:modified>
  <cp:revision>26</cp:revision>
  <dc:subject/>
  <dc:title>Focal Area and Cross Cutting Strategies –Sustainable Forest Management</dc:title>
</cp:coreProperties>
</file>