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8DB3-F966-43A6-BB74-F82719617B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E5A5-6056-4001-A436-9DDC6511570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57B1-9DDA-46CD-A481-195B2D398E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ument GEF/R.5/19/Rev.1  -- revised to deal with some formatting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1A56-609D-4B3B-A21D-6650562849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tential projects: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tional forest policy reformulation, protected area management, capacity building for monitoring GHG emissions from deforestation and forest degradation, certification of timber and non-timber forest produc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27C-D3C2-455B-AC06-CD37FE5BBAE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49B-405C-4C66-A254-ECDF42FFA4B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8DF-E5C2-41A7-A9DA-ABED37ED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A554-25B3-4CD7-85DF-1855A3F9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01A5-6633-43FD-B598-FF340532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331-D264-451D-B745-EA30DA16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1D6-1483-4DB7-A70F-D670192F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CE5-3BC8-4BA7-BB26-329B19A7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0C43-5822-4674-952F-A98C45E1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2CC-0394-4CEB-9FC3-FF89F8DB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1F1-523E-4680-9377-3F3DF07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80B-7846-4B31-A3BB-4B805BE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76B-A933-4A98-8F83-98A79069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8CC-149F-4BCA-8E8D-FED82E3E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DEBA-EDD2-4DE5-93DB-D45A8726C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diversityhotspots.org/xp/Hotspots/west_africa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ематическая область и межотраслевые стратегии: многосторонняя схема финансирования программы СВОД-плю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  <a:ea typeface="Arial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  <a:ea typeface="Arial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, 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ханизм стимулирующего финансирова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ов УОСЛ/СВОД-плюс в рамках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560" y="1066680"/>
            <a:ext cx="850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ции в рамках не менее двух тематических областей деятельности ГЭФ     (биологическое разнообразие, деградация земель, изменение климата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увеличения комплексных бла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эффициент стимулирова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: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р., при выделении 6 млн. долл. США                  на проекты сохранения биологического разнообразия и противодействия изменению клима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→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лн. долл. США направляется на счет проектов УОСЛ/СВОД-плю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рганизации стимулирующего финансирования необходимо, чтоб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финансирование из системы СТАР составляло не менее 2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ксимальная сумма финансирования из системы СТАР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олучения стимулирующего финансирова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30 млн. долл. СШ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1 проек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явки на стимулирующее финансирование могут подавать вс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ны, отвечающие критериям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дзаголовок 2"/>
          <p:cNvSpPr/>
          <p:nvPr/>
        </p:nvSpPr>
        <p:spPr>
          <a:xfrm>
            <a:off x="12682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wb346313\Documents\Pictures\WB_Photos\RW001S18_Francis Dobs.jpg"/>
          <p:cNvPicPr/>
          <p:nvPr/>
        </p:nvPicPr>
        <p:blipFill>
          <a:blip r:embed="rId2"/>
          <a:stretch/>
        </p:blipFill>
        <p:spPr>
          <a:xfrm>
            <a:off x="2286000" y="2895480"/>
            <a:ext cx="4267080" cy="2737080"/>
          </a:xfrm>
          <a:prstGeom prst="rect">
            <a:avLst/>
          </a:prstGeom>
          <a:ln w="0">
            <a:noFill/>
          </a:ln>
        </p:spPr>
      </p:pic>
      <p:sp>
        <p:nvSpPr>
          <p:cNvPr id="151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762120" y="2286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ГЭФ-5 по обеспечению устойчивого с точки зрения окружающей среды лесопользования (УОСЛ)/СВОД-плю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914400" y="2971800"/>
            <a:ext cx="3429000" cy="224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3429000" cy="224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1008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304920" y="1447920"/>
            <a:ext cx="830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мплексных благ в области окружающей среды и социальных благ через финансирование мер по сохранению л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5047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3334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12556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3078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ГЭФ придает большое значение сохранению лесо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720"/>
            <a:ext cx="850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са создаю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ые блага в сфере окружающей среды и социальные блага в таких областях, ка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ЗМЕНЕНИЕ  КЛИМАТ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дление темпов уничтожения тропических лесов должн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ть гораздо более существенную роль в смягчен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ствий изменения клима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ОЕ РАЗНООБРАЗИЕ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лесах живут более 60% всех видов                                                 наземных растений и животных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ГРАДАЦИЯ ЗЕМЕЛЬ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са обеспечивают источники доходов и жизненно                                                         важные услуги в области окружающей среды для сотен                 миллионов жителей планеты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hp_guinean_fores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72400" y="2057400"/>
            <a:ext cx="1136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cuscus"/>
          <p:cNvPicPr/>
          <p:nvPr/>
        </p:nvPicPr>
        <p:blipFill>
          <a:blip r:embed="rId3"/>
          <a:stretch/>
        </p:blipFill>
        <p:spPr>
          <a:xfrm>
            <a:off x="6248520" y="3124080"/>
            <a:ext cx="1365120" cy="1638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erformer29"/>
          <p:cNvPicPr/>
          <p:nvPr/>
        </p:nvPicPr>
        <p:blipFill>
          <a:blip r:embed="rId5"/>
          <a:stretch/>
        </p:blipFill>
        <p:spPr>
          <a:xfrm>
            <a:off x="6781680" y="4876920"/>
            <a:ext cx="1905120" cy="1247760"/>
          </a:xfrm>
          <a:prstGeom prst="rect">
            <a:avLst/>
          </a:prstGeom>
          <a:ln w="0">
            <a:noFill/>
          </a:ln>
        </p:spPr>
      </p:pic>
      <p:sp>
        <p:nvSpPr>
          <p:cNvPr id="68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7008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рия инвестиций ГЭФ в сохранение ле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9907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ЭФ осуществляет финансирование проектов по сохранению лесов с момента своего учреждения в 1991 г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опользование не является отдельной тематической областью деятельности Фонда. До 2006 г. ГЭФ осуществлял поддержку сохранения лесов, главным образо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деятельности по таким тематическим областям, как биологическое разнообразие и деградация земельных ресурсов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июне 2007 г. в рамках ГЭФ-4 была учреждена программа, более известная как Счет для сохранения тропических лес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TFA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F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езервировались средства из бюджетов таких тематических областей, как биологическое разнообразие, изменение климата и деградация земельных ресурсов для финансирования мероприятий по устойчивому лесопользованию в трех важнейших регионах распространения тропических лесов (в бассейне р. Амазонки, в бассейне р. Конго, в Новой Гвинее и на острове Борнео)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щей сложности в рамках ГЭФ-4 в мероприятия по сохранению лесов было инвестировано более 40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5748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479920" y="2664000"/>
            <a:ext cx="3365640" cy="3054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pic>
        <p:nvPicPr>
          <p:cNvPr id="79" name="Content Placeholder 6" descr=""/>
          <p:cNvPicPr/>
          <p:nvPr/>
        </p:nvPicPr>
        <p:blipFill>
          <a:blip r:embed="rId3"/>
          <a:stretch/>
        </p:blipFill>
        <p:spPr>
          <a:xfrm>
            <a:off x="298440" y="2889360"/>
            <a:ext cx="4584600" cy="2908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304920" y="1447920"/>
            <a:ext cx="5333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ГЭФ-4 инвестиции в мероприятия по сохранению лесов осуществлялись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лавным образом, в рамках одной тематической области  – биологического разнообразия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таким образом, потенциальным комплексным выгодам особое внимание не уделялось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 по сохранению лесов, осуществляемые в рамках ГЭФ-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350880" y="3703680"/>
            <a:ext cx="2318760" cy="16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дна тематиче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2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ТО (3 тематические обла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85920" y="609588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603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а обеспечения УОСЛ/СВОД-плюс ГЭФ-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952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е комплекса благ для окружающей среды через совершенствование системы использования лесов всех тип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нансирование – по трем тематическим областям деятельности ГЭФ (биологическое разнообразие, изменение климата, деградация земельных ресурсов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на отдельная схема финансирования вне системы прозрачного распределения                                                               ресурсов (СТАР) в целях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ции стимулирующего                                                                    финансирования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заинтересованных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wb346313\Documents\Pictures\indonesia_boy_fuelwood_crop.jpg"/>
          <p:cNvPicPr/>
          <p:nvPr/>
        </p:nvPicPr>
        <p:blipFill>
          <a:blip r:embed="rId2"/>
          <a:stretch/>
        </p:blipFill>
        <p:spPr>
          <a:xfrm>
            <a:off x="5029200" y="4038480"/>
            <a:ext cx="3057480" cy="2057400"/>
          </a:xfrm>
          <a:prstGeom prst="rect">
            <a:avLst/>
          </a:prstGeom>
          <a:ln w="0">
            <a:noFill/>
          </a:ln>
        </p:spPr>
      </p:pic>
      <p:sp>
        <p:nvSpPr>
          <p:cNvPr id="90" name="Подзаголовок 2"/>
          <p:cNvSpPr/>
          <p:nvPr/>
        </p:nvSpPr>
        <p:spPr>
          <a:xfrm>
            <a:off x="5000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5400" y="6299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-я группа задач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ение нагрузки на лесные ресурсы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беспечение стабильного потока экосистемных услуг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язанных с лес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работка и совершенствование политики лесопользования, нормативно-правовой базы регулирования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еспечение соблюдения законов о лесе и управления и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LE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 заготовок и производ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ой и прочей продукции, планирование функционального использования лесов и лесопользова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ртификация лесов и проверк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почек поставок лесоматериал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ая систем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упреждения и ликвидации лесных пожар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ход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 разрешению конфликтных ситуаци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апр., споров по вопросам лесоустройства и лесопользов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потенциала и экспериментальное внедрение системы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ты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 экосистемные услуги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дрение средств экономической оц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е, сельскохозяйственные и бытовы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ологии, способствующие снижению нагрузки на лесные ресурсы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ость, замена топл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л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ей элементов экологических систе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уровне ландшафт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щинные и малые лесные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96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дзаголовок 2"/>
          <p:cNvSpPr/>
          <p:nvPr/>
        </p:nvSpPr>
        <p:spPr>
          <a:xfrm>
            <a:off x="129060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я группа задач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укрепление благоприятных условий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целях сокращения выбросов парниковых газов (ПГ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езультате обезлесения и деградации лесов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Д-плю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ые проект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ы на получение прав землепользования и изменения режимов землепользова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напр., планирование потенциала землепользования и связанной                   с этим деятельности; анализ компромиссных вариант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технического и институциональ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а в целях мониторинга и сокращения выбросов П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результате обезлесения и деградации ле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робование и внедрение подходов, обеспечивающих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ходов от торговли квотами на выбросы углерода в атмосфер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Подзаголовок 2"/>
          <p:cNvSpPr/>
          <p:nvPr/>
        </p:nvSpPr>
        <p:spPr>
          <a:xfrm>
            <a:off x="48564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дзаголовок 2"/>
          <p:cNvSpPr/>
          <p:nvPr/>
        </p:nvSpPr>
        <p:spPr>
          <a:xfrm>
            <a:off x="131436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1257480" y="62294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хема финансирования проектов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УОСЛ/СВОД-плюс в рамках ГЭФ-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lowchart: Process 3"/>
          <p:cNvSpPr/>
          <p:nvPr/>
        </p:nvSpPr>
        <p:spPr>
          <a:xfrm>
            <a:off x="838080" y="1828800"/>
            <a:ext cx="2895840" cy="1447920"/>
          </a:xfrm>
          <a:prstGeom prst="flowChartProcess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lowchart: Process 6"/>
          <p:cNvSpPr/>
          <p:nvPr/>
        </p:nvSpPr>
        <p:spPr>
          <a:xfrm>
            <a:off x="838080" y="3429000"/>
            <a:ext cx="2895840" cy="1295280"/>
          </a:xfrm>
          <a:prstGeom prst="flowChartProcess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owchart: Process 7"/>
          <p:cNvSpPr/>
          <p:nvPr/>
        </p:nvSpPr>
        <p:spPr>
          <a:xfrm>
            <a:off x="838080" y="4876920"/>
            <a:ext cx="2895840" cy="685800"/>
          </a:xfrm>
          <a:prstGeom prst="flowChartProcess">
            <a:avLst/>
          </a:prstGeom>
          <a:solidFill>
            <a:srgbClr val="cf45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owchart: Process 8"/>
          <p:cNvSpPr/>
          <p:nvPr/>
        </p:nvSpPr>
        <p:spPr>
          <a:xfrm>
            <a:off x="838080" y="2895480"/>
            <a:ext cx="2895840" cy="381240"/>
          </a:xfrm>
          <a:prstGeom prst="flowChartProcess">
            <a:avLst/>
          </a:prstGeom>
          <a:solidFill>
            <a:srgbClr val="00b050"/>
          </a:solidFill>
          <a:ln w="0">
            <a:noFill/>
          </a:ln>
          <a:effectLst>
            <a:outerShdw dist="153753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ы УОСЛ/СВОД-плю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owchart: Process 9"/>
          <p:cNvSpPr/>
          <p:nvPr/>
        </p:nvSpPr>
        <p:spPr>
          <a:xfrm>
            <a:off x="838080" y="4343400"/>
            <a:ext cx="2895840" cy="38088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lowchart: Process 10"/>
          <p:cNvSpPr/>
          <p:nvPr/>
        </p:nvSpPr>
        <p:spPr>
          <a:xfrm>
            <a:off x="838080" y="5334120"/>
            <a:ext cx="2895840" cy="228600"/>
          </a:xfrm>
          <a:prstGeom prst="flowChartProcess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ы УОСЛ/СВОД-плю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1235520" y="20574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1416960" y="34290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262520" y="4881600"/>
            <a:ext cx="1960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градаци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мельных 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21"/>
          <p:cNvCxnSpPr>
            <a:stCxn id="110" idx="3"/>
          </p:cNvCxnSpPr>
          <p:nvPr/>
        </p:nvCxnSpPr>
        <p:spPr>
          <a:xfrm flipV="1">
            <a:off x="3733560" y="2666160"/>
            <a:ext cx="1067400" cy="4201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7" name="Straight Arrow Connector 23"/>
          <p:cNvCxnSpPr/>
          <p:nvPr/>
        </p:nvCxnSpPr>
        <p:spPr>
          <a:xfrm flipV="1">
            <a:off x="3733560" y="4114440"/>
            <a:ext cx="991080" cy="45792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18" name="Straight Arrow Connector 25"/>
          <p:cNvCxnSpPr>
            <a:stCxn id="112" idx="3"/>
          </p:cNvCxnSpPr>
          <p:nvPr/>
        </p:nvCxnSpPr>
        <p:spPr>
          <a:xfrm flipV="1">
            <a:off x="3733920" y="4876200"/>
            <a:ext cx="1219680" cy="57204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19" name="Oval 28"/>
          <p:cNvSpPr/>
          <p:nvPr/>
        </p:nvSpPr>
        <p:spPr>
          <a:xfrm>
            <a:off x="4724280" y="2057400"/>
            <a:ext cx="1524240" cy="32004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1"/>
          <p:cNvSpPr/>
          <p:nvPr/>
        </p:nvSpPr>
        <p:spPr>
          <a:xfrm rot="16200000">
            <a:off x="4186440" y="3040920"/>
            <a:ext cx="2820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аспределение средств                  на проекты УОСЛ/СВОД-плюс           по тематическим областям деятельности ГЭФ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7" descr="C:\Users\wb346313\AppData\Local\Microsoft\Windows\Temporary Internet Files\Content.IE5\O5DD2061\MCj03404040000[1].wmf"/>
          <p:cNvPicPr/>
          <p:nvPr/>
        </p:nvPicPr>
        <p:blipFill>
          <a:blip r:embed="rId1"/>
          <a:stretch/>
        </p:blipFill>
        <p:spPr>
          <a:xfrm rot="3247800">
            <a:off x="5865480" y="2417400"/>
            <a:ext cx="2595600" cy="26402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5"/>
          <p:cNvSpPr/>
          <p:nvPr/>
        </p:nvSpPr>
        <p:spPr>
          <a:xfrm rot="20649000">
            <a:off x="6481440" y="30700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6"/>
          <p:cNvSpPr/>
          <p:nvPr/>
        </p:nvSpPr>
        <p:spPr>
          <a:xfrm rot="440400">
            <a:off x="6311520" y="4008600"/>
            <a:ext cx="9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7"/>
          <p:cNvSpPr/>
          <p:nvPr/>
        </p:nvSpPr>
        <p:spPr>
          <a:xfrm>
            <a:off x="7548840" y="2830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728480" y="283068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7957440" y="29829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8135280" y="32115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2"/>
          <p:cNvSpPr/>
          <p:nvPr/>
        </p:nvSpPr>
        <p:spPr>
          <a:xfrm>
            <a:off x="8185680" y="34401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4"/>
          <p:cNvSpPr/>
          <p:nvPr/>
        </p:nvSpPr>
        <p:spPr>
          <a:xfrm>
            <a:off x="8137800" y="38210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5"/>
          <p:cNvSpPr/>
          <p:nvPr/>
        </p:nvSpPr>
        <p:spPr>
          <a:xfrm>
            <a:off x="8211240" y="36687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6"/>
          <p:cNvSpPr/>
          <p:nvPr/>
        </p:nvSpPr>
        <p:spPr>
          <a:xfrm>
            <a:off x="7927560" y="39736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7"/>
          <p:cNvSpPr/>
          <p:nvPr/>
        </p:nvSpPr>
        <p:spPr>
          <a:xfrm>
            <a:off x="7698600" y="404964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8"/>
          <p:cNvSpPr/>
          <p:nvPr/>
        </p:nvSpPr>
        <p:spPr>
          <a:xfrm>
            <a:off x="70102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2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9"/>
          <p:cNvSpPr/>
          <p:nvPr/>
        </p:nvSpPr>
        <p:spPr>
          <a:xfrm>
            <a:off x="4952880" y="53341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</a:rPr>
              <a:t>750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 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3"/>
          <p:cNvSpPr/>
          <p:nvPr/>
        </p:nvSpPr>
        <p:spPr>
          <a:xfrm>
            <a:off x="1143000" y="56386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2,8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4572000" y="6095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$1 billion in total for SFM/REDD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4"/>
          <p:cNvSpPr/>
          <p:nvPr/>
        </p:nvSpPr>
        <p:spPr>
          <a:xfrm>
            <a:off x="5181480" y="56386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1,0 млрд. долл.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одзаголовок 2"/>
          <p:cNvSpPr/>
          <p:nvPr/>
        </p:nvSpPr>
        <p:spPr>
          <a:xfrm>
            <a:off x="533520" y="6397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одзаголовок 2"/>
          <p:cNvSpPr/>
          <p:nvPr/>
        </p:nvSpPr>
        <p:spPr>
          <a:xfrm>
            <a:off x="1293840" y="60958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одзаголовок 2"/>
          <p:cNvSpPr/>
          <p:nvPr/>
        </p:nvSpPr>
        <p:spPr>
          <a:xfrm>
            <a:off x="1262160" y="6299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18Z</dcterms:created>
  <dc:creator>wb350798</dc:creator>
  <dc:description/>
  <dc:language>en-US</dc:language>
  <cp:lastModifiedBy>wb350798</cp:lastModifiedBy>
  <cp:lastPrinted>2011-09-30T08:18:28Z</cp:lastPrinted>
  <dcterms:modified xsi:type="dcterms:W3CDTF">2011-11-01T20:58:30Z</dcterms:modified>
  <cp:revision>55</cp:revision>
  <dc:subject/>
  <dc:title>Focal Area and Cross Cutting Strategies –Sustainable Forest Management</dc:title>
</cp:coreProperties>
</file>