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097-A23F-4054-BAB0-F809E0CF25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68C0-EBDB-423C-93A3-100D65A8CA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1CC0-3E3A-46E3-9610-08C8298FA2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F414-06AC-48BC-973B-FE30ED7454E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B5A7-0B48-46BD-99DC-4A86219A70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F74-CC32-4AAF-85B3-4CFF07436C8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036-5AD8-4146-925C-65BF80E0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5B7-F157-4A48-BFCB-CEA8533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48C-D0A3-4298-B2E9-4305F2FA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A91-85F8-409F-B9AC-4EC7B817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30A-A5B9-40E0-A9BF-87002BF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119-9CFB-4E5C-AC09-1A5A12D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E57-14AE-4BAC-BB32-448C6616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851-EF9D-42F3-9ABE-5C6022CC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DA1-750F-4162-8BCD-0464210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CDF-929E-4C30-83E8-238B8354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428-F448-4142-B535-521D632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BF8-1C96-4B43-92C5-75642A0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91D-FCF1-4236-98F5-AB880500B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ематическая область и межотраслевые стратегии: многосторонняя схема финансирования программы СВОД-плю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, 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зм стимулирующего финансир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ов УОСЛ/СВОД-плюс в рамках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066680"/>
            <a:ext cx="850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ции в рамках не менее двух тематических областей деятельности ГЭФ     (биологическое разнообразие, деградация земель, изменение климата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увеличения комплексных бл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эффициент стимулирова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: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., при выделении 6 млн. долл. США                  на проекты сохранения биологического разнообразия и противодействия изменению клим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лн. долл. США направляется на счет проектов УОСЛ/СВОД-плю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рганизации стимулирующего финансирования необходимо, чтоб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финансирование из системы СТАР составляло не менее 2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симальная сумма финансирования из системы СТАР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учения стимулирующего финансир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30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явки на стимулирующее финансирование могут подавать вс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ны, отвечающие критериям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12682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wb346313\Documents\Pictures\WB_Photos\RW001S18_Francis Dobs.jpg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ГЭФ-5 по обеспечению устойчивого с точки зрения окружающей среды лесопользования (УОСЛ)/СВОД-плю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100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04920" y="14479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мплексных благ в области окружающей среды и социальных благ через финансирование мер по сохранению л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5047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3334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12556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ГЭФ придает большое значение сохранению лесо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72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а создаю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ые блага в сфере окружающей среды и социальные блага в таких областях, ка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 КЛИМА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дление темпов уничтожения тропических лесов дол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гораздо более существенную роль в смягче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ствий изменения клима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РАЗНООБРАЗ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ах живут более 60% всех видов                                                 наземных растений и живо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РАДАЦИЯ ЗЕМЕЛЬ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 обеспечивают источники доходов и жизненно                                                         важные услуги в области окружающей среды для сотен                 миллионов жителей планеты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205740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uscus"/>
          <p:cNvPicPr/>
          <p:nvPr/>
        </p:nvPicPr>
        <p:blipFill>
          <a:blip r:embed="rId3"/>
          <a:stretch/>
        </p:blipFill>
        <p:spPr>
          <a:xfrm>
            <a:off x="6248520" y="312408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erformer29"/>
          <p:cNvPicPr/>
          <p:nvPr/>
        </p:nvPicPr>
        <p:blipFill>
          <a:blip r:embed="rId5"/>
          <a:stretch/>
        </p:blipFill>
        <p:spPr>
          <a:xfrm>
            <a:off x="6781680" y="4876920"/>
            <a:ext cx="1905120" cy="1247760"/>
          </a:xfrm>
          <a:prstGeom prst="rect">
            <a:avLst/>
          </a:prstGeom>
          <a:ln w="0">
            <a:noFill/>
          </a:ln>
        </p:spPr>
      </p:pic>
      <p:sp>
        <p:nvSpPr>
          <p:cNvPr id="68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700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инвестиций ГЭФ в сохранение ле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9907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ЭФ осуществляет финансирование проектов по сохранению лесов с момента своего учреждения в 1991 г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опользование не является отдельной тематической областью деятельности Фонда. До 2006 г. ГЭФ осуществлял поддержку сохранения лесов, главным образо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деятельности по таким тематическим областям, как биологическое разнообразие и деградация земельных ресурсов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2007 г. в рамках ГЭФ-4 была учреждена программа, более известная как Счет для сохранения тропических лес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TFA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F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зервировались средства из бюджетов таких тематических областей, как биологическое разнообразие, изменение климата и деградация земельных ресурсов для финансирования мероприятий по устойчивому лесопользованию в трех важнейших регионах распространения тропических лесов (в бассейне р. Амазонки, в бассейне р. Конго, в Новой Гвинее и на острове Борнео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щей сложности в рамках ГЭФ-4 в мероприятия по сохранению лесов было инвестировано более 40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5479920" y="2664000"/>
            <a:ext cx="3365640" cy="305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6" descr=""/>
          <p:cNvPicPr/>
          <p:nvPr/>
        </p:nvPicPr>
        <p:blipFill>
          <a:blip r:embed="rId3"/>
          <a:stretch/>
        </p:blipFill>
        <p:spPr>
          <a:xfrm>
            <a:off x="298440" y="2889360"/>
            <a:ext cx="4584600" cy="2908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304920" y="1447920"/>
            <a:ext cx="5333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ГЭФ-4 инвестиции в мероприятия по сохранению лесов осуществлялись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ым образом, в рамках одной тематической области  – биологического разнообразия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аким образом, потенциальным комплексным выгодам особое внимание не уделялось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 по сохранению лесов, осуществляемые в рамках ГЭФ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50880" y="3703680"/>
            <a:ext cx="2318760" cy="16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а тематиче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2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3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603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обеспечения УОСЛ/СВОД-плюс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 комплекса благ для окружающей среды через совершенствование системы использования лесов всех тип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– по трем тематическим областям деятельности ГЭФ (биологическое разнообразие, изменение климата, деградация земельных ресурс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а отдельная схема финансирования вне системы прозрачного распределения                                                               ресурсов (СТАР) в целя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стимулирующего                                                                    финансирования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интересованных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540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я группа зада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ение нагрузки на лесные ресурс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беспечение стабильного потока экосистемных услуг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нных с ле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ботка и совершенствование политики лесопользования, нормативно-правовой базы регулирования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ение соблюдения законов о лесе и управления 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LE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 заготовок и произво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ой и прочей продукции, планирование функционального использования лесов и лесополь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тификация лесов и провер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очек поставок лесоматериа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ая сис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упреждения и ликвидации лесных пожар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хо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разрешению конфликтных ситуац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пр., споров по вопросам лесоустройства и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потенциала и экспериментальное внедрение систе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ты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экосистемные услуги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средств экономической 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е, сельскохозяйственные и быто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, способствующие снижению нагрузки на лесные ресурс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ость, замена топл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еп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ей элементов экологических сист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уровне ландшаф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нные и малые лес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129060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я группа задач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крепление благоприятных услов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целях сокращения выбросов парниковых газов (ПГ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обезлесения и деградации лесов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Д-плю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ы на получение прав землепользования и изменения режимов землеполь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пр., планирование потенциала землепользования и связанной                   с этим деятельности; анализ компромиссных вариа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технического и институциональ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а в целях мониторинга и сокращения выбросов П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обезлесения и деградации ле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обование и внедрение подходов, обеспечивающих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ов от торговли квотами на выбросы углерода в атмосфе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1257480" y="62294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хема финансирования проект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ОСЛ/СВОД-плюс в рамках ГЭФ-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838080" y="1828800"/>
            <a:ext cx="2895840" cy="144792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6"/>
          <p:cNvSpPr/>
          <p:nvPr/>
        </p:nvSpPr>
        <p:spPr>
          <a:xfrm>
            <a:off x="838080" y="3429000"/>
            <a:ext cx="289584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Process 7"/>
          <p:cNvSpPr/>
          <p:nvPr/>
        </p:nvSpPr>
        <p:spPr>
          <a:xfrm>
            <a:off x="838080" y="4876920"/>
            <a:ext cx="2895840" cy="68580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Process 8"/>
          <p:cNvSpPr/>
          <p:nvPr/>
        </p:nvSpPr>
        <p:spPr>
          <a:xfrm>
            <a:off x="838080" y="2895480"/>
            <a:ext cx="2895840" cy="3812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ы УОСЛ/СВОД-плю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Process 9"/>
          <p:cNvSpPr/>
          <p:nvPr/>
        </p:nvSpPr>
        <p:spPr>
          <a:xfrm>
            <a:off x="838080" y="4343400"/>
            <a:ext cx="2895840" cy="38088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Process 10"/>
          <p:cNvSpPr/>
          <p:nvPr/>
        </p:nvSpPr>
        <p:spPr>
          <a:xfrm>
            <a:off x="838080" y="5334120"/>
            <a:ext cx="2895840" cy="22860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235520" y="20574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416960" y="3429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262520" y="4881600"/>
            <a:ext cx="1960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градац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ельных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21"/>
          <p:cNvCxnSpPr>
            <a:stCxn id="110" idx="3"/>
          </p:cNvCxnSpPr>
          <p:nvPr/>
        </p:nvCxnSpPr>
        <p:spPr>
          <a:xfrm flipV="1">
            <a:off x="3733560" y="2666160"/>
            <a:ext cx="1067400" cy="4201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7" name="Straight Arrow Connector 23"/>
          <p:cNvCxnSpPr/>
          <p:nvPr/>
        </p:nvCxnSpPr>
        <p:spPr>
          <a:xfrm flipV="1">
            <a:off x="3733560" y="4114440"/>
            <a:ext cx="99108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8" name="Straight Arrow Connector 25"/>
          <p:cNvCxnSpPr>
            <a:stCxn id="112" idx="3"/>
          </p:cNvCxnSpPr>
          <p:nvPr/>
        </p:nvCxnSpPr>
        <p:spPr>
          <a:xfrm flipV="1">
            <a:off x="3733920" y="4876200"/>
            <a:ext cx="121968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19" name="Oval 28"/>
          <p:cNvSpPr/>
          <p:nvPr/>
        </p:nvSpPr>
        <p:spPr>
          <a:xfrm>
            <a:off x="4724280" y="2057400"/>
            <a:ext cx="152424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 rot="16200000">
            <a:off x="4186440" y="3040920"/>
            <a:ext cx="282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спределение средств                  на проекты УОСЛ/СВОД-плюс           по тематическим областям деятельности ГЭФ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865480" y="2417400"/>
            <a:ext cx="2595600" cy="264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5"/>
          <p:cNvSpPr/>
          <p:nvPr/>
        </p:nvSpPr>
        <p:spPr>
          <a:xfrm rot="20649000">
            <a:off x="6481440" y="3070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 rot="440400">
            <a:off x="6311520" y="400860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7"/>
          <p:cNvSpPr/>
          <p:nvPr/>
        </p:nvSpPr>
        <p:spPr>
          <a:xfrm>
            <a:off x="7548840" y="2830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728480" y="28306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957440" y="29829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8135280" y="3211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2"/>
          <p:cNvSpPr/>
          <p:nvPr/>
        </p:nvSpPr>
        <p:spPr>
          <a:xfrm>
            <a:off x="8185680" y="34401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4"/>
          <p:cNvSpPr/>
          <p:nvPr/>
        </p:nvSpPr>
        <p:spPr>
          <a:xfrm>
            <a:off x="8137800" y="38210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5"/>
          <p:cNvSpPr/>
          <p:nvPr/>
        </p:nvSpPr>
        <p:spPr>
          <a:xfrm>
            <a:off x="8211240" y="3668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7927560" y="3973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7698600" y="4049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70102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9"/>
          <p:cNvSpPr/>
          <p:nvPr/>
        </p:nvSpPr>
        <p:spPr>
          <a:xfrm>
            <a:off x="49528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143000" y="5638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,8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572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$1 billion in total for SFM/RED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4"/>
          <p:cNvSpPr/>
          <p:nvPr/>
        </p:nvSpPr>
        <p:spPr>
          <a:xfrm>
            <a:off x="5181480" y="5638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1,0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621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wb350798</cp:lastModifiedBy>
  <cp:lastPrinted>2011-09-30T08:18:28Z</cp:lastPrinted>
  <dcterms:modified xsi:type="dcterms:W3CDTF">2011-11-01T20:58:30Z</dcterms:modified>
  <cp:revision>55</cp:revision>
  <dc:subject/>
  <dc:title>Focal Area and Cross Cutting Strategies –Sustainable Forest Management</dc:title>
</cp:coreProperties>
</file>