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ACDD-4C24-4754-8504-B06415613F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D33D-B5AB-48CF-BB8B-A3EDC03D86B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1CDC-8F16-44B3-BC92-CFA7B72A3C1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GEF/R.5/19/Rev.1  -- revised to deal with some formatt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5F0A-BC4C-47A4-8E87-039E5712E24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otential projects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ional forest policy reformulation, protected area management, capacity building for monitoring GHG emissions from deforestation and forest degradation, certification of timber and non-timber forest produ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B344-89B5-4AFD-8178-B4B366A5C8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11B7-3D41-46DE-BEC9-155369DE14F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E59-77A7-4D53-BA16-05D878E6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F5E-D258-4294-BC84-9E9BE4B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252-CF10-41E5-879E-010F17D3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4BA-69B4-43B8-AA30-8D600824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6B5-5868-4E7E-9888-A0F01C96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7A7-FAA4-4AA7-AA69-8E6930FC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4EE-7517-44D5-979F-9A5D9533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3E1-4DE1-4632-9B54-F6F7CFA9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12E-350B-408E-BACB-7B4F804E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72E-8E16-426C-98E4-4223914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FAC-43C2-45B3-B752-813781E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52F-5D4B-4E82-88CB-C1050AD3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6C16-4575-48FD-A18E-2BE6E627A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diversityhotspots.org/xp/Hotspots/west_africa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ематическая область и межотраслевые стратегии: многосторонняя схема финансирования программы СВОД-плю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Семинар для членов ГЭ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в расширенном соста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3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октяб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, 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ханизм стимулирующего финансирова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ов УОСЛ/СВОД-плюс в рамках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560" y="1066680"/>
            <a:ext cx="850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ции в рамках не менее двух тематических областей деятельности ГЭФ     (биологическое разнообразие, деградация земель, изменение климата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лях увеличения комплексных бл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эффициент стимулирова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: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., при выделении 6 млн. долл. США                  на проекты сохранения биологического разнообразия и противодействия изменению клим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млн. долл. США направляется на счет проектов УОСЛ/СВОД-плю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рганизации стимулирующего финансирования необходимо, чтоб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финансирование из системы СТАР составляло не менее 2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симальная сумма финансирования из системы СТАР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лучения стимулирующего финансирова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30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явки на стимулирующее финансирование могут подавать вс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ны, отвечающие критериям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12682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wb346313\Documents\Pictures\WB_Photos\RW001S18_Francis Dobs.jpg"/>
          <p:cNvPicPr/>
          <p:nvPr/>
        </p:nvPicPr>
        <p:blipFill>
          <a:blip r:embed="rId2"/>
          <a:stretch/>
        </p:blipFill>
        <p:spPr>
          <a:xfrm>
            <a:off x="2286000" y="2895480"/>
            <a:ext cx="4267080" cy="2737080"/>
          </a:xfrm>
          <a:prstGeom prst="rect">
            <a:avLst/>
          </a:prstGeom>
          <a:ln w="0">
            <a:noFill/>
          </a:ln>
        </p:spPr>
      </p:pic>
      <p:sp>
        <p:nvSpPr>
          <p:cNvPr id="151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ГЭФ-5 по обеспечению устойчивого с точки зрения окружающей среды лесопользования (УОСЛ)/СВОД-плю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24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342900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1008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04920" y="14479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мплексных благ в области окружающей среды и социальных благ через финансирование мер по сохранению л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5047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3334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12556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ГЭФ придает большое значение сохранению лесо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990720"/>
            <a:ext cx="850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а создаю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ные блага в сфере окружающей среды и социальные блага в таких областях, ка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МЕНЕНИЕ  КЛИМАТ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дление темпов уничтожения тропических лесов долж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ть гораздо более существенную роль в смягчен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ствий изменения клима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РАЗНООБРАЗ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ах живут более 60% всех видов                                                 наземных растений и животны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РАДАЦИЯ ЗЕМЕЛЬ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 обеспечивают источники доходов и жизненно                                                         важные услуги в области окружающей среды для сотен                 миллионов жителей планеты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p_guinean_fores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2057400"/>
            <a:ext cx="11365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uscus"/>
          <p:cNvPicPr/>
          <p:nvPr/>
        </p:nvPicPr>
        <p:blipFill>
          <a:blip r:embed="rId3"/>
          <a:stretch/>
        </p:blipFill>
        <p:spPr>
          <a:xfrm>
            <a:off x="6248520" y="3124080"/>
            <a:ext cx="1365120" cy="16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erformer29"/>
          <p:cNvPicPr/>
          <p:nvPr/>
        </p:nvPicPr>
        <p:blipFill>
          <a:blip r:embed="rId5"/>
          <a:stretch/>
        </p:blipFill>
        <p:spPr>
          <a:xfrm>
            <a:off x="6781680" y="4876920"/>
            <a:ext cx="1905120" cy="1247760"/>
          </a:xfrm>
          <a:prstGeom prst="rect">
            <a:avLst/>
          </a:prstGeom>
          <a:ln w="0">
            <a:noFill/>
          </a:ln>
        </p:spPr>
      </p:pic>
      <p:sp>
        <p:nvSpPr>
          <p:cNvPr id="68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2700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инвестиций ГЭФ в сохранение ле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9907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ЭФ осуществляет финансирование проектов по сохранению лесов с момента своего учреждения в 1991 го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опользование не является отдельной тематической областью деятельности Фонда. До 2006 г. ГЭФ осуществлял поддержку сохранения лесов, главным образо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деятельности по таким тематическим областям, как биологическое разнообразие и деградация земельных ресурсов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юне 2007 г. в рамках ГЭФ-4 была учреждена программа, более известная как Счет для сохранения тропических лес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TFA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F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зервировались средства из бюджетов таких тематических областей, как биологическое разнообразие, изменение климата и деградация земельных ресурсов для финансирования мероприятий по устойчивому лесопользованию в трех важнейших регионах распространения тропических лесов (в бассейне р. Амазонки, в бассейне р. Конго, в Новой Гвинее и на острове Борнео)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щей сложности в рамках ГЭФ-4 в мероприятия по сохранению лесов было инвестировано более 400 млн. долл. СШ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4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5" descr=""/>
          <p:cNvPicPr/>
          <p:nvPr/>
        </p:nvPicPr>
        <p:blipFill>
          <a:blip r:embed="rId1"/>
          <a:stretch/>
        </p:blipFill>
        <p:spPr>
          <a:xfrm>
            <a:off x="5479920" y="2664000"/>
            <a:ext cx="3365640" cy="305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6" descr=""/>
          <p:cNvPicPr/>
          <p:nvPr/>
        </p:nvPicPr>
        <p:blipFill>
          <a:blip r:embed="rId3"/>
          <a:stretch/>
        </p:blipFill>
        <p:spPr>
          <a:xfrm>
            <a:off x="298440" y="2889360"/>
            <a:ext cx="4584600" cy="2908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304920" y="1447920"/>
            <a:ext cx="5333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ГЭФ-4 инвестиции в мероприятия по сохранению лесов осуществлялись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вным образом, в рамках одной тематической области  – биологического разнообразия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аким образом, потенциальным комплексным выгодам особое внимание не уделялось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роектов по сохранению лесов, осуществляемые в рамках ГЭФ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350880" y="3703680"/>
            <a:ext cx="2318760" cy="16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а тематиче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2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3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12603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обеспечения УОСЛ/СВОД-плюс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е комплекса благ для окружающей среды через совершенствование системы использования лесов всех тип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– по трем тематическим областям деятельности ГЭФ (биологическое разнообразие, изменение климата, деградация земельных ресурс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а отдельная схема финансирования вне системы прозрачного распределения                                                               ресурсов (СТАР) в целя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 стимулирующего                                                                    финансирования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интересованных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wb346313\Documents\Pictures\indonesia_boy_fuelwood_crop.jpg"/>
          <p:cNvPicPr/>
          <p:nvPr/>
        </p:nvPicPr>
        <p:blipFill>
          <a:blip r:embed="rId2"/>
          <a:stretch/>
        </p:blipFill>
        <p:spPr>
          <a:xfrm>
            <a:off x="5029200" y="4038480"/>
            <a:ext cx="305748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126540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я группа зада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жение нагрузки на лесные ресурс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обеспечение стабильного потока экосистемных услуг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анных с лес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работка и совершенствование политики лесопользования, нормативно-правовой базы регулирования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еспечение соблюдения законов о лесе и управления 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LEG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 заготовок и произво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сной и прочей продукции, планирование функционального использования лесов и лесопольз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тификация лесов и провер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почек поставок лесоматериал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ая систем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упреждения и ликвидации лесных пожар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ход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 разрешению конфликтных ситуац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пр., споров по вопросам лесоустройства и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е потенциала и экспериментальное внедрение систем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ты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 экосистемные услуги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дрение средств экономической оц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е, сельскохозяйственные и быто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, способствующие снижению нагрузки на лесные ресурс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оэффективность, замена топл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репл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ей элементов экологических сист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уровне ландшафт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инные и малые лесные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дзаголовок 2"/>
          <p:cNvSpPr/>
          <p:nvPr/>
        </p:nvSpPr>
        <p:spPr>
          <a:xfrm>
            <a:off x="129060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я группа задач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крепление благоприятных услов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целях сокращения выбросов парниковых газов (ПГ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езультате обезлесения и деградации лесов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Д-плю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ы на получение прав землепользования и изменения режимов землеполь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апр., планирование потенциала землепользования и связанной                   с этим деятельности; анализ компромиссных вариа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технического и институциональ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ала в целях мониторинга и сокращения выбросов П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обезлесения и деградации ле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обование и внедрение подходов, обеспечивающих пол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ов от торговли квотами на выбросы углерода в атмосфер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1257480" y="622944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хема финансирования проект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УОСЛ/СВОД-плюс в рамках ГЭФ-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lowchart: Process 3"/>
          <p:cNvSpPr/>
          <p:nvPr/>
        </p:nvSpPr>
        <p:spPr>
          <a:xfrm>
            <a:off x="838080" y="1828800"/>
            <a:ext cx="2895840" cy="1447920"/>
          </a:xfrm>
          <a:prstGeom prst="flowChartProcess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Process 6"/>
          <p:cNvSpPr/>
          <p:nvPr/>
        </p:nvSpPr>
        <p:spPr>
          <a:xfrm>
            <a:off x="838080" y="3429000"/>
            <a:ext cx="2895840" cy="129528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owchart: Process 7"/>
          <p:cNvSpPr/>
          <p:nvPr/>
        </p:nvSpPr>
        <p:spPr>
          <a:xfrm>
            <a:off x="838080" y="4876920"/>
            <a:ext cx="2895840" cy="685800"/>
          </a:xfrm>
          <a:prstGeom prst="flowChartProcess">
            <a:avLst/>
          </a:prstGeom>
          <a:solidFill>
            <a:srgbClr val="cf45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owchart: Process 8"/>
          <p:cNvSpPr/>
          <p:nvPr/>
        </p:nvSpPr>
        <p:spPr>
          <a:xfrm>
            <a:off x="838080" y="2895480"/>
            <a:ext cx="2895840" cy="381240"/>
          </a:xfrm>
          <a:prstGeom prst="flowChartProcess">
            <a:avLst/>
          </a:prstGeom>
          <a:solidFill>
            <a:srgbClr val="00b050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ы УОСЛ/СВОД-плю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Process 9"/>
          <p:cNvSpPr/>
          <p:nvPr/>
        </p:nvSpPr>
        <p:spPr>
          <a:xfrm>
            <a:off x="838080" y="4343400"/>
            <a:ext cx="2895840" cy="38088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owchart: Process 10"/>
          <p:cNvSpPr/>
          <p:nvPr/>
        </p:nvSpPr>
        <p:spPr>
          <a:xfrm>
            <a:off x="838080" y="5334120"/>
            <a:ext cx="2895840" cy="22860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1235520" y="20574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1416960" y="34290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262520" y="4881600"/>
            <a:ext cx="1960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градац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емельных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21"/>
          <p:cNvCxnSpPr>
            <a:stCxn id="110" idx="3"/>
          </p:cNvCxnSpPr>
          <p:nvPr/>
        </p:nvCxnSpPr>
        <p:spPr>
          <a:xfrm flipV="1">
            <a:off x="3733560" y="2666160"/>
            <a:ext cx="1067400" cy="4201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7" name="Straight Arrow Connector 23"/>
          <p:cNvCxnSpPr/>
          <p:nvPr/>
        </p:nvCxnSpPr>
        <p:spPr>
          <a:xfrm flipV="1">
            <a:off x="3733560" y="4114440"/>
            <a:ext cx="991080" cy="4579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8" name="Straight Arrow Connector 25"/>
          <p:cNvCxnSpPr>
            <a:stCxn id="112" idx="3"/>
          </p:cNvCxnSpPr>
          <p:nvPr/>
        </p:nvCxnSpPr>
        <p:spPr>
          <a:xfrm flipV="1">
            <a:off x="3733920" y="4876200"/>
            <a:ext cx="1219680" cy="5720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19" name="Oval 28"/>
          <p:cNvSpPr/>
          <p:nvPr/>
        </p:nvSpPr>
        <p:spPr>
          <a:xfrm>
            <a:off x="4724280" y="2057400"/>
            <a:ext cx="1524240" cy="3200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1"/>
          <p:cNvSpPr/>
          <p:nvPr/>
        </p:nvSpPr>
        <p:spPr>
          <a:xfrm rot="16200000">
            <a:off x="4186440" y="3040920"/>
            <a:ext cx="2820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спределение средств                  на проекты УОСЛ/СВОД-плюс           по тематическим областям деятельности ГЭФ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C:\Users\wb346313\AppData\Local\Microsoft\Windows\Temporary Internet Files\Content.IE5\O5DD2061\MCj03404040000[1].wmf"/>
          <p:cNvPicPr/>
          <p:nvPr/>
        </p:nvPicPr>
        <p:blipFill>
          <a:blip r:embed="rId1"/>
          <a:stretch/>
        </p:blipFill>
        <p:spPr>
          <a:xfrm rot="3247800">
            <a:off x="5865480" y="2417400"/>
            <a:ext cx="2595600" cy="26402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5"/>
          <p:cNvSpPr/>
          <p:nvPr/>
        </p:nvSpPr>
        <p:spPr>
          <a:xfrm rot="20649000">
            <a:off x="6481440" y="30700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6"/>
          <p:cNvSpPr/>
          <p:nvPr/>
        </p:nvSpPr>
        <p:spPr>
          <a:xfrm rot="440400">
            <a:off x="6311520" y="400860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7"/>
          <p:cNvSpPr/>
          <p:nvPr/>
        </p:nvSpPr>
        <p:spPr>
          <a:xfrm>
            <a:off x="7548840" y="2830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7728480" y="283068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7957440" y="29829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8135280" y="32115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2"/>
          <p:cNvSpPr/>
          <p:nvPr/>
        </p:nvSpPr>
        <p:spPr>
          <a:xfrm>
            <a:off x="8185680" y="34401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4"/>
          <p:cNvSpPr/>
          <p:nvPr/>
        </p:nvSpPr>
        <p:spPr>
          <a:xfrm>
            <a:off x="8137800" y="38210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5"/>
          <p:cNvSpPr/>
          <p:nvPr/>
        </p:nvSpPr>
        <p:spPr>
          <a:xfrm>
            <a:off x="8211240" y="3668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6"/>
          <p:cNvSpPr/>
          <p:nvPr/>
        </p:nvSpPr>
        <p:spPr>
          <a:xfrm>
            <a:off x="7927560" y="3973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7"/>
          <p:cNvSpPr/>
          <p:nvPr/>
        </p:nvSpPr>
        <p:spPr>
          <a:xfrm>
            <a:off x="7698600" y="4049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8"/>
          <p:cNvSpPr/>
          <p:nvPr/>
        </p:nvSpPr>
        <p:spPr>
          <a:xfrm>
            <a:off x="70102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2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9"/>
          <p:cNvSpPr/>
          <p:nvPr/>
        </p:nvSpPr>
        <p:spPr>
          <a:xfrm>
            <a:off x="49528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7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143000" y="5638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,8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457200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$1 billion in total for SFM/RED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4"/>
          <p:cNvSpPr/>
          <p:nvPr/>
        </p:nvSpPr>
        <p:spPr>
          <a:xfrm>
            <a:off x="5181480" y="5638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1,0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дзаголовок 2"/>
          <p:cNvSpPr/>
          <p:nvPr/>
        </p:nvSpPr>
        <p:spPr>
          <a:xfrm>
            <a:off x="12621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18Z</dcterms:created>
  <dc:creator>wb350798</dc:creator>
  <dc:description/>
  <dc:language>en-US</dc:language>
  <cp:lastModifiedBy>wb350798</cp:lastModifiedBy>
  <cp:lastPrinted>2011-09-30T08:18:28Z</cp:lastPrinted>
  <dcterms:modified xsi:type="dcterms:W3CDTF">2011-11-01T20:58:30Z</dcterms:modified>
  <cp:revision>55</cp:revision>
  <dc:subject/>
  <dc:title>Focal Area and Cross Cutting Strategies –Sustainable Forest Management</dc:title>
</cp:coreProperties>
</file>