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D278-D266-4EAE-BCF9-56B2B6E83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46D8-8F11-4A9A-8CFF-53016B105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D4D5-8BAE-478D-906B-9768B2850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AA58-514C-4A3C-AB18-ED9FDAA02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9520" y="70164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594-424E-4AB5-8CB0-FCD10FCF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8AE-095D-4810-9C20-E686D432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1F52-2633-440E-8617-26E97532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47B-F1BF-4BEC-A938-CD20458D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435-C516-4BC0-A5D8-B9EC991A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1DD-D482-4A09-8895-6AA9EA68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4EA-4269-4614-819E-0612AEC8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1B5-5974-41BD-8003-9CFB8B13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E99-8272-4588-A88A-B0E97F8C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DBC-89E8-4919-80EE-E2F49C1B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A89B-71F4-4934-9AC5-8655AA68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9DB-A0A3-49DE-885B-D3CFFD43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EDC3-575E-4B1B-98C7-112F89378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Climate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Expanded Constituency Worksh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27-29 Sept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Honiara, Solomon I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alibri"/>
              </a:rPr>
              <a:t>GEF-5 Support for NA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106632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Identify long-range emission scenari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U, sectoral crediting baseline, ambitious targ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Identify mitigation opportunities and cos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 hanging fruits achieved by unilateral efforts, plus opportunities which may need additional international financing and sup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Develop MRV methodologies to be applied to one/several sectors and pilot MRV activ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Optional component: pilot testing of sectoral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7" name="Right Brace 4"/>
          <p:cNvSpPr/>
          <p:nvPr/>
        </p:nvSpPr>
        <p:spPr>
          <a:xfrm>
            <a:off x="6858000" y="1295280"/>
            <a:ext cx="228600" cy="24386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2438640"/>
              <a:gd name="textAreaBottom" fmla="*/ 24328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"/>
                  <a:pt x="10800" y="169"/>
                </a:cubicBezTo>
                <a:lnTo>
                  <a:pt x="10800" y="10631"/>
                </a:lnTo>
                <a:cubicBezTo>
                  <a:pt x="10800" y="10716"/>
                  <a:pt x="16200" y="10800"/>
                  <a:pt x="21600" y="10800"/>
                </a:cubicBezTo>
                <a:cubicBezTo>
                  <a:pt x="16200" y="10800"/>
                  <a:pt x="10800" y="10885"/>
                  <a:pt x="10800" y="10969"/>
                </a:cubicBezTo>
                <a:lnTo>
                  <a:pt x="10800" y="21431"/>
                </a:lnTo>
                <a:cubicBezTo>
                  <a:pt x="10800" y="215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bbb5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7162920" y="1752480"/>
            <a:ext cx="1828800" cy="11430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sic steps towards NA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iped Right Arrow 7"/>
          <p:cNvSpPr/>
          <p:nvPr/>
        </p:nvSpPr>
        <p:spPr>
          <a:xfrm rot="5400000">
            <a:off x="3543120" y="4381200"/>
            <a:ext cx="228600" cy="152640"/>
          </a:xfrm>
          <a:custGeom>
            <a:avLst/>
            <a:gdLst>
              <a:gd name="textAreaLeft" fmla="*/ 23760 w 228600"/>
              <a:gd name="textAreaRight" fmla="*/ 190800 w 228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38100"/>
                </a:moveTo>
                <a:lnTo>
                  <a:pt x="4763" y="38100"/>
                </a:lnTo>
                <a:lnTo>
                  <a:pt x="4763" y="114300"/>
                </a:lnTo>
                <a:lnTo>
                  <a:pt x="0" y="114300"/>
                </a:lnTo>
                <a:close/>
                <a:moveTo>
                  <a:pt x="9525" y="38100"/>
                </a:moveTo>
                <a:lnTo>
                  <a:pt x="19050" y="38100"/>
                </a:lnTo>
                <a:lnTo>
                  <a:pt x="19050" y="114300"/>
                </a:lnTo>
                <a:lnTo>
                  <a:pt x="9525" y="114300"/>
                </a:lnTo>
                <a:close/>
                <a:moveTo>
                  <a:pt x="23812" y="38100"/>
                </a:moveTo>
                <a:lnTo>
                  <a:pt x="152400" y="38100"/>
                </a:lnTo>
                <a:lnTo>
                  <a:pt x="152400" y="0"/>
                </a:lnTo>
                <a:lnTo>
                  <a:pt x="228600" y="76200"/>
                </a:lnTo>
                <a:lnTo>
                  <a:pt x="152400" y="152400"/>
                </a:lnTo>
                <a:lnTo>
                  <a:pt x="152400" y="114300"/>
                </a:lnTo>
                <a:lnTo>
                  <a:pt x="23812" y="1143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lowchart: Process 8"/>
          <p:cNvSpPr/>
          <p:nvPr/>
        </p:nvSpPr>
        <p:spPr>
          <a:xfrm>
            <a:off x="685800" y="4648320"/>
            <a:ext cx="7010280" cy="1143000"/>
          </a:xfrm>
          <a:prstGeom prst="flowChart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MA development could focus on specific sector/sectors,  facilitating the development of sectoral goals and funding propos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lot testing could also serve as an entry point to potential future carbon finance, i.e.,  sectoral credit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iding Principles for GEF-5 Strateg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2949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onsiveness to Convention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ation of national circumstances of recipient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-effectiveness in achieving global environmental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 Strategic Objectives for Climate Change Mitig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Nikki-Sa_0.tmp"/>
          <p:cNvPicPr/>
          <p:nvPr/>
        </p:nvPicPr>
        <p:blipFill>
          <a:blip r:embed="rId2"/>
          <a:stretch/>
        </p:blipFill>
        <p:spPr>
          <a:xfrm>
            <a:off x="2057400" y="2971800"/>
            <a:ext cx="525780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ion, deployment, and transfer of innovative low-carbon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novative technologies are targeted, but also priority technologies that are commercially available but have not been adopted in their market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echnical assistance for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reating enabling policy environment for tech transfer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stablishment of tech transfer mechanis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-S and S-S co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urchase of licen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ilot investme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velopment of local capacity to adapt exogenous technologies to local conditions and technology integ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7" descr="C:\Users\wb329858\Desktop\20101111 South Africa - Wind\IMG_777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2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 transformation for energy efficiency in industry and the building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ustrial sector: energy efficient technologies and pract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ildings: residential, commercial, and public buildings, both new and retrofitting; building envelope and energy-using systems are cov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lar energy and shallow ground thermal capacity for heating and coo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support phase-out of HCFCs used in industry and build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bination of TA on policy, regulation, and capacity building; financing mechanisms; and pilo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43894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3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ment in renewable energy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n-grid renewable energy program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centralized production of electric power  and the use of indigenous renewable sour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hancement of technical capacities of SMEs to provide installation, operation, and maintenance services for RETs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hane recovery from biomass wastes for power generation or heat production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ustainable production of biomass for biofue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mbination of TA for policy and regulatory support, capacity building, and establishing financing mechanisms for investment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572000" y="3056040"/>
            <a:ext cx="4495680" cy="16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4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efficient, low-carbon transport and urban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2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tegration of transport, energy, water, and housing sector activit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ddress local air pollution and traffic conges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A in transport and urban planning, development of innovative financing mechanisms, awareness campaigns, and investments in high-performance technolog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reater attention to measuring and quantifying GEB (GEF-STAP manual for calculating GHG benefits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4038480" cy="27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5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 and enhancement of carbon stocks through sustainable management of land use and fore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560" y="18284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hance, restore and manage carbon stocks and storage on forest and non-forest land (including peat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duce emissions of carbon stoc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ctivities include: good practice demonstrations, establishment of national C monitoring systems, strengthen policies and institution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nked to Sustainable Forest Management/ REDD+ incentive mechanism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7944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6: Enabling activities and capacit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of National Communications  by non-Annex I Pa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and updating of TNAs especially for countries that did not receive support for TNAs during GEF-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ject to future COP guidance, the GEF may finance activities to support capacity development and implementation of Article 6 of the Convention on education, training, and public awar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EF can play a role in the emerging carbon mar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arbon finance set-aside is available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P Mandate to GEF on Technology Transf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66680" y="152352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nan Strategic Program on Technology Transfer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P decision 2/CP.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 for Technology Needs Assess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for Technology Transfer Pilo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semination of successfully demonstrated technologies and know-h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4.3 billion total (six focal are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1.4 billion for climate change miti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Foundry in China supported by GEF to improve EE.jpg"/>
          <p:cNvPicPr/>
          <p:nvPr/>
        </p:nvPicPr>
        <p:blipFill>
          <a:blip r:embed="rId2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6:52Z</dcterms:created>
  <dc:creator>wb350798</dc:creator>
  <dc:description/>
  <dc:language>en-US</dc:language>
  <cp:lastModifiedBy>wb350798</cp:lastModifiedBy>
  <dcterms:modified xsi:type="dcterms:W3CDTF">2011-11-01T18:16:52Z</dcterms:modified>
  <cp:revision>107</cp:revision>
  <dc:subject/>
  <dc:title>Focal Area and Cross Cutting Strategies – Climate Change</dc:title>
</cp:coreProperties>
</file>