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91F2-85D1-4A75-990D-E1927A14A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6C4F-BDE8-4DC9-8D6E-CF9FE6191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A09F-A8A2-4F75-AC82-4D9A95E69D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AE5F-B523-4BC4-A949-A82510E9D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9520" y="70164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141-E4EF-4C17-9F58-131A9B64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A1A-0F0F-42C3-8827-61C907F6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D21A-1A81-464F-A4F1-D46AA552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AD1-D030-4D43-80D3-8B96140A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3FA-9CD7-4A95-86FF-8D7CE616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F08-99E7-44F1-B396-9E397625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E1E-B271-4E5E-969A-F38D6CF2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D03-D199-4F1D-885D-DB6CEA26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C8B1-5A1A-4DCC-AE7B-2A1625E6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DAE-FAF5-4E02-AAB6-4F1B600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830-476D-45D5-A0CF-855F7731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20B-1F39-4C1C-B02F-DA52FEDA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BDA7-92E5-4D0E-905D-1A727A789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Climate 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60020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27-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Calibri"/>
                <a:ea typeface="Arial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642d"/>
                </a:solidFill>
                <a:latin typeface="Calibri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GEF-5 Support for NA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0663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Identify long-range emission scenari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U, sectoral crediting baseline, ambitious targ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Identify mitigation opportunities and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68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hanging fruits achieved by unilateral efforts, plus opportunities which may need additional international financing and su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Develop MRV methodologies to be applied to one/several sectors and pilot MRV activ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Optional component: pilot testing of sectoral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7" name="Right Brace 4"/>
          <p:cNvSpPr/>
          <p:nvPr/>
        </p:nvSpPr>
        <p:spPr>
          <a:xfrm>
            <a:off x="6858000" y="1295280"/>
            <a:ext cx="228600" cy="24386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2438640"/>
              <a:gd name="textAreaBottom" fmla="*/ 24328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"/>
                  <a:pt x="10800" y="169"/>
                </a:cubicBezTo>
                <a:lnTo>
                  <a:pt x="10800" y="10631"/>
                </a:lnTo>
                <a:cubicBezTo>
                  <a:pt x="10800" y="10716"/>
                  <a:pt x="16200" y="10800"/>
                  <a:pt x="21600" y="10800"/>
                </a:cubicBezTo>
                <a:cubicBezTo>
                  <a:pt x="16200" y="10800"/>
                  <a:pt x="10800" y="10885"/>
                  <a:pt x="10800" y="10969"/>
                </a:cubicBezTo>
                <a:lnTo>
                  <a:pt x="10800" y="21431"/>
                </a:lnTo>
                <a:cubicBezTo>
                  <a:pt x="10800" y="215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bbb5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7162920" y="1752480"/>
            <a:ext cx="1828800" cy="11430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sic steps towards NAM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iped Right Arrow 7"/>
          <p:cNvSpPr/>
          <p:nvPr/>
        </p:nvSpPr>
        <p:spPr>
          <a:xfrm rot="5400000">
            <a:off x="3543120" y="4381200"/>
            <a:ext cx="228600" cy="152640"/>
          </a:xfrm>
          <a:custGeom>
            <a:avLst/>
            <a:gdLst>
              <a:gd name="textAreaLeft" fmla="*/ 23760 w 228600"/>
              <a:gd name="textAreaRight" fmla="*/ 190800 w 2286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28600" h="152400">
                <a:moveTo>
                  <a:pt x="0" y="38100"/>
                </a:moveTo>
                <a:lnTo>
                  <a:pt x="4763" y="38100"/>
                </a:lnTo>
                <a:lnTo>
                  <a:pt x="4763" y="114300"/>
                </a:lnTo>
                <a:lnTo>
                  <a:pt x="0" y="114300"/>
                </a:lnTo>
                <a:close/>
                <a:moveTo>
                  <a:pt x="9525" y="38100"/>
                </a:moveTo>
                <a:lnTo>
                  <a:pt x="19050" y="38100"/>
                </a:lnTo>
                <a:lnTo>
                  <a:pt x="19050" y="114300"/>
                </a:lnTo>
                <a:lnTo>
                  <a:pt x="9525" y="114300"/>
                </a:lnTo>
                <a:close/>
                <a:moveTo>
                  <a:pt x="23812" y="38100"/>
                </a:moveTo>
                <a:lnTo>
                  <a:pt x="152400" y="38100"/>
                </a:lnTo>
                <a:lnTo>
                  <a:pt x="152400" y="0"/>
                </a:lnTo>
                <a:lnTo>
                  <a:pt x="228600" y="76200"/>
                </a:lnTo>
                <a:lnTo>
                  <a:pt x="152400" y="152400"/>
                </a:lnTo>
                <a:lnTo>
                  <a:pt x="152400" y="114300"/>
                </a:lnTo>
                <a:lnTo>
                  <a:pt x="23812" y="1143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lowchart: Process 8"/>
          <p:cNvSpPr/>
          <p:nvPr/>
        </p:nvSpPr>
        <p:spPr>
          <a:xfrm>
            <a:off x="685800" y="4648320"/>
            <a:ext cx="7010280" cy="1143000"/>
          </a:xfrm>
          <a:prstGeom prst="flowChart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7280" indent="-2872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AMA development could focus on specific sector/sectors,  facilitating the development of sectoral goals and funding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lot testing could also serve as an entry point to potential future carbon finance, i.e.,  sectoral credi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uiding Principles for GEF-5 Strateg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2949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iveness to Convention guid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ation of national circumstances of recipient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-effectiveness in achieving global environmental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 Strategic Objectives for Climate Change Mitig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Nikki-Sa_0.tmp"/>
          <p:cNvPicPr/>
          <p:nvPr/>
        </p:nvPicPr>
        <p:blipFill>
          <a:blip r:embed="rId2"/>
          <a:stretch/>
        </p:blipFill>
        <p:spPr>
          <a:xfrm>
            <a:off x="2057400" y="2971800"/>
            <a:ext cx="5257800" cy="2886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1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ion, deployment, and transfer of innovative low-carbon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novative technologies are targeted, but also priority technologies that are commercially available but have not been adopted in their market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echnical assistance for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reating enabling policy environment for tech transf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stablishment of tech transfer mechanis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-S and S-S co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urchase of licen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ilot investme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velopment of local capacity to adapt exogenous technologies to local conditions and technology integ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7" descr="C:\Users\wb329858\Desktop\20101111 South Africa - Wind\IMG_7774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2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 transformation for energy efficiency in industry and the building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ustrial sector: energy efficient technologies and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ildings: residential, commercial, and public buildings, both new and retrofitting; building envelope and energy-using systems are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lar energy and shallow ground thermal capacity for heating and coo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support phase-out of HCFCs used in industry and build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ation of TA on policy, regulation, and capacity building; financing mechanisms; and pilo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4495680" y="2514600"/>
            <a:ext cx="43894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3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estment in renewable energy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-grid renewable energy program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centralized production of electric power  and the use of indigenous renewable sour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hancement of technical capacities of SMEs to provide installation, operation, and maintenance services for RET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ethane recovery from biomass wastes for power generation or heat production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stainable production of biomass for biofu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mbination of TA for policy and regulatory support, capacity building, and establishing financing mechanisms for investmen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572000" y="3056040"/>
            <a:ext cx="4495680" cy="16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4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efficient, low-carbon transport and urban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712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tegration of transport, energy, water, and housing sector activi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ddress local air pollution and traffic conges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A in transport and urban planning, development of innovative financing mechanisms, awareness campaigns, and investments in high-performance technolog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Greater attention to measuring and quantifying GEB (GEF-STAP manual for calculating GHG benefits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4038480" cy="27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5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 and enhancement of carbon stocks through sustainable management of land use and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82844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nhance, restore and manage carbon stocks and storage on forest and non-forest land (including peat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duce emissions of carbon stock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tivities include: good practice demonstrations, establishment of national C monitoring systems, strengthen policies and institutions, etc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inked to Sustainable Forest Management/ REDD+ incentive mechanis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794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6: Enabling activities and capacity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40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of National Communications  by non-Annex I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paration and updating of TNAs especially for countries that did not receive support for TNAs during GEF-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future COP guidance, the GEF may finance activities to support capacity development and implementation of Article 6 of the Convention on education, training, and public awar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EF can play a role in the emerging carbon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arbon finance set-aside is available 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P Mandate to GEF on Technology Transf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66680" y="152352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znan Strategic Program on Technology Transfe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P decision 2/CP.1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 for Technology Needs Assess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for Technology Transfer Pilo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semination of successfully demonstrated technologies and know-h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-5 replenish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4.3 billion total (six focal are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1.4 billion for climate change 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Foundry in China supported by GEF to improve EE.jpg"/>
          <p:cNvPicPr/>
          <p:nvPr/>
        </p:nvPicPr>
        <p:blipFill>
          <a:blip r:embed="rId2"/>
          <a:stretch/>
        </p:blipFill>
        <p:spPr>
          <a:xfrm>
            <a:off x="6781680" y="2895480"/>
            <a:ext cx="21592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6781680" y="1295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6781680" y="4492800"/>
            <a:ext cx="21337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6:52Z</dcterms:created>
  <dc:creator>wb350798</dc:creator>
  <dc:description/>
  <dc:language>en-US</dc:language>
  <cp:lastModifiedBy>wb350798</cp:lastModifiedBy>
  <dcterms:modified xsi:type="dcterms:W3CDTF">2011-11-01T18:16:52Z</dcterms:modified>
  <cp:revision>107</cp:revision>
  <dc:subject/>
  <dc:title>Focal Area and Cross Cutting Strategies – Climate Change</dc:title>
</cp:coreProperties>
</file>