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C91-3E35-450D-9EA5-41AFACAA4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83B5-1CF1-4C6F-8B2B-2D58C5E5B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47BF-BB94-40CD-92D8-D15AC982F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5D46-3387-496F-8F5B-7FC445B88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9520" y="70164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14A-5A92-4850-84C8-0CEA2010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63D-99DC-46AF-8289-11CF966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40B-4FAC-48BF-B632-C118CA24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0A7-DCD5-4657-BAFC-89CE3DD1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4A2-1F1A-4C57-A831-9925551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101-1DA0-4415-A8E2-65FB385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E6B-1B85-4CD8-9EFF-0272274F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E4B-2D87-4069-9932-C5EA7DB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176-E515-4EE5-AE50-A496209F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A85-6676-4CD2-99C0-9908DC4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44E-EA61-4713-A0E7-FEEC86F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147-E74B-49A7-87C7-52CD8FA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88E-BFE2-40FF-A8AB-9974B0026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27-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GEF-5 Support for N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0663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long-range emission scenari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U, sectoral crediting baseline, ambitious targ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mitigation opportunities and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hanging fruits achieved by unilateral efforts, plus opportunities which may need additional international financing and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evelop MRV methodologies to be applied to one/several sectors and pilot MRV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ptional component: pilot testing of sectoral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Right Brace 4"/>
          <p:cNvSpPr/>
          <p:nvPr/>
        </p:nvSpPr>
        <p:spPr>
          <a:xfrm>
            <a:off x="6858000" y="1295280"/>
            <a:ext cx="228600" cy="24386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438640"/>
              <a:gd name="textAreaBottom" fmla="*/ 24328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162920" y="1752480"/>
            <a:ext cx="18288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steps towards NA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iped Right Arrow 7"/>
          <p:cNvSpPr/>
          <p:nvPr/>
        </p:nvSpPr>
        <p:spPr>
          <a:xfrm rot="5400000">
            <a:off x="3543120" y="4381200"/>
            <a:ext cx="228600" cy="152640"/>
          </a:xfrm>
          <a:custGeom>
            <a:avLst/>
            <a:gdLst>
              <a:gd name="textAreaLeft" fmla="*/ 23760 w 228600"/>
              <a:gd name="textAreaRight" fmla="*/ 19080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38100"/>
                </a:moveTo>
                <a:lnTo>
                  <a:pt x="4763" y="38100"/>
                </a:lnTo>
                <a:lnTo>
                  <a:pt x="4763" y="114300"/>
                </a:lnTo>
                <a:lnTo>
                  <a:pt x="0" y="114300"/>
                </a:lnTo>
                <a:close/>
                <a:moveTo>
                  <a:pt x="9525" y="38100"/>
                </a:moveTo>
                <a:lnTo>
                  <a:pt x="19050" y="38100"/>
                </a:lnTo>
                <a:lnTo>
                  <a:pt x="19050" y="114300"/>
                </a:lnTo>
                <a:lnTo>
                  <a:pt x="9525" y="114300"/>
                </a:lnTo>
                <a:close/>
                <a:moveTo>
                  <a:pt x="23812" y="38100"/>
                </a:moveTo>
                <a:lnTo>
                  <a:pt x="152400" y="38100"/>
                </a:lnTo>
                <a:lnTo>
                  <a:pt x="152400" y="0"/>
                </a:lnTo>
                <a:lnTo>
                  <a:pt x="228600" y="76200"/>
                </a:lnTo>
                <a:lnTo>
                  <a:pt x="152400" y="152400"/>
                </a:lnTo>
                <a:lnTo>
                  <a:pt x="152400" y="114300"/>
                </a:lnTo>
                <a:lnTo>
                  <a:pt x="23812" y="1143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Process 8"/>
          <p:cNvSpPr/>
          <p:nvPr/>
        </p:nvSpPr>
        <p:spPr>
          <a:xfrm>
            <a:off x="685800" y="4648320"/>
            <a:ext cx="7010280" cy="1143000"/>
          </a:xfrm>
          <a:prstGeom prst="flowChart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A development could focus on specific sector/sectors,  facilitating the development of sectoral goals and funding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lot testing could also serve as an entry point to potential future carbon finance, i.e.,  sectoral credi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Strategic Objectives for Climate Chang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C:\Users\wb329858\Desktop\20101111 South Africa - Wind\IMG_777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389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3056040"/>
            <a:ext cx="4495680" cy="16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gration of transport, energy, water, and housing sector activi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ddress local air pollution and traffic conges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03848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794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arbon finance set-aside is available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18:16:52Z</dcterms:modified>
  <cp:revision>107</cp:revision>
  <dc:subject/>
  <dc:title>Focal Area and Cross Cutting Strategies – Climate Change</dc:title>
</cp:coreProperties>
</file>