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20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CD22B-EC1A-4430-9137-75FE05FFA2E2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6A3D9-47B9-4887-B592-F8C288D1BB54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2E21E-D4C8-4193-ADF6-AB79098B550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F5BB1-06FA-4F58-9C1E-7AEF55622AD2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262160" y="723960"/>
            <a:ext cx="4795920" cy="359712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Date Placeholder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Footer Placeholder 4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Header Placeholder 5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EA9F-EF43-4581-BBBD-63B3F8D5F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3F2C-89F8-4796-8AB3-DF9CDA866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3DF4-B547-4BA4-97FD-897A60A60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518D-B2CD-4762-A27D-A314A2057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574E-F151-4821-A254-FB568BF3C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F88B-6BD5-41A8-B3E3-B09BFA21F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CCDE-645B-4A38-A527-6CB82054A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AC33-8B8A-4253-8714-98AFA63C0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DE10-262E-485B-95E5-C395E5941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78E4-A128-4363-B520-10C9033A7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08F9-ECC5-49D9-9141-7EF3666D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D766-18F5-4966-A9AE-B48735FC6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E16E6-55EF-4A30-8644-807833C899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Focal Area and Cross Cutting Strategies – Climate Chang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1067040"/>
          </a:xfrm>
          <a:prstGeom prst="rect">
            <a:avLst/>
          </a:prstGeom>
          <a:ln w="0">
            <a:noFill/>
          </a:ln>
        </p:spPr>
      </p:pic>
      <p:sp>
        <p:nvSpPr>
          <p:cNvPr id="50" name="Subtitle 4"/>
          <p:cNvSpPr/>
          <p:nvPr/>
        </p:nvSpPr>
        <p:spPr>
          <a:xfrm>
            <a:off x="1219320" y="3809880"/>
            <a:ext cx="67053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October 11 – 13, 201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Tashkent, Uzbekist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42d"/>
                </a:solidFill>
                <a:latin typeface="Calibri"/>
              </a:rPr>
              <a:t>Thank you for your atten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uiding Principles for GEF-5 Strategy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762120" y="1523880"/>
            <a:ext cx="76960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ponsiveness to Convention guid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sideration of national circumstances of recipient count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st-effectiveness in achieving global environmental benefi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1" descr="Nikki-Sa_0.tmp"/>
          <p:cNvPicPr/>
          <p:nvPr/>
        </p:nvPicPr>
        <p:blipFill>
          <a:blip r:embed="rId2"/>
          <a:stretch/>
        </p:blipFill>
        <p:spPr>
          <a:xfrm>
            <a:off x="2057400" y="2971800"/>
            <a:ext cx="5257800" cy="2886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1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monstration, deployment, and transfer of innovative low-carbon technolog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33520" y="15235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novative technologies are targeted, but also priority technologies that are commercially available but have not been adopted in their marke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chnical assistance for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reating enabling policy environment for tech transfer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apacity build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stablishment of tech transfer mechanism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-S and S-S cooper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urchase of licens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ilot investmen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evelopment of local capacity to adapt exogenous technologies to local conditions and technology integr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10" descr=""/>
          <p:cNvPicPr/>
          <p:nvPr/>
        </p:nvPicPr>
        <p:blipFill>
          <a:blip r:embed="rId2"/>
          <a:stretch/>
        </p:blipFill>
        <p:spPr>
          <a:xfrm>
            <a:off x="5715000" y="4952880"/>
            <a:ext cx="342900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2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rket transformation for energy efficiency in industry and the building se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762120" y="15998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dustrial sector: energy efficient technologies and pract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uildings: residential, commercial, and public buildings, both new and retrofitting; building envelope and energy-using systems are cover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lar energy and shallow ground thermal capacity for heating and coo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y support phase-out of HCFCs used in industry and building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bination of TA on policy, regulation, and capacity building; financing mechanisms; and pilo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13" descr=""/>
          <p:cNvPicPr/>
          <p:nvPr/>
        </p:nvPicPr>
        <p:blipFill>
          <a:blip r:embed="rId2"/>
          <a:stretch/>
        </p:blipFill>
        <p:spPr>
          <a:xfrm>
            <a:off x="6019920" y="4514760"/>
            <a:ext cx="3124080" cy="234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3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vestment in renewable energy technolog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09120" y="137160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-grid renewable energy progra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centralized production of electric power  and the use of indigenous renewable sour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hancement of technical capacities of SMEs to provide installation, operation, and maintenance services for RET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thane recovery from biomass wastes for power generation or heat productio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stainable production of biomass for biofu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bination of TA for policy and regulatory support, capacity building, and establishing financing mechanisms for investmen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11" descr=""/>
          <p:cNvPicPr/>
          <p:nvPr/>
        </p:nvPicPr>
        <p:blipFill>
          <a:blip r:embed="rId2"/>
          <a:stretch/>
        </p:blipFill>
        <p:spPr>
          <a:xfrm>
            <a:off x="6248520" y="4954680"/>
            <a:ext cx="2895480" cy="190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4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ergy efficient, low-carbon transport and urban syst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762120" y="167652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rehensive interventions through integration of transport, energy, water, and housing sector activities will be encourag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dress not only climate change mitigation but also local air pollution, traffic congestion, etc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A in transport and urban planning, development of innovative financing mechanisms, awareness campaigns, and investments in high-performance technolog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eater attention to measuring and quantifying GEB (GEF-STAP manual for calculating GHG benefit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12" descr=""/>
          <p:cNvPicPr/>
          <p:nvPr/>
        </p:nvPicPr>
        <p:blipFill>
          <a:blip r:embed="rId2"/>
          <a:stretch/>
        </p:blipFill>
        <p:spPr>
          <a:xfrm>
            <a:off x="5486400" y="4424400"/>
            <a:ext cx="3657600" cy="243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5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ervation and enhancement of carbon stocks through sustainable management of land use and fore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04560" y="1828440"/>
            <a:ext cx="4343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Enhance, restore and manage carbon stocks and storage on forest and non-forest land (including peatland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Reduce emissions of carbon stock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Activities include: good practice demonstrations, establishment of national C monitoring systems, strengthen policies and institution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Linked to Sustainable Forest Management/ REDD+ incentive mechanism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9" descr=""/>
          <p:cNvPicPr/>
          <p:nvPr/>
        </p:nvPicPr>
        <p:blipFill>
          <a:blip r:embed="rId2"/>
          <a:stretch/>
        </p:blipFill>
        <p:spPr>
          <a:xfrm>
            <a:off x="4952880" y="2514600"/>
            <a:ext cx="377820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6: Enabling activities and capacity bui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914400" y="1676520"/>
            <a:ext cx="7391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paration of National Communications  by non-Annex I Par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paration and updating of TNAs especially for countries that did not receive support for TNAs during GEF-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bject to future COP guidance, the GEF may finance activities to support capacity development and implementation of Article 6 of the Convention on education, training, and public awaren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GEF can play a role in the emerging carbon markets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P Mandate to GEF on Technology Transf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066680" y="1523520"/>
            <a:ext cx="5562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znan Strategic Program on Technology Transfer 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COP decision 2/CP.1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pport  for Technology Needs Assessment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pport for Technology Transfer Pilot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ssemination of successfully demonstrated technologies and know-ho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F-5 replenish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$4.3 billion total (six focal area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$1.4 billion for climate change mitig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4" descr="Foundry in China supported by GEF to improve EE.jpg"/>
          <p:cNvPicPr/>
          <p:nvPr/>
        </p:nvPicPr>
        <p:blipFill>
          <a:blip r:embed="rId2"/>
          <a:stretch/>
        </p:blipFill>
        <p:spPr>
          <a:xfrm>
            <a:off x="6781680" y="2895480"/>
            <a:ext cx="2159280" cy="1619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3"/>
          <a:stretch/>
        </p:blipFill>
        <p:spPr>
          <a:xfrm>
            <a:off x="6781680" y="129528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4"/>
          <a:stretch/>
        </p:blipFill>
        <p:spPr>
          <a:xfrm>
            <a:off x="6781680" y="4492800"/>
            <a:ext cx="2133720" cy="160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6:52Z</dcterms:created>
  <dc:creator>wb350798</dc:creator>
  <dc:description/>
  <dc:language>en-US</dc:language>
  <cp:lastModifiedBy>wb350798</cp:lastModifiedBy>
  <dcterms:modified xsi:type="dcterms:W3CDTF">2011-11-01T20:40:07Z</dcterms:modified>
  <cp:revision>95</cp:revision>
  <dc:subject/>
  <dc:title>Focal Area and Cross Cutting Strategies – Climate Change</dc:title>
</cp:coreProperties>
</file>