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E99-7D52-4E61-B3AB-696BF8422B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E6C-95C1-4830-A0D0-5CF09CD5C4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032D-1142-4970-966D-B521894BEC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5EF4-B92D-4FED-8957-C21667E864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C12-D397-4E08-B2FB-4C97912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66E-FB68-4E98-80FE-C7667EE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431-9946-4E55-8244-F0577C8A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9E4-AE33-4C36-8C3A-61FB3BCF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BD5-C754-4B06-A7F3-E8A532BF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12C-B01C-4086-9BDD-1090C744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7BB-1F12-4A05-80F7-4ACB39A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FAF-C4E2-442B-9635-E9B50A2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083-F64D-41B3-A28B-5BBF53C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482-6F2B-4D6B-B295-D69D725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B4D-E1D7-48AC-86FF-2924027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C24-68F1-41F0-A24C-8DDBD26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EC14-DDA1-4A6C-B84E-B05AA6C12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38098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20:40:07Z</dcterms:modified>
  <cp:revision>95</cp:revision>
  <dc:subject/>
  <dc:title>Focal Area and Cross Cutting Strategies – Climate Change</dc:title>
</cp:coreProperties>
</file>