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3AAD-10A0-47E4-8D53-2748F0E2A23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6342-3EC0-42E7-B2F3-31669A3CFAF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4C28-1221-4B39-9E68-022256E0693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1C0E-D41A-4AD7-B43E-D89E6D1B366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62160" y="72396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Header Placeholder 5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5F30-086A-4316-810E-FE76FC76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4E32-C0BD-44D1-A457-2AA1F1F6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B89-26D2-408A-BEAA-59DCBA93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89B-2EE2-48DC-BAA7-61490302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4CCF-120E-44CF-B96F-A93B46B3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D31-CC62-4D0A-8864-A6B6C1F5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88A-CE4A-4BFC-A7EA-60E41E38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3FE-DF7A-46BB-87B1-2369813E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8248-618E-466C-B507-1882BBAD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46C-6A26-493D-865A-F3104D2C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390-C16D-4BD6-85AC-0DDF94E2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6117-2697-4CEA-9472-BE19D451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BBC3-0562-4307-9047-9F6785CD2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Climate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219320" y="380988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uiding Principles for GEF-5 Strateg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5238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onsiveness to Convention gui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ation of national circumstances of recipient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-effectiveness in achieving global environmental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" descr="Nikki-Sa_0.tmp"/>
          <p:cNvPicPr/>
          <p:nvPr/>
        </p:nvPicPr>
        <p:blipFill>
          <a:blip r:embed="rId2"/>
          <a:stretch/>
        </p:blipFill>
        <p:spPr>
          <a:xfrm>
            <a:off x="2057400" y="2971800"/>
            <a:ext cx="5257800" cy="28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1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ion, deployment, and transfer of innovative low-carbon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15235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novative technologies are targeted, but also priority technologies that are commercially available but have not been adopted in their marke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 assistance f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ting enabling policy environment for tech transf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ablishment of tech transfer mechanis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-S and S-S coope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urchase of licen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ilot investm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velopment of local capacity to adapt exogenous technologies to local conditions and technology integ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0" descr=""/>
          <p:cNvPicPr/>
          <p:nvPr/>
        </p:nvPicPr>
        <p:blipFill>
          <a:blip r:embed="rId2"/>
          <a:stretch/>
        </p:blipFill>
        <p:spPr>
          <a:xfrm>
            <a:off x="5715000" y="4952880"/>
            <a:ext cx="342900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2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 transformation for energy efficiency in industry and the building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15998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ustrial sector: energy efficient technologies and pract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ings: residential, commercial, and public buildings, both new and retrofitting; building envelope and energy-using systems are cov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ar energy and shallow ground thermal capacity for heating and coo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support phase-out of HCFCs used in industry and build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ation of TA on policy, regulation, and capacity building; financing mechanisms; and pilo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6019920" y="451476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3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ment in renewable energy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09120" y="137160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-grid renewable energy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entralized production of electric power  and the use of indigenous renewable 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ment of technical capacities of SMEs to provide installation, operation, and maintenance services for RE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ane recovery from biomass wastes for power generation or heat produc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stainable production of biomass for biofu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ation of TA for policy and regulatory support, capacity building, and establishing financing mechanisms for invest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6248520" y="4954680"/>
            <a:ext cx="2895480" cy="190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4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efficient, low-carbon transport and urban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rehensive interventions through integration of transport, energy, water, and housing sector activities will be encourag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ress not only climate change mitigation but also local air pollution, traffic congestion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 in transport and urban planning, development of innovative financing mechanisms, awareness campaigns, and investments in high-performance techn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ter attention to measuring and quantifying GEB (GEF-STAP manual for calculating GHG benefit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tretch/>
        </p:blipFill>
        <p:spPr>
          <a:xfrm>
            <a:off x="5486400" y="442440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5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 and enhancement of carbon stocks through sustainable management of land use and fore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560" y="18284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hance, restore and manage carbon stocks and storage on forest and non-forest land (including peatlan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duce emissions of carbon stock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ctivities include: good practice demonstrations, establishment of national C monitoring systems, strengthen policies and institution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inked to Sustainable Forest Management/ REDD+ incentive mechanism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7782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6: Enabling activities and capacity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6765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of National Communications  by non-Annex I Pa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and updating of TNAs especially for countries that did not receive support for TNAs during GEF-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ject to future COP guidance, the GEF may finance activities to support capacity development and implementation of Article 6 of the Convention on education, training, and public awar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EF can play a role in the emerging carbon markets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P Mandate to GEF on Technology Transf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66680" y="152352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znan Strategic Program on Technology Transfer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P decision 2/CP.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 for Technology Needs Assessmen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for Technology Transfer Pilo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semination of successfully demonstrated technologies and know-h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4.3 billion total (six focal are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1.4 billion for climate change miti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Foundry in China supported by GEF to improve EE.jpg"/>
          <p:cNvPicPr/>
          <p:nvPr/>
        </p:nvPicPr>
        <p:blipFill>
          <a:blip r:embed="rId2"/>
          <a:stretch/>
        </p:blipFill>
        <p:spPr>
          <a:xfrm>
            <a:off x="6781680" y="28954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6781680" y="129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6781680" y="449280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6:52Z</dcterms:created>
  <dc:creator>wb350798</dc:creator>
  <dc:description/>
  <dc:language>en-US</dc:language>
  <cp:lastModifiedBy>wb350798</cp:lastModifiedBy>
  <dcterms:modified xsi:type="dcterms:W3CDTF">2011-11-01T20:40:07Z</dcterms:modified>
  <cp:revision>95</cp:revision>
  <dc:subject/>
  <dc:title>Focal Area and Cross Cutting Strategies – Climate Change</dc:title>
</cp:coreProperties>
</file>