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25C8-5F70-4E01-B7F9-D2843A705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5EA8-C16E-495D-A2DA-123E9EF48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CFA0-25BF-4BF4-B3F1-757354280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2139-3830-466E-A9BC-118C126C0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393B-F7FD-4A8B-BA46-AE1F90AFF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05F6-ACBA-45D4-8244-3891EA672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9A3D-F464-4124-B0FB-5858AB579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D439-757D-4B1E-BD46-E6E577006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BE17-2ECF-4DFC-B9E2-FB7DCF2F0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7680" y="68904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F88-B6DC-4943-B882-9BEC6C80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69A-2334-4ECA-8CB1-719FD867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56F-9DDC-424A-B3F1-6FE6FCE6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E5C-14BB-4C71-A10D-BF796720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1515-BBB2-4E62-B328-7A5C1822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A173-8548-4626-83BF-46F75A44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C789-256D-40F7-BF5A-1E4D759D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48B9-93B8-419C-B91B-5C1DBA6C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3999-510B-4A82-AD27-E3E0C1F5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C6F7-0532-4BFC-A5BD-239F56AC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948A-3675-4B2C-83CE-808F309D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6DB8-94D9-47B2-AD1D-DD53B93D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0A84-D3F9-41CB-8BC1-3A0598F7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927E-1E5F-46B3-9635-55F1A439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9A0A-3379-416C-90D8-2495BBC5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85D3-6BB3-4080-A32B-F35CB9EE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4A0C-A370-49AC-BA8F-6A1F2B4C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B37-ED69-43A6-8012-FD01A83F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8744-5C3B-420E-A663-C4D94018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0EA-ECC1-475C-86A4-536103F3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DC0-B6A9-4905-B0EB-3CA810B2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F486-A03D-4A81-A8C3-55B833B2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573-79DB-426D-BB31-C3DFEA7A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00D5-7278-4B56-B6A3-24237B90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C7F9-1E71-4C8E-AA50-E6C5D4987E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FFAB-0BF2-4559-BEA9-BC645BC18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GEF-20-PPT-BG-blank.png"/>
          <p:cNvPicPr/>
          <p:nvPr/>
        </p:nvPicPr>
        <p:blipFill>
          <a:blip r:embed="rId2"/>
          <a:stretch/>
        </p:blipFill>
        <p:spPr>
          <a:xfrm>
            <a:off x="-19080" y="-6480"/>
            <a:ext cx="9182160" cy="257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GEF-RU-LOGO.gif"/>
          <p:cNvPicPr/>
          <p:nvPr/>
        </p:nvPicPr>
        <p:blipFill>
          <a:blip r:embed="rId3"/>
          <a:stretch/>
        </p:blipFill>
        <p:spPr>
          <a:xfrm>
            <a:off x="609480" y="152280"/>
            <a:ext cx="40975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D896-08F3-4CB2-B9FF-F18C4822FF9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D6F1-185F-4CCB-BB01-F2439CF439E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42d"/>
                </a:solidFill>
                <a:latin typeface="Calibri"/>
              </a:rPr>
              <a:t>Тематическая область и межотраслевые стратегии</a:t>
            </a: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 – </a:t>
            </a:r>
            <a:r>
              <a:rPr b="1" lang="ru-RU" sz="3800" spc="-1" strike="noStrike">
                <a:solidFill>
                  <a:srgbClr val="00642d"/>
                </a:solidFill>
                <a:latin typeface="Calibri"/>
              </a:rPr>
              <a:t>изменение климат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ubtitle 4"/>
          <p:cNvSpPr/>
          <p:nvPr/>
        </p:nvSpPr>
        <p:spPr>
          <a:xfrm>
            <a:off x="762120" y="380988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Семинар для членов ГЭФ в расширенном сост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Arial"/>
              </a:rPr>
              <a:t>11–13</a:t>
            </a: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 октября</a:t>
            </a:r>
            <a:r>
              <a:rPr b="1" lang="en-US" sz="2800" spc="-1" strike="noStrike">
                <a:solidFill>
                  <a:srgbClr val="00642d"/>
                </a:solidFill>
                <a:latin typeface="Arial"/>
              </a:rPr>
              <a:t> 2011</a:t>
            </a: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Ташкент</a:t>
            </a:r>
            <a:r>
              <a:rPr b="1" lang="en-US" sz="2800" spc="-1" strike="noStrike">
                <a:solidFill>
                  <a:srgbClr val="00642d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Узбекис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Руководящие принципы стратегии в рамках ГЭФ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47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ый учет рекомендаций и принципов Конв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условий и особенностей стран-получателей помощ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ость затрат, связанных с деятельностью, направленной на создание глобальных благ в области окружающей сре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" descr="Nikki-Sa_0.tmp"/>
          <p:cNvPicPr/>
          <p:nvPr/>
        </p:nvPicPr>
        <p:blipFill>
          <a:blip r:embed="rId1"/>
          <a:srcRect l="0" t="0" r="0" b="-29605"/>
          <a:stretch/>
        </p:blipFill>
        <p:spPr>
          <a:xfrm>
            <a:off x="2057400" y="3602160"/>
            <a:ext cx="5257800" cy="279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Ц-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емонстрация, внедрение и распространение и передача инновационных низкоуглеродных технолог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3712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новационные технологии являются целевыми и одновременно приоритетными технологиями, которые доступны для коммерческого применения, но пока еще не внедрены на конкретных рынк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азание технического содейств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ю благоприятной политической среды для передачи технологи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ащиванию потенциа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ю механизмов передачи технологи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трудничеству по линиям "Север-Юг" и "Юг-Юг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обретению лицензи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вестированию в пилотные проект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ю местных возможностей для адаптации внешних технологий 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местным условиям и интеграции технологий в более широкие процессы 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области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Ц-2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Преобразование рынка в целях повышения энергоэффективности в промышленности и строительств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16765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мышленный секто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нергоэффективные технологии и метод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оительство и существующие здан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илые, коммерческие, общественные здания, как новые, так и модернизируемы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сается как самой структуры здания, так и энергопотребляющих сист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ование солнечной энергии и приповерхностной тепловой энергии для отопления и охлаждения зда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можно содействие постепенному прекращению использования ГХФУ в промышленности и в здан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е техническое содействие в таких областях, как разработка политики, регулирование, наращивание потенциала, механизмы финансирования и пилотные проек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Ц-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нвестиции в технолог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обновляемой энерге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13712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тевые программы по возобновляемым источникам энерг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централизованная выработка электроэнергии и использование местных возобновляемых источников энерг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ащивание технического потенциала малых и средних предприятий для оказания услуг, связанных с установкой, эксплуатацией и материально-техническим обеспечением объектов и оборудования, использующих технологии возобновляемой энергети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генерация метана из отходов биомассы для выработки электроэнергии и теп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ойчивая переработка биомассы в топли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е техническое содействие в таких областях, как разработка политики, регулирование, наращивание потенциала и создание механизмов финансирования инвестиц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5076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Ц-4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Создание энергоэффективных низкоуглеродных систем транспорта и городского хозяй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нятие комплексных мер, таких как интеграция транспорта, энергоснабжения, водоснабжения и жилищно-городского хозяйства в единую систе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шение задач, связанных не только со смягчением последствий изменения климата, но также с загрязненностью воздуха, транспортными заторами и т. 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ическое содействие в области планирования развития транспорта и городского планирования, разработка инновационных механизмов финансирования, проведение информационно-пропагандистских кампаний и осуществление инвестиций в высокоэффективные технолог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ьше внимания количественной оценке глобальных благ  в области окружающей сред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ководство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оценки пользы в связи с сокращением выбросов парниковых газов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00" y="1519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СЦ-5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: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Сохранение и увеличение накоплений углерода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путем устойчивого землепользования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и управления лесным хозяйств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520" y="1752120"/>
            <a:ext cx="8610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, восстановление и управление накоплениями углерода и их хранение на площадях, занятых лесами, и других территориях (в том числе в торфяника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кращение выбросов углерода от накоплений угле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ые мероприяти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монстрация передовой практики, создание национальных систем мониторинга выбросов углерода, совершенствование политики и институциональной системы и т. 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язка с механизмом стимулирования устойчивого использования лесных ресурс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REDD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Ц-6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спомогательные мероприятия и наращивание потенц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60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национальных сообщений Сторонами, не включенными в Прилож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и уточнение оценок потребностей в технологиях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N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особенно для стран, не получивших помощь на цел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N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период ГЭФ-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зависимости от будущих рекомендаций КС, ГЭФ может финансировать меры по поддержке наращивания потенциала, разработке и реализации положений Стать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венции в отношении образования, подготовки и информирования обществен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ЭФ может сыграть определенную роль на формирующихся рынках углеро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ВЫДАННЫЙ ГЛОБАЛЬНОМУ ЭКОЛОГИЧЕСКОМУ ФОНДУ МАДАТ КС В ОТНОШЕНИИ ПЕРЕДАЧИ ТЕХНОЛОГ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14264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наньская стратегическая программа в области передачи технологи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шение К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2/CP.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держка проведения оценки потребностей в технолог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держка пилотных проектов в области передачи технолог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пространение успешно продемонстрированных технологий и "ноу-хау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е пополнение ГЭ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г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лрд. долл. СШ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шести тематическим областя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лрд. долл. США на цели смягчения последствий изменения клим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Foundry in China supported by GEF to improve EE.jpg"/>
          <p:cNvPicPr/>
          <p:nvPr/>
        </p:nvPicPr>
        <p:blipFill>
          <a:blip r:embed="rId1"/>
          <a:stretch/>
        </p:blipFill>
        <p:spPr>
          <a:xfrm>
            <a:off x="6781680" y="28954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6781680" y="1295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6781680" y="4492800"/>
            <a:ext cx="2133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7:49:11Z</dcterms:created>
  <dc:creator/>
  <dc:description/>
  <dc:language>en-US</dc:language>
  <cp:lastModifiedBy/>
  <dcterms:modified xsi:type="dcterms:W3CDTF">2011-11-01T20:58:59Z</dcterms:modified>
  <cp:revision>1</cp:revision>
  <dc:subject/>
  <dc:title/>
</cp:coreProperties>
</file>