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F9FB-9AFE-42BA-BF84-5E438C948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D67-91ED-4D21-8E06-915A634BE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334-8F05-47EC-A643-79EBD288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DB89-97D9-4520-A67C-30DF060E8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E96-B51A-424A-AC89-453DDAA3F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A57-0D03-4052-932C-CD7B68079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41D-5144-4D4A-8D09-2AC82D365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4EC8-A383-4574-97A3-FFE3364CE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180-7582-4EFF-9533-BE273B4A9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A21-D504-4CC1-BB06-01226177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0EA-E33F-4290-A5A5-8D5735AD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660-D009-4925-9CA3-53A75138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D31-DB93-4835-A697-39294B7F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A847-A187-4205-808C-344BB2D8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FECD-B285-4817-8728-E0368A5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6A6B-3B0D-4B98-A0F0-DD45ABF2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C0C8-D20C-47C5-A98E-CE43DBBD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558-E001-4943-A375-486E6AA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9F4D-EDE5-48A7-B453-D4D75154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3FB-E8D4-473F-AE44-B0A17DC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599-8396-44FE-A5B6-14C52518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4D70-8C54-45FE-859F-C3FB97E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0BB-176B-48F2-860C-1417F79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79C4-8858-466E-B374-D5C55DDD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B4BF-5A1B-4CE8-9930-5053898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58D-98F8-41F8-9C7B-DEB01B9A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D7F-438C-4597-91E6-03CFE7F3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461-2697-4AA3-AFDD-B82441B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353-FFC5-4ABE-9D95-0882469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9D0-954D-476F-ACD1-7629C071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072-9D3E-4B68-AC41-3E9C2EA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D31-3332-46FD-8DB2-9B77EC7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678-94D3-40E2-AE99-E3B2723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F3C-D299-4C3A-9A80-4C7DFF48F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6ECD-EFEB-4261-B7BD-8D21B8A61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68DA-9302-4D4D-A007-6BC0D3AB333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9F06-4912-48CA-999F-0EF5B74346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изменение климат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уководящие принципы стратегии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учет рекомендаций и принципов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условий и особенностей стран-получателей помо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сть затрат, связанных с деятельностью, направленной на создание глобальных благ в области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Nikki-Sa_0.tmp"/>
          <p:cNvPicPr/>
          <p:nvPr/>
        </p:nvPicPr>
        <p:blipFill>
          <a:blip r:embed="rId1"/>
          <a:srcRect l="0" t="0" r="0" b="-29605"/>
          <a:stretch/>
        </p:blipFill>
        <p:spPr>
          <a:xfrm>
            <a:off x="2057400" y="3602160"/>
            <a:ext cx="5257800" cy="27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Ц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монстрация, внедрение и распространение и передача инновационных низкоуглеродных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овационные технологии являются целевыми и одновременно приоритетными технологиями, которые доступны для коммерческого применения, но пока еще не внедрены на конкретных рын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ние технического со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благоприятной политической среды для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ю потенци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механизмов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у по линиям "Север-Юг" и "Юг-Юг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ю лиценз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ю в пилотные прое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ю местных возможностей для адаптации внешних технологий 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местным условиям и интеграции технологий в более широкие процессы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области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Ц-2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еобразование рынка в целях повышения энергоэффективности в промышленности и строительств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сект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ые технологии и мет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тельство и существующие зд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ые, коммерческие, общественные здания, как новые, так и модернизируемы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сается как самой структуры здания, так и энергопотребляющи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солнечной энергии и приповерхностной тепловой энергии для отопления и охлаждения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 содействие постепенному прекращению использования ГХФУ в промышленности и в зда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, механизмы финансирования и пилотные про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вестиции в технолог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обновляемой энерге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371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тевые программы по возобновляемым источникам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централизованная выработка электроэнергии и использование местных возобновляемых источников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технического потенциала малых и средних предприятий для оказания услуг, связанных с установкой, эксплуатацией и материально-техническим обеспечением объектов и оборудования, использующих технологии возобновляемой энерге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енерация метана из отходов биомассы для выработки электроэнергии и теп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ая переработка биомассы в топл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 и создание механизмов финансирования инвести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5076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Ц-4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Создание энергоэффективных низкоуглеродных систем транспорта и городского хозя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комплексных мер, таких как интеграция транспорта, энергоснабжения, водоснабжения и жилищно-городского хозяйства в единую сис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, связанных не только со смягчением последствий изменения климата, но также с загрязненностью воздуха, транспортными заторами и т. 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ическое содействие в области планирования развития транспорта и городского планирования, разработка инновационных механизмов финансирования, проведение информационно-пропагандистских кампаний и осуществление инвестиций в высокоэффективные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е внимания количественной оценке глобальных благ  в области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ство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ценки пользы в связи с сокращением выбросов парниковых газ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Ц-5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Сохранение и увеличение накоплений углерода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утем устойчивого землепользования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 управления лесным хозяй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, восстановление и управление накоплениями углерода и их хранение на площадях, занятых лесами, и других территориях (в том числе в торфяник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углерода от накоплений угле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ые мероприят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монстрация передовой практики, создание национальных систем мониторинга выбросов углерода, совершенствование политики и институциональной системы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язка с механизмом стимулирования устойчивого использования лесных ресур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REDD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Ц-6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спомогательные мероприятия и наращивание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национальных сообщений Сторонами, не включенными в Прило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 уточнение оценок потребностей в технологиях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особенно для стран, не получивших помощь на ц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ериод ГЭФ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исимости от будущих рекомендаций КС, ГЭФ может финансировать меры по поддержке наращивания потенциала, разработке и реализации положений Стать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и в отношении образования, подготовки и информирования обществ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ЭФ может сыграть определенную роль на формирующихся рынках углер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ДАННЫЙ ГЛОБАЛЬНОМУ ЭКОЛОГИЧЕСКОМУ ФОНДУ МАДАТ КС В ОТНОШЕНИИ ПЕРЕДАЧИ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1426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ньская стратегическая программа в области передачи технолог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ение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2/CP.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роведения оценки потребностей в технолог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илотных проектов в области передачи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остранение успешно продемонстрированных технологий и "ноу-хау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е пополнение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шести тематическим област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 на цели смягчения последствий изменения кли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7:49:11Z</dcterms:created>
  <dc:creator/>
  <dc:description/>
  <dc:language>en-US</dc:language>
  <cp:lastModifiedBy/>
  <dcterms:modified xsi:type="dcterms:W3CDTF">2011-11-01T20:58:59Z</dcterms:modified>
  <cp:revision>1</cp:revision>
  <dc:subject/>
  <dc:title/>
</cp:coreProperties>
</file>