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30DA-CA59-43E4-A9FC-C9BC89715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B583-042E-4989-923F-3DAEF6360B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AD53-DD05-400C-A047-CDD0404160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F53E-87EB-4A23-A8B0-081F4CDDD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B1E6-9288-4DD1-8027-2DAFD58C9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C1F5-103C-4B6C-9558-F92535097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D9B6-5D04-4A73-BA49-25490AD313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C61C-BA36-499E-AE2A-BF014144E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6BB7-4E28-4E80-B8F2-076ABC7AE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7680" y="68904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7DF-92A1-47BE-A878-2182B57A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EAC-DF53-4F07-AA0C-67D85A6E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503-7CFF-44FF-9738-7AE8C4D1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F0B-DC0C-4D90-A9ED-F4AFD2430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E221-91C5-4C38-9B46-D4FA37F0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7E27-F439-43C9-97F0-070DDC29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0098-0E70-4A32-BD77-71DCEB5C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79A6-7813-4E8B-9A6A-27473213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5FA8-5174-4409-875F-1E3118F3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16D4-A1CE-4CA1-9182-9A249CB9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16AF-EF50-4853-9FB5-E0A3FA77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545-032B-44CA-81CF-15E0C864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C2F9-8CC4-4D5C-B174-8F00559B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F60F-37F4-4FC5-AF0E-1B15AC4C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C8E7-A7E5-4598-BCBC-A02BB14A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5F9C-C9D9-4656-8314-5279C3BA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BC27-8287-4C06-AF01-1DE7301A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25A-59E4-4894-A446-DA170545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7AC-0EEB-43EC-9E38-E3EA3347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8F3-4AE0-4768-8A98-1A182B11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A7F-5209-459B-8980-3FA182AD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B71-A250-45C2-91B9-3FFB8D5F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931-1A1F-4804-A253-9AD40ED2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191-28DF-43AD-9E4B-F7E1D5A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5BCD-B14B-4E66-965D-54E9312B91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6497-D4A0-414A-A2AB-19BD14BE7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3019-84EB-4E0B-9F8B-343BA662522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0CC4-1AAC-476D-AD11-1286782051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42d"/>
                </a:solidFill>
                <a:latin typeface="Calibri"/>
              </a:rPr>
              <a:t>Тематическая область и межотраслевые стратегии</a:t>
            </a:r>
            <a:r>
              <a:rPr b="1" lang="en-US" sz="3800" spc="-1" strike="noStrike">
                <a:solidFill>
                  <a:srgbClr val="00642d"/>
                </a:solidFill>
                <a:latin typeface="Calibri"/>
              </a:rPr>
              <a:t> – </a:t>
            </a:r>
            <a:r>
              <a:rPr b="1" lang="ru-RU" sz="3800" spc="-1" strike="noStrike">
                <a:solidFill>
                  <a:srgbClr val="00642d"/>
                </a:solidFill>
                <a:latin typeface="Calibri"/>
              </a:rPr>
              <a:t>изменение климат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762120" y="380988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Руководящие принципы стратегии в рамках ГЭФ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47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ый учет рекомендаций и принципов Конвен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условий и особенностей стран-получателей помощ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сть затрат, связанных с деятельностью, направленной на создание глобальных благ в области окружающе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" descr="Nikki-Sa_0.tmp"/>
          <p:cNvPicPr/>
          <p:nvPr/>
        </p:nvPicPr>
        <p:blipFill>
          <a:blip r:embed="rId1"/>
          <a:srcRect l="0" t="0" r="0" b="-29605"/>
          <a:stretch/>
        </p:blipFill>
        <p:spPr>
          <a:xfrm>
            <a:off x="2057400" y="3602160"/>
            <a:ext cx="5257800" cy="279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Ц-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емонстрация, внедрение и распространение и передача инновационных низкоуглеродных технолог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3712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новационные технологии являются целевыми и одновременно приоритетными технологиями, которые доступны для коммерческого применения, но пока еще не внедрены на конкретных рын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азание технического содейств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ю благоприятной политической среды для передачи технолог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ю потенциал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ю механизмов передачи технолог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трудничеству по линиям "Север-Юг" и "Юг-Юг"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обретению лицензи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рованию в пилотные проект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ю местных возможностей для адаптации внешних технологий к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местным условиям и интеграции технологий в более широкие процессы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области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Ц-2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еобразование рынка в целях повышения энергоэффективности в промышленности и строительств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6765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мышленный сект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нергоэффективные технологии и метод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оительство и существующие зда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лые, коммерческие, общественные здания, как новые, так и модернизируемы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сается как самой структуры здания, так и энергопотребляющи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солнечной энергии и приповерхностной тепловой энергии для отопления и охлаждения з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 содействие постепенному прекращению использования ГХФУ в промышленности и в здан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техническое содействие в таких областях, как разработка политики, регулирование, наращивание потенциала, механизмы финансирования и пилотные прое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Ц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нвестиции в технолог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обновляемой энерге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13712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тевые программы по возобновляемым источникам энерг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централизованная выработка электроэнергии и использование местных возобновляемых источников энерг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ащивание технического потенциала малых и средних предприятий для оказания услуг, связанных с установкой, эксплуатацией и материально-техническим обеспечением объектов и оборудования, использующих технологии возобновляемой энергети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генерация метана из отходов биомассы для выработки электроэнергии и теп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ойчивая переработка биомассы в топли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техническое содействие в таких областях, как разработка политики, регулирование, наращивание потенциала и создание механизмов финансирования инвести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5076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СЦ-4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Создание энергоэффективных низкоуглеродных систем транспорта и городского хозяй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ие комплексных мер, таких как интеграция транспорта, энергоснабжения, водоснабжения и жилищно-городского хозяйства в единую сист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задач, связанных не только со смягчением последствий изменения климата, но также с загрязненностью воздуха, транспортными заторами и т. 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ическое содействие в области планирования развития транспорта и городского планирования, разработка инновационных механизмов финансирования, проведение информационно-пропагандистских кампаний и осуществление инвестиций в высокоэффективные техноло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е внимания количественной оценке глобальных благ  в области окружающей сре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оводство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ценки пользы в связи с сокращением выбросов парниковых газов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00" y="151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Ц-5</a:t>
            </a: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Сохранение и увеличение накоплений углерода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утем устойчивого землепользования</a:t>
            </a:r>
            <a:br>
              <a:rPr sz="2400"/>
            </a:b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и управления лесным хозяйств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520" y="1752120"/>
            <a:ext cx="8610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, восстановление и управление накоплениями углерода и их хранение на площадях, занятых лесами, и других территориях (в том числе в торфяник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щение выбросов углерода от накоплений угле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ые мероприят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монстрация передовой практики, создание национальных систем мониторинга выбросов углерода, совершенствование политики и институциональной системы и т. 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язка с механизмом стимулирования устойчивого использования лесных ресур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REDD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СЦ-6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спомогательные мероприятия и наращивание потенци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6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национальных сообщений Сторонами, не включенными в Прило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и уточнение оценок потребностей в технологиях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N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особенно для стран, не получивших помощь на цел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N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ериод ГЭФ-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висимости от будущих рекомендаций КС, ГЭФ может финансировать меры по поддержке наращивания потенциала, разработке и реализации положений Стать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венции в отношении образования, подготовки и информирования обществ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ЭФ может сыграть определенную роль на формирующихся рынках углер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ВЫДАННЫЙ ГЛОБАЛЬНОМУ ЭКОЛОГИЧЕСКОМУ ФОНДУ МАДАТ КС В ОТНОШЕНИИ ПЕРЕДАЧИ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14264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наньская стратегическая программа в области передачи технологи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шение К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2/CP.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ка проведения оценки потребностей в технолог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ка пилотных проектов в области передачи технолог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пространение успешно продемонстрированных технологий и "ноу-хау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е пополнение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г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рд. долл. СШ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шести тематическим областя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лрд. долл. США на цели смягчения последствий изменения клим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Foundry in China supported by GEF to improve EE.jpg"/>
          <p:cNvPicPr/>
          <p:nvPr/>
        </p:nvPicPr>
        <p:blipFill>
          <a:blip r:embed="rId1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7:49:11Z</dcterms:created>
  <dc:creator/>
  <dc:description/>
  <dc:language>en-US</dc:language>
  <cp:lastModifiedBy/>
  <dcterms:modified xsi:type="dcterms:W3CDTF">2011-11-01T20:58:59Z</dcterms:modified>
  <cp:revision>1</cp:revision>
  <dc:subject/>
  <dc:title/>
</cp:coreProperties>
</file>