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2040" cy="36003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C0F8-C7FA-4776-A210-B9C187C69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257480" y="720720"/>
            <a:ext cx="4802040" cy="3600360"/>
          </a:xfrm>
          <a:prstGeom prst="rect">
            <a:avLst/>
          </a:prstGeom>
          <a:ln w="0">
            <a:noFill/>
          </a:ln>
        </p:spPr>
      </p:sp>
      <p:sp>
        <p:nvSpPr>
          <p:cNvPr id="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9816-18BA-4A23-BFE3-91FA8D68C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Date Placeholder 4"/>
          <p:cNvSpPr/>
          <p:nvPr/>
        </p:nvSpPr>
        <p:spPr>
          <a:xfrm>
            <a:off x="4143240" y="0"/>
            <a:ext cx="3170520" cy="4795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9120240"/>
            <a:ext cx="3170160" cy="4795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3170160" cy="4795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F Expanded Constituency Worksh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545D6-9D14-45A8-8CC8-A773E67E6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4845B-B787-4950-B8D3-A3E77407E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7812E-6176-4E26-81A2-ABEB75F20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E8B18-568B-48A9-AC84-4B2CA4DB9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07BEE-0F0F-49D2-B029-16C58E54A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63C15-816D-4EDB-AD25-8746F50FE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FCB95-C9EE-4ED1-A80D-8F4C37E81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4C613-853F-4425-9155-BF883E43D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2BA50-AEC7-4DF9-8D2C-A87F22643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39873-E8F7-48EB-86BD-881F69A01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A0615-8B8B-4878-A957-E2D105314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9731E-40F1-475F-A832-BD6AD096F5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99D7-7EAF-4279-8930-C2D172C27F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143000" y="365760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October 11 – 13, 2011</a:t>
            </a: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Tashkent, Uzbekistan</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04AD-4E39-43E4-960A-FD069A184F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9080-0F89-433D-9079-F98539BF73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11-01T20:40:29Z</dcterms:modified>
  <cp:revision>26</cp:revision>
  <dc:subject/>
  <dc:title>Focal Area and Cross Cutting Strategies – Chemicals</dc:title>
</cp:coreProperties>
</file>