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4E79-38B6-4A3B-BA6F-53BD0A4AA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257480" y="720720"/>
            <a:ext cx="4802040" cy="3600360"/>
          </a:xfrm>
          <a:prstGeom prst="rect">
            <a:avLst/>
          </a:prstGeom>
          <a:ln w="0">
            <a:noFill/>
          </a:ln>
        </p:spPr>
      </p:sp>
      <p:sp>
        <p:nvSpPr>
          <p:cNvPr id="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91FE-C380-4558-9D55-60206DC96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57967-9900-4D56-9D94-FDFF9BEA5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40189-C725-4188-A5F7-E33609DD5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58E4E-2196-4AD9-A762-FF852AF08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2DB2C-35D4-49D6-B1CB-9F90203FD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7BBE6-85B4-492A-9C5C-C37D195D9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2D6AF-20F4-4E54-BE6C-D3A5788BD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C38C6-57BE-4FB6-80CE-502491925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C1932-38D3-4FDC-9C80-74F8F20E0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F26F7-33AB-42E7-827E-CC403DF44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538A0-0241-4A2A-B9CE-4EC6C010A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DE4B1-5E34-4396-A07B-8086D5B2D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067B3-F324-4DA1-96D4-CA26C55F8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81D0-531B-44B1-A46A-76A76BFA54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Focal Area and Cross Cutting Strategies – Chemicals</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0" y="152280"/>
            <a:ext cx="9144000" cy="1067040"/>
          </a:xfrm>
          <a:prstGeom prst="rect">
            <a:avLst/>
          </a:prstGeom>
          <a:ln w="0">
            <a:noFill/>
          </a:ln>
        </p:spPr>
      </p:pic>
      <p:sp>
        <p:nvSpPr>
          <p:cNvPr id="50" name="Subtitle 4"/>
          <p:cNvSpPr/>
          <p:nvPr/>
        </p:nvSpPr>
        <p:spPr>
          <a:xfrm>
            <a:off x="1143000" y="365760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October 11 – 13, 2011</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Tashkent, Uzbekistan</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Title 1"/>
          <p:cNvSpPr/>
          <p:nvPr/>
        </p:nvSpPr>
        <p:spPr>
          <a:xfrm>
            <a:off x="457200" y="21337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hemicals Managem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Management</a:t>
            </a:r>
            <a:endParaRPr b="0" lang="en-US" sz="4400" spc="-1" strike="noStrike">
              <a:solidFill>
                <a:srgbClr val="000000"/>
              </a:solidFill>
              <a:latin typeface="Calibri"/>
            </a:endParaRPr>
          </a:p>
        </p:txBody>
      </p:sp>
      <p:sp>
        <p:nvSpPr>
          <p:cNvPr id="54" name=""/>
          <p:cNvSpPr txBox="1"/>
          <p:nvPr/>
        </p:nvSpPr>
        <p:spPr>
          <a:xfrm>
            <a:off x="2285640" y="1447560"/>
            <a:ext cx="655308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ngs together POPs, Ozone Depletion Substances, Mercury and Sound Chemical Management for increased coheren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425 million allocated to chemicals. The distribution of resources is as follows: </a:t>
            </a:r>
            <a:endParaRPr b="0" lang="en-US" sz="26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POPs: $37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zone: $2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Sound chemicals management and mercury reduction: $25 million</a:t>
            </a:r>
            <a:endParaRPr b="0" lang="en-US" sz="2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0E8D-F073-4434-ACE7-5839A2D788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2" descr=""/>
          <p:cNvPicPr/>
          <p:nvPr/>
        </p:nvPicPr>
        <p:blipFill>
          <a:blip r:embed="rId1"/>
          <a:stretch/>
        </p:blipFill>
        <p:spPr>
          <a:xfrm>
            <a:off x="0" y="5791320"/>
            <a:ext cx="9144000" cy="1066680"/>
          </a:xfrm>
          <a:prstGeom prst="rect">
            <a:avLst/>
          </a:prstGeom>
          <a:ln w="0">
            <a:noFill/>
          </a:ln>
        </p:spPr>
      </p:pic>
      <p:pic>
        <p:nvPicPr>
          <p:cNvPr id="57" name="Picture 2" descr=""/>
          <p:cNvPicPr/>
          <p:nvPr/>
        </p:nvPicPr>
        <p:blipFill>
          <a:blip r:embed="rId2"/>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
        <p:nvSpPr>
          <p:cNvPr id="59" name=""/>
          <p:cNvSpPr txBox="1"/>
          <p:nvPr/>
        </p:nvSpPr>
        <p:spPr>
          <a:xfrm>
            <a:off x="380520" y="1371240"/>
            <a:ext cx="5715000" cy="4343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bjective 1: Phase out POPs and reduce POPs releases</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ve outcomes are expected for this objective:</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duction and use of controlled POPs chemicals phased out;</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empted POPs chemicals used in an environmentally sound manner;</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releases to the environment reduc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waste prevented, managed, and disposed of, and POPs contaminated sites managed in an environmentally sound manner; an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untry capacity built to effectively phase out and reduce releases of POPs.</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0"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152D-9EC6-41A8-9AC2-127D8866A6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2" descr=""/>
          <p:cNvPicPr/>
          <p:nvPr/>
        </p:nvPicPr>
        <p:blipFill>
          <a:blip r:embed="rId2"/>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2: Phase out ODS and reduce ODS releases</a:t>
            </a:r>
            <a:endParaRPr b="0" lang="en-US" sz="29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5 strategy for chemicals includes provisions for further investments in economies in tradition to support countries meet their reporting obligations under the Montreal Protocol, including implementation of HCFCs phase out pla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5"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5791320"/>
            <a:ext cx="9144000" cy="1066680"/>
          </a:xfrm>
          <a:prstGeom prst="rect">
            <a:avLst/>
          </a:prstGeom>
          <a:ln w="0">
            <a:noFill/>
          </a:ln>
        </p:spPr>
      </p:pic>
      <p:sp>
        <p:nvSpPr>
          <p:cNvPr id="67" name=""/>
          <p:cNvSpPr txBox="1"/>
          <p:nvPr/>
        </p:nvSpPr>
        <p:spPr>
          <a:xfrm>
            <a:off x="228600" y="1143000"/>
            <a:ext cx="8229600" cy="46483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3: Pilot Sound Chemicals Management and Mercury Reduction</a:t>
            </a:r>
            <a:endParaRPr b="0" lang="en-US" sz="2900" spc="-1" strike="noStrike">
              <a:solidFill>
                <a:srgbClr val="000000"/>
              </a:solidFill>
              <a:latin typeface="Calibri"/>
            </a:endParaRPr>
          </a:p>
          <a:p>
            <a:pPr lvl="2" marL="819000" indent="-38232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ound Chemicals Management - Activities are intended to support synergistic interventions that generate multi-focal area benefits through projects that significantly contribute and produce positive impacts towards the fulfillment of obligations in relevant conventions (including Stockholm Convention, Convention on Biological Diversity, Convention to Combat Desertification, and others).</a:t>
            </a:r>
            <a:endParaRPr b="0" lang="en-US" sz="2000" spc="-1" strike="noStrike">
              <a:solidFill>
                <a:srgbClr val="000000"/>
              </a:solidFill>
              <a:latin typeface="Calibri"/>
            </a:endParaRPr>
          </a:p>
          <a:p>
            <a:pPr lvl="2" marL="819000" indent="-382320">
              <a:lnSpc>
                <a:spcPct val="11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276200" indent="-382320">
              <a:lnSpc>
                <a:spcPct val="11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819000" indent="-382320">
              <a:lnSpc>
                <a:spcPct val="11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9" name="Picture 2" descr=""/>
          <p:cNvPicPr/>
          <p:nvPr/>
        </p:nvPicPr>
        <p:blipFill>
          <a:blip r:embed="rId2"/>
          <a:stretch/>
        </p:blipFill>
        <p:spPr>
          <a:xfrm>
            <a:off x="6705720" y="4743360"/>
            <a:ext cx="2438280" cy="21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114800"/>
          </a:xfrm>
          <a:prstGeom prst="rect">
            <a:avLst/>
          </a:prstGeom>
          <a:noFill/>
          <a:ln w="0">
            <a:noFill/>
          </a:ln>
        </p:spPr>
        <p:txBody>
          <a:bodyPr anchor="t">
            <a:normAutofit/>
          </a:bodyPr>
          <a:p>
            <a:pPr lvl="1" marL="419040" indent="-38268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Objective 3: Pilot Sound Chemicals Management and Mercury Reduction (continued)</a:t>
            </a:r>
            <a:endParaRPr b="0" lang="en-US" sz="1900" spc="-1" strike="noStrike">
              <a:solidFill>
                <a:srgbClr val="000000"/>
              </a:solidFill>
              <a:latin typeface="Calibri"/>
            </a:endParaRPr>
          </a:p>
          <a:p>
            <a:pPr lvl="2" marL="819000" indent="-38232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Demonstration of mercury reduction activities through:</a:t>
            </a:r>
            <a:endParaRPr b="0" lang="en-US" sz="19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mercury use and exposure in Artisanal and Small- scale  Goal Mining (ASGM)</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Enhancing capacity for safe storage</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atmospheric emissions of mercury</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mproving data and scientific information at national level</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naging wastes and contaminated sites</a:t>
            </a:r>
            <a:endParaRPr b="0" lang="en-US" sz="1600" spc="-1" strike="noStrike">
              <a:solidFill>
                <a:srgbClr val="000000"/>
              </a:solidFill>
              <a:latin typeface="Calibri"/>
            </a:endParaRPr>
          </a:p>
          <a:p>
            <a:pPr lvl="1" marL="419040" indent="-382680">
              <a:lnSpc>
                <a:spcPct val="9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Pilot implementation of SAICM priorities to generate global environmental benefits; Pilot implementation of SAICM priorities to generate global environmental benefits. Possible project areas include:</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Lead in paint;</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E-wastes and</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Chemicals in products</a:t>
            </a:r>
            <a:endParaRPr b="0" lang="en-US" sz="1700" spc="-1" strike="noStrike">
              <a:solidFill>
                <a:srgbClr val="000000"/>
              </a:solidFill>
              <a:latin typeface="Calibri"/>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Questions?</a:t>
            </a:r>
            <a:endParaRPr b="0" lang="en-US" sz="4800" spc="-1" strike="noStrike">
              <a:solidFill>
                <a:srgbClr val="000000"/>
              </a:solidFill>
              <a:latin typeface="Calibri"/>
            </a:endParaRPr>
          </a:p>
        </p:txBody>
      </p:sp>
      <p:pic>
        <p:nvPicPr>
          <p:cNvPr id="74"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1-11-01T20:40:29Z</dcterms:modified>
  <cp:revision>26</cp:revision>
  <dc:subject/>
  <dc:title>Focal Area and Cross Cutting Strategies – Chemicals</dc:title>
</cp:coreProperties>
</file>