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8E8D-C2AA-4F18-ADC3-035154D01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00FE-BD7F-44EC-B6FB-96869C6EB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88233-77AA-44E0-A9A8-C4372A3B8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62578-3E9E-482D-9D23-7FF7D0E8E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18781-C5E1-4C83-9D99-61A43BB04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66421-1651-475F-A969-648F20CBF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12BD5-849E-437E-B4E4-E98C2DF0C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0177-DBA1-4717-8776-5CABEF71C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00BDE-1C49-4475-9482-12A37B33C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77DA0-5D1A-4564-A928-05B176424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8E1F-4FD1-49DB-95CD-35698392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F60A-75BC-463B-8D12-DB641BCF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595E-EC14-4E4B-AB96-97B42FAF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C659A-2AEF-4839-8E79-02E804A30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E715-539C-48EC-A425-B93AEAD781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365760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6832-AEFB-4676-8450-68138421E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7D4C-471E-4625-AC13-6EB585409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01T20:40:29Z</dcterms:modified>
  <cp:revision>26</cp:revision>
  <dc:subject/>
  <dc:title>Focal Area and Cross Cutting Strategies – Chemicals</dc:title>
</cp:coreProperties>
</file>