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7F51-A08B-4F9E-A8DE-FBB977E347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6640" y="698400"/>
            <a:ext cx="4646520" cy="3486240"/>
          </a:xfrm>
          <a:prstGeom prst="rect">
            <a:avLst/>
          </a:prstGeom>
          <a:ln w="0">
            <a:noFill/>
          </a:ln>
        </p:spPr>
      </p:sp>
      <p:sp>
        <p:nvSpPr>
          <p:cNvPr id="7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944C-7A41-4A72-BFE2-C39B4BAC05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23E84-4D3D-47E5-B12B-200133C9F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51869-739A-431F-A307-FE236ABB3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78123-FDCA-4498-B763-38B5C99DA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AD8F1-F4C1-4D69-A2D5-212FE76B9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BF8E8-8AA3-49C2-A88B-84255A03B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3623-4E78-41F2-BDF3-D3F02F9DC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7BA24-07F6-455B-8E18-BF7B5B523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329EB-8C78-442A-B7EC-A7C380091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FC1B0-2CEA-46F4-B299-F040CB490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D9F7C-5B8E-4868-8F3C-F33E2DF51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7F31-6BFA-436B-8CA6-E395DC9D3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79709-B960-4AB2-A8A4-95C7296ED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63EC-F662-42F9-91F0-5392D5E980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8BA6-F58B-4E7A-9A50-954F8DD7A8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07B3-B7FA-498B-B1DC-30119F40D5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11-01T18:20:37Z</dcterms:modified>
  <cp:revision>27</cp:revision>
  <dc:subject/>
  <dc:title>Focal Area and Cross Cutting Strategies – Chemicals</dc:title>
</cp:coreProperties>
</file>