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0372-506D-4DF1-A4A8-62CBC589CBF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5C64-F517-48A4-92A5-53A3400857A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1A7-8DA5-47A3-B283-712667ED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03B-61D5-421F-B1A2-1494450B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D15-493E-43DC-9C9D-C94E979B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F3D-9E33-4850-AA79-4BBB2ADE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FD6-B4C1-488A-9AB2-CE8B63ED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D94-4337-4356-B540-C3D3A9EC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E68-7B3B-4705-B9A1-7DB3DAC9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340-C9AC-4ED9-8376-E6C5B3A6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ED2-2BCF-426F-B047-356473F4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D35-2BBA-45CF-9DF7-D8641A57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0F8-A052-4913-985D-A97B0F02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E0FF-064D-477F-B98D-18CDE5BD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3506-A941-4757-B439-F9FC8EFBB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Тематические</a:t>
            </a: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и межтематические стратегии:</a:t>
            </a: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Химические ве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143000" y="3657600"/>
            <a:ext cx="6705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Семинар для членов ГЭ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в расширенном соста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</a:rPr>
              <a:t>11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00642d"/>
                </a:solidFill>
                <a:latin typeface="Calibri"/>
              </a:rPr>
              <a:t>13 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октября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333440" y="42696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itle 1"/>
          <p:cNvSpPr/>
          <p:nvPr/>
        </p:nvSpPr>
        <p:spPr>
          <a:xfrm>
            <a:off x="45720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60948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правление использованием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хим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использованием химических веще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5640" y="1447560"/>
            <a:ext cx="6553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Объединение усилий по решению проблем</a:t>
            </a: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связанных с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о стойкими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 органическими загрязнителями (СОЗ)</a:t>
            </a: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озоноразрушающими веществами (ОРВ)</a:t>
            </a: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ртутью и рационального изспользования химических веществ в целях  повышения степени согласованности дейст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а эти цели выделен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2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млн. долл. СШ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редства распределены следующим образ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О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7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млн. долл. С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Р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2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млн. долл. С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циональное изспользование химических вещест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 сокращение масштабов использования рту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млн. долл. С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C570-FD0C-4FEA-8630-B226861D9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0" y="457200"/>
            <a:ext cx="197640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Подзаголовок 2"/>
          <p:cNvSpPr/>
          <p:nvPr/>
        </p:nvSpPr>
        <p:spPr>
          <a:xfrm>
            <a:off x="533520" y="635148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дзаголовок 2"/>
          <p:cNvSpPr/>
          <p:nvPr/>
        </p:nvSpPr>
        <p:spPr>
          <a:xfrm>
            <a:off x="1338120" y="6019920"/>
            <a:ext cx="394812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одзаголовок 2"/>
          <p:cNvSpPr/>
          <p:nvPr/>
        </p:nvSpPr>
        <p:spPr>
          <a:xfrm>
            <a:off x="1252440" y="6222960"/>
            <a:ext cx="43862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и в области управления химических веществ в рамках ГЭФ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520" y="137124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1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этапный отказ от СОЗ и сокращение выбросов СО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достижения этой цели предполагается обеспечить решение пяти задач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этапное сокращение масштабов производства и использования подлежащих контролю СОЗ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ование исключенных из перечня СОЗ безопасным для окружающей среды способо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кращение выбросов в окружающую сред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отвращение формирования, сбор и удаление содержащих СОЗ отходов и управление загрязненными СОЗ районами безопасным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окружающей среды методам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ащивание потенциала на страновом уровн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целях эффективного поэтапного отказа от СОЗ и сокращения выбросов СОЗ в окружающую сред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Hands on training Kenia 5 (foto Stefan)"/>
          <p:cNvPicPr/>
          <p:nvPr/>
        </p:nvPicPr>
        <p:blipFill>
          <a:blip r:embed="rId1"/>
          <a:stretch/>
        </p:blipFill>
        <p:spPr>
          <a:xfrm>
            <a:off x="6400800" y="1981080"/>
            <a:ext cx="2514600" cy="2533680"/>
          </a:xfrm>
          <a:prstGeom prst="rect">
            <a:avLst/>
          </a:prstGeom>
          <a:ln w="0">
            <a:noFill/>
          </a:ln>
        </p:spPr>
      </p:pic>
      <p:sp>
        <p:nvSpPr>
          <p:cNvPr id="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C81F-3617-4400-B376-C357BFCDB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0" name="Подзаголовок 2"/>
          <p:cNvSpPr/>
          <p:nvPr/>
        </p:nvSpPr>
        <p:spPr>
          <a:xfrm>
            <a:off x="515880" y="6370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1343160" y="607068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дзаголовок 2"/>
          <p:cNvSpPr/>
          <p:nvPr/>
        </p:nvSpPr>
        <p:spPr>
          <a:xfrm>
            <a:off x="1268280" y="627372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 2: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степенный отказ от ОРВ и сокращение выбросов ОР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ратегия ГЭФ-5 в отношении управления химических веществ предполагает осуществление дополнительных инвестиций в страны с переходной экономикой в целях оказания им содействия в выполнении обязательств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предоставлению отчетности в рамках Монреальского протокола, в том числе по вопросам реализации планов поэтапного отказа от ГХФ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и в области управления химических веществ в рамках ГЭФ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Подзаголовок 2"/>
          <p:cNvSpPr/>
          <p:nvPr/>
        </p:nvSpPr>
        <p:spPr>
          <a:xfrm>
            <a:off x="504720" y="6345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1333440" y="604512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дзаголовок 2"/>
          <p:cNvSpPr/>
          <p:nvPr/>
        </p:nvSpPr>
        <p:spPr>
          <a:xfrm>
            <a:off x="1257480" y="624852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286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3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циональное управление на пилотной основе химических веществ и сокращение использования рту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циональное управление химических веществ  – деятельност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аправленная на оказание содействия имеющим синергетический эффект мероприятиям, позволяющим получить блага в многопрофильных тематических областях путем реализации проектов,  в значительной степени способствующих достижению положительных результатов в плане выполнения обязательств, принятых в рамках соответствующих  конвенций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включая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токгольмскую конвенцию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нвенци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 биологическом разнообраз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Конвенци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о борьбе с опустыниванием и др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и в области управления химических веществ в рамках ГЭФ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324480" y="4572000"/>
            <a:ext cx="2438640" cy="2114640"/>
          </a:xfrm>
          <a:prstGeom prst="rect">
            <a:avLst/>
          </a:prstGeom>
          <a:ln w="0">
            <a:noFill/>
          </a:ln>
        </p:spPr>
      </p:pic>
      <p:sp>
        <p:nvSpPr>
          <p:cNvPr id="83" name="Подзаголовок 2"/>
          <p:cNvSpPr/>
          <p:nvPr/>
        </p:nvSpPr>
        <p:spPr>
          <a:xfrm>
            <a:off x="504720" y="63500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одзаголовок 2"/>
          <p:cNvSpPr/>
          <p:nvPr/>
        </p:nvSpPr>
        <p:spPr>
          <a:xfrm>
            <a:off x="1333440" y="604836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1257480" y="625140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ль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3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циональное управления на пилотной основе химических веществ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сокращение использования ртути (продолж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81072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Демонстрация усилий по сокращению использования ртути путе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окращения использования ртути и ее воздействия при кустарн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и маломасштабной добыче зол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Расширения возможностей для безопасного хран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окращения выбросов ртути в атмосфер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вышения качества данных и научной информации на национальном уровн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Утилизации отходов и очистки загрязненных район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14720" indent="-37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Реализация на пилотной основе приоритетных проектов в рамках Стратегического подхода к международному регулированию химических веществ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C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в целях получения благ в сфере глобальной окружающей сред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Возможные  проектные области включаю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винец, содержащийся в краск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Электронные отходы; а такж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Химические вещества, содержащиеся в продукт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и в области управления химических веществ в рамках ГЭФ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9" name="Подзаголовок 2"/>
          <p:cNvSpPr/>
          <p:nvPr/>
        </p:nvSpPr>
        <p:spPr>
          <a:xfrm>
            <a:off x="504720" y="6345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дзаголовок 2"/>
          <p:cNvSpPr/>
          <p:nvPr/>
        </p:nvSpPr>
        <p:spPr>
          <a:xfrm>
            <a:off x="1333440" y="604512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257480" y="624852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Arial"/>
              </a:rPr>
              <a:t>Вопросы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94" name="Подзаголовок 2"/>
          <p:cNvSpPr/>
          <p:nvPr/>
        </p:nvSpPr>
        <p:spPr>
          <a:xfrm>
            <a:off x="515880" y="6345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одзаголовок 2"/>
          <p:cNvSpPr/>
          <p:nvPr/>
        </p:nvSpPr>
        <p:spPr>
          <a:xfrm>
            <a:off x="1343160" y="6045120"/>
            <a:ext cx="384948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дзаголовок 2"/>
          <p:cNvSpPr/>
          <p:nvPr/>
        </p:nvSpPr>
        <p:spPr>
          <a:xfrm>
            <a:off x="1268280" y="624852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cp:lastPrinted>2011-09-30T11:56:31Z</cp:lastPrinted>
  <dcterms:modified xsi:type="dcterms:W3CDTF">2011-11-01T20:59:25Z</dcterms:modified>
  <cp:revision>74</cp:revision>
  <dc:subject/>
  <dc:title>Focal Area and Cross Cutting Strategies – Chemicals</dc:title>
</cp:coreProperties>
</file>