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0069-1812-4127-988B-23BE613F11B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29D2-28DB-48E6-9CB3-71F30514BEC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AC1-48AC-4EA1-A112-CFC93D01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7443-4905-4526-8EB7-CBF7E411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23FC-77C0-446B-8BB6-BF00C541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974D-A6CC-4459-95F3-6D871209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5B4-DE6F-4894-8531-8CE27CCC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377-97F9-4327-8A80-8FB03E95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A93-4220-4BDC-B25E-3F489ADE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8CF-D953-47D5-85FB-DBB131E5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CE6-B293-40E5-92EE-CFF59D83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6F0-9152-45C8-ACF8-AFC80E4F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56D0-5175-4812-9334-42E46978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DA8D-1F74-46D5-A40B-809ED98E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375E-CB7F-43CD-9C59-0DEB5B001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Тематические</a:t>
            </a:r>
            <a:br>
              <a:rPr sz="3600"/>
            </a:b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и межтематические стратегии:</a:t>
            </a: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Химические вещ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143000" y="3657600"/>
            <a:ext cx="6705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Семинар для членов ГЭ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в расширенном соста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</a:rPr>
              <a:t>11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–</a:t>
            </a:r>
            <a:r>
              <a:rPr b="1" lang="en-US" sz="2400" spc="-1" strike="noStrike">
                <a:solidFill>
                  <a:srgbClr val="00642d"/>
                </a:solidFill>
                <a:latin typeface="Calibri"/>
              </a:rPr>
              <a:t>13 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октября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Ташкент</a:t>
            </a:r>
            <a:r>
              <a:rPr b="1" lang="en-US" sz="2400" spc="-1" strike="noStrike">
                <a:solidFill>
                  <a:srgbClr val="00642d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504720" y="72720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1333440" y="42696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257480" y="63036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itle 1"/>
          <p:cNvSpPr/>
          <p:nvPr/>
        </p:nvSpPr>
        <p:spPr>
          <a:xfrm>
            <a:off x="45720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60948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правление использованием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хим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использованием химических веще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5640" y="1447560"/>
            <a:ext cx="6553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Объединение усилий по решению проблем</a:t>
            </a: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связанных с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о стойкими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 органическими загрязнителями (СОЗ)</a:t>
            </a: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озоноразрушающими веществами (ОРВ)</a:t>
            </a: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ртутью и рационального изспользования химических веществ в целях  повышения степени согласованности дейст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а эти цели выделен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2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млн. долл. СШ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редства распределены следующим образ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О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7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млн. долл. С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Р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2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млн. долл. С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циональное изспользование химических вещест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и сокращение масштабов использования рту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млн. долл. С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2A53-B9B3-47B1-BDBE-4E788E899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0" y="457200"/>
            <a:ext cx="1976400" cy="5257800"/>
          </a:xfrm>
          <a:prstGeom prst="rect">
            <a:avLst/>
          </a:prstGeom>
          <a:ln w="0">
            <a:noFill/>
          </a:ln>
        </p:spPr>
      </p:pic>
      <p:sp>
        <p:nvSpPr>
          <p:cNvPr id="62" name="Подзаголовок 2"/>
          <p:cNvSpPr/>
          <p:nvPr/>
        </p:nvSpPr>
        <p:spPr>
          <a:xfrm>
            <a:off x="533520" y="635148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дзаголовок 2"/>
          <p:cNvSpPr/>
          <p:nvPr/>
        </p:nvSpPr>
        <p:spPr>
          <a:xfrm>
            <a:off x="1338120" y="6019920"/>
            <a:ext cx="394812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одзаголовок 2"/>
          <p:cNvSpPr/>
          <p:nvPr/>
        </p:nvSpPr>
        <p:spPr>
          <a:xfrm>
            <a:off x="1252440" y="6222960"/>
            <a:ext cx="43862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и в области управления химических веществ в рамках ГЭФ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520" y="137124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1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этапный отказ от СОЗ и сокращение выбросов СО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достижения этой цели предполагается обеспечить решение пяти задач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этапное сокращение масштабов производства и использования подлежащих контролю СОЗ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ование исключенных из перечня СОЗ безопасным для окружающей среды способо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кращение выбросов в окружающую сред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отвращение формирования, сбор и удаление содержащих СОЗ отходов и управление загрязненными СОЗ районами безопасным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окружающей среды методам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ращивание потенциала на страновом уровн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целях эффективного поэтапного отказа от СОЗ и сокращения выбросов СОЗ в окружающую сред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Hands on training Kenia 5 (foto Stefan)"/>
          <p:cNvPicPr/>
          <p:nvPr/>
        </p:nvPicPr>
        <p:blipFill>
          <a:blip r:embed="rId1"/>
          <a:stretch/>
        </p:blipFill>
        <p:spPr>
          <a:xfrm>
            <a:off x="6400800" y="1981080"/>
            <a:ext cx="2514600" cy="2533680"/>
          </a:xfrm>
          <a:prstGeom prst="rect">
            <a:avLst/>
          </a:prstGeom>
          <a:ln w="0">
            <a:noFill/>
          </a:ln>
        </p:spPr>
      </p:pic>
      <p:sp>
        <p:nvSpPr>
          <p:cNvPr id="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828D-B497-48D7-9B59-A89FA71A5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0" name="Подзаголовок 2"/>
          <p:cNvSpPr/>
          <p:nvPr/>
        </p:nvSpPr>
        <p:spPr>
          <a:xfrm>
            <a:off x="515880" y="6370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одзаголовок 2"/>
          <p:cNvSpPr/>
          <p:nvPr/>
        </p:nvSpPr>
        <p:spPr>
          <a:xfrm>
            <a:off x="1343160" y="607068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дзаголовок 2"/>
          <p:cNvSpPr/>
          <p:nvPr/>
        </p:nvSpPr>
        <p:spPr>
          <a:xfrm>
            <a:off x="1268280" y="627372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 2: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степенный отказ от ОРВ и сокращение выбросов ОР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ратегия ГЭФ-5 в отношении управления химических веществ предполагает осуществление дополнительных инвестиций в страны с переходной экономикой в целях оказания им содействия в выполнении обязательств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предоставлению отчетности в рамках Монреальского протокола, в том числе по вопросам реализации планов поэтапного отказа от ГХФ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ли в области управления химических веществ в рамках ГЭФ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Подзаголовок 2"/>
          <p:cNvSpPr/>
          <p:nvPr/>
        </p:nvSpPr>
        <p:spPr>
          <a:xfrm>
            <a:off x="504720" y="6345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1333440" y="604512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одзаголовок 2"/>
          <p:cNvSpPr/>
          <p:nvPr/>
        </p:nvSpPr>
        <p:spPr>
          <a:xfrm>
            <a:off x="1257480" y="624852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286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3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циональное управление на пилотной основе химических веществ и сокращение использования рту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циональное управление химических веществ  – деятельност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аправленная на оказание содействия имеющим синергетический эффект мероприятиям, позволяющим получить блага в многопрофильных тематических областях путем реализации проектов,  в значительной степени способствующих достижению положительных результатов в плане выполнения обязательств, принятых в рамках соответствующих  конвенций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включая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токгольмскую конвенцию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онвенци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 биологическом разнообраз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Конвенци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о борьбе с опустыниванием и др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и в области управления химических веществ в рамках ГЭФ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6324480" y="4572000"/>
            <a:ext cx="2438640" cy="2114640"/>
          </a:xfrm>
          <a:prstGeom prst="rect">
            <a:avLst/>
          </a:prstGeom>
          <a:ln w="0">
            <a:noFill/>
          </a:ln>
        </p:spPr>
      </p:pic>
      <p:sp>
        <p:nvSpPr>
          <p:cNvPr id="83" name="Подзаголовок 2"/>
          <p:cNvSpPr/>
          <p:nvPr/>
        </p:nvSpPr>
        <p:spPr>
          <a:xfrm>
            <a:off x="504720" y="63500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одзаголовок 2"/>
          <p:cNvSpPr/>
          <p:nvPr/>
        </p:nvSpPr>
        <p:spPr>
          <a:xfrm>
            <a:off x="1333440" y="604836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дзаголовок 2"/>
          <p:cNvSpPr/>
          <p:nvPr/>
        </p:nvSpPr>
        <p:spPr>
          <a:xfrm>
            <a:off x="1257480" y="625140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ль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3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циональное управления на пилотной основе химических веществ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сокращение использования ртути (продолж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81072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Демонстрация усилий по сокращению использования ртути путе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окращения использования ртути и ее воздействия при кустарн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и маломасштабной добыче зол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Расширения возможностей для безопасного хран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окращения выбросов ртути в атмосфер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вышения качества данных и научной информации на национальном уровн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Утилизации отходов и очистки загрязненных район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14720" indent="-37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Реализация на пилотной основе приоритетных проектов в рамках Стратегического подхода к международному регулированию химических веществ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C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в целях получения благ в сфере глобальной окружающей сред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Возможные  проектные области включаю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винец, содержащийся в краск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Электронные отходы; а такж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Химические вещества, содержащиеся в продукт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ли в области управления химических веществ в рамках ГЭФ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9" name="Подзаголовок 2"/>
          <p:cNvSpPr/>
          <p:nvPr/>
        </p:nvSpPr>
        <p:spPr>
          <a:xfrm>
            <a:off x="504720" y="6345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дзаголовок 2"/>
          <p:cNvSpPr/>
          <p:nvPr/>
        </p:nvSpPr>
        <p:spPr>
          <a:xfrm>
            <a:off x="1333440" y="604512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1257480" y="624852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Arial"/>
              </a:rPr>
              <a:t>Вопросы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94" name="Подзаголовок 2"/>
          <p:cNvSpPr/>
          <p:nvPr/>
        </p:nvSpPr>
        <p:spPr>
          <a:xfrm>
            <a:off x="515880" y="6345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одзаголовок 2"/>
          <p:cNvSpPr/>
          <p:nvPr/>
        </p:nvSpPr>
        <p:spPr>
          <a:xfrm>
            <a:off x="1343160" y="6045120"/>
            <a:ext cx="384948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дзаголовок 2"/>
          <p:cNvSpPr/>
          <p:nvPr/>
        </p:nvSpPr>
        <p:spPr>
          <a:xfrm>
            <a:off x="1268280" y="624852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cp:lastPrinted>2011-09-30T11:56:31Z</cp:lastPrinted>
  <dcterms:modified xsi:type="dcterms:W3CDTF">2011-11-01T20:59:25Z</dcterms:modified>
  <cp:revision>74</cp:revision>
  <dc:subject/>
  <dc:title>Focal Area and Cross Cutting Strategies – Chemicals</dc:title>
</cp:coreProperties>
</file>