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8375-DB9E-4223-9971-C5ABB42A311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D79-ED4F-4F70-9914-A640F4AB922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388476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A89-EE29-4DA8-A83B-4BDB78F2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CB9-32BE-4C78-A16F-02EC765D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10E-ECEE-4625-AA1A-92E9F01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6CD-FC12-4BF9-8E15-6AD93754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E9A-2133-4F81-9FE8-A698457E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60D-F887-4445-8866-5BA2AC8E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9FD-544A-4E16-87B8-3815A0B7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FF4-3318-42B8-9B92-4FEF2728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8D6-86F6-4288-BA6C-42C5AB0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FB7-D427-49B6-8724-2CDE6FCA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DF5-4A73-401C-80F3-CCDF6078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05F-4A48-4504-9E3F-945CE841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4834-4D17-44B6-90C2-40C61CE5B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ие</a:t>
            </a: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и межтематические стратегии:</a:t>
            </a: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Химически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в расширенном сост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13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октября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itle 1"/>
          <p:cNvSpPr/>
          <p:nvPr/>
        </p:nvSpPr>
        <p:spPr>
          <a:xfrm>
            <a:off x="45720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60948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правление использованием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хим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спользованием химических вещест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5640" y="1447560"/>
            <a:ext cx="655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бъединение усилий по решению проблем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вязанных с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 стойкими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 органическими загрязнителями (СОЗ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озоноразрушающими веществами (ОРВ)</a:t>
            </a: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ртутью и рационального изспользования химических веществ в целях  повышения степени согласованности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 эти цели выделен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редства распределены следующим образ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7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Р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01640" indent="-382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изспользование химических вещест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 сокращение масштабов использования рту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млн. долл. СШ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B7F0-67F6-4624-BC4E-4BAAB75AC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0" y="457200"/>
            <a:ext cx="197640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338120" y="6019920"/>
            <a:ext cx="39481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52440" y="6222960"/>
            <a:ext cx="43862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520" y="137124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1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этапный отказ от СОЗ и сокращение выбросов СО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достижения этой цели предполагается обеспечить решение пяти задач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этапное сокращение масштабов производства и использования подлежащих контролю СОЗ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ование исключенных из перечня СОЗ безопасным для окружающей среды способо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кращение выбросов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отвращение формирования, сбор и удаление содержащих СОЗ отходов и управление загрязненными СОЗ районами безопасны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окружающей среды метод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ащивание потенциала на страновом уровн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эффективного поэтапного отказа от СОЗ и сокращения выбросов СОЗ в окружающую среду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Hands on training Kenia 5 (foto Stefan)"/>
          <p:cNvPicPr/>
          <p:nvPr/>
        </p:nvPicPr>
        <p:blipFill>
          <a:blip r:embed="rId1"/>
          <a:stretch/>
        </p:blipFill>
        <p:spPr>
          <a:xfrm>
            <a:off x="6400800" y="1981080"/>
            <a:ext cx="2514600" cy="253368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2571-097C-417D-A304-2E82F3B5B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15880" y="637056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43160" y="607068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68280" y="62737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 2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тепенный отказ от ОРВ и сокращение выбросов ОР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тегия ГЭФ-5 в отношении управления химических веществ предполагает осуществление дополнительных инвестиций в страны с переходной экономикой в целях оказания им содействия в выполнении обязательств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редоставлению отчетности в рамках Монреальского протокола, в том числе по вопросам реализации планов поэтапного отказа от ГХФ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286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3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циональное управление на пилотной основе химических веществ и сокращение использования рту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Рациональное управление химических веществ  – деятель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направленная на оказание содействия имеющим синергетический эффект мероприятиям, позволяющим получить блага в многопрофильных тематических областях путем реализации проектов,  в значительной степени способствующих достижению положительных результатов в плане выполнения обязательств, принятых в рамках соответствующих  конвенций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включая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токгольмскую конвенцию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о биологическом разнообраз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Конвенцию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по борьбе с опустыниванием и др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62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819000" indent="-38232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6324480" y="4572000"/>
            <a:ext cx="2438640" cy="2114640"/>
          </a:xfrm>
          <a:prstGeom prst="rect">
            <a:avLst/>
          </a:prstGeom>
          <a:ln w="0">
            <a:noFill/>
          </a:ln>
        </p:spPr>
      </p:pic>
      <p:sp>
        <p:nvSpPr>
          <p:cNvPr id="83" name="Подзаголовок 2"/>
          <p:cNvSpPr/>
          <p:nvPr/>
        </p:nvSpPr>
        <p:spPr>
          <a:xfrm>
            <a:off x="504720" y="63500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333440" y="60483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1257480" y="62514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Цель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3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Рациональное управления на пилотной основе химических веществ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сокращение использования ртути (продолж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81072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Демонстрация усилий по сокращению использования ртути пут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использования ртути и ее воздействия при кустар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 маломасштабной добыче зол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асширения возможностей для безопасного хран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окращения выбросов ртути в атмосфер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Повышения качества данных и научной информации на национальном уров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тилизации отходов и очистки загрязненных район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14720" indent="-378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Реализация на пилотной основе приоритетных проектов в рамках Стратегического подхода к международному регулированию химических веществ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C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в целях получения благ в сфере глобальной окружающей сред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Возможные  проектные области включа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Свинец, содержащийся в краск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Электронные отходы; а такж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263240" indent="-37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Химические вещества, содержащиеся в продукт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Цели в области управления химических веществ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Подзаголовок 2"/>
          <p:cNvSpPr/>
          <p:nvPr/>
        </p:nvSpPr>
        <p:spPr>
          <a:xfrm>
            <a:off x="50472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1333440" y="6045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57480" y="624852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Arial"/>
              </a:rPr>
              <a:t>Вопросы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94" name="Подзаголовок 2"/>
          <p:cNvSpPr/>
          <p:nvPr/>
        </p:nvSpPr>
        <p:spPr>
          <a:xfrm>
            <a:off x="515880" y="6345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43160" y="6045120"/>
            <a:ext cx="384948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68280" y="6248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2:01Z</dcterms:created>
  <dc:creator>wb350798</dc:creator>
  <dc:description/>
  <dc:language>en-US</dc:language>
  <cp:lastModifiedBy>wb350798</cp:lastModifiedBy>
  <cp:lastPrinted>2011-09-30T11:56:31Z</cp:lastPrinted>
  <dcterms:modified xsi:type="dcterms:W3CDTF">2011-11-01T20:59:25Z</dcterms:modified>
  <cp:revision>74</cp:revision>
  <dc:subject/>
  <dc:title>Focal Area and Cross Cutting Strategies – Chemicals</dc:title>
</cp:coreProperties>
</file>