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E6C0-8CE1-41D6-BB3B-BEB219AF0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D7CE-43FC-4707-84E7-530B5C9C59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9BC-A045-4850-B440-706D3AEFF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D895-2769-4D10-966F-E1BCDF07A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0D8-EBA9-410E-A12A-24E84C714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44A-394C-4412-8D5B-A8097AEC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C6D3-B25D-4434-B160-F28657FA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488A4-67D6-4F97-B9FB-9DC66EF7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C8FC3-6F3C-41E4-BE93-9AF760D7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8943C-E083-4549-A76C-16F8A7B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8A0E-2D98-4318-9AC4-A52F3989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52747-A62D-4F3F-BAF7-7BBA5096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280A-CD51-42E9-895E-4EB62F9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0BB9F-B377-46FD-B4DF-13ECE5F7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DC32A-E84E-48D3-9151-CEEFD2F40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44DDD-B53A-4251-A568-097D61C9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8B6-9C03-4083-B84A-E8E5084A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A407A-98CA-4E83-98CC-ACD75761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583C3-DF28-44C2-8D19-C0689DD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8C4BC-B567-4D5C-90A9-4594AC55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A84D6-5085-47BE-BD6A-FCF40D77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B6FBC-6290-4C7B-AB9F-0C7CA53C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67DA7-6560-4407-8FB5-60FB98A0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401DE-7595-4D9C-B399-B9FA050F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D73B1-9196-4060-B31E-0B47FF9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DA69-9DA0-4D20-9BDE-A62DAADB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B87A6-ACBE-4D72-9991-7A8CD8C6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1F45-72F1-4297-906E-FFF3048D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C515C-91BE-4F41-8E4B-050070AB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08F20-6898-4A6A-B129-39CE74D9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E667A-8CF6-4715-9218-AA0693EF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86BEA-DC42-47CF-91F6-4B81B427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01CA9-2B37-4309-8D68-D0F8DF83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C006D-D700-4F2C-8F55-F6C48FD2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8AFA8-D57E-4DF9-B2ED-7B655CED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14CE1-ADB0-447E-8930-6102D83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3D0F0-5B1F-4CF6-9311-1155B6D7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FBB26-D00C-4796-9AF1-48F73884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BD0D4-1F9A-44D3-888A-68035821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B57CD-20DE-44AC-BF71-14359B5F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ACCB8-66DE-4CD0-B699-44CF16F4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A968A-9D65-4AB0-9A56-E94421CB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7940-EFFD-4FE3-BEB6-3C4E31E8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4B543-5EE9-4784-BFAE-C6FE3206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87DBF-40CD-41C0-A976-FA1CD4DD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70818-75EC-4F8E-B84D-CC21C6CB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E7581-C2AC-497E-B8CF-BF80E918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E1C86-862F-4FB3-BD8C-9F03DEE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CE6C9-7361-4DD0-BBE0-8BE36F1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45980-CF70-4A2E-B067-5FE75D3E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C00D8-2131-4C56-A1CB-B167E1FA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B0D55-7D18-49DB-906A-0DB7D665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40BD8-6A6C-41DC-B81D-8EDF35CE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FBEC0-09A7-43F9-9F02-2A938380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6A0E0-5A33-428B-BA24-1BAFC724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764AA-8CA8-4176-BB3D-4A24DF34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E1F99-E0E5-4E3E-A731-16EC6138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5CF9E-6E7D-484C-9D7E-E598750F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AAA35-F337-48D4-A621-DE4DA5E6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2F1CD-DECB-46A3-AA35-6F5EE404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498A2-35FF-4BF6-8457-520D170B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D8AA8-19F5-4B00-AA50-676CF10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0C410-56E2-4B69-85CB-D5A7C360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1E12F-7B35-425B-A4C3-4A9B603B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D5EA3-77D7-45A3-AF8A-34FB7052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E69-4D5F-4A96-A673-64F7020C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A590-7709-49EB-BF1F-6BC3EFE9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F22E-A43E-4692-9ABC-311AF33E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2DC3-2229-4FB4-85DC-3912B997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085F-4882-4167-AD28-BBCFDC3F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07DB-913D-4825-9791-20E8522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711-6502-461F-A7AE-EA2D5B87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B991-18DC-4651-B70B-03ED626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8D2FC-4825-4D35-939D-5F0C8813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ACC05-AB96-429C-A247-E744B2DC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F8848-2027-4F8F-B942-E045D4D3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6EC05-7AF5-459E-B91A-5EFBE92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9D4E1-E864-4D12-814B-014F1FAC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C71B4-A4DB-4061-BDC6-F752E4DF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AA77E-94A6-46E6-BE85-ACE4D192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804D7-6F4B-44E6-8FC3-984FDEC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8D772-7A24-4E21-A4DD-335DA43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56E6-A54E-4847-A160-38F3A1A2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73A26-0A99-4405-B749-BB0ABD1E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E964E-BF69-4E2F-A6C2-2B490E16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2CAFC-C78A-4378-B76A-BEDA00506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F27-340B-4D49-A10F-0B952FD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74CB-E9E5-4AAB-B931-BFC206F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3203-42EC-4055-97E6-1B2700C3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1707-443D-4C51-8F19-5EBFA7BE7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906F-F022-4E8A-8558-20EAEA9F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8773-9FF5-454F-832E-B6E81AE8E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213E7-797C-43F1-B6FB-E0CA627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E0FB-63D8-4E25-BE2C-FBF092CA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8FD-1787-45B3-B952-2DCEECCD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3FD3-AD23-4E17-9A98-ACC095B2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6D9FF-D479-43D4-92B0-33DA45A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A799D-865F-424D-AA39-2DD4E84B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76CB-430B-409B-9A1D-7880885E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0F0A4-F87F-447E-9C7B-8D97BEA9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D2AB-70BF-4271-8FFC-4CC567D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D94B-A052-4F3C-A7BE-70261768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1495-F622-4152-9A77-AEC496D0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7E4A-1D01-492D-9EE2-07194AE4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EB36-0802-43D7-9A8C-EB6AB47F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B6E-E5AA-4ACA-924E-75C5519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6A75-C345-4C8D-B5A0-9F0FAA0B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80BDD-F396-4D5C-B039-75F84960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AB577-CBED-427A-AF1A-89C2B3A1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D4340-A40A-4526-84B4-B8728237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33802-80CD-4BDC-88CD-D5E58CCD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2A76-53F2-414F-A4FF-339B168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261C-B429-4431-A806-CF81429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0ED0E-10A2-4719-8A8D-5BEA44A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CB2D-3E5F-4388-B23D-0DE9DACB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80BD-FE29-4985-ADD9-8ECE85D1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DA3-F7A0-47B4-A353-C617956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B4C1C-FF80-4C06-9448-F27E1336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E47DA-8212-4C2C-AD26-6F32E0F9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2539C-B065-4526-AE62-DBBB9EBE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E65E-43CC-4A25-87A5-F4F4D6B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35A4-44BF-4245-91EC-0CAB96D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2AD8D-58E7-4CB3-AF6C-6775171B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F017B-442F-4515-BC2C-98D96C28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0A240-200F-4E93-BA9C-E45EB54B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3F09B-9643-49AB-A57F-43916EA1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6FF0B-01FE-46A0-BD15-2C590434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B03-FFBE-457F-BCCA-00FF3908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AEFB8-108E-4F30-AAEE-1EB6B63F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57B10-BD0C-41DE-AD39-CD49EE1D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7010-7C1C-4B33-B0BA-F12BF6A0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70537-3B0E-42E5-88AD-2B58F9E8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A3D06-C8CA-4ECB-9624-D7E1D9F4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F41BC-8AF6-46F8-957D-7D9BA0BE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E5FFC-DC83-4C26-9931-56F33253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BDD4D-F169-4816-AE44-A96E506D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B1B3-45F7-4727-9DC8-7CFF21C4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57F19-ADA3-4579-896B-12F037B2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8C0-50CF-4CD4-9AF2-8C8CFB9F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AD38-3873-443F-9DC1-3ABE52C6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51BD-59A0-4957-ADB9-A450C01A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E5769-379C-48D8-99B2-7862B2DA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DD39-9377-47B6-9A29-9CB69C00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BBDE-78DC-402C-A1BA-3C82FD54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FCB1-1558-4D2A-ADE8-3E42015C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7F7A3-E9E8-4CEE-BDB0-18467A67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F90A8-B860-4EEA-8714-B312AE3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0BE7-DFEA-4712-AA8B-0635A88D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2791A-59E1-4412-98F8-C3B29921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C2CE-EB54-4AB7-93A2-D0257612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CE94-B1AC-4066-9073-78E5A9D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56540-8A33-47EC-97F5-96DE1F85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6A5EF-E017-42BA-B2B4-8407F89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B30B7-8A56-41A4-A67A-9425B5CA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0A217-91AE-4D19-A851-5144F56A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94C8-E338-427F-BF70-093CFA81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DA21E-9199-43B2-BC22-398DFB3A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C38F-C4C1-48E3-899E-61CD6881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64ED9-D458-4ED1-9E02-21A8DA62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86173-69F4-4F36-9C2C-D025A80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4177-FF0E-4F51-87EA-1DA130C889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5426-C562-4228-A277-FE88FB3EA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0827-30A3-4BE8-975A-5F8E83672B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FF48-004F-4B30-96A4-9A8056CC8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789D-08F3-48C5-A1C2-CFECB2D744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744E-A184-4F27-8D9C-CE4A8B41F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143F-0A12-42DB-9F59-F755C680A1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0B7F-9760-42FA-BF35-1EFC5683D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EC4-5E5C-4CA2-BFBC-D3D511C87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A3B9-F279-4BCA-8E35-875FE8A01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4CF-581A-4431-8811-9602433D81F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2F69-7C34-41CB-8B15-C99B961D43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0EF-AAFB-4854-BBC1-1F458EBA6C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10A-D277-4CBF-ADD4-41A54E4F3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8F53-EE4A-4A62-A45B-EAC8C12AD6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2D2-1055-4F16-BCF8-8A130141E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12BA-8A10-4FC9-885D-F991044F3C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92E7-0325-4E63-BFC0-6F86FB710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3598-49C5-4711-ADFB-63457391CE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25C5-BC09-4F3C-8B20-220E7A14D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B043-7E53-4D5B-AFB1-3EABD5CEB3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62BB-4D40-464B-875A-0896CC488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1D61-C2E7-4778-8722-7275E41374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891F-A4B8-4D78-8AC5-297811503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1869-3DF1-4149-A4DF-612A688A7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BB61-3E0A-4F81-A4AD-4B47B4868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DCF/SCCF Climate Change Adaptation Strategy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DCF/SCCF Adaptation Strategy 2010-201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456840" y="12193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tion is the proces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cing the adverse effects of climate change on human and natural system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refers to the efforts made to cope with actual change as well as the process of adjusting to expected chan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Goal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upport developing countries to increase resilience to climate change through both immediate and longer-term adaptation measures in development policies, plans, programs, projects and 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mpact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uce absolute losses due to climate change, including variabilit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46B2-25D7-4303-BC54-03A7FE0D8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4AC9-DD31-4D5B-AB97-B999B4F8A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educe vulnerabil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the advers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isks to economic losses through implementation of adaptation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4C84-6625-4AF4-B3C4-C23763D36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1599840"/>
            <a:ext cx="4876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Increase adaptive capacity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to respond to the impacts of climate chan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e.g. within relevant development sectors and natural resources; diversified and strengthened livelihoods and sources of inc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1062-C664-490E-963D-F931DDF0F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6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DCF and SCCF Strategic Objectives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Promot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transfer and adoption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adaptation technolog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as defined under the Climate Convention (example: SCCF-TT Jord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1E45-068F-4BEB-BD53-8D6807E07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1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vulnerable sectors target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griculture, food security, and water resources management – all highly relevant for efforts to curb land degrad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-trust fund, programmatic approa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e LDCF and the SCCF promote synergies with other GEF focal areas, not least with land degrad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0D2D-D6F8-4185-AA58-34DD48FC8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: programming under the LDCF and the SC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ing up adaptation throug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bust and predictable financing of the LDCF and the SC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ammatic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ing to Convention guidance, developing country needs and independent eval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058B-D9C1-4D59-A364-5CC5F6EED6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novative Features of LDCF/SCC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741-A71F-40D0-8907-05BDD30B8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"/>
          <p:cNvSpPr/>
          <p:nvPr/>
        </p:nvSpPr>
        <p:spPr>
          <a:xfrm>
            <a:off x="990720" y="167004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TRUST FU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men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-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581280" y="167652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DCF &amp; SCC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Global benefits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isting BAU Finan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MSP ceiling for 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lling basis approval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7086600" y="5151600"/>
            <a:ext cx="2057400" cy="170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0F30-DFF5-4DE7-BDB7-461D88118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1084" name="TextBox 12"/>
          <p:cNvSpPr/>
          <p:nvPr/>
        </p:nvSpPr>
        <p:spPr>
          <a:xfrm>
            <a:off x="2133720" y="419112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information, please visit LDCF/SCCF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0:59Z</dcterms:modified>
  <cp:revision>745</cp:revision>
  <dc:subject/>
  <dc:title>Slide 1</dc:title>
</cp:coreProperties>
</file>