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2545-ACEB-495E-93BB-94376F5E1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8F73-E6E0-4C1D-9113-2E73017E9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596C-A6A2-48C8-A011-2F764A57E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E8B3-C506-469D-A677-A19732244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E4B-90E2-436A-8C9B-B762AD34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FE4-39F4-4D71-8B81-1B7C01CD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24127-6BF8-45A1-8056-65A6E1C3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E7249-EF9B-4CD3-B30D-10BDF959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0DAB0-83D8-4B28-BA07-B4A1A5D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4F1F5-0FE3-4080-8796-E72AC85E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100EC-0B1C-4301-A2FB-B5105AE9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54246-3699-4C55-AC3A-9C66981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F71CF-B3EC-4161-8940-1776123C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CD9CE-DE4E-4AE4-979F-792C5B79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330C1-CD5D-4FA8-93FD-DD4A7748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2BC86-561B-4261-944A-4EDAC743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A1B-18A2-4B14-9591-FF97A9A2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B2664-761E-46D2-A070-03911862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793E8-4FE9-4078-B758-8FCECDC1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051DF-752A-4A94-9BEE-47FE10EC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7C007-A85C-4849-8026-7D9F1776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128E3-61B7-4802-92C2-96189FD7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84B37-C007-4C17-9335-F300A211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EE540-2A8F-4EC5-A4E8-1E00D34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075C2-93D8-490C-95FE-1297B0B3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A7EF8-A334-40E7-88F4-4C2DF41B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6C62A-FDDF-4440-AFFD-04903908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851-6D6B-4806-A36B-B12064DC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DFAEC-312E-4E03-A566-8CBE5B7B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267F8-49E5-4127-8E0C-58B67117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38E71-8C5E-4F2C-8A32-45575341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54259-AE55-457B-8107-6ADF687C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79D07-9558-48FA-BD97-DDF8ED75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9EA0C-3407-47C8-BC7E-87C7909E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D45F1-FD07-4D03-B7CF-BF06B39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FADF8-462A-4DF7-9B20-146475D5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4BAE2-911C-4CFF-9898-49196D9C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3D653-491E-4973-8C88-8918129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066FC-04A7-4ABA-B363-DB772358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92B66-5E27-4ADE-8C36-EF79B0A8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ADFD0-16F5-47CF-A9F3-C00C59B0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02568-4CD0-4557-B7C8-B5ECB797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3ED47-30AB-4B03-9CA4-91071DD3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6A334-BB17-4A09-8293-288DBA72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88F0F-291B-4FEF-8C71-D03F4CD7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B223B-92F1-45FA-ADB4-838BF3C6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E0AF8-9C59-43E6-9473-E2858C17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62E08-7BEE-4230-A093-7699E036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179B8-D808-47F0-8A64-363150C5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7F67E-EF28-4638-A479-89D40ECE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8590C-E5DC-4848-9CCD-B5A70999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0C084-6E90-441E-A016-94F7543C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F6CAE-1CC7-49E1-84B2-69A2DFEB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16426-3431-41DA-8873-2A35AA67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39092-98A9-431B-8DEE-3408A0FF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97F3E-1D94-4F3E-86E1-4AB6A920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52DF4-341F-4A5C-BE29-5ED07058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93C7B-6D19-44F7-A407-A7621F66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21E83-6A9F-4327-8DB3-FD3482FA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0E6F3-3B8F-4D0F-8544-437F50C8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BD243-D34C-4925-8A7C-721D9080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901B1-9EAB-49A7-BDCC-554DBD68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10293-3DD1-4918-AB65-FEF4BD4F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726BB-B5AE-475E-A33F-2A3DBE79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D05D2-103E-4A0C-9738-B861D623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41E-E590-4211-9CF9-A77FEAD9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526-7F67-4A65-ACC3-57FE4BC1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51FF-5705-491B-964A-E6B157C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8962-2372-4243-BD70-18AA04D1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0503-CCEC-4A16-95A7-FAC33F14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A534-93F3-49A0-94E3-1A1850CE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C60-50AA-4532-8BAC-932ED909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7B27-D7EE-4C14-A442-ED7488FF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03500-CD42-4CC9-8955-AD8A5F31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A4141-80AC-4CAB-9108-BB2C8479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40351-8420-4E97-AC2D-46EDAECA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9E217-6A34-48D5-A51D-8C2CD9B5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7F236-1D3D-4382-849C-8C296DBA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EA590-0E54-4B2A-96AD-501F89BF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066E0-B63A-4ABF-943E-2DC8397D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9552B-1D93-4831-AA90-8530C88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56AC4-2871-4B51-96D1-ABF01036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F3D2-681A-45CE-A2EF-904FBBF2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377AD-BC69-40CE-876E-86D41B30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45449-5B68-4760-8EE4-FDFE58CD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E0042-D5A5-4E2D-BED3-84A87DAA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5D54-1303-40B9-97FC-1748BBE0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02B4-E189-44E7-B16E-F6FA2E6D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9AF0-7ED4-41D3-A5DB-E3713DDC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6400-BFCA-41D8-A361-84715D15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0402-11EC-4D34-BE39-44B5795E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C7E6-18DD-4A99-B1FC-FD371524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381C-CD9F-487D-84AA-D10525A2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3665-84C0-4AA3-BF95-A09399C6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B3D-0B52-4D15-AC6E-CC877612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3E0B9-8A51-4335-90DF-023157EB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860AA-4297-41B7-B032-AA916C61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12F4-FF84-4885-898D-033AE7AA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43F7-291A-4905-89A0-9D7DE1E1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9C1F-C4CD-4726-A200-8D6D6806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81C1-56FE-482F-A62B-84F23E47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DC60-0C87-4998-B004-C809B994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50304-AD19-4B53-867E-26D5B6F5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F63F-7D6C-4FB3-BDC8-21EA49AE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98E9-7838-420E-BF17-0FE2E19B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204-2408-4DC7-B2D4-7AA9E7B8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DC23F-4AE2-43A8-9278-D4344B1D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79F5F-BA36-4EAA-8939-9CA887F9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14607-D7BC-4D89-AAE5-AE9DD6E0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547F-85C8-4D47-B893-CE082F51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2B39E-7CEA-4A9F-ACC0-EBCE3402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703A2-2B4C-41F7-9243-CECCA423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0F8F-C017-4DAC-B38E-525E4DA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8B75-45B7-4822-A900-9A5AF0C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FE079-F5CA-48E5-A77B-32E36EBD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C6CA5-7821-42B9-9CB0-F85378A9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855-7515-4E8C-8C45-FFFB559E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1FC8-764F-4857-8BD4-80DFB026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0BB2-D5BC-40B0-A1A9-353960A5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283A8-DF8F-44E6-BE56-5EBBE043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0E1F3-1848-49F1-8C09-BB799533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014BE-07D0-42FC-B5F4-4572530E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1B2B2-3B02-4E3A-A6B9-82CC62A2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D5FC-D8BE-412F-8FA4-E849B9A5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9E89E-2E07-43FF-B2BB-1D1D8139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6AFFE-3BAF-4B2B-AFCA-ADBCC46D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3E5D-5CDC-48D9-9AF2-4441043C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7AA-2D82-4A9E-91C9-4016341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2DDDD-1293-40AA-90DD-CE52DF2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9A87D-AFF4-413A-8068-7E935279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DAE62-C2DC-4469-8E2F-4EEAE1AD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2FBAA-DD55-4A64-A34F-FE5F8286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E35F6-C4F6-4D4E-9EDD-7F45D388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0E321-C862-40E5-98E4-75B12B39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CBEEC-E27B-4772-B56F-D3A113B0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AB94A-55CB-444C-9B10-8AF1945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AC59E-6526-47D2-84F8-57F87860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F63F1-BDDA-4AD3-B41A-96E0D93E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023-82DC-498B-973D-AD8EE987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E5C9-BE3F-4677-8E34-2EECF169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733D9-8345-4B2C-BD96-18D5E65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F9623-7F05-4F88-9DA0-227E4BA1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80B35-19BA-472C-A2B8-E32BF088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6446F-B5A4-4DFA-8407-741C906A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08E09-94BF-413D-A779-E468B5CA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1E6C9-6BC4-4AB7-8F44-F080D05C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3B963-E99C-4D90-8CFB-F66308D8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0CE44-7EC4-48C5-A836-8DAA5831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E4B7E-2BB4-49B7-9443-E480E22B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D49-706E-4A32-B0B8-3FCB5D2D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FC5AE-3B7F-43C8-8BF2-43DE895E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E5397-49A7-4EC7-B11F-D8FA7AC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FCD44-0168-4C7A-9B02-5E58413A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BF500-02B6-4627-8D03-391EB6E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8F469-413E-4B2E-8E9E-553A376A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5A543-1A82-4A56-8A93-5C6D0AD6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28E0D-9AD8-4782-AD23-F5F48923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D75D6-3CC8-435A-9CCA-F4689E89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4A692-2E16-497B-BFAF-88A9774F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9DD07-2D5F-48C0-B0B2-DF90C780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978C-C787-48E4-850B-0F936109B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F28C-F9D6-483F-843F-3E331D7DC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6496-D78E-451F-8A31-2DF412A68E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7D8F-178D-4131-8D56-BC821D58E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FC28-C7A6-4B30-B4E4-BDFF5E00D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050F-566A-492F-AD78-F1AF78019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E99C-1495-40D8-A37B-69C57F4CB0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D018-B816-4A4E-8DCE-0AFF70FAA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F0FD-8FF0-4C44-9233-B64716919D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A61C-60BA-41F1-924C-3DBD6A04F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F708-A6B4-48C9-BC2E-C3970A1027A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59A7-C88F-4D11-AE0C-C0773D909C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DC2C-7895-46CC-AF3D-37EEDEB44E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B7E3-1C9C-48F5-923C-433133D9F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C879-65E3-4D67-9008-C481C0CB9C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E759-61E1-4B3A-AD08-D445A92AB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93FD-B9BC-4D06-8695-6A9D8B4D1E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9DB-5420-4F3C-A023-9C856B894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E6B0-009E-4318-99C3-4C269E5311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04A-C2E3-4F44-B8A0-9DB3353D9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B6C8-29C7-4EA0-AD6A-0A48ADC44E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E6B9-EBA0-43E4-9E6F-1B8451812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1A2C-0AA1-45F7-909A-672676271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D5C1-071F-4427-8511-2ADBC4C01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351F-5EEF-4122-8A4A-47C6F50E26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EB65-9428-42E5-A452-351F1361A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DCF/SCCF Climate Change Adaptation Strategy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4040" y="4343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DCF/SCCF Adaptation Strategy 2010-201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68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tion is the proces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cing the adverse effects of climate change on human and natural system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refers to the efforts made to cope with actual change as well as the process of adjusting to expected chan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oal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upport developing countries to increase resilience to climate change through both immediate and longer-term adaptation measures in development policies, plans, programs, projects and 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mpac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 absolute losses due to climate change, including variabilit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1ACD-C123-448D-B1CD-A86B4D7DA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0FAC-7BB4-442B-AFBB-A7F9918B8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educe vulnerabil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the advers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risks to economic losses through implementation of adaptation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39F4-01DF-45B4-ADBA-80051E1EB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684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Increase adaptive capac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respond to th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within relevant development sectors and natural resources; diversified and strengthened livelihoods and sources of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5FEC-01A2-4B51-B4CC-7B5F33395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Promote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transfer and adoption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adapt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as defined under the Climate Convention (example: SCCF-TT Jord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78D9-180A-443D-AED7-FFABB6AEB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vulnerable sector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griculture, food security, and water resources management – all highly relevant for efforts to curb land degrad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-trust fund, programmatic approa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LDCF and the SCCF promote synergies with other GEF focal areas, not least with land degrad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78DE-4DEB-498C-B84A-8ECC965E0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ing up adaptation throu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 and predictable financing of the LDCF and the SC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ammatic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ing to Convention guidance, developing country needs and independent eval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6B0B-8EF3-42CE-B252-695925638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novative Features of LDCF/SCC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94B9-4F02-486E-91BB-439BB2415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TRUST FU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3581280" y="167652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DCF &amp; SCC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Global benefits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BAU Fina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MSP ceiling for 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ling basis approval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7086600" y="5151600"/>
            <a:ext cx="2057400" cy="170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3E3D-5EC3-44D1-8CF8-60A6DD28B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12"/>
          <p:cNvSpPr/>
          <p:nvPr/>
        </p:nvSpPr>
        <p:spPr>
          <a:xfrm>
            <a:off x="213372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information, please visit LDCF/SCCF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20:40:59Z</dcterms:modified>
  <cp:revision>745</cp:revision>
  <dc:subject/>
  <dc:title>Slide 1</dc:title>
</cp:coreProperties>
</file>