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ECF8-B6D8-4F73-8174-C17F9E64A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7F7-A249-42C6-9D37-D983EED00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84A-9BED-42F2-965E-DD7C5E7D5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8AA-3397-4446-ADC8-54A6C9B56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BD6-7F1E-41F1-A049-97EA00B0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4E9-CB09-4C5E-AF26-A9FAD71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55C1-90EE-4158-869C-3FF738E5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31A9F-B374-4958-A3FF-2FB12429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16B83-E57E-4944-A7CC-D877EB2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2E3A-2905-4F5E-823F-9469745E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DB84-B715-4608-A7D4-5F3BFDE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C48AC-F79A-4253-B7E9-955477B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9021D-C65D-4BE3-8D01-84522EA2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9F4A2-137F-4E1B-8745-DD136D58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B82F-0644-4E7E-85A0-72C0F089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89597-C17C-441E-8594-B970CAD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9D9-82F2-4FC7-BBBC-0DFFDC41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5B96-9F2D-4CC6-A291-61CF5A5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030E-CFF7-4B50-9FF1-016FA227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3E894-E2AF-47F1-8E29-17692B3C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F781-4C75-40D1-A78F-8AB08E51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8DB7-4B66-4410-A065-1AA176E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C8364-7170-4D43-9664-DF07ABA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1BF30-FA15-42D4-B0D1-4806873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1B71-F03A-44DF-A965-261836E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D9DDF-64A5-4FE5-8BB1-0C3194B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4B33-565A-4B24-901C-CE1121E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717-4F2B-4255-ADDF-2C268214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1379-A30B-4410-8F2E-89477E9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9AF3C-689F-4F4E-8505-745C45DD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B56EE-685E-485A-935F-40961DF6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625FE-A00C-4189-BDC8-D4590DC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4DBEB-E400-4FD6-A74E-C009DCC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AEA9D-C9D1-45FF-B0B4-B0251B8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D9EB-85EB-4F69-9D66-9AAE2CC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1AC79-A578-44A3-B65E-1895FC0D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9AE94-9E0C-433F-A448-F4DFE0E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AA1C7-1B20-434F-9403-8838A15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F4CE0-4285-4C51-B4C6-A41865D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1A977-DA51-4016-877E-DEB81053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1959D-7F9F-4E7C-ADB1-9975BA0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E2334-4D06-4C3C-BDA5-66DB877D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1102-A2CA-482B-AB9C-FE67B6F1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5B3B-5E8A-4634-9E92-D74C357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2789E-65D3-4A77-B052-25E1010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ADBD-91E0-4B44-9C98-0E2A3D4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E385E-161C-4555-BA90-4230648D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B8C7-26A8-46A0-915A-14F6BBE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8F04-4C3C-4363-A7E8-0DE64334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3280F-ADF9-4B75-9F75-E18B5E72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42D0F-2D3D-4A65-ACFD-864AA78D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D8E13-B23A-4BB4-A5FA-24EC620A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54CA4-1206-4A40-AEE4-098649F2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45D74-E96F-4B6E-A587-3BE0965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08AC5-BDD9-433B-9634-413587F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647A6-3132-4ED6-BDF5-4C4073BB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D6230-0143-457E-8B59-DF1FBB4E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FD0FB-E2DC-495B-8D7F-BEE7018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931F4-5587-408F-AE65-4160E8C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0FF5F-4B5B-4648-9B3B-9B86372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EBFD7-7F88-4629-BF48-2DD94AC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864E1-A65F-42C0-ABB8-4A77F7B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4C415-5085-4D9F-979C-A714020A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0E2F1-E5E6-4EA9-8E1D-C2F42970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6038F-D0C8-4B4D-B865-E57131B2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0F2-70CC-4D87-8CED-CE1212D1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7888-8017-4B1A-BBDE-9130106E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D55-A6F5-47B7-A06B-D54A308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58E3-A805-41A4-9395-49F9EDEC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69A4-A0C7-478A-9C0D-B8154B45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FE2C-DC9E-4BD6-A682-4D795C9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220-8CC6-462A-ABC1-EEADD96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84B8-BBA9-4CA0-92FE-CF69B386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6BAE-4C6A-4464-B7EE-6D4C3186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F42DD-6686-42F8-8337-E965516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D02B3-B9E3-4F9F-AB1D-BB1C4D5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B752D-8D85-4B52-8CDB-71FE96B9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9F810-E3E6-4A34-8376-F2B0296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1FFB8-1BF8-416C-BD17-0DA26875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33A27-33BA-4B9D-9F0D-876F273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F7A04-6A86-4E17-BE8F-4381053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E97CD-B0A1-400A-9E10-181CC7A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B177-C5C5-47CC-8966-E133056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3680D-1291-4E0E-9997-69D2B48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FCA46-30E4-4E95-8B49-21B22951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9A471-184A-49B9-9EB1-32D53215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D43E-510C-4085-B38E-37BC9B3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30FB-84CF-4426-8DFE-2F503FB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3774-B1CD-4FFB-89D5-A408A7D0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DD21-58B1-4E1F-987F-A07E6DFB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4E36-8659-4D75-8731-C7CBA68C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3E61-5796-4C4D-A881-C41671D1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4991-3507-4E67-9397-72F5E6E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B25B-B11C-450F-A56B-E199B70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AD0-6389-494C-AE9E-C43003B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FFDB-8E6D-4F3C-84C8-498A826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967C-882A-45D1-9FAE-2F9259AF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AF64-F439-4A1D-AB52-6012922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1657-FF89-4901-B88A-39D97BE4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7379-4905-46B6-BCC0-7D5EA67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7846-21DA-4007-A60D-C664C80E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EC23-860B-496D-A78B-CD0E26C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7774-2A98-4501-B186-448FDFA0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DBAE-DB0D-4867-8D14-BEF77927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CBC0-CF53-4D35-BE69-CE4C1F62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57B-D940-45D9-B4D9-33E6E7F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C485-0AEE-44F2-98BB-AC443F7D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405E-923C-4CCA-9EBC-007888E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B982-BB42-4283-BDAC-A1D28DDA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89CA-C50E-4CB1-9A61-5E8201E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5A96-8CEF-49BC-8399-AA071C49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D36B-E096-4B96-B508-D319120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362A-597A-4C81-988B-97A1636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2ED3-0B00-4CF0-8475-99D945F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06FA-9C78-4C00-98B0-9F3B4FA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A185-5673-431A-BC39-C31BA9A5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923-0545-4323-A17B-B91AF93F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3C79-206D-44E5-A987-5DB3DF5A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3DA9-2D97-4F72-BE4E-E0FBA06A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26A3-05ED-45C1-9E45-9350D4A2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3BCA-3674-41B4-8851-92FB5DB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3AC3-D228-48D4-9F99-9AF0CCB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6FAB-AA9E-47F7-B694-CCA0F4D9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2E70-1E69-4C78-B163-9B77FD14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32BE-8B92-426E-A4CA-89B6A76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037E-48B3-4B81-A810-974EA85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2EB3-71CF-44D0-8008-64B732D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63A-2631-4BD2-A87D-0F09E17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141E4-702B-4BD2-A215-B2E76F96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CC46-F56D-4913-A45E-13ADF9A9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A45D-00D6-4F00-AA64-096AF51A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6211-8CB7-48B5-B194-1DDF7D6F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9AB4-F206-4686-A692-CCFB38DD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C7E80-EAF3-4DF0-9201-88DFD920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776C-16E3-424D-8874-7F7F4D73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F3FF1-B649-4DBF-A9B4-A4027025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4FF37-0938-4302-9D0B-D32FC98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FAF7-DE9F-4E9C-9AE3-AC4BA7A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D2D-D6D8-4D71-86AD-9799BA1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9C2C-13B7-47EE-AD3A-6C839F6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B39B-1896-4805-B20A-1F0C131F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1FC7-987F-4FBC-B67D-6A8E15D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8F04-3952-49AF-9ADE-06FC7B53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49B8-EE50-4510-8929-A373E766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E1AC-4F8B-43BC-9725-03030619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39394-C9FB-4295-92E4-E21E8F58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5775-41A7-4D86-8C31-2ECB101B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07CC-E85F-45B3-8260-4A471A37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86AFE-9BD9-4F52-85A1-E3649AB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1CA-12CC-40CA-912F-02C8AFB1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6C21-F042-49B6-A686-E9F21285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E2926-1AA5-45FE-9292-2C5B133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870C-1D3F-4C5E-AABE-B5BA6382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AE3E-D91E-4C68-B1A2-A3EE2D0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AC08-DB0B-469A-A026-51642C11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D04F-F9F9-4CDC-94D1-D595E3C8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64BC-6714-4718-87C8-32256E58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2019-C0F4-4284-90C8-3DFDF424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724B-D6D2-4E60-8FC0-51D9004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D7A44-61B8-456E-BB7D-405F945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ED75-4119-4E9D-9BF5-B6DEA48B41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8DDD-D745-4CB7-8E48-79F35C86B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ACE-7278-43B5-8358-0F0335E57C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269-3AF3-4A6B-ADED-1B909518A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74E2-FA14-49DB-B522-C3661CA3D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450D-BA2B-4F6A-9C6D-8A8716DDD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3085-E698-42F2-89C8-49EFF28B3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AEA-80F6-4883-A3FE-BBC94119C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317-3332-49C6-864E-975F3DFE6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6625-9149-4C23-BCCB-A96E3D20F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24AB-C748-420C-BBEC-31FEED9123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2273-4808-4ADA-9BF9-FC5B8430E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181-05A3-47AA-BEC8-5EB5F9ACA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B99-493B-40A2-8EAC-4C31D879B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4D92-8444-48B3-B5DC-87E6636097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E6E4-8FCD-44AF-8224-198E7E782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B6C-88C4-4B63-B3B7-FD166C8B7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4CEA-E9A3-4B36-8FBD-B50A63CFC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4EE-DEF0-40E6-B970-1163D46D5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3AE-4874-4605-B8FA-A648F2847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57F1-A4BA-4199-9BA2-2C08D3490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D0B2-E742-4740-A338-E98C7A4B8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4E20-BCF3-4A4A-BB77-B9C1946B3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04BA-7819-4357-A863-62DF98F20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129-9347-4159-B21A-5C831FBCA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5016-F792-45B4-BAFD-7A0348100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4B5-6734-4E3C-8EB9-08B0091FF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17C7-C9E1-43BF-AF4C-B0E12BC32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217C-3C98-4C51-A108-49019924E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0CE-AD2B-4C7B-B42B-85A2C0177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D6A3-9524-466E-9AA3-4C311ADFF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116C-ECF0-438F-A839-680C45388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0EA-B280-4F2E-88AF-626B14639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225-37F3-4183-B5B5-65D71052F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39A-D21A-4D28-AF42-80376F177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0:59Z</dcterms:modified>
  <cp:revision>745</cp:revision>
  <dc:subject/>
  <dc:title>Slide 1</dc:title>
</cp:coreProperties>
</file>