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wmf" ContentType="image/x-wmf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move the slide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ftr" idx="8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 type="sldNum" idx="9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0D9D-9B6D-416D-9D54-AC55D5D838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D25E-BE40-422C-B10E-1D65D6A391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50E9-8DA8-47CE-AA8A-5FFAEF68A6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&gt; Not repeating the scientific evidence and economics 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k advice on timeframe, modalities, possible size of voluntary contribution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ote language from COP12 asking the GEF to finance adap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2206-CF59-4B4B-B38C-031E5139AC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0C1C-D993-49F7-A9F8-F82C58A49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68F7-9F68-4FB3-9DF9-9EE19D5F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3597-3557-4011-BD17-19FC63A1E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4BD9-D1C8-4E51-8666-9A2AB5747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66B0-EB89-4C1A-B506-4D8DC1361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62BA-3887-4647-A017-A74CB043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BD06-84CB-4804-A5E5-1F8D99E2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3168-DB9B-4A9C-A2C6-93C3E06D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B2E9-93CF-47E9-84EA-C079A7B6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C9582-AC85-4953-928F-2379953F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8E9C-660A-4988-BCED-9C12B1D0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13B9-66CA-4C59-9A9D-27F527E8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5B85-FA8A-4B62-9E18-43094372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45F4-9F4E-4E63-9F39-BBB3CF6F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6E93-18E0-4993-8772-026FB68A9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3FFE1-B6F5-4003-A636-DA1C29F79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F24A-6078-49B7-B266-024D1539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98E6-6743-4705-ADF7-AB0F8B75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9423-4419-4E55-A337-EC240F52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61D8-BBAA-40CB-BAA4-5D67846A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BC89-6463-4A20-8526-A2FE090B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E573-DE0F-4AA8-A487-CB4BD14D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19F6-48A7-4637-9F50-ED47CA20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1068-0721-4958-8799-A11A83B0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8F1D-FB9F-4E84-BFEF-A84449B675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2280-45A3-4484-96F2-4B565506E1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217D-F62F-4211-ABD1-4C4A1FD5FD67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773D-A105-4837-87D6-F6CFB5306F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3" name="Picture 13" descr="GEFlogo_short_White"/>
          <p:cNvPicPr/>
          <p:nvPr/>
        </p:nvPicPr>
        <p:blipFill>
          <a:blip r:embed="rId2"/>
          <a:stretch/>
        </p:blipFill>
        <p:spPr>
          <a:xfrm>
            <a:off x="152280" y="152280"/>
            <a:ext cx="978120" cy="1100160"/>
          </a:xfrm>
          <a:prstGeom prst="rect">
            <a:avLst/>
          </a:prstGeom>
          <a:ln w="0">
            <a:noFill/>
          </a:ln>
        </p:spPr>
      </p:pic>
      <p:sp>
        <p:nvSpPr>
          <p:cNvPr id="44" name="Freeform 18"/>
          <p:cNvSpPr/>
          <p:nvPr/>
        </p:nvSpPr>
        <p:spPr>
          <a:xfrm>
            <a:off x="698400" y="952560"/>
            <a:ext cx="9207720" cy="266760"/>
          </a:xfrm>
          <a:custGeom>
            <a:avLst/>
            <a:gdLst>
              <a:gd name="textAreaLeft" fmla="*/ 0 w 9207720"/>
              <a:gd name="textAreaRight" fmla="*/ 9208080 w 920772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5800" h="168">
                <a:moveTo>
                  <a:pt x="0" y="144"/>
                </a:moveTo>
                <a:cubicBezTo>
                  <a:pt x="2188" y="156"/>
                  <a:pt x="4376" y="168"/>
                  <a:pt x="5088" y="144"/>
                </a:cubicBezTo>
                <a:cubicBezTo>
                  <a:pt x="5800" y="120"/>
                  <a:pt x="4408" y="24"/>
                  <a:pt x="4272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6172200" y="6095880"/>
            <a:ext cx="2770200" cy="60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2424240" cy="533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440" y="12952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hyperlink" Target="http://www.thegef.org/gef/ldcf" TargetMode="External"/><Relationship Id="rId7" Type="http://schemas.openxmlformats.org/officeDocument/2006/relationships/hyperlink" Target="http://www.thegef.org/gef/sccf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Стратегия адаптации к изменению климата Фонда для наименее развитых стран</a:t>
            </a:r>
            <a:r>
              <a:rPr b="1" lang="en-US" sz="2400" spc="-1" strike="noStrike">
                <a:solidFill>
                  <a:srgbClr val="00642d"/>
                </a:solidFill>
                <a:latin typeface="Arial"/>
              </a:rPr>
              <a:t> (LDCF)</a:t>
            </a: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и Специального фонда для борьбы </a:t>
            </a:r>
            <a:br>
              <a:rPr sz="2400"/>
            </a:b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с изменением климата</a:t>
            </a:r>
            <a:r>
              <a:rPr b="1" lang="en-US" sz="2400" spc="-1" strike="noStrike">
                <a:solidFill>
                  <a:srgbClr val="00642d"/>
                </a:solidFill>
                <a:latin typeface="Arial"/>
              </a:rPr>
              <a:t> (SCCF)</a:t>
            </a:r>
            <a:endParaRPr b="1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834840" y="4343400"/>
            <a:ext cx="7086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42d"/>
                </a:solidFill>
                <a:latin typeface="Calibri"/>
              </a:rPr>
              <a:t>Семинар для членов ГЭФ </a:t>
            </a:r>
            <a:br>
              <a:rPr sz="2000"/>
            </a:br>
            <a:r>
              <a:rPr b="1" lang="ru-RU" sz="2000" spc="-1" strike="noStrike">
                <a:solidFill>
                  <a:srgbClr val="00642d"/>
                </a:solidFill>
                <a:latin typeface="Calibri"/>
              </a:rPr>
              <a:t>в расширенном составе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42d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642d"/>
                </a:solidFill>
                <a:latin typeface="Calibri"/>
              </a:rPr>
              <a:t>11–13 </a:t>
            </a:r>
            <a:r>
              <a:rPr b="1" lang="ru-RU" sz="2000" spc="-1" strike="noStrike">
                <a:solidFill>
                  <a:srgbClr val="00642d"/>
                </a:solidFill>
                <a:latin typeface="Calibri"/>
              </a:rPr>
              <a:t>октября</a:t>
            </a:r>
            <a:r>
              <a:rPr b="1" lang="en-US" sz="2000" spc="-1" strike="noStrike">
                <a:solidFill>
                  <a:srgbClr val="00642d"/>
                </a:solidFill>
                <a:latin typeface="Calibri"/>
              </a:rPr>
              <a:t> 2011</a:t>
            </a:r>
            <a:r>
              <a:rPr b="1" lang="ru-RU" sz="2000" spc="-1" strike="noStrike">
                <a:solidFill>
                  <a:srgbClr val="00642d"/>
                </a:solidFill>
                <a:latin typeface="Calibri"/>
              </a:rPr>
              <a:t> года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42d"/>
                </a:solidFill>
                <a:latin typeface="Calibri"/>
              </a:rPr>
              <a:t>Ташкент, Узбекистан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0" name="Подзаголовок 2"/>
          <p:cNvSpPr/>
          <p:nvPr/>
        </p:nvSpPr>
        <p:spPr>
          <a:xfrm>
            <a:off x="504720" y="727200"/>
            <a:ext cx="642960" cy="125280"/>
          </a:xfrm>
          <a:prstGeom prst="rect">
            <a:avLst/>
          </a:prstGeom>
          <a:solidFill>
            <a:srgbClr val="006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Подзаголовок 2"/>
          <p:cNvSpPr/>
          <p:nvPr/>
        </p:nvSpPr>
        <p:spPr>
          <a:xfrm>
            <a:off x="1314360" y="426960"/>
            <a:ext cx="365940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Подзаголовок 2"/>
          <p:cNvSpPr/>
          <p:nvPr/>
        </p:nvSpPr>
        <p:spPr>
          <a:xfrm>
            <a:off x="1257480" y="63036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атегия адаптации к изменению климата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DCF/SCCF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а 2010–2014 гг.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6840" y="1219320"/>
            <a:ext cx="5334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аптация к изменению климата – это процесс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кращения неблагоприятных воздействий изменения климата на людей и природные систем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Речь идет о мероприятиях, направленных на противодействие реальным изменениям, а также о процессе приспособления к ожидаемым изменениям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могать развивающимся странам в укреплении устойчивости к изменению климата путем реализации неотложных и долгосрочных адаптационных мер в рамках политики, планов, программ, проектов и мероприятий в области развит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Эффект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кращение в абсолютном выражении ущерба от изменения климата, в том числе от изменчивости климат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236520" indent="33192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BA9C-85FB-4D97-967E-91E15385A9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A22C-8B88-463C-83C7-7C6CB4ABCF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8" descr="Vertical harvest Vietnam replenishment.tif"/>
          <p:cNvPicPr/>
          <p:nvPr/>
        </p:nvPicPr>
        <p:blipFill>
          <a:blip r:embed="rId2"/>
          <a:stretch/>
        </p:blipFill>
        <p:spPr>
          <a:xfrm>
            <a:off x="6172200" y="1598760"/>
            <a:ext cx="2971800" cy="5259240"/>
          </a:xfrm>
          <a:prstGeom prst="rect">
            <a:avLst/>
          </a:prstGeom>
          <a:ln w="0">
            <a:noFill/>
          </a:ln>
        </p:spPr>
      </p:pic>
      <p:sp>
        <p:nvSpPr>
          <p:cNvPr id="599" name="Подзаголовок 2"/>
          <p:cNvSpPr/>
          <p:nvPr/>
        </p:nvSpPr>
        <p:spPr>
          <a:xfrm>
            <a:off x="504720" y="636264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Подзаголовок 2"/>
          <p:cNvSpPr/>
          <p:nvPr/>
        </p:nvSpPr>
        <p:spPr>
          <a:xfrm>
            <a:off x="1333440" y="6086520"/>
            <a:ext cx="365940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Подзаголовок 2"/>
          <p:cNvSpPr/>
          <p:nvPr/>
        </p:nvSpPr>
        <p:spPr>
          <a:xfrm>
            <a:off x="1266840" y="627696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атегические цели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DCF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85440" y="114300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Снижение степени уязвимости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перед лицом неблагоприятных последствий изменения климата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пр., сокращение риска экономического ущерба через реализацию адаптационных ме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2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8F53-C596-458A-AC6B-2CF44648A3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2" descr="C:\Users\owner\Desktop\water-wars-in-the-andes_1.jpg"/>
          <p:cNvPicPr/>
          <p:nvPr/>
        </p:nvPicPr>
        <p:blipFill>
          <a:blip r:embed="rId2"/>
          <a:stretch/>
        </p:blipFill>
        <p:spPr>
          <a:xfrm>
            <a:off x="5715000" y="1219320"/>
            <a:ext cx="3429000" cy="5638680"/>
          </a:xfrm>
          <a:prstGeom prst="rect">
            <a:avLst/>
          </a:prstGeom>
          <a:ln w="0">
            <a:noFill/>
          </a:ln>
        </p:spPr>
      </p:pic>
      <p:sp>
        <p:nvSpPr>
          <p:cNvPr id="607" name="Подзаголовок 2"/>
          <p:cNvSpPr/>
          <p:nvPr/>
        </p:nvSpPr>
        <p:spPr>
          <a:xfrm>
            <a:off x="504720" y="6372360"/>
            <a:ext cx="642960" cy="125280"/>
          </a:xfrm>
          <a:prstGeom prst="rect">
            <a:avLst/>
          </a:prstGeom>
          <a:solidFill>
            <a:srgbClr val="2540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одзаголовок 2"/>
          <p:cNvSpPr/>
          <p:nvPr/>
        </p:nvSpPr>
        <p:spPr>
          <a:xfrm>
            <a:off x="514440" y="637236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одзаголовок 2"/>
          <p:cNvSpPr/>
          <p:nvPr/>
        </p:nvSpPr>
        <p:spPr>
          <a:xfrm>
            <a:off x="1333440" y="6086520"/>
            <a:ext cx="365940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одзаголовок 2"/>
          <p:cNvSpPr/>
          <p:nvPr/>
        </p:nvSpPr>
        <p:spPr>
          <a:xfrm>
            <a:off x="1266840" y="627696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Стратегические цели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LDCF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SCCF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7200" y="1371600"/>
            <a:ext cx="5029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Calibri"/>
                <a:ea typeface="Arial"/>
              </a:rPr>
              <a:t>2.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  <a:ea typeface="Arial"/>
              </a:rPr>
              <a:t>	</a:t>
            </a:r>
            <a:r>
              <a:rPr b="1" lang="ru-RU" sz="2200" spc="-1" strike="noStrike">
                <a:solidFill>
                  <a:srgbClr val="0070c0"/>
                </a:solidFill>
                <a:latin typeface="Arial"/>
                <a:ea typeface="Arial"/>
              </a:rPr>
              <a:t>Усиление адаптационных возможностей                                       </a:t>
            </a:r>
            <a:r>
              <a:rPr b="0" lang="ru-RU" sz="2200" spc="-1" strike="noStrike">
                <a:solidFill>
                  <a:srgbClr val="0070c0"/>
                </a:solidFill>
                <a:latin typeface="Arial"/>
                <a:ea typeface="Arial"/>
              </a:rPr>
              <a:t>по реагированию                                                    на неблагоприятные воздействия изменения климата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напр., в рамках соответствующих секторов развития и природных ресурсов; диверсификации                  и укрепления источников доходов и средств к существовани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E7F2-BF4E-4DFE-9CC5-93DB9BA624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4" descr="Bhutan"/>
          <p:cNvPicPr/>
          <p:nvPr/>
        </p:nvPicPr>
        <p:blipFill>
          <a:blip r:embed="rId2"/>
          <a:stretch/>
        </p:blipFill>
        <p:spPr>
          <a:xfrm>
            <a:off x="5472000" y="1752480"/>
            <a:ext cx="3672000" cy="5105520"/>
          </a:xfrm>
          <a:prstGeom prst="rect">
            <a:avLst/>
          </a:prstGeom>
          <a:ln w="0">
            <a:noFill/>
          </a:ln>
          <a:effectLst>
            <a:outerShdw dist="241321" dir="2700000" blurRad="0" rotWithShape="0">
              <a:srgbClr val="262626">
                <a:alpha val="55000"/>
              </a:srgbClr>
            </a:outerShdw>
          </a:effectLst>
        </p:spPr>
      </p:pic>
      <p:sp>
        <p:nvSpPr>
          <p:cNvPr id="616" name="Подзаголовок 2"/>
          <p:cNvSpPr/>
          <p:nvPr/>
        </p:nvSpPr>
        <p:spPr>
          <a:xfrm>
            <a:off x="504720" y="637236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Подзаголовок 2"/>
          <p:cNvSpPr/>
          <p:nvPr/>
        </p:nvSpPr>
        <p:spPr>
          <a:xfrm>
            <a:off x="1333440" y="6086520"/>
            <a:ext cx="365940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Подзаголовок 2"/>
          <p:cNvSpPr/>
          <p:nvPr/>
        </p:nvSpPr>
        <p:spPr>
          <a:xfrm>
            <a:off x="1266840" y="627696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Стратегические цели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LDCF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SCCF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457200" y="15998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3.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	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Оказание содействия в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передаче и внедрении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адаптационных технологий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гласно определению этого понятия в Рамочной конвенции ООН об изменении климата  (пример: передача технологий Иордании при содейств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C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CC4A-04AD-4403-B1E1-F5927F5242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Content Placeholder 9" descr=""/>
          <p:cNvPicPr/>
          <p:nvPr/>
        </p:nvPicPr>
        <p:blipFill>
          <a:blip r:embed="rId2"/>
          <a:stretch/>
        </p:blipFill>
        <p:spPr>
          <a:xfrm>
            <a:off x="6019920" y="1752480"/>
            <a:ext cx="3124080" cy="5105520"/>
          </a:xfrm>
          <a:prstGeom prst="rect">
            <a:avLst/>
          </a:prstGeom>
          <a:ln w="0">
            <a:noFill/>
          </a:ln>
          <a:effectLst>
            <a:outerShdw dist="203137" dir="2700000" blurRad="0" rotWithShape="0">
              <a:srgbClr val="262626">
                <a:alpha val="77000"/>
              </a:srgbClr>
            </a:outerShdw>
          </a:effectLst>
        </p:spPr>
      </p:pic>
      <p:sp>
        <p:nvSpPr>
          <p:cNvPr id="624" name="Подзаголовок 2"/>
          <p:cNvSpPr/>
          <p:nvPr/>
        </p:nvSpPr>
        <p:spPr>
          <a:xfrm>
            <a:off x="504720" y="637236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Подзаголовок 2"/>
          <p:cNvSpPr/>
          <p:nvPr/>
        </p:nvSpPr>
        <p:spPr>
          <a:xfrm>
            <a:off x="1333440" y="6086520"/>
            <a:ext cx="365940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Подзаголовок 2"/>
          <p:cNvSpPr/>
          <p:nvPr/>
        </p:nvSpPr>
        <p:spPr>
          <a:xfrm>
            <a:off x="1266840" y="627696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спектив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ление и реализация программ в  рамка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DCF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C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уязвимые сектора – объекты целевой помощ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льское хозяйство, продовольственная безопасность, рациональное водопользование, – все эти сектора непосредственно связаны с мероприятиями по противодействию деградации земел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редством многостороннего трастового фонда и программных подход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DCF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C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пособствуют формированию синергетических эффектов во взаимодействии  с другими тематическими областями деятельности ГЭФ, в том числе – и не в последнюю очередь –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мероприятиями по противодействию деградации земел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5E1E-17F9-4023-BBD9-87348306EC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631" name="Подзаголовок 2"/>
          <p:cNvSpPr/>
          <p:nvPr/>
        </p:nvSpPr>
        <p:spPr>
          <a:xfrm>
            <a:off x="504720" y="637236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Подзаголовок 2"/>
          <p:cNvSpPr/>
          <p:nvPr/>
        </p:nvSpPr>
        <p:spPr>
          <a:xfrm>
            <a:off x="1333440" y="6086520"/>
            <a:ext cx="365940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Подзаголовок 2"/>
          <p:cNvSpPr/>
          <p:nvPr/>
        </p:nvSpPr>
        <p:spPr>
          <a:xfrm>
            <a:off x="1266840" y="627696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спектив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ление и реализация программ в  рамка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DCF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C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ащивание объемов адаптационных мероприятий посредство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тойчивого и предсказуемого финансирования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LDCF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SCCF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граммных подход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ление деятельности с учетом указаний органов Конвенции, потребностей развивающихся стран, результатов независимых оцен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0B85-E706-43B5-A2C5-168E15C2A7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638" name="Подзаголовок 2"/>
          <p:cNvSpPr/>
          <p:nvPr/>
        </p:nvSpPr>
        <p:spPr>
          <a:xfrm>
            <a:off x="504720" y="637236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Подзаголовок 2"/>
          <p:cNvSpPr/>
          <p:nvPr/>
        </p:nvSpPr>
        <p:spPr>
          <a:xfrm>
            <a:off x="1333440" y="6086520"/>
            <a:ext cx="365940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Подзаголовок 2"/>
          <p:cNvSpPr/>
          <p:nvPr/>
        </p:nvSpPr>
        <p:spPr>
          <a:xfrm>
            <a:off x="1266840" y="627696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Новаторские элементы в деятельности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LDCF/SCCF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838080" y="1218960"/>
            <a:ext cx="792504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36520" indent="331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36520" indent="331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D7A4-E7AC-4BC6-824F-539EE3E27A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3"/>
          <p:cNvSpPr/>
          <p:nvPr/>
        </p:nvSpPr>
        <p:spPr>
          <a:xfrm>
            <a:off x="720720" y="1295280"/>
            <a:ext cx="3622680" cy="33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левой фонд ГЭФ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ростные затр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обальные бла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финанс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4"/>
          <p:cNvSpPr/>
          <p:nvPr/>
        </p:nvSpPr>
        <p:spPr>
          <a:xfrm>
            <a:off x="4419720" y="1295280"/>
            <a:ext cx="457200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LDCF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 SCC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ые затра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требований о глобальных благ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системы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А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ычные механизмы и источники финансирования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ение предельных сумм по межотраслевым проектам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DC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обрение проекто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DCF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 мере готов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7" descr="Woman with wood Burkina Faso.tif"/>
          <p:cNvPicPr/>
          <p:nvPr/>
        </p:nvPicPr>
        <p:blipFill>
          <a:blip r:embed="rId2"/>
          <a:stretch/>
        </p:blipFill>
        <p:spPr>
          <a:xfrm>
            <a:off x="6324480" y="4572000"/>
            <a:ext cx="2057400" cy="1706400"/>
          </a:xfrm>
          <a:prstGeom prst="rect">
            <a:avLst/>
          </a:prstGeom>
          <a:ln w="0">
            <a:noFill/>
          </a:ln>
        </p:spPr>
      </p:pic>
      <p:sp>
        <p:nvSpPr>
          <p:cNvPr id="648" name="Подзаголовок 2"/>
          <p:cNvSpPr/>
          <p:nvPr/>
        </p:nvSpPr>
        <p:spPr>
          <a:xfrm>
            <a:off x="504720" y="637236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Подзаголовок 2"/>
          <p:cNvSpPr/>
          <p:nvPr/>
        </p:nvSpPr>
        <p:spPr>
          <a:xfrm>
            <a:off x="1333440" y="6086520"/>
            <a:ext cx="365940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Подзаголовок 2"/>
          <p:cNvSpPr/>
          <p:nvPr/>
        </p:nvSpPr>
        <p:spPr>
          <a:xfrm>
            <a:off x="1266840" y="627696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2A75-9EB8-4988-AC46-4D3D85DF5D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7" descr="Man harvesting Ethiopia.tif"/>
          <p:cNvPicPr/>
          <p:nvPr/>
        </p:nvPicPr>
        <p:blipFill>
          <a:blip r:embed="rId1"/>
          <a:stretch/>
        </p:blipFill>
        <p:spPr>
          <a:xfrm>
            <a:off x="-85680" y="1517760"/>
            <a:ext cx="2073240" cy="27558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2" descr="Fishermen Mexico replenishment.tif"/>
          <p:cNvPicPr/>
          <p:nvPr/>
        </p:nvPicPr>
        <p:blipFill>
          <a:blip r:embed="rId2"/>
          <a:stretch/>
        </p:blipFill>
        <p:spPr>
          <a:xfrm>
            <a:off x="7156440" y="1517760"/>
            <a:ext cx="2170080" cy="27558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7" descr="Woman with wood Burkina Faso.tif"/>
          <p:cNvPicPr/>
          <p:nvPr/>
        </p:nvPicPr>
        <p:blipFill>
          <a:blip r:embed="rId3"/>
          <a:stretch/>
        </p:blipFill>
        <p:spPr>
          <a:xfrm>
            <a:off x="2938320" y="1517760"/>
            <a:ext cx="3316320" cy="27558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6" descr="Boy with a branch Bhutan.tif"/>
          <p:cNvPicPr/>
          <p:nvPr/>
        </p:nvPicPr>
        <p:blipFill>
          <a:blip r:embed="rId4"/>
          <a:stretch/>
        </p:blipFill>
        <p:spPr>
          <a:xfrm>
            <a:off x="1474920" y="1517760"/>
            <a:ext cx="1963440" cy="27558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8" descr="Vertical harvest Vietnam replenishment.tif"/>
          <p:cNvPicPr/>
          <p:nvPr/>
        </p:nvPicPr>
        <p:blipFill>
          <a:blip r:embed="rId5"/>
          <a:stretch/>
        </p:blipFill>
        <p:spPr>
          <a:xfrm>
            <a:off x="5645160" y="1504800"/>
            <a:ext cx="2060640" cy="2775240"/>
          </a:xfrm>
          <a:prstGeom prst="rect">
            <a:avLst/>
          </a:prstGeom>
          <a:ln w="0">
            <a:noFill/>
          </a:ln>
        </p:spPr>
      </p:pic>
      <p:sp>
        <p:nvSpPr>
          <p:cNvPr id="658" name="TextBox 12"/>
          <p:cNvSpPr/>
          <p:nvPr/>
        </p:nvSpPr>
        <p:spPr>
          <a:xfrm>
            <a:off x="2133720" y="4191120"/>
            <a:ext cx="5790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полнительная информация на сайтах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LDCF/SCC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DCF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thegef.org/gef/ld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CF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thegef.org/gef/sc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2" descr=""/>
          <p:cNvPicPr/>
          <p:nvPr/>
        </p:nvPicPr>
        <p:blipFill>
          <a:blip r:embed="rId8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660" name="Подзаголовок 2"/>
          <p:cNvSpPr/>
          <p:nvPr/>
        </p:nvSpPr>
        <p:spPr>
          <a:xfrm>
            <a:off x="504720" y="637236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Подзаголовок 2"/>
          <p:cNvSpPr/>
          <p:nvPr/>
        </p:nvSpPr>
        <p:spPr>
          <a:xfrm>
            <a:off x="1333440" y="6086520"/>
            <a:ext cx="365940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Подзаголовок 2"/>
          <p:cNvSpPr/>
          <p:nvPr/>
        </p:nvSpPr>
        <p:spPr>
          <a:xfrm>
            <a:off x="1266840" y="627696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20:03:18Z</dcterms:created>
  <dc:creator>wb284794</dc:creator>
  <dc:description/>
  <dc:language>en-US</dc:language>
  <cp:lastModifiedBy>wb350798</cp:lastModifiedBy>
  <cp:lastPrinted>2011-09-30T12:21:04Z</cp:lastPrinted>
  <dcterms:modified xsi:type="dcterms:W3CDTF">2011-11-01T20:59:54Z</dcterms:modified>
  <cp:revision>765</cp:revision>
  <dc:subject/>
  <dc:title>Slide 1</dc:title>
</cp:coreProperties>
</file>