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9F4-C48C-4A78-BA3B-EEE522C4E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63AD-408D-48D8-9CAA-093BAF594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FD4E-D14E-4B62-A0AC-48E609173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470-1D5E-4E02-8A9C-F95606751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808-584E-4C3F-82C6-88BA6B8E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5D6-8BEF-49B5-8886-999C25F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7B9-AB14-4983-A36E-60CBD123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C88-C5B5-4505-8E7F-CEE5431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050-C2F5-48B1-B22A-675F547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939D-D432-4724-935B-BAECF4D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2CF2-D1CD-4960-AB54-613397A7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C695-61B9-4E70-BE37-F52A83F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B0A0-8415-44FD-ACDE-90B5622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EEEA-FA7A-4C21-80C5-16C27DB6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C51C-36B6-4320-84CC-D5E9466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DF8F-0440-41B1-A859-3D660AF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A38F-110F-4A90-B71A-7DD2595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9A5-E8B9-467A-B21B-BBB025D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94E6-1CA2-4DE7-96A2-D4AAFB54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3A5-FA01-47E2-AA02-3EE15BAB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7A4-F431-4201-B693-8FAFF962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147-5D5C-4928-9C3D-FA398423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5D4-58B3-4005-A364-4E59116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C75-0617-4D82-A654-C8ABCAC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435-1885-4F88-B46D-93CC7607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32F-84EA-48BA-BDA3-68861C1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834-54D2-4A23-9825-7130333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6CC-7E78-4AFB-A269-06B39321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0F25-F724-43C1-B5A5-ECFC84F88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181D-C940-4104-A4B9-5201B3DFB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DFA1-7E13-4DD3-9472-CF2088F28B5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764-810E-49CF-BFF8-84DB04FB0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тратегия адаптации к изменению климата Фонда для наименее развитых стран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LDCF)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и Специального фонда для борьбы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 изменением климата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SCCF)</a:t>
            </a:r>
            <a:endParaRPr b="1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4840" y="43434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br>
              <a:rPr sz="2000"/>
            </a:b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1314360" y="426960"/>
            <a:ext cx="36594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я адаптации к изменению клима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DCF/SCC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2010–2014 гг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2193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я к изменению климата – это процес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щения неблагоприятных воздействий изменения климата на людей и природные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Речь идет о мероприятиях, направленных на противодействие реальным изменениям, а также о процессе приспособления к ожидаемым изменения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развивающимся странам в укреплении устойчивости к изменению климата путем реализации неотложных и долгосрочных адаптационных мер в рамках политики, планов, программ, проектов и мероприятий в област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ффект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в абсолютном выражении ущерба от изменения климата, в том числе от изменчивости клим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727-6329-4292-A16F-523850B17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B2D-C927-4643-AE1C-B23A2CDD9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  <p:sp>
        <p:nvSpPr>
          <p:cNvPr id="599" name="Подзаголовок 2"/>
          <p:cNvSpPr/>
          <p:nvPr/>
        </p:nvSpPr>
        <p:spPr>
          <a:xfrm>
            <a:off x="504720" y="636264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степени уязвимости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 лицом неблагоприятных последствий изменения климат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., сокращение риска экономического ущерба через реализацию адаптационных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4AF-F90B-430A-9A2E-6DB861E7D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607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одзаголовок 2"/>
          <p:cNvSpPr/>
          <p:nvPr/>
        </p:nvSpPr>
        <p:spPr>
          <a:xfrm>
            <a:off x="51444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силение адаптационных возможностей                              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по реагированию                                                    на неблагоприятные воздействия изменения клима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напр., в рамках соответствующих секторов развития и природных ресурсов; диверсификации                  и укрепления источников доходов и средств к существ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4C2-9303-43C0-BE64-A99B096D0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  <p:sp>
        <p:nvSpPr>
          <p:cNvPr id="616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казание содействия в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аче и внедрени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даптационных технолог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пределению этого понятия в Рамочной конвенции ООН об изменении климата  (пример: передача технологий Иордании при содейст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7F3-E76F-41E5-8344-2C15E197C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  <p:sp>
        <p:nvSpPr>
          <p:cNvPr id="624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уязвимые сектора – объекты целевой помощ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, продовольственная безопасность, рациональное водопользование, – все эти сектора непосредственно связаны с мероприятиями по противодействию деградации зем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многостороннего трастового фонда и программных подход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C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ствуют формированию синергетических эффектов во взаимодействии  с другими тематическими областями деятельности ГЭФ, в том числе – и не в последнюю очередь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ероприятиями по противодействию деградации зе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39F-6AAF-4C0D-9FDA-A117ACF31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1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объемов адаптационных мероприятий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го и предсказуемого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DCF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CC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ных под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с учетом указаний органов Конвенции, потребностей развивающихся стран, результатов независимых оц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00FE-96C8-4EEA-ACF6-2C0B4FCEB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оваторские элементы в деятельности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LDCF/SCC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D9E9-6774-4516-A0B8-C17374D7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20720" y="129528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вой фонд ГЭ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ст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129528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DCF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е 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ребований о глобальных бла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е механизмы и источники финансир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дельных сумм по межотраслевым проект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обрение проек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C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мере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6324480" y="457200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64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D32-87C5-47D5-8F09-84B3701D5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12"/>
          <p:cNvSpPr/>
          <p:nvPr/>
        </p:nvSpPr>
        <p:spPr>
          <a:xfrm>
            <a:off x="2133720" y="4191120"/>
            <a:ext cx="579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 на сай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DCF/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60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09-30T12:21:04Z</cp:lastPrinted>
  <dcterms:modified xsi:type="dcterms:W3CDTF">2011-11-01T20:59:54Z</dcterms:modified>
  <cp:revision>765</cp:revision>
  <dc:subject/>
  <dc:title>Slide 1</dc:title>
</cp:coreProperties>
</file>