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C28E-36A9-41E1-8398-2CA401B8C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1859-6F9A-4FF5-8496-64F506C5D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1AD-89B3-4D27-A105-A9624E5D9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CF0-F29B-461D-956C-17F442552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63F-4F81-40FC-BA9C-7175DD29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018-5CB7-42FE-A01C-8ECA9E64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E6D-ADA2-4360-A09D-B6A3A54B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78A-7173-4616-BEF0-3629A297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5A2-EB1A-4E24-9E05-6997A34E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7B67-E532-47EE-AB91-A5C67AB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D700-EC5F-4C21-84B9-5F8E1F2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BC8F-A1CD-4796-99BF-E5687AC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688-BE1F-4A9D-B23D-FAA643DD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2312-A2EF-4A6E-B30E-520B6B1C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70A1-7CFF-48D1-A7E1-3A49850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052-A37D-4A9F-9CCB-47213AC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CE5-8514-41A5-9D97-8A8FC96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EE5-84A3-4190-988F-0C7B33A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DF2-D493-4046-AB3E-BA7A34CA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E303-1A0C-4FB3-B1AD-10170835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BBD-9C09-4508-B5E1-281D383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201-680D-481B-A171-F8A6B19A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28A-3FCE-4A2F-BE84-08A0BD85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86E-CCD6-48CB-82A6-F8574D42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4A7-195F-4B3F-A4C6-C48217F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3B5-B269-42F0-976F-9677368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766-352B-4D79-B6E9-0EF6AD50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C6A-A5E6-4D60-90FE-8C4BC07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439-88EC-4BB8-A5AF-3CA3A973E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F484-C6CF-48A8-AD72-1BF365CC5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9BA-F6EB-4FE2-9263-01227177651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6F26-C68D-46F8-8786-7D93CBB8C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тратегия адаптации к изменению климата Фонда для наименее развитых стран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LDCF)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и Специального фонда для борьбы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 изменением климата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SCCF)</a:t>
            </a:r>
            <a:endParaRPr b="1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4840" y="43434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br>
              <a:rPr sz="2000"/>
            </a:b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1314360" y="426960"/>
            <a:ext cx="36594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я адаптации к изменению клима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DCF/SCC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2010–2014 гг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2193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я к изменению климата – это процес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щения неблагоприятных воздействий изменения климата на людей и природные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Речь идет о мероприятиях, направленных на противодействие реальным изменениям, а также о процессе приспособления к ожидаемым изменения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развивающимся странам в укреплении устойчивости к изменению климата путем реализации неотложных и долгосрочных адаптационных мер в рамках политики, планов, программ, проектов и мероприятий в област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ффект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в абсолютном выражении ущерба от изменения климата, в том числе от изменчивости клим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96B-9CA3-41B4-B17C-21851A92A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F90D-8FD3-479F-9BEF-E8C4B2703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  <p:sp>
        <p:nvSpPr>
          <p:cNvPr id="599" name="Подзаголовок 2"/>
          <p:cNvSpPr/>
          <p:nvPr/>
        </p:nvSpPr>
        <p:spPr>
          <a:xfrm>
            <a:off x="504720" y="636264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степени уязвимости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 лицом неблагоприятных последствий изменения климат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., сокращение риска экономического ущерба через реализацию адаптационных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3FC4-9EC4-43F4-9CAB-5DF71BADE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607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одзаголовок 2"/>
          <p:cNvSpPr/>
          <p:nvPr/>
        </p:nvSpPr>
        <p:spPr>
          <a:xfrm>
            <a:off x="51444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силение адаптационных возможностей                              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по реагированию                                                    на неблагоприятные воздействия изменения клима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напр., в рамках соответствующих секторов развития и природных ресурсов; диверсификации                  и укрепления источников доходов и средств к существ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C13E-0FAC-45B0-B9F2-CB450A701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  <p:sp>
        <p:nvSpPr>
          <p:cNvPr id="616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казание содействия в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аче и внедрени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даптационных технолог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пределению этого понятия в Рамочной конвенции ООН об изменении климата  (пример: передача технологий Иордании при содейст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16D7-D9BD-4EA5-8C2B-5F78018B0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  <p:sp>
        <p:nvSpPr>
          <p:cNvPr id="624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уязвимые сектора – объекты целевой помощ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, продовольственная безопасность, рациональное водопользование, – все эти сектора непосредственно связаны с мероприятиями по противодействию деградации зем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многостороннего трастового фонда и программных подход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C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ствуют формированию синергетических эффектов во взаимодействии  с другими тематическими областями деятельности ГЭФ, в том числе – и не в последнюю очередь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ероприятиями по противодействию деградации зе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A7C-4C6F-4711-99AE-A9453062F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1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объемов адаптационных мероприятий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го и предсказуемого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DCF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CC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ных под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с учетом указаний органов Конвенции, потребностей развивающихся стран, результатов независимых оц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864-8D61-414A-8E4B-05483CF9F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оваторские элементы в деятельности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LDCF/SCC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0DDB-3CAF-425C-B406-705177BA3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20720" y="129528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вой фонд ГЭ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ст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129528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DCF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е 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ребований о глобальных бла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е механизмы и источники финансир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дельных сумм по межотраслевым проект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обрение проек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C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мере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6324480" y="457200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64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732-26C9-4AE9-81E8-9E2AFE0CD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12"/>
          <p:cNvSpPr/>
          <p:nvPr/>
        </p:nvSpPr>
        <p:spPr>
          <a:xfrm>
            <a:off x="2133720" y="4191120"/>
            <a:ext cx="579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 на сай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DCF/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60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09-30T12:21:04Z</cp:lastPrinted>
  <dcterms:modified xsi:type="dcterms:W3CDTF">2011-11-01T20:59:54Z</dcterms:modified>
  <cp:revision>765</cp:revision>
  <dc:subject/>
  <dc:title>Slide 1</dc:title>
</cp:coreProperties>
</file>