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7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ftr" idx="7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 type="sldNum" idx="7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3DDE-878B-4838-A296-EC52148B1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A697-91A1-4F12-94AE-7BADEC249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FAF-ADC7-46F3-93B0-4BC018F9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407A-4BB9-4DD1-80CD-0A274545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A4A53-E260-4415-A9CB-257BE9AA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884CA-7104-4AED-B729-358FBD2D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B38F3-F2FD-48CA-87CE-6FA41EA4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7BC08-2CD5-4786-9C79-670B346F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92107-DCFC-49FA-9E73-BF32D6D8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5728E-75F0-4021-B0A2-98947E9D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15E82-FFAD-43F9-A8FF-AAA9CEA5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4469D-9828-4098-AD82-542C89C4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A313F-471E-40FB-90C3-734EF92F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434F6-3FC9-428E-84E3-FE9BD41C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90F-42A5-42F2-955C-9794ECD3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5B5A8-10B0-44A9-9417-361619BF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AE6B2-4AC3-402F-A4FE-EC168765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51B7A-9A87-4188-88A5-C483259E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1F315-1136-4C16-8C71-0C2F0482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683D8-56F7-4FA6-A6CF-8E080F7F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B71E6-7C98-46D8-A9AA-31498566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64217-7EBC-4E9C-9AEA-3A15DFD3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6A506-EF3C-4921-9C61-37AE35DB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6D2A6-D798-4C3A-BB1C-457DAEF8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C695A-B7D5-4962-8EA4-CBE9458E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C48-481F-4514-A3A6-B683C266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27675-1250-4030-AA44-8148E94C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C1D48-8D0B-46C3-8AFE-B1D854A2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08DDD-EE21-47FC-852F-1C7F6B7D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4263B-53C1-4329-82F5-ABCE1DBD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5958D-6DDA-4289-9257-5CB5725E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FB84A-A048-48F6-9158-85ACCD91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2B59D-A598-425F-A874-FF9F0469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954DB-A1A3-4B48-AB46-1EC36A51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E2119-DDB6-48B3-8803-3EF83D00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EAAFE-3A32-48D9-BCCC-39706A9B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FFBE-B6C3-4058-ACB2-F8E168BA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A9AD0-8093-4FB3-9D03-842046E8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D631D-1350-4C64-8A82-27A34E43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DFED3-5E55-4971-A177-DEC8C40E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CDA42-5191-4F6F-AA77-F16CF803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72532-1817-4A3D-BD2A-0F22F01E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18BE1-0D85-4090-B0F4-CB5C4C99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92688-91FD-4FB7-A170-6CAC77EC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47F60-F9CA-4C9C-990F-EEEAFB92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AD76A-8761-405E-9BC4-60335CE0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11F97-0C75-4FCA-A462-84CAADEF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49A3-AC76-420E-B14F-8A0D4FE5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9D645-C3B6-4ED7-8C55-B1597805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E3C18-B927-4AC7-A0E9-E479E498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B744C-B81B-45E1-81FB-D8614491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D3F76-0C49-4BE2-8ED4-1859E556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6E897-831A-4B8D-8CB2-B24A253D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83189-839B-43EE-A2BA-A6A61C66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BE739-622C-41CF-93FE-1457B50F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80BE7-15D4-4F77-836A-6D51FABE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26B7C-DEC0-4668-AFE1-8B153924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60413D-0546-4498-9C88-EC36E4ED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824D-8BA9-4AA6-94B9-6FD47093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9F510-4029-4260-A518-C7321795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D800C-7584-4AEF-8A76-BC4A2952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07DEE-766E-4C24-87FA-69BE8249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FD71D-754C-4E60-96A2-9FC2C56B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21E3F-1D7F-414B-9B5E-31E4BE3C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09F32-1F97-4973-9CFC-DA229EB3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64153-E34F-4E43-B4CF-05610545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DAE4D9-D803-406C-9AD4-C696C2A3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A4E7F-20AB-4CDD-BBF8-B42F42B0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34D62-3675-49E4-B3B2-D34A4A1E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3D2D-0662-4EDE-8D5B-8D46BCF5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FDA76-E28E-41E2-947A-4107DF1B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C12067-439B-4899-AE83-76E59D2A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6FFF17-F929-4D5F-AFEB-8EE51309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F51F9-2AD0-4727-8A57-43526F8C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2E90E-2380-4E19-830F-BFE97711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C2259-5E1A-4136-AA93-123AEFBF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32426-2E4C-4E6E-B390-D04CA0DF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D11B8-337F-4DA1-8696-1F7E3902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2CF6C-0922-4D54-A91F-1BAD4FB4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31863-41A9-411A-B7A8-3E186DC9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2247-555D-4BE5-B57F-32EE252F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8EB1C2-7D2C-4106-9620-6BEDE4ED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B65A4-C8B4-4222-BA48-A1F4180E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405A6-A7BE-4B60-B206-C32A4227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E7E1C-534B-43B0-A9B4-FB061C41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644F1C-F928-496A-91F6-4489047D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2EA5AF-CED8-4692-85E2-1232B94C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02A82-2909-45BF-ADD8-D25B1726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57C59-E2AD-48F8-B456-B9FD60F7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3F4B1-1A02-42DD-BCEA-6B615F24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CE868E-6497-491D-84C3-59D531B9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B3F3-615C-4C6F-A187-D4D60A86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77E110-F146-4DA7-93AF-BF460371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D2971E-4407-4365-AB0B-D27A4E9A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CA60B-7229-427C-941A-34842B49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8055B3-A598-4BA8-82BA-22605419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1D8EB-7B9D-4121-B14A-DFD3F104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4AC26D-A1C1-42F8-B7A7-B5CC75D4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4DA97-76F7-423B-93CA-168DCD10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71DF51-765B-41E5-ABE1-F1A16E8A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612023-5E7F-440A-A806-138EE191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14AB3-5986-4296-85FF-61167B08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AD2B-ADB8-4AD8-B089-24126344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545A24-B15A-4BEB-9A24-44A57942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016AB-BF45-40D9-B835-0F6ADF24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83BB0-9DA3-42A3-8FB5-A5BBFF0B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B68DBE-1077-417E-83E6-C2C0F3B9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6B5397-DD74-46DF-9680-FBD8F562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D9FE74-75A9-4B71-807A-7B8D943F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1042DF-6888-4B68-B1F8-26414CE2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B927C9-1F14-4B3A-AA08-B1923328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2492C0-0A16-42F3-A92E-A31B496A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226128-B110-4350-8140-4A0ADCA6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303-53F9-4499-9B82-FD6DA362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3559-DC9B-4254-8F1A-5AC974C4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AFFD0D-8EE8-489B-9024-F004E135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C28507-9F1D-447C-B9F0-2D05B580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84B99-051F-4687-9D8E-86DD2717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C60FA9-79CF-4ECF-94E3-ED87E3AD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8E8CB2-CDE1-4A08-8AA6-5EC8E139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C7DAA0-0C29-402E-A277-6F4388B5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AE53D8-9220-4F7C-ABA3-0588EEB9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192B3B-8BA3-456C-9FD6-D60659D7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FD805B-C971-4801-BEA2-00E4FC15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C36A0-C99C-486F-A874-932E19FF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B1FC-F2C0-410C-AE41-24B1F30F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0EC6C8-F4C9-41C2-A26A-7806D5D8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D763AD-F8E3-4960-825F-3AC4E7F9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309D49-44AD-489D-975C-B6FBD77C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F1EFF5-890A-4D8F-9B15-3BA8F323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5B4847-255B-4209-9F80-E93475FB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C559C-DB11-4B2D-AB9E-F5514A2E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0E677B-7816-49F9-8523-AB865D2E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634B24-366E-478A-9B32-7555A2B4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4A68C0-070F-4505-9F6E-D8450985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E7D81A-7248-478E-8E38-5E45D858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512F-6EC9-4275-8391-120FB5A3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84747C-D421-4798-94F2-D80FBFA3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C77D70-073E-4735-98A2-4902C817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095EA9-CB8B-4BA6-8CE1-331887A5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DF99E2-8C8C-4D7D-8AAD-E51A0D61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8603E9-9826-4C05-BEFC-56A69086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67D9AB-0653-4ABC-B5AA-3E4FF144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BC4D45-FF50-4443-BBDC-133EC9DB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07D585-CB5A-477B-AA96-CD5FDD48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7BCB9-01E1-4D3B-8234-96999527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01B5C-368D-446F-BAF2-169F9824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C2BB-B251-430F-ADF8-9C531681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BBDB72-56AB-4BC6-976D-4739813C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298CE4-6AC4-4DBC-8530-0BB6BD7C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2ED077-752F-4FBA-A542-00E81E83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219417-490C-4220-B8AB-3A86FB47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F98B6-CCA0-4FF9-A03B-21ADE808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34DDE9-0387-4290-8143-A82271E9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171618-D977-4686-9582-60511B71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73BCB7-D4D2-4C5C-BD6B-AC2D8952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D68373-E426-4D2F-9284-C0BB1897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9824C4-0636-4318-82CE-F29F6B18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C6BF-4CE5-4F54-8148-A24C254F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5AFEBA-3D89-42D2-A716-885C99D7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9C46CF-33A6-4597-B2C2-53861EFA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B7B364-4A35-417A-B843-4F6B1488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9DD31F-C0F6-467E-8390-5BCB6200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8225F6-753E-451A-BAE5-604B85D4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A78B2A-3AA1-4401-BFE8-46EB615A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A2F0FC-6CF5-4BD6-8931-B967D5AC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B45C19-A8AA-41D3-9741-DC2C6189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8AEACC-04A0-4EF8-A752-D8858872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A4B04B-3F25-419F-8845-E4F57965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5EBB3-BD2B-48A6-88C6-25694372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E9CA62-61A4-4A85-9700-1EB8E27D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46222E-AD1C-4BF1-AA8E-4A05FD9C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F2877E-50E7-4547-961F-8640E321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46E138-B0C3-4173-BFA1-28FC3722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D17C50-7589-40BB-8466-012E63C0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F29574-6161-4660-AD83-4E492107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95A792-E799-4717-B4DD-FBC25D63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8671A9-BBA1-4A89-BEED-9A1DFF1D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DF5974-B81C-42CC-9090-1B5D3CE3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26AD0D-1850-4EF5-98D5-AF802C98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65A2C-4B76-49B7-BC2C-525F0BE4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CB986A-B9AE-4BEB-A1B1-68EE7898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29B07E-4870-48F1-87A6-66D77051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35357A-46B5-4823-910E-285CA916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F8E20A-53E2-4083-9E0C-6862D917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18950C-0CD9-4FE0-B8B3-BEEA3611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98A03F-DE04-4379-BFBD-93AAC6C3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12A65A-790F-40F8-92B8-30A7C4E7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139372-0C2D-44C3-A186-2BD8C8F0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A3F815-EC4B-4C28-BC93-B9C64D36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618EE0-2BEF-4172-B0D1-83449460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ACC44-EE32-4511-96E8-377DA4F3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F400BA-A0D1-4361-9CEA-0444D51C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01717A-FDE2-41A6-B9B8-886E443E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219392-E26A-4694-A9E2-75D91922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59CFC9-B67C-4416-A0DD-4C35ECDA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A75010-7DB5-41EF-A28A-A7F844FB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B8E7B6-D6BA-4B06-8391-99841DE7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E01129-5B20-470B-BF01-93B6ED9E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5C4CF2-8343-4D41-8F72-E7749E82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04C4DC-CA11-4643-B774-77481742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2AD296-BF73-4C38-93C5-7633A7D1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E902C-0A56-4DD7-BF2D-EB4F74E0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9FE8B5-ACE2-446B-9DC4-156F1E15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AD002B-B0AE-4E58-B38F-04DF6F6C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22DB8B-20A4-43CF-B942-2F15B07D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2707E8-BF92-4696-B79C-6D51EA99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238AA7-0BDF-4D67-96F5-2327D5CF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69E239-8D0E-4DD6-B01A-CA3999B7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A3AA4B-2A0E-472F-BE33-490272E3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AAEEB7-9891-428E-95FB-DA34CF6F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F543D7-5253-4D44-A5FE-62799F5A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76C2E-D0A4-43C5-B51C-E9620F5D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2DD-D6F5-422E-8DC4-60468A12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37541-D50A-410F-83E2-96E9B0C5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6232F-3439-4F24-91F3-980151CB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99870-3686-417A-941D-C2F3FE1E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A1A02-0C12-44DE-9900-D3F5CB33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2713F-2F76-4BE4-8564-7ADA3C5F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340A0-D661-426B-A7E1-E65AE6DA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29B8D-E8D5-4395-988C-4BB61562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67019-76CD-4C4C-B7AB-6A359751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5185F-C19A-4986-9515-91D5E697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9468-6C27-44AF-A94A-A47E6528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2F3-FA5D-4E3E-8562-49ECBCB2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06DF7-6C95-4CE7-997C-D5880F4A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E7026-2D35-4D43-9843-9BCC7888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840CD-5C49-4B17-842F-C5ED3E7E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1890B-2583-40E7-9781-27922B94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DB57E-BABC-44D4-8AC9-DB4E0E4A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BBD4E-0CBD-41E9-AAA4-90615C96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B4CD5-BEA7-47DF-A52E-D879292E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3A7FD-CEB2-4A61-8437-232CE6B9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54C8-5325-44C4-8530-E889376D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AD4D5-676E-4824-A4DB-34164D6D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6E8-A121-4A18-BDE2-FB7ECBDF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B8DCA-1F2D-48E6-9363-60F9B7F7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C7552-979C-44BF-A1C7-C60DBFAF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7B208-6A22-44CF-B672-8FFD67E3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B9381-4E9C-4F97-87C9-2DEFA057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83D22-6CB6-414C-A030-1A29DE9C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4DA4E-EBC2-4869-BE10-AB3A13F6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60F5D-654A-497D-9980-FF4E4E17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5AEEA-B239-440F-9B62-6ADCFDB2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3A766-5FD8-45A8-B3B8-448F5BB2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3AA3F-941E-474F-9918-C902EF9A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9D5-928B-4040-8CFC-DEB2FC44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29238-E83F-486E-91F4-CAB52D8E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6DA4B-A802-4392-9A04-320E5CD2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2CF48-2DD2-4C64-B825-C1D43243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35B0F-D7A9-4959-8C0F-24387DD6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CD95A-8C4A-4CD4-B201-98C8C0D3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7EEE8-421C-48C6-B094-38D3C1C8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2D140-65EB-4DEC-AD5C-CC42C1D2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537E6-40B1-4582-BCD7-A21498B9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BDBB1-0023-4C5C-8589-A9BFCB7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C661A-D07C-464F-9CEC-BEEBA638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EA6-701B-4B11-AACE-AC84B668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F6A80-11C0-492B-AFD4-A8884F23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BACDA-71BF-418D-8541-FF57205D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311F2-6409-47AE-9952-0D5E61C2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89218-0CAE-4A83-A199-96D550AF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59650-2B77-4C1B-B957-80FB2FDB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32163-279B-4EC6-A20B-BC6F9324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1D69F-76ED-4657-B3B7-5E549E58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492B6-D6AF-4613-A45E-5996BD4A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97F27-DA37-4F9B-BEF4-7A594F47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E240A-98AC-41CB-8ABF-5A697AEA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719-9B3D-48F8-BB94-51C8CFFE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D7BD0-AD18-4D4C-BA83-FB741539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ED54A-82AC-4345-8B25-6047E696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13E02-FB7B-478B-8DD1-4458C21C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72E01-F366-4ABB-BE16-E08376B1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67EAB-4F13-44D5-A4D6-278B6DD4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4649D-8371-411A-ABFF-70ABD1A8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B31C1-8146-4488-858F-C89CF163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447B0-38EE-4B3A-B256-3B9CEB69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BBA0C-D991-4D19-9D9B-CB7B99D9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A9D84-7CFA-413F-897C-DBDA8C66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24B-65F2-4129-9B94-95A1C92E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D27CB-5949-49CD-9707-E336A97A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7B045-7C89-4164-A331-BF0E20FD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E6804-1D45-406D-9173-2D2AEED8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41671-9619-4840-99FA-21C2C0EB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7A095-AAB9-447A-AC12-B66C0A96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41343-3E80-457F-9932-054FB149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9FD65-CE57-4F10-BB94-DDFC3CDD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98F25-0036-452E-9958-13AD602D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E23DE-863B-4088-82D1-3CF99716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E71C2-61D3-494D-89C4-98C00991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2105-72D2-4B13-933F-33953295F93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1A90-2111-465B-9CD2-C6DCE4B403D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5DE0-5DCC-4377-B72D-B10320DC281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8BDD-8DFF-487C-BEF1-489CEB9AF1E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F368-BF8D-49D2-9E7A-B1F74766B40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8351-BB0C-43B2-9271-AEE623366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3E7A-5480-41A6-B043-2D8B3BE53C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B433-A2F0-475A-A937-A78D32B7D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D1AA-5095-4CEA-8884-86F2FAAB4F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D1D4-C8C2-48DA-ADE3-0BD0F416C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5517-6A89-4309-9ECF-5B7CC3536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3BB4-6CB9-41ED-B877-71B38A6A8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8D52-308B-42AC-9B8F-19008E384F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A694-0CCC-43ED-918A-D840DF6BA9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646C-CFBC-437C-8088-CE1CEA4B80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F25A-2DE7-409B-9FF3-ECA7B54664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92C8-493E-4A3D-9A98-673A183478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BCC6-D6F5-48B8-A124-7A8A2C5DA64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C3B7-3735-4CD9-B432-6FF2F1DC984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73F5-2F7F-4A4F-BFB9-CC177DA61C7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20EA-9E9B-48FF-A8EB-812B4ABA6DD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E1AB-F043-4D80-8F16-F93C18E0111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55AB-1268-4335-A304-97456F9FF75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546D-EE15-4C97-8D5C-16EF04B093D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trategic Approach to 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06" name="Subtitle 4"/>
          <p:cNvSpPr/>
          <p:nvPr/>
        </p:nvSpPr>
        <p:spPr>
          <a:xfrm>
            <a:off x="1219320" y="365760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alibri"/>
              </a:rPr>
              <a:t>Four Pathways defined to develop capacity of countries to implement Rio Conventions 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(Council in 2003 C/22.8)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 assessment of capacity needs (NCSA)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ening capacity development elements in GEF projects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capacity development projects CD (former CB-2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specific programs for addressing critical capacity building needs in LDCs and SID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rategic objectives for cross-cutting capacity development inGEF-5 (available 44 mln USD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088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Enhance capacities of stakeholders for engagement through consultative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Generate, access and use of information a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3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policy and legislation  development for achieving global benef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4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management and implementation of convention guide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apacities enhanced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Generic requirements for projects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consistent with strategic objectives for cross-cutting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www.thegef.org/gef/GEF5_Capacity_Development_Strategy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to be multifocal (to benefit at least three focal areas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orities to be identified through NCSA proces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co-financing at least with ratio 1:1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be MSPs or FS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7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wb350798</cp:lastModifiedBy>
  <dcterms:modified xsi:type="dcterms:W3CDTF">2011-11-01T20:41:23Z</dcterms:modified>
  <cp:revision>109</cp:revision>
  <dc:subject/>
  <dc:title>GEF NGO Network</dc:title>
</cp:coreProperties>
</file>