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7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ftr" idx="7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 type="sldNum" idx="7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ADEE-1A1C-47E0-858A-9C8B16D9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303-9AF9-4564-998E-A37D87B0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F Expanded Constituency Worksh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450-D53A-44B5-95B2-EFABB081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B00-2A7B-47DC-BC3E-BD9EA0E5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47EAA-778E-4D44-8AF4-3A8789B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59CC7-54BE-46F3-92ED-A8EFA7B9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CF7AB-7EDB-4DB2-B749-981FA4B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0C0A7-09AA-4D01-A65C-EB30DA7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64FB0-F5EC-4E2C-B4BB-D606F6D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B704C-40E0-4383-9061-A641C542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3084-FF69-4653-89C2-7F9D7E18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FD0E1-6FDB-42FB-A76B-874D73D5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55BFF-BBF9-43DF-9728-67EF14F5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79F6F-70BD-4283-8B5E-0012990D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69A-9129-47B1-98F4-7DD76EF4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5AD1C-09F5-4C27-93A5-9D047AF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3EA1A-7202-48EE-8897-E3CA380D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E8065-94B2-47B2-A390-F2993AB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9AA1-9349-4E22-8FAF-CC4652A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9872E-7CF7-402E-8C08-3B38B1E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CC9C8-A2D2-449F-8BDC-EF29D0F2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7DC3D-69D3-4610-AFAC-7224113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2CA93-7B8D-44F6-AE93-42DCB621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47E4B-461E-470B-AE98-AB5798B4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32219-7193-4B33-8717-135E7B86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A6B-6E20-416B-885F-93B5A05D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B49C6-2465-44D4-9FFB-A176BD91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19185-4FBC-414C-98CC-6AA004AA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82903-4DF9-414E-B5A6-746BCA43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C5942-6145-4349-B514-E16B031A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09D1A-852E-4D4C-9CD4-CAA4FAD9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8622E-9F43-464F-8296-34AFCD5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BBC36-E627-4924-95C3-EC68917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8BA7E-34B3-4431-A791-E81CAA4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9C1E5-D5B5-4073-A344-18BF092C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D486E-56FD-46A7-82BC-A2866D05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AF8-6108-4A65-8BF7-5BBE6FC59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C46C9-FD32-47F1-A488-5428DE0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7F07-AF83-427D-855B-59ED6A8B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1CD00-2304-4791-B7AE-5D74382F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20E1B-0710-4895-B1F7-63F2420F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439E-3978-4E62-B758-BE1DE23D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6C9A0-A545-4C6B-A127-5E467E3A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AEA38-6E7B-46B7-BBDC-16571493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14CB8-3A81-4210-B08F-D4B3B04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857ED-744C-40EE-B5B6-C5BBB62A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495E2-35F2-407F-865C-22E91837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A504-F61E-4898-A755-AA88D030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F828D-0E9C-44E8-B039-D7EA6C41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CE3B1-4D9A-4894-8A94-BF6E6789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F3618-5EB2-4204-BE3A-B11AA7CE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A886E-A8DC-4BA3-A297-12A6E1F4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21F35-D44D-4B8A-91DB-DC980C35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26849-D16C-4155-B3D7-318AEDC0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2C91E-5BA1-4114-831D-E4BBD5BA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0022F-6EED-4EBE-889C-E300A5BF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5BB7D-AF90-4495-80C7-D8E63759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6311A-3B31-40E2-8250-8C08222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5DCD-1EB8-4F6F-9FAB-1B8FB4AB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4FA52-52D2-4EAD-9578-DCEE881A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876D5-941E-4BA8-9969-506F4B71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17B675-D5CB-40F6-AC5B-F98082F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12D55-3F1B-4DEF-9E3C-18A097E8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8BC81-5F89-4295-89FE-16C0106B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9DD1F-CCC5-44BE-A045-6BE4AA3A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616BF8-84D4-41F9-9359-9879FF45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E37B2-18BB-40E8-8CC5-A36B4C67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252C7C-68A1-456F-8B57-4FD2CCED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7F608-9883-40F2-BD3A-8BC9797C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015A-6977-4B77-A792-CAA522AF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2A3F0-855E-4189-A633-474C7958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8B27EB-57DF-44A4-8F5E-311A801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6A39D-CA2A-4C21-9615-FD257743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66431-5F1D-4D26-BC3E-5D4AE62C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C17C2D-98DB-4DA6-BA36-635CD32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66939-BA71-4903-8945-3AC3959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BDF6EE-B550-473E-A455-0CFBCBEF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47286-9090-4900-AD1B-0A22D1FC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34AFC6-276B-4B2A-A1AF-E775550F4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9D0CC-A894-44E3-8C93-CCEF5C30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EF84-988C-4109-BF06-EBB217D6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98CB2-339E-4EFD-8FAA-B5765EF4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CDD3F-E83C-4356-B976-AF7B8058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5E900-0745-400F-97EC-BC31C7F1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73646-B931-4ED9-AC31-06A92EEC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AA495C-4321-42CB-A194-61B4784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72E77-3F99-4F3D-A305-8DFBAECE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A4D97-7F59-4B9B-AAC0-560CCCA3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9C329-6B28-4644-8801-5F40FE8F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9685B-97F4-4C91-B878-02E3EE6E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E91EA-EB1B-4111-80D2-2491F070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B17-C335-473F-B66A-C890388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DB3FE5-00E5-4969-AF06-99B396CE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69F493-521E-48BA-829F-FFE1343E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46FE5-17E5-4BB8-AE6C-38F53798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C5BA5-FCA7-4629-BFEC-14E42EB6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375F3D-004C-496C-8CBD-9206ED7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8588CC-93B6-486A-80D9-8B209E29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9D584F-EF47-404A-B759-E2FEF7B0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86074-CD68-41DA-B521-9D4F9CEA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A6929-CD3B-43C4-AE18-84B9F666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EAA4C-4CFD-487F-9FC0-C1F3378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572F-C0E6-4069-9139-2D6AC548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EE8AC-5988-4B5D-9BCC-35D1EA7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12AD6-F976-4B98-8D19-FF3A0658B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18FC7-4ECD-491D-97FD-498805AA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D2AE37-311F-4DB6-81F0-D0694290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0BA7F6-86BF-4A6E-B12F-0F0CC0B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FA300-CF14-468E-A06B-F46FC0D9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DA06C-1D04-478D-8B86-3BB8EDCB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D871B5-C57E-4AF0-B78C-7F9F9B62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DB3FE-702A-4E8E-9A9C-54075D2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2EFD5-F837-4EB1-BED8-372AD664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E6E-E7BD-4B68-8B98-D94EE6A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55DE-9515-47A4-9CBC-0BC0472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6AD84-E3A0-4A55-9A80-7B345D26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318B8-ECA9-4205-BC60-4B0C975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65FBDB-90A0-4204-9FF4-A11294F1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3C57A-13CB-4277-BB7C-008F5299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EE0E3-79AD-4DB7-A40F-40437378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4035A-4548-4AAC-9382-0C677C32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3035E-8999-49A3-94F5-89823BE9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0B032-8251-4D3F-8374-AB4306D1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1771E-97B2-4DF0-B83F-26A2DC1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877126-3175-4703-AD59-321703A2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F61-1089-417C-99A9-42867205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370242-394B-4437-8CA7-5E7B4AFE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5B975-6305-4EF1-AD0F-F4E0116F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16EC9-EA32-460E-ADA3-D5A6C8A4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54343-341E-4D95-852E-DEE7C5E2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88AD9-A826-4C31-BCC8-B2A77495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1CE76-2773-48FE-8E44-B4E75AE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F7F70-3BCF-460B-AA3B-239A5C85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901A30-2C71-4109-A5C1-DEFBC46A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E6DAAA-AABD-4632-9F91-7B8FC592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5ABF43-2566-4559-8CF3-281AC154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AF4D-40B2-477A-A997-0C2415BD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F99D61-E801-4CFB-8020-BBD7EF3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AA4E4-42CA-4D19-80EF-6C896C89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AEDD82-DB72-4CC8-95E8-24544CA1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52F45-84EF-4821-A32F-814244E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12E49-BD0D-4AB8-9C73-1A6A9E1A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5B744-77DF-4216-8654-E0A3CAEE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3F7D7-7948-47D1-91FD-DE15F37F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70B2E-6891-47BF-9E73-1F1E36CC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6ABAD-34CF-47D9-B118-A5F9110D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472E5-C66B-4544-85EC-5C4EB462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00FE-4E96-461F-932E-0DA57F26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6FA9F-5772-45AB-98C8-69D87F05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7FC70C-E710-4857-AFE1-86274B61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BD17E-2A4C-423E-9008-0D7A6387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70C987-79A8-4441-BA42-DEAE4F2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B1315-6387-4389-BC83-8E7BAF5E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30B687-3A7C-4BC0-9CC4-6D0E479B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8A05E-A954-4539-B465-7C04831A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575EC-1542-446F-B1A3-F98E8E3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29540D-DDF5-4826-8F2A-37FFD4CF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91B6B-D60A-4F4C-B123-53481658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9958-3374-4B90-BD4A-3DBFBDAB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9B9F5D-527A-4136-8C58-DB35411C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F8B6C2-1B6E-4C15-ACDC-95C876F2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B70371-0F1A-42AE-ADF1-52301E02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67018C-3FF9-474C-A343-42F082B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3B4B6F-8723-40F1-8090-2F09CC03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8C437-7385-4AC3-9100-6B7DCC0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0B7DF4-1EC6-4637-A967-ADF65375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7358D8-2665-4220-86D2-69D359B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CFADF-D934-42F7-98E7-C8BD8FE4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933037-EF21-48DE-B456-7D22CEFF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3EECC-C74B-481C-9081-3E86353A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F7CDE-8935-43E2-BBFA-B980013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DDADB-9C92-49E3-9068-533DF32C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74C5B-356B-4CCC-8628-A17B3987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C239B-5F7F-4BFD-9809-E0655356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3182A-D1F4-4CE4-B044-B0227ACF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E0C182-CC0E-4B28-A3E7-894B3C35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271452-5860-4E28-922A-7BBF9F9E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BA90D9-BB09-48F2-A26D-9131C8B6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A585DE-7881-41E1-B631-AD2F883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986CA-2C70-4E0D-A504-FAFEA9F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8E57-CA10-45EE-81D9-59A0C39B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32C17C-98AC-41A8-A452-5BCEA64E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C24A40-9223-40A4-85B3-BC31503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5B0F6C-40CB-4750-8A4B-8A3BFE0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328109-C480-4A28-8431-ADE3F816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E1E290-F254-490C-BC84-EA4CF3F6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7F9F3C-4088-4EFF-9127-CA0AAF0A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95FCCE-9E45-4B0D-A1E5-411EDF48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B40CB-48BE-4A59-ABB6-CBD97748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F2427B-B76D-4ADC-9CC0-D15C8DB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F37A80-5353-4DAE-A808-4A54D0B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9FF4E-2584-49C5-85BD-CCE5A6B7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F81D66-EE12-455A-A0A8-85FD7FF4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38F9DF-E6E1-44B5-A7FD-66E3A62B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D31AB-E01E-497B-8B00-F7BD154B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B1AFDC-76CB-402C-AAB1-E0B1A40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E0E6C8-C0BF-4388-965A-E2F9E3C6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8D394D-C9D8-4DE8-8CA0-C1A55D2A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04FB6-39FD-4465-A4D9-84356D26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122B91-87A8-4A44-BBCC-C80BBA44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A1834C-3750-41E4-9926-69AF95F7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721354-E5C6-4ACE-B665-15E0D76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958D-BB85-44A2-BB81-377C77CC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8EFC47-89B0-4B72-B5C1-C2E937F5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4DD63F-4896-4998-9DC8-71C33EFC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133F5F-54D8-4182-BB21-55CA3F46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55A181-7F9A-4BEF-982E-9E5E5E3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D8363-62C1-4745-8C09-CE8F9D0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6D4AE-69EF-475F-80C3-65EF700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091139-4338-4748-BDD0-997A9F4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F90E42-4710-4E76-994B-8B2E5AAE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B088C2-9998-444B-BD6E-11139DF7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F231-2C71-447C-9076-1AA4BAC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DEF-FCA4-45CB-B64B-4D28E9B2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BD13-BA34-49D9-98C1-A1EDE4B6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A40E-DC65-4169-BC64-A3245375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453A0-74DD-4811-80EB-27ADD836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711D-281F-449A-945E-8FECB917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C909-6045-4B4F-BE00-4BB4D2CB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3D37-2594-4E0C-B410-8D373888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8105-154C-451B-9E66-54DA8C27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7272-EC24-4FDD-8169-BF6E29D5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B149-040F-4756-B951-0F10D474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6D3B-209A-42C2-96DD-8C5EECEB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A3C5-3717-4DD4-A2F3-3CC5F056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71FA3-8B0E-40A6-95B1-529244D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B9AB-FA98-4AD6-A21B-2933B2B4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B8F1-4EA1-40E3-A009-E2D9DA62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9300-95E3-471E-BF42-547E04C0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F0E69-967B-463C-A718-80CC674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69CF5-55B3-4BEE-A3F5-A5D0E90D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39983-FDEC-4074-839F-B7A41322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4575-84AA-4EE5-8E07-56B6BE85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8AB31-2539-4F88-85DB-353B0EB0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545E3-8B64-4C0E-B86D-063E544B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3E4-E803-4978-8035-62A29B5C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6F86B-1787-48DB-8163-1AB23E9A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242C-F565-4EB8-A970-4B2D7FD9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339D-C16A-4314-8B7C-5FE31BEB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6E558-7AB5-44A7-AB7D-AAB33E0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3F78E-5D9C-43C3-8ED9-B4BA940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76B0-A717-4428-B081-ECBE07CC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E5B3-E8CF-4266-8D92-B32AF72E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52D8-66A3-41CF-9D24-075F5D37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3183-3DD7-4122-8DC7-D60E2436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A8B7-CD34-46E7-826C-DFE74224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3A0-348D-462A-B261-8123BFCC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0595E-FCBE-48A2-BA98-854A648D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35A5B-21BE-4E4F-A5F6-8168A045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5BD2D-F4AE-4940-B72E-37580BEF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FB824-7A8C-49DF-8328-87462B2F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97334-054E-4CCE-801E-7B9991B9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FCFE-3B5B-4EAE-B36C-5373C7A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D305-446D-46E6-857F-3F77F9C6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6F5B3-1285-4B54-B313-5FCD4DC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970AF-39F0-4288-B32D-495B329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4A8A-9C32-479A-9C83-3FC733EC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C90-ADE3-4381-A669-B925FA57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618BA-510A-415C-A70B-AD5BB4DA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ABD4A-0828-498C-95AD-08BAE227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A3F02-CC76-428A-B2A1-8C606E36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D0E76-A005-4C28-B912-AC709C4D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8EC5D-B604-47AE-B9DA-12E039FA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24721-E1F9-45BC-9C15-190A5114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F5D90-A047-4C3A-AB1E-C7A06B3B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5AB8C-C7E8-4241-B0B8-23E467E2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9A56-563C-4C10-9A11-33068E7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6F591-70D3-450F-9DF6-9F8C070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04A0-7179-487A-96B8-C8099A9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A9D67-3F32-4F59-82AF-0DF294D5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762DB-C06A-4036-BBF3-9EAC0A8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59AAB-0BB1-411E-A79E-84EF54E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AB086-86F7-4772-8704-95EECB6A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FE4D-0156-411F-8086-494279C2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F0528-DD25-412F-A46E-C75B0EB2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703E0-D486-45A1-B421-BFEADF98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5331A-4A04-4888-90CF-D52AFD6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CA57D-F00C-4BE3-A025-701E1FD7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D7525-962B-4976-BBFF-9165B35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54D-AAB9-4C84-B347-6048C3D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74FA2-D7DD-4A8A-8EA5-EDD1FA8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E44BE-CC08-4528-9175-4AB8496D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1C181-BE4A-477D-B75D-43CD00C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0C7F-F864-497E-9D2D-95566536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E149F-4938-4D4C-9B02-C5B5D015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97A85-907F-42AA-8AF8-2F9054A3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99CD3-6B6D-48D0-AE56-22E96C25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4047-5E44-425A-82CA-3072FF1A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71D47-681F-4ED9-8924-794CF32B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90F14-42CB-4FEC-8C7B-68028B2F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A1D1-349D-4CA4-9342-89A1F91C3C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A485-333B-49D7-8A3A-E5D4545B31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449D-8D0D-409D-A115-F91E5591886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31D4-865B-498D-A4A5-E55CACBF4D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13B-B070-4738-8CDC-5B78F319333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DE8D-A5DB-41A2-BF51-171DB25AE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2031-44CB-4D6D-A00C-DD03CD0EA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3F82-3B9A-405E-A360-8637DAEA0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B54B-573B-4ABA-A878-75B9EFA63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CC0-3AA1-4745-8798-4B41D2884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DA1-235D-4405-BB81-A699C8DA4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AE0-0C36-4048-92BA-3C8DDEDC2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4BD8-2645-43A1-A1D9-D8DB0908D8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9D62-E54D-4F97-ABFF-555E3A4BF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269-17C6-4F91-9A76-2597A186D9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5749-929D-498C-B42D-EEAC4843E3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8B6-AA32-4041-BDE4-1A0B36C0F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824E-5976-45B0-9A0D-4A779F34FFE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4D74-7939-4541-8C44-0EEA4AAC9D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3CC3-C92F-4832-A76B-B42020AE22D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29A2-3B65-4D1F-AC0F-CEA780681C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C329-974C-44CF-A027-523EEC0FE5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5C99-9E69-4A17-9625-5273D4DB219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5307-414B-4260-AB4E-E392493D9E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trategic Approach to </a:t>
            </a: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06" name="Subtitle 4"/>
          <p:cNvSpPr/>
          <p:nvPr/>
        </p:nvSpPr>
        <p:spPr>
          <a:xfrm>
            <a:off x="1219320" y="3657600"/>
            <a:ext cx="6705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617b"/>
                </a:solidFill>
                <a:latin typeface="Calibri"/>
              </a:rPr>
              <a:t>Four Pathways defined to develop capacity of countries to implement Rio Conventions </a:t>
            </a:r>
            <a:r>
              <a:rPr b="0" lang="en-US" sz="3000" spc="-1" strike="noStrike">
                <a:solidFill>
                  <a:srgbClr val="04617b"/>
                </a:solidFill>
                <a:latin typeface="Calibri"/>
              </a:rPr>
              <a:t>(Council in 2003 C/22.8)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 assessment of capacity needs (NCSA)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ening capacity development elements in GEF projects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rgeted capacity development projects CD (former CB-2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y specific programs for addressing critical capacity building needs in LDCs and SID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trategic objectives for cross-cutting capacity development inGEF-5 (available 44 mln USD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Enhance capacities of stakeholders for engagement through consultative proc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Generate, access and use of information and knowled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3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policy and legislation  development for achieving global benefi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D 4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Strengthened capacities for management and implementation of convention guide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D 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apacities enhanced to monitor and evaluate environmental impacts and tren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Generic requirements for projects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 consistent with strategic objectives for cross-cutting capacity develop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http://www.thegef.org/gef/GEF5_Capacity_Development_Strategy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ave to be multifocal (to benefit at least three focal areas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orities to be identified through NCSA proces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co-financing at least with ratio 1:1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SPs or FS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7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8:09:00Z</dcterms:created>
  <dc:creator>Daniel</dc:creator>
  <dc:description/>
  <dc:language>en-US</dc:language>
  <cp:lastModifiedBy>wb350798</cp:lastModifiedBy>
  <dcterms:modified xsi:type="dcterms:W3CDTF">2011-11-01T20:41:23Z</dcterms:modified>
  <cp:revision>109</cp:revision>
  <dc:subject/>
  <dc:title>GEF NGO Network</dc:title>
</cp:coreProperties>
</file>