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E7FE-70B4-4DBB-A8B1-3E9796F3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5EA-B314-49AB-A7AD-28EC095C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D14-AC51-4578-A4B4-7E00E640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62E-7669-4585-A6C4-6F90117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303CA-DF8F-46D8-B6D6-355582A2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4C9E-EDF3-4729-8B74-6917BE4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B725-7978-4F29-AD72-1CF9D7AC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74657-62DF-4696-A232-03D3BC7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B3556-6589-44C4-9E0F-B78115B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7296-4ED9-407A-ACD6-130A876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927D5-D1CA-4C7A-B2F8-F86C320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84BE4-FDEB-49A5-A282-EB897AF6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D72B2-6439-4479-983B-62CEF48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FB4FC-6228-49C2-98A7-8F3F1205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4FA-0CA9-4C24-A777-FCCC2EA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E83A5-47F7-4906-953B-44CEF30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B630D-4A9F-4135-86F9-E79A0A0D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F08B6-C401-4275-844D-BF7E9AF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FC528-EC36-45D2-BA1E-EA4576E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12E42-594B-4071-AE8C-A3BE5FE4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A8ECC-9C60-4D02-BEDE-068A73D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3FA6D-D5B0-44AC-8429-C177C41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57FD2-6C5C-4DB4-8815-5D51358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1C0C9-22C9-40D1-B8D5-BF2B7FCD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611D8-94DB-4AD1-B005-1930B5AF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F21-8F2B-4F3C-82BC-A2CF6F7F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91E67-A928-4004-8AE7-EA7DC535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696C4-3811-42F1-927E-41E8154E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6E679-3F50-40ED-BFF3-6407A34D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58DFA-2FB8-4140-936E-4E9637C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2C210-AFB3-4E03-866C-649CF46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F9A1-BF81-46B9-B313-EBA4A370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F5B71-61B0-47B6-944E-7BC81EB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E51A1-4094-41F5-804A-3F24CB8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7689D-37DB-48FF-A6B7-82722B4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7F72-299E-4868-8860-2A9ADFE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EF13-19B1-41D1-85F3-49A0423A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DA35B-7E35-44AA-A2BD-A7775C3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D566E-0D10-4C06-A11D-6DBFF245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03AB1-35C2-4569-B4B9-E6249D3E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60464-36B8-4388-9841-DC786303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819B4-45E0-4948-9716-FE51CA95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BC66F-97DB-4085-8585-69F39A3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F9391-B8C3-40BE-AEDC-8D9FDC7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F6174-3E2A-473D-9DB7-D97D245F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9428E-CC68-422B-80B9-DBACD5E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262C7-ED2E-4803-9E99-A3D3293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E555-A9D6-4FBD-AD42-E9231B8C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5E05F-5DC8-4BB5-8507-E4560DD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EE042-A3B3-4332-A91C-4D415DD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C69E7-3CA0-4570-85F7-6B69C69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53BC-D9AC-43D6-AD46-7A2C926B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3B05A-F30A-4FF4-AFD1-2D52D2E2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003E4-2A31-4755-8828-A8E6AFE4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C8D99-3AE6-4459-9A56-B3ED0C5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AC912-2C8E-4507-AC29-C6592D74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A4ACA-891C-4C94-B49E-7AA6F3D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B00AA-BD7A-4C54-85D6-986C1D9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A5BC-6569-48C4-B6C5-E748517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E4F2F-59F0-4E9E-B7CF-A111929B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4CD28-F901-417B-A8CD-D6203999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0A3D0-A7A6-46A9-8104-255F267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903A0-583C-4B1A-89D9-4E52D4F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1A066-638F-442F-A773-24419F2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2CC4D-A8FA-40D3-B47A-A527D380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35B71-9EAD-4C7B-ACD3-E7CA6396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935A1-682C-4DEA-BE4B-40FBBEBC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B15AE-DA60-4933-9938-534F2756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13CF2-94B3-496B-A649-633F15DA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2C2-AA84-461B-AA18-3D323C88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FA7E4-756F-4DB8-8E99-80D4E6C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30B0F-7494-4CFE-8C6D-10BC6D5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8562E-0D46-41FE-AAC0-DABBCFE8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5826D-C07F-4ACE-9CE7-47691FA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826CD-7222-4A4F-AACC-53C9AFC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D0B0E-C4E8-4ED3-A9AF-F1424DB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2AAED-2AD7-444F-9BDF-997D9B7F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DF4D7-CABF-4801-9618-1E69FB52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E9296-24F2-4BAF-845D-96127D24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1B597-B36A-48A1-B46D-9BF53360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B86D-6785-436A-8095-88454F0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B9F02-6467-4BE9-BD5D-38E4F70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83848-FBD8-4476-962F-37F7792E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DEA91-340B-4BA7-8452-D965A1ED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79A94-CE42-45AA-B630-C24B603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F79DF-9E0B-4795-A8E4-F91110E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12943-E412-496D-B589-C8A9755E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899A9-6DB4-4385-8270-F82AB10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D5A1C-8DBD-4BF3-9BE8-FADC2B1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00970-BB73-4C04-A217-6BDA357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9A810-0C5B-4296-B90F-FE3B3E84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EC67-2F36-441B-98F4-B356D987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D5E1C-D970-4457-9463-B0EF9767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3CA5C-9123-407C-B0BD-463A3C3F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18F90-2496-45DE-BC12-6F769C0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FB19C-043E-4BB4-8E47-AE4AA9B9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E76B3-E0AB-4568-A657-08F19F1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BEF4B-377C-4866-9E1D-12C59D10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AB8DD-C29A-48BD-AA2F-A42672C9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60A45-D29E-4FA7-8611-8AC5DE63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F5314-FEAC-4747-BE2E-D6CDDCE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A69EC-6E06-46C2-A97E-7E6B676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5707-5B5C-47B7-8F7F-2BAB1F9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90DCF-C1C8-4D47-8F84-0278E367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E267E-AF59-4946-A088-3EC7404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57553-C85E-4FC8-B4F8-922DB9F8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5A9A0-2105-4971-B946-EB930D0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07846-1561-491E-A2EB-AA0CDA7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E765F-FFEA-4A9F-8A98-875E508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39D70-7F3B-4A80-BEDF-34F12F34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E0E96-66E3-478E-BAEB-AAD892A7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C5889-8C7A-4F5B-9174-96AF0FAE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D2165-CB06-48CC-A7DC-F3E1AD0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AA8-0344-4C2A-955B-2BF6D48E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90B-DE93-44EF-9E89-29AD2F3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EC027-C2DE-4428-B67B-29826BE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A08DF-4695-43A6-8B6F-3DA92F8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F3300-FE5B-4C80-84BB-76C1517C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71A61-0521-44CA-BA1B-49A95EC0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AFDCC-3F22-481A-86F1-53007E87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51EBF-A0A0-46A7-AFEF-89DF3E43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E1DEE-D0F8-4A32-9D2F-166C001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56FDC-0EAA-4AA6-895A-BB42390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D6F33-14F5-4594-A4B8-7AB9B540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41B02-D5E9-48FF-A82B-D98A231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1CB-09AD-489C-B1F4-AC63FDF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792E2-27DC-44CE-B9AD-784D102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B50B6-20DB-4DC0-B48B-786ED4C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32076-1DFA-4488-886D-ABB07E4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8413A-FA54-46C0-B343-353FA09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3399F-6AAA-4559-8AED-E1B4BD74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5F619-A8D4-449D-8D6D-25E7485E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4837A-568B-42C0-A10E-C894C2B2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0FF21-8866-4B12-8DD5-69B21630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9C19B-8BC5-4303-B2F4-7680CEB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1A3CE-2F26-46FE-9AC4-74F4D165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EF86-240A-4348-8C92-674EBF11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2A83B-F4F7-4ABD-BB37-9DB31E2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70C32-D33D-45AC-8D62-DB76E34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EB976-24F8-46D6-85A3-08BD1543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C2DCE-1ED7-4E6A-B479-3FC19D4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84232-C874-462A-87A9-44F9FF2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DD45E-BE0B-4FDC-91B7-65E3A1B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8BAF54-D54F-4AEC-BBDE-E9F71DCB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0DF39-FE88-42D9-9252-88D3CB03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90225-75F4-4AFD-81F0-C4D30711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DBF1A-87FA-4FC1-B553-33096934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69EB-516A-42D1-9A22-AF00F249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21542-7824-4E70-9CD4-6555735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13EC0-EE88-4A21-A488-7ADED6B4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91847-218D-4866-8884-838CEF8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C48E6-E84A-4ECD-9478-B087F4A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D26F0-A1F8-4F60-B97A-B55FEFBE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39968-3952-4464-BC59-E5EA9903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69AB6-A707-4093-8C41-8504584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3106C-30D4-428C-888F-8907E4C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D8494-4289-4C74-B151-ED2A0AC5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CCC81-2751-4652-9D4B-8E2AB0EA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3B8B-6BDD-4690-9243-6959EDD8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B644A-A2E6-4A64-B022-262E4EDF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1B04E-B7EF-4DBE-B433-107AA70B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31AB6-3F4C-411A-8F8F-ED39791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34E05-0DAB-4FE8-A371-8544244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51B507-084D-413F-BBCA-2EF5AE09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0E761-BF01-4E2D-AC67-BECCF35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5FE23-4AE2-49A2-B297-A78E163C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088B4-15EE-4629-A797-46BA32A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93466-5724-4E5E-9D1B-27E6360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28D3D-69E4-459E-88B9-803083D9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D9A1-BB5C-4764-A608-6501AC8C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7E0D4-BAB0-4145-B485-F50CA4F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9744B-5CD1-49F3-B67B-743001CE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09BE4-BA8E-4C88-8A01-03CA09E7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02344-7A4F-4F94-9017-83C35E61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CDBF2-3412-42E5-B5EF-AB6FF4B8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7DCD3-EB41-4320-A63D-02F53CDC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629FFF-648D-45D3-AD14-849B076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0C957D-A628-4636-B291-DBFFB406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C4FE5-A98F-4955-A3EE-575DFD9B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E47AAB-C240-4A71-B943-75475FA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3A8D-72A6-44A9-9F61-63437A76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B6ABC-A3B6-4989-A22A-674B11F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383FB-AA09-4B45-BA7E-186BD12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7BCB4F-830B-4512-912E-077EBEF8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B1568E-BB94-45F8-8A47-928B3126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514E0-CF8A-447F-A806-115AC700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7772B-321F-435F-BC8A-7BAF220C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4E846-A826-40BF-9111-1F2F987C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EE00AE-E9BA-4CAF-9B77-5F69211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433953-9AE0-41B9-ACD1-D8990A8A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AAEC1-1E9A-4E07-A188-AA382FB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CAED-7194-4BDC-B39B-4C19CE6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615FB-7D55-407E-97BC-410FCBDA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A60C6B-AD16-47D8-AA6A-424C6FA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E3E9E-8CBA-4489-BA40-505B4C0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580E22-5698-47AB-B336-EE2272C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49A6D-3E94-4F78-B6E7-789CAEFE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413E6-D2C5-4AF8-A716-0DF8281D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BF2BAA-26D5-4485-9892-6F31241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342884-AE9D-4B61-9838-F0B30AB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D9868-1813-4FF9-977C-3094292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BCF421-0C02-49E8-890F-8C2AAD82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50E7-A499-4503-B161-A047EA94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C6711-E31C-4010-8E9A-58C05738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758B9F-8F46-43B1-82F4-043BFB3B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9D7BC0-DE7E-42EE-8FB6-F0036CC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855E4C-1813-4355-92FA-88D39B9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98A87-F149-4357-A46D-1BE3460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75128-90CF-4054-A4BE-48D1720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2FDDF-3E3A-4B14-BCCE-F34D3C61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753E3-503C-4FFC-8704-3FC4AF6D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3F140C-8ACC-4058-A884-CA96D59A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CE55-1140-4ADB-A5B0-FFC31B92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8F6-3500-42AB-BF36-BF9285F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2CC0-3305-4A9A-80DE-2468C55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2A85-0A47-49B7-AF65-3C54EBD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2444-5078-4519-83C9-B121155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639F-6198-4375-8F1E-AD1AFA4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BC60-FD13-4813-951E-BC04326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5F17-6BB9-45B5-99BB-2DA0AB44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3460-8A1F-4727-BDF3-FFFA7397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095B-31E3-4E6B-865E-000A76FD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48C3-6EF3-45F5-B636-A009B3A6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70CC-1F94-438F-A6C9-EE13B3B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BC2-A0CE-4755-9D31-68FF3C4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CA81-F748-4990-8A49-1E58A62C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2DC89-3EC6-4940-A56E-D9C44A2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0880-A185-4CD7-BF7C-ABA300B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5EEB-79FD-47FF-850E-2A6FEB4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4705-FF35-463E-9B6C-73BED32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28EF-9CCB-4800-96A9-D2D7D39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D52C-18BC-4A9D-AE0E-D42E858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F8AD-E177-4250-BB29-D6A5DB1C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CCBB-6E5E-4123-8CBC-D799817C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AEE4-B98F-45FF-BBFD-FC56AE61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567-715A-4161-8468-86368BA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C57C-7420-4762-A3EC-821DD9A3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3044-AE24-4166-8E16-814C1FE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8BAA-24FE-4EF5-8B1E-9F18E62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5848-E0FB-4939-94BE-B3A70881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A53B-4378-4494-82B8-2667B81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BA88-3832-46E5-8478-A530960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FCC7-DB2C-4D8D-9801-E70F463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012A-0D93-4C70-9869-689E966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71FD-30B1-4DD3-A157-D626483D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3098-DE35-4E6F-863A-EBE58C2A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314-0623-48CE-B751-CD7E1EE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2129-E66B-45FE-9808-0D0435A5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FFF0-B28A-402A-A46F-1F37A1EE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6BCA-731C-49E9-8980-AF9D5AB3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C61C-8842-46C8-B1C5-1E2A2D7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F774-0397-45BC-94AC-0F60496E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F86F-6D95-41D6-8877-76F53220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2D0D-F618-4E31-AE62-01BD855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2D9E-6D51-42B9-8AF6-436BE88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8ACC4-FDC6-4EF5-A4FC-FD5427C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AC47-9B20-4A05-9F46-2767318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A48-869A-4526-91E8-0A77441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00DCB-A241-4575-B392-4ED3227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C1A4-13F2-44F5-98AA-1CA37272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174F-FE0E-40C4-A214-011E21DB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2DF0-D187-4547-9501-8422C43F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0F7F7-0DAE-4225-8AF5-7BDD37C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6550-FFAA-493A-83D6-8E1FCE5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C879-D3E0-4531-8B8B-817F5C7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F26E-01C7-4078-A82C-D3D04DE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9480-4B74-48FF-B2E2-06E53368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2E54-7742-46D5-B7D2-8FED1331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E9E-6E14-418F-8365-030491B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35B4-E410-4C73-8240-FD11778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FE09-DA7E-49A2-ACB2-0292F4A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7819-65A8-4165-A12D-AFC12619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FFC9A-DED9-436C-9337-48193E25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C66B-CD30-4236-A5B9-55B75FC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19F0-F36C-4495-9F8C-9545A295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7BCB-FEC1-4259-9B2D-13B8DB9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054A-50D9-4ADE-BE0B-EB848EDD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E735-8E46-471A-ABBC-886063A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A92F-7F2A-456C-93F9-C6BE1E5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166-A97E-478B-8BFE-8D10D4A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AB41-8228-435F-922B-A02F904A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2F16-6A86-4B7C-B177-8C8D3B1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4419C-C99F-4D66-A97A-2510110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8A20-A129-431D-9CE6-26BBC3B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CD511-5238-417D-912E-23F69ABD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342A-92D2-4AFD-B92F-A49BE0A8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AD39-D7F5-4FE9-AB8E-40BE3869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4D61-F445-4631-8A52-EA94712D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D37C-F8B1-49A2-A07A-86CE7933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85F4B-FD6F-40AB-8C25-BAA42E6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34B-9C71-4910-B28F-90ED5D0D60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67C-F070-4A45-B859-D3142C9E03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95D-1698-4C44-8BC4-B0C97F79431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602-017D-449B-BDC0-3CC4AE11A6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37A-495F-4066-A97A-82F6CCC77A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37B-9C14-422A-A2AE-E272E95D6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D0E4-0D2F-4777-88EC-FE286AB55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1344-FC24-461E-A7AA-38DD0B98C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F2F-029D-47CB-9B12-CEE031533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3DB-E8AE-42A2-A6CF-6E1B370C5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50CE-5F24-4CA8-A9DC-B126AF2FC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96F-4489-4169-BFF0-75D9CEC73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F47-98C9-494F-AFD2-6D0718125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5E1-998F-4438-8484-7B5C9541F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6087-3D3B-459B-9BAE-3F07A39AB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A0CF-B2B8-4ACA-8B3E-8129112B6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56D-7000-42BE-B662-AB7D51C2A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F02-7DE0-4F03-8FF9-46E159B10AF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CBB7-E60A-4973-8122-22DC0E4EAC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E30-EAF8-48E8-AEC2-C4516CF1A20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9E4-106B-4D56-8E91-F366BC74CF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A03-17BC-4966-8F66-5134022519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2E1D-29DA-477B-8A0B-D29F5BF546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863A-B233-43FD-854D-816375D4E7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19320" y="36576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01T20:41:23Z</dcterms:modified>
  <cp:revision>109</cp:revision>
  <dc:subject/>
  <dc:title>GEF NGO Network</dc:title>
</cp:coreProperties>
</file>