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A129-BBAB-4A46-A942-6FBE25445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8A1E-FB1C-4EA4-9C04-A708E66D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F81F-1D12-4C6A-B750-C8896D55E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AD73-17D7-475B-9E43-18E2D6878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7DE7-29CB-44CF-A0DD-FEA038EB4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67B1-48F7-4C81-A2C3-DF0BE289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4AB-88E9-4CDF-92F2-23BD7924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827-BA97-4C88-BFDF-11AEFF71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D2B55-578C-4267-BF29-1276B255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C9A9F-F119-4368-ABE5-FC05E0C5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3D16D-E0E2-404B-9134-12D06EFA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A33B4-B654-44BE-AA80-28186721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95A86-BFD6-4907-9127-B5A2DD33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A71BB-5DDD-4E11-9076-7E6E2B4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98F3B-49AF-4D0F-9DE1-89663A25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DB5D6-ED4B-40F2-ABB6-694162C6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C37B6-B942-4B1F-B0E4-A01232C3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5836E-2A4C-4EAF-9131-D1FCDC59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4F7-3323-47CC-80E6-55389CAD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DBD5C-2D1F-4553-A610-227C7249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6F28B-4352-4F2A-A4B2-6D60AB60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E0F1B-A96E-4D23-8909-56F73F9E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822D3-64FB-4BB3-8A51-694EFFE0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48848-0BA7-43A2-BEAC-4280F597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C6355-58AE-4987-BF08-82EC1C3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174D5-D1D2-4F36-935D-C7C51E5C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C07C1-7274-40F9-8EA4-3808DABA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05632-F847-48A8-B0C3-630049F5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52472-F7BC-499C-8061-FB668729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D15-BB80-408F-AA08-0F71C2E9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4CD3C-7337-416B-902A-A957A658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A8E6E-F71F-42BB-BF22-952FDCCD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B5A44-CA2A-4FD1-939D-0FF9E179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92EA6-7158-4AA4-B364-4F3BC438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19DC6-00FD-491D-B656-898AF771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1A0A7-474D-4C94-BD99-702B4969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DC564-480D-40B9-92FF-05C24CC6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C72F0-32D5-41D7-8258-79548765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90330-226B-46ED-9DBC-D950F143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6FA0C-BABE-4661-96A2-845EAC39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C8CA-27BF-4A18-BBE4-1137A23D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4D507-266C-436B-B5D0-3316F635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A2A3F-0AD3-442A-A009-17A62228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88CB0-02E5-4423-8218-153AC26C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0C675-397E-40C8-BFA7-D7334C41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26542-7BF9-4576-8E91-4C24DF7B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02B4A-829E-4D67-B52A-D5C377C7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9D7DB-9EB3-4D3C-9010-BEEE3CA6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18DF1-9722-46F7-ADCA-71C6D0C7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EBC0B-696B-4E2E-B134-D490200D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BD75F-5A01-4F22-9C04-47B13C13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28E4-06C7-4E5C-A9F4-8EEA0D99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02D46-AF13-49A1-B1A6-28395FBF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AD6B5-B57D-430D-BC1A-88EBF1D7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4407F-B217-4551-8ADA-F1789EB7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47AF4-23B0-4AB9-9077-7C0F99BE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AAFE6-942E-40FB-B2F8-6765E977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0BE09-67C7-4930-A8B4-BEDA9F31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43C2A-151D-470F-AED3-213F49DC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012F2-07E9-442D-9B2A-5403853A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C6BEA-B7BF-46D9-8C1A-6718A400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1915C-CEFA-4A2A-82B1-364C7BDC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E29A-D90B-4CF5-9C08-26CD0B2B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191FE-811A-4A67-85D7-932D37F6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2CB83-447A-41E6-8BA0-3147FE4D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410A3-D2B4-4DFC-A8BF-68400C8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23442-6987-4D6E-A34A-500EE664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BD2CF-2770-48D7-93F4-BB210A15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EC19A-E3A8-4FCB-AFDC-36A27520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ADDFF-72CF-4E5E-9005-BED059A4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7D725-AC4E-4360-BE1A-BE376A40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F639B-8A34-49A5-9EDF-67EE3F8B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D9F26-6A3A-48E9-987F-31090B36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9A3A-CF3A-4F05-B3D7-21F52E32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98442-3DD6-46FD-BB91-614B612D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88544-9048-4D6E-9B7E-CB857135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1B4A8-059E-4796-80D4-3A259480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F7A09-DC99-4846-A6DA-706950D7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9F2C1-037D-4BA7-9A5F-32D9182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1240E-CA95-48F9-82B0-EA8222B7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54B54-9D5E-4B9E-8551-5087AA73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84DAD-CB32-44D7-A89A-220C186D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D288F-3ACD-4F29-9CC3-7505EA5F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BFBAF-F22D-4281-9B5A-54AFA120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EB6D-1B91-4614-AD3B-3F6961D6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88C77-93F2-43B2-A7BF-83A4AEDA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6BE286-DC8B-4C5F-81BA-F09FF641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F7083-FCEF-4C00-A38B-4DF80600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9609E-65A0-496F-B6B2-DACE4F59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FC90A-BD4C-49E2-A788-39DFF328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2874A-90D2-42EC-A298-066B9528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800CB-2F09-4C15-AD75-7E84FED2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E62FC-901C-4BCD-809F-E964FFF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FD6CDA-D959-40E0-B5EA-E316DB07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4CD73-CCBB-4C63-ADB9-0424F88C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A2BB-B751-41F6-B186-51955574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4C1E6-AE6B-431B-9174-453CE812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7A92B-C577-4646-A8BD-9CC0EEA6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46ECD-FA8D-4C2A-9906-43CB3008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9D26B-24CA-475C-BDB0-A240CD83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68490-B8FB-4A7B-94F3-88611DED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7AE8F-1542-467F-8FD3-6CADD95F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FBB684-6D02-4225-BEEA-0F466B35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D29E9E-9B3C-4F59-AC1D-9F1B9B8A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F69EC-40AD-45A1-88EF-5689D72E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E1646-8262-400D-AF91-FB265C86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BF8A-2B7B-49FC-9CFE-8B26C695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BF337-1F88-435A-A5FB-0849B96D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6B807-97B3-4CB5-85E8-2DF384D2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C1E28-C27D-432A-A67A-6C5D5371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5260E6-D8E5-4011-830A-C485CDDB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54C69-BA07-4C42-B03D-1175D1D2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5867A-8591-4F20-9722-C6D160C6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FD5DF-9418-4A75-BE02-C653FB25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CE38D-FDF1-4A07-829F-7EF9B6F7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3DDCAF-9BFF-46AC-B613-593E0E84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D8E17-C7D0-4242-9104-F6C3A657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160-1DA9-458D-95E3-E928DB90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F629-346E-471A-813C-373FA57B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B8565-4010-4F4C-B754-49DD7316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EE7AC-A426-48FE-8271-7D2811A8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14A5F-B395-4708-9F88-C069CA08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3A05B-BE41-4213-9473-C3E4F29A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215085-464C-4406-AAB6-87B62455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AEE5C-CEBE-4483-B0C6-A6951B02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593A6-F22A-4D55-AD2F-E85D2E48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943C4-BB56-453C-B6BB-FC5AA74A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C95D1-FAAB-45F5-B352-5999ADC1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1267A9-1378-4024-A1FB-DFCFB2B3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F21A-2BAA-42A4-B716-92BAD0C8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302DE4-F573-41C5-90CC-E631582B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F9EF2-2505-4746-90BD-5E1E4B37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FF16D-8CF1-4C8B-9F12-2B432841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FCC35-1CB8-4B8D-AD1C-3722EDE5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710E5-423C-4FDD-88EA-65B350A7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93530-8CB0-4E12-B988-5A7EF334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A4E5F-9674-4633-BDA2-2DEC05A5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BA5D4F-9166-4330-BEB7-C03DD77A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F0CAC-A73D-41E7-A800-ABA029A1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C5C52-6EC2-4811-9DB0-9A9EE43B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B1AC-E05C-4F96-8D63-CD176115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CDEEC-CE52-408A-98F0-0DFFB8E5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A1E70-7B8B-4B73-926A-4AE5D98F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1CE78-AA35-4662-B484-0C6688A4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7CC33F-28D8-42A1-A398-02779E15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6D4D85-38EA-4F2E-9F4C-DFAC614C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870F8C-296B-4651-A5FD-C274F286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980BA-E022-44E3-B8D5-A7689ABE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F4682E-755B-4A39-AF2A-D7FC54CB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3476B-165C-4BA9-AADC-F4072084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AC70FF-0FBA-405B-BFC7-F05DC54E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4F43-F378-44CF-97DA-DE5926A2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F268A-F56F-4613-AD2C-D1DABD04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BFB39E-C173-4A48-A0CF-32EDABFF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A96074-F9A8-4C16-9947-AC9AD5D9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307FA-B349-495A-A4AE-2D54DA19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8756B-CC88-427C-8674-CF8AF80E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65F44-B1C4-4511-A104-60D4DAD6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4D4CA1-62B6-43B0-B5AB-66DAF322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4A12C-3218-4F4E-AE54-A6FB481C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5E6188-C8A2-4460-AED9-F014C398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D2FD7D-7C89-4C9F-9839-EA062C12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94CA-52CE-4969-A2D7-CC400001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168EB-8CB6-4A09-94A2-72A799E9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FE0D58-B8C7-45A7-A574-1609BF81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A79F31-71A2-45B7-8E1D-C9704572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E35B90-838A-4967-A443-2EE754B2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461870-3A55-4D9D-8905-ECE54BD6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A203A-10FC-4911-8B80-8D4D67FB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20652-53EC-4BD5-BA2B-F45E38FE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B127CD-3673-4526-945F-19CFEDC7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AD357E-2AF0-4A28-BA3F-6AFB636B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ED2359-6C86-427B-AF3C-770B70A9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7F8D3-9B01-4C01-8B12-C745C3C8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E220CA-342D-4323-A395-FCF721B0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1377D-0D66-473F-9A73-B9AF3BFF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79E7C7-6726-40BE-A3AC-771F1712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2BD750-5234-491A-8752-2D91187C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15F70D-65F0-4C14-9E21-F5F32AF4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B0EC6C-BA9D-44B2-AE7E-7277C065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1C39C0-E445-42E9-8BDC-83C6EC0B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F5EEC5-994B-49EA-BF4E-2C7D36AE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15C90F-6F59-45F9-B219-42E2E464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E46CE9-7954-47D5-B969-78DC9A82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E2D4-94BF-4941-8DC0-8CCBAF5D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85AA44-42DF-441F-8AB3-24893BEB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477881-2525-475B-8298-7E84E5EF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25C656-A637-440F-8F40-6657231B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C9562B-6F55-4DE0-A53D-202FD269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CB13A3-B561-4C0E-A0B7-0A0FAE62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FEB0FD-6E09-4376-937F-10300CC5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C30C23-8003-4C0A-802B-EDC4CA0A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6F1D34-80C4-4771-80E7-27C98880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267BD8-C6A4-4DDD-A18E-C1DD2D6E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9E8A9A-73D2-4BCA-8EB7-92951CDA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31EF-D192-4CCB-8B34-BBADBBD4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72F719-08C0-44D0-BA82-CFCEDD6C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62D56A-AC66-4A34-847B-9045CFED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97BDF9-AA50-46AC-BEEB-4408A02A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EA6C71-B7B9-4A56-921A-01E5509F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BB0570-433A-44A2-8395-38BB46B6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B57B2E-3D00-4444-8624-3F21E107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055110-BB2A-4CDF-8FE8-C53FCD28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16DD5A-861C-439F-B151-89516C57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C75807-DC7D-423C-A9E6-98120268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FC01E3-0B56-435B-8EF3-63F81011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C4657-06F3-4A8D-908A-7E763933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59BA6D-97D7-4BD6-BE2E-177F8B55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C96CB6-DB56-4722-A856-4F79EE8E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D992BE-C468-4F99-ABC3-7D37065B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F61F97-6C08-44F2-AFF9-AAE59BD6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6EB1A8-3319-43C4-A0E0-9667BEE5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71EBD1-0340-4AAC-BC5E-DDCF7FD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5A4E76-FC6A-4370-9180-74DD39A6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E6AA4E-71D9-4187-A8CC-27C709A9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D0DE52-DB03-483D-8A53-364004F6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65F0-8C88-4D6B-8D52-90B90FF4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CA2-A43B-4D89-816A-39B22E1A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A9B29-BF5B-43E5-B3E0-8F17799F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7164-A8E5-417A-B154-347D79C3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17C2-A007-49A4-B4C7-EFA3C0D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6D5F-3635-407D-9B1E-CF3EDF13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1BF2-B8B8-4C30-9D1B-D8D8F016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8A755-6067-43F3-AADF-14827280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2D91-06A6-4E77-A150-B36DAC3B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5BAB0-7F0E-4F5C-B2DD-B2EA325F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DD317-B924-4770-B979-257E3044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7FF1-B728-42A5-8527-889C28E4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C94-FBE5-43EC-B987-49E425AD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CF79-8AD3-4462-B269-082C0A4E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A2247-EDE6-4A15-82D2-733B0D75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8FCB1-E3D5-435D-8824-011E6747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3485D-836B-4961-B992-4A2CAB75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5A5D-24F1-449E-8135-715662AB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DD0F3-9720-4CAA-8FBB-7722F1EF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BF303-AC54-4594-B979-2C398C47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5D348-F057-4D44-849E-2DE2A94D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29AB3-CFA4-4FBC-A962-61B7A245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D9E7D-7447-44E7-806D-D00F691A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50F-8055-4190-AA3E-1C4E33B7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6FBB-ECE1-4BA9-B348-ECD7BA97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E18C-18BB-49BD-933B-8C7C3AA0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9E80B-1697-4A93-B598-03DE788C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B90E-F074-4650-9AF7-EE12BA49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9B3EA-C934-4F91-951A-FB2FCBB8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D9788-34BE-4B82-B6B9-B6C1132F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270DB-D874-4AC4-8B5D-FFDF8E8D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BFF1A-699D-47EB-A24B-3ABA4B7F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A8337-B849-426C-950E-14A652F0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12C85-A6A2-4E51-863B-D5081AEE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DC5-688B-4FEF-9C88-719C352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98103-F9BA-4F27-B244-E79AEDF0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CBC0D-1F95-4D1C-953B-BB42CC99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CB0BA-1453-4249-A56E-87CE610F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F4E6B-D505-4BD6-A40A-594217C4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4CD13-D495-492E-94BE-DC205D7C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EAAAE-CF01-4700-96AF-1DBCE5EA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6B573-FB15-4C76-BFB9-E1A8D050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77A62-0750-44A6-AE3E-08040A20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652E2-8A0C-4B56-BA17-4584662B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8DFE3-09BE-442D-B436-52DF237F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3D2-3627-439C-B8A5-7EDA559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92076-8882-45C7-A593-3643F6EF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97A44-4BEB-4DF2-A93F-B855CD3E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8261E-5FD4-4F91-A45E-A59C6BF4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3920A-5213-4103-AC95-08482C66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E44E4-604D-426F-9F65-D35E07D1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A60E0-E70C-4A32-A31D-F8CB464F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48659-1D03-4A53-B7A9-5B94D4DC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783D3-C531-4CF8-8F6A-F7C9CDAF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9398E-BAB5-47E9-B813-5245AFE4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085B9-5484-45C3-A617-49598D98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25F-B717-45D7-8DE9-D917E421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AE580-D9DB-448C-A5BD-B3EE2D0A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8866-CB3C-4149-BED7-A33BBE13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3D01-3CC2-400E-9460-A23A456E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0C901-3673-481F-8711-13C81D9E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699CC-9834-4B67-A7A8-A42E4A6E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FF05A-F699-49B5-8BB2-6F72CB0B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84722-4081-4C24-9C3B-485430D3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BF49A-582E-4DE9-9C56-FAD5E4E3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5A502-A558-487E-B41D-8289D0C6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75978-47BE-44F9-9948-E8DD68DC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D61-5B12-40E4-B52F-ECAC0655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3EE17-A4AE-4E6B-85F8-F171A859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59D93-A762-4FE6-95D8-97AD9E6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889C2-8992-44C1-AA96-CED6C44E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87837-96AA-43E8-B0C5-34002644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02064-63D9-4064-B03D-68CD43EC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ACDC8-7ABE-4F1D-9392-BA8D64E9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4615B-AFAC-47CD-B0AC-1D9EFFF0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D4B58-F06B-4E16-AC9D-485F1BB4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8DCAF-133B-4EC1-9DFA-AF317D3C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56739-694A-47B7-B961-947FA73B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A654-EC0E-4758-BC58-287FA8753E3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12A3-6B33-4E71-A792-D2C2E70187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A12C-AE75-4133-81A1-99472CCC15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21C8-19DA-4E66-A829-F6962AC582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3675-E31A-4021-A43D-3E0E6A158F0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93D7-7CA7-47C5-84B9-A3ED778DE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9255-B5F7-4F9A-8F93-3E8D6638F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6796-E285-47C1-B1DF-C3EDA475D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6957-2A78-4936-B77E-DB4C59D5A0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D4AD-AA85-42C4-9119-7E86C06040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0064-2C88-4464-874A-4022EF966F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F8E9-9A5B-475C-8CD4-327E87FA6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6CA5-A349-48A9-92DE-D02D405EC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AE4D-3515-43BF-A135-6758B65A1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86FC-A0F4-47ED-8D74-9383BE257A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A104-ACF6-44F2-8D0C-4099D96252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4E12-BCD8-479D-BCF1-21C04E4B4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2D1D-00DE-47F5-BF04-845B25C10C9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3404-5A15-43D3-BB5A-5D249B2EEE8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4182-2F1D-4B4C-B2BA-FB75575B38B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72FF-E010-411C-ADEC-887D1E93AC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50C6-9416-4EB8-99DB-C6942230E66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0724-CD91-4AF1-97FF-872561F3676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E0A3-159E-4595-83D1-BEC82D670C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ГЭФ: стратегический подход к наращиванию потенциа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ubtitle 4"/>
          <p:cNvSpPr/>
          <p:nvPr/>
        </p:nvSpPr>
        <p:spPr>
          <a:xfrm>
            <a:off x="990720" y="380988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 ГЭФ для стран-чл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Восточная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4"/>
          <p:cNvGrpSpPr/>
          <p:nvPr/>
        </p:nvGrpSpPr>
        <p:grpSpPr>
          <a:xfrm>
            <a:off x="0" y="76320"/>
            <a:ext cx="9144000" cy="1008000"/>
            <a:chOff x="0" y="76320"/>
            <a:chExt cx="9144000" cy="1008000"/>
          </a:xfrm>
        </p:grpSpPr>
        <p:pic>
          <p:nvPicPr>
            <p:cNvPr id="100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Подзаголовок 2"/>
            <p:cNvSpPr/>
            <p:nvPr/>
          </p:nvSpPr>
          <p:spPr>
            <a:xfrm>
              <a:off x="504720" y="605880"/>
              <a:ext cx="642960" cy="125280"/>
            </a:xfrm>
            <a:prstGeom prst="rect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Подзаголовок 2"/>
            <p:cNvSpPr/>
            <p:nvPr/>
          </p:nvSpPr>
          <p:spPr>
            <a:xfrm>
              <a:off x="1332720" y="30492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17375e"/>
                  </a:solidFill>
                  <a:latin typeface="Calibri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Подзаголовок 2"/>
            <p:cNvSpPr/>
            <p:nvPr/>
          </p:nvSpPr>
          <p:spPr>
            <a:xfrm>
              <a:off x="1254960" y="508320"/>
              <a:ext cx="4276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alibri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alibri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alibri"/>
              </a:rPr>
              <a:t>Четыре подхода к наращиванию потенциала стран для выполнения Конвенций Рио</a:t>
            </a: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4617b"/>
                </a:solidFill>
                <a:latin typeface="Calibri"/>
              </a:rPr>
              <a:t>Совет,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ооценка потребностей в наращивании потенциал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NCS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значения элементов, связанных с наращиванием потенциала, в рамках проектов ГЭ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евые проекты наращивания потенциала (НП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граммы в конкретных странах, направленные на покрытие важнейших потребностей в наращивании потенциала в неразвитых странах и малых остравов и развиавающихся стран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13" name="Group 6"/>
          <p:cNvGrpSpPr/>
          <p:nvPr/>
        </p:nvGrpSpPr>
        <p:grpSpPr>
          <a:xfrm>
            <a:off x="0" y="5773680"/>
            <a:ext cx="9144000" cy="1008000"/>
            <a:chOff x="0" y="5773680"/>
            <a:chExt cx="9144000" cy="1008000"/>
          </a:xfrm>
        </p:grpSpPr>
        <p:pic>
          <p:nvPicPr>
            <p:cNvPr id="101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77368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Подзаголовок 2"/>
            <p:cNvSpPr/>
            <p:nvPr/>
          </p:nvSpPr>
          <p:spPr>
            <a:xfrm>
              <a:off x="504720" y="63032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Подзаголовок 2"/>
            <p:cNvSpPr/>
            <p:nvPr/>
          </p:nvSpPr>
          <p:spPr>
            <a:xfrm>
              <a:off x="1332720" y="60022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Подзаголовок 2"/>
            <p:cNvSpPr/>
            <p:nvPr/>
          </p:nvSpPr>
          <p:spPr>
            <a:xfrm>
              <a:off x="1254960" y="6205680"/>
              <a:ext cx="4276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Стратегические цели наращивания потенциала в различных областях деятельности в рамках ГЭФ-5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ыделено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44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млн долл. США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8052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1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ширение возможностей заинтересованны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орон для участия в процессе консультац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Генерирование информации и знаний, обеспечение доступа к ним и их использов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крепление потенциала для разработки политики и законотворческой деятельности на благо глобальных резултатов для окружающей сред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крепление потенциала для управления деятельностью в соответствии с положениями конвенц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5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ащивание потенциала для наблюдения за оценкой влияния на окружающую среду и последствия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0" name="Group 9"/>
          <p:cNvGrpSpPr/>
          <p:nvPr/>
        </p:nvGrpSpPr>
        <p:grpSpPr>
          <a:xfrm>
            <a:off x="0" y="5867280"/>
            <a:ext cx="9144000" cy="1008360"/>
            <a:chOff x="0" y="5867280"/>
            <a:chExt cx="9144000" cy="1008360"/>
          </a:xfrm>
        </p:grpSpPr>
        <p:pic>
          <p:nvPicPr>
            <p:cNvPr id="102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867280"/>
              <a:ext cx="914400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Подзаголовок 2"/>
            <p:cNvSpPr/>
            <p:nvPr/>
          </p:nvSpPr>
          <p:spPr>
            <a:xfrm>
              <a:off x="504720" y="63968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Подзаголовок 2"/>
            <p:cNvSpPr/>
            <p:nvPr/>
          </p:nvSpPr>
          <p:spPr>
            <a:xfrm>
              <a:off x="1332720" y="60958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Подзаголовок 2"/>
            <p:cNvSpPr/>
            <p:nvPr/>
          </p:nvSpPr>
          <p:spPr>
            <a:xfrm>
              <a:off x="1254960" y="6299280"/>
              <a:ext cx="4276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бщие требования, предъявляемые к проектам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228600" y="1752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лжны согласовываться со стратегическими целями наращивания потенциала в различных областях деятельност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http://www.thegef.org/gef/GEF5_Capacity_Development_Strategy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лжны преследовать одновременно несколько целей (по крайней мере в трех тематических областях деятельности ГЭФ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оритеты должны определяться в процессе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CS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левое участие в финансировании в пропорции не менее, чем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: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огут быть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SP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ли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S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7" name="Group 4"/>
          <p:cNvGrpSpPr/>
          <p:nvPr/>
        </p:nvGrpSpPr>
        <p:grpSpPr>
          <a:xfrm>
            <a:off x="0" y="5867280"/>
            <a:ext cx="9144000" cy="1008360"/>
            <a:chOff x="0" y="5867280"/>
            <a:chExt cx="9144000" cy="1008360"/>
          </a:xfrm>
        </p:grpSpPr>
        <p:pic>
          <p:nvPicPr>
            <p:cNvPr id="102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867280"/>
              <a:ext cx="914400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Подзаголовок 2"/>
            <p:cNvSpPr/>
            <p:nvPr/>
          </p:nvSpPr>
          <p:spPr>
            <a:xfrm>
              <a:off x="504720" y="63968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Подзаголовок 2"/>
            <p:cNvSpPr/>
            <p:nvPr/>
          </p:nvSpPr>
          <p:spPr>
            <a:xfrm>
              <a:off x="1332720" y="60958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Подзаголовок 2"/>
            <p:cNvSpPr/>
            <p:nvPr/>
          </p:nvSpPr>
          <p:spPr>
            <a:xfrm>
              <a:off x="1254960" y="6299280"/>
              <a:ext cx="4276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itle 4"/>
          <p:cNvSpPr/>
          <p:nvPr/>
        </p:nvSpPr>
        <p:spPr>
          <a:xfrm>
            <a:off x="685800" y="1882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7"/>
          <p:cNvGrpSpPr/>
          <p:nvPr/>
        </p:nvGrpSpPr>
        <p:grpSpPr>
          <a:xfrm>
            <a:off x="0" y="5867280"/>
            <a:ext cx="9144000" cy="1008360"/>
            <a:chOff x="0" y="5867280"/>
            <a:chExt cx="9144000" cy="1008360"/>
          </a:xfrm>
        </p:grpSpPr>
        <p:pic>
          <p:nvPicPr>
            <p:cNvPr id="103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867280"/>
              <a:ext cx="914400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Подзаголовок 2"/>
            <p:cNvSpPr/>
            <p:nvPr/>
          </p:nvSpPr>
          <p:spPr>
            <a:xfrm>
              <a:off x="504720" y="63968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Подзаголовок 2"/>
            <p:cNvSpPr/>
            <p:nvPr/>
          </p:nvSpPr>
          <p:spPr>
            <a:xfrm>
              <a:off x="1332720" y="60958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Подзаголовок 2"/>
            <p:cNvSpPr/>
            <p:nvPr/>
          </p:nvSpPr>
          <p:spPr>
            <a:xfrm>
              <a:off x="1254960" y="6299280"/>
              <a:ext cx="4276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9:23:42Z</dcterms:created>
  <dc:creator/>
  <dc:description/>
  <dc:language>en-US</dc:language>
  <cp:lastModifiedBy/>
  <dcterms:modified xsi:type="dcterms:W3CDTF">2011-11-01T21:00:15Z</dcterms:modified>
  <cp:revision>1</cp:revision>
  <dc:subject/>
  <dc:title/>
</cp:coreProperties>
</file>