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73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Img"/>
          </p:nvPr>
        </p:nvSpPr>
        <p:spPr>
          <a:xfrm>
            <a:off x="1158840" y="691920"/>
            <a:ext cx="4616640" cy="34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ftr" idx="74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 type="sldNum" idx="75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2D65-A227-4187-AD01-C8C507F10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E310-233F-44C1-8122-D7D2CA5B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E3CF-3389-43B6-BD5C-B09B70A0C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9AC6-C4B9-42CA-B7D4-A26336147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69A1-C433-49C1-A38C-9B53EA4ED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6CF8-6D42-4FF7-B12B-17FF48945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D0F1-B14B-4EAE-AD3C-3E2AD1CF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0C3-A260-49CF-9C82-09D85D13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D7501-4D8B-4C23-94EC-0A0B8F7B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54A2F-5292-4BD9-B147-AFB8C28D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669E6-3B6B-481A-A209-D58B69A9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5FF84-37B0-4C5B-8E26-0ACC48CD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973A0-C52F-459B-BB58-E36A7BD1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4DBA0-DCC5-4F67-ACC6-25546E27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9E53B-2B97-4CEF-BFC4-EC034161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17F97-0D04-4D4F-99E6-D5B26B44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F6FF7-5015-497D-9CB3-C9C45F04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4535A-0C1D-451D-8331-88F15271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DF0-C9D5-4B96-A0E1-2FDDE58C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370B6-399D-460E-A688-753C358E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CB996-D6E2-4C67-9981-E67EAD29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9DE14-B025-4C2E-8CCE-DF52830A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E47AE-DCB3-4AEA-A94E-19BD61CE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E302F-522E-40D8-A21B-9ED9C248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9F243-38B1-42D7-8E39-43453DB5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47C12-581E-4BCF-BC2C-99AE3728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DA769-4BB2-4988-A8A7-C4826BA5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D20DC-BA69-4068-AAD6-78901D55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937F8-6CA3-447F-A09D-7FABCF71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703-0141-4704-B90A-9785DBEC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D3898-0D55-4061-AFC6-8426A6C5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3615A-9ABC-48C3-B2BA-8071D3C9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280AF-B945-404B-8F67-3CFBC673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8CFC2-6519-4251-970B-92369825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3B2F5-0AC3-44BD-A0A7-B45BD847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84569-3E62-4410-9C38-1505D1C5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457B6-6321-4E4E-8769-201ECEE3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D3533-1D9C-4FCF-B916-C30B7A37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30B6E-0603-4ED4-9D82-EF84FB5C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AE948-D489-4984-B606-5D0AFDFA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D26E-11DC-4F79-AD16-16DACCC2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C648C-E35B-4673-B2AC-87C4B697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15FC0-55F0-416F-A57A-A2500924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C0013-CE93-4302-A706-F05EF5FC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083A4-31FE-4586-B16D-252E0BA2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277AC-0CD1-475E-832F-EF9655C3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B2554-9B3A-48B3-AE91-BA3977E5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EB49F-2F79-4357-BAB9-7685AEAB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BC988-8C33-439F-AE84-D5A0B886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E75C6-C79E-468A-BCF7-0292D1A0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9C61B-F434-4AC3-A1B4-227BC231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2A4F-82EA-4253-A815-701AE81E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BAFE0-8ED9-4B7B-B8F1-098D5617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1C54F-28A9-48EA-9560-882BB680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EDF2C-D4A1-4C38-93EB-AE9B05D9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8813D-9566-4467-87D9-61AF26E6E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D30CE-5C5C-4FD6-AAD1-D7D1F2E0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B7B91-4D75-4524-AC02-5ADA2CAB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CEA41-5254-471F-A93E-F83FE963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F4135-49AA-48F6-A79E-E78571CE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7DC11-59BC-4223-BC6E-06E04F90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89193-D79F-4DC3-B0A1-6FF77970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9E20-DBC2-48C9-8FB3-E7B1153A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C5131-7327-47BD-84A7-786C23BB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2E9DC8-358B-477F-B730-BA2BEFD4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194F6-F1D6-44B9-B05D-B60A645C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A6CA4-60EB-4BF4-847F-55782EC2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396AC7-E098-4E5F-AEFB-F78CCD85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5ED6DA-C88C-4366-B0DC-8752EBC2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93E94E-2039-44EF-82D4-4BE448FB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73E05-2B33-4AF3-8E20-988CC43D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1C5EF-C78E-4D66-8EEA-852645A1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A8F91-09E4-4C94-A394-B8E80C78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F6B3-CFA2-488C-B1DD-54333725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3DEAF-349D-4A8F-8399-1B2CD9CA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A261D4-827C-41A5-8AEA-52DF326C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99989-F956-42E6-B333-BCCD822B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0E3DF-AA21-4C32-95AB-B110AD09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716275-E3C6-413E-856A-D50CF5C7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033F1-F6E4-494E-B5FB-547B4DFE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3344AE-04E2-40D6-A434-1A61808F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D8881-26BB-4425-86FD-7CC4E957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732ED-A9C8-482F-846D-C4BBA4D7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2351C-A334-4768-B99F-9B1583DA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967C-C8E8-484B-8B2B-ED1CDD43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70455-813D-458E-B09E-208D0B6E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DF2513-BE4B-487F-AC64-8D89A115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EA5DAC-4A89-46D1-BFC6-D4941606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E6CC95-B407-40CD-8AD6-0FCA290A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635E8-9C0A-4CC5-B9A3-31848D17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B3B3FF-871E-4642-9182-7C284916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E9EAF2-3161-4D2F-8775-8C04C7B5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DAE419-E419-4953-A05F-8A26AD27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59F74-E685-4DD3-A917-92EF7419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F6BD50-8897-4F9C-BAA1-2727197A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01D1-B286-470E-8C92-3B866AA5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9B2BF1-E470-41B6-947E-1040CF4A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6C5E5-608E-401B-8428-C0571AB0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90E806-04DE-4C8A-B741-6B409B66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CD669E-386C-4ECF-A4D6-4BECC58E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E1C043-059A-4930-89D2-65490FAF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57E27-A71C-4292-A768-64AB8ABC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9543F9-DD70-45DD-8F5C-E4C667E5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01E2C4-68AD-4859-A9D2-D6005245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2723FF-442A-42D6-AAEA-08FA0E33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41E12D-EC60-46C0-96B6-D97375FE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9490-AED4-4825-A73E-4DBBFC1D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8AF981-DE7B-46D5-A0CF-AE0CBD43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F1849-197C-4662-A1EF-30E090E5C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305CC9-22CE-4502-85D4-E5EE274C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FB8AF-6051-4D3B-8FB1-2F53B6E0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0E03A7-1DF2-4491-BAC0-644D3960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2D5FB6-D7C7-4BD6-800A-AC4115A0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F8DFCA-3E7E-4EC1-A182-91C7518E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FF107-2BF4-4DC8-9440-4CF28D01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BA65BF-8D25-4F1F-8D9E-8D3B3910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9B61C8-5F49-4ABF-BAF5-A54356FC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08E-ED76-4D42-AC2B-AC5A89FC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9B7F-5A1F-413F-90CB-1803166D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F4C8E6-77BA-4D95-9F4C-2BC95C5C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6175E-5777-48E0-B08F-209BC7C1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13DE34-BDA2-439F-A061-A98C584F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CD7347-44ED-46B1-931C-E8A401A9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EE229-5A31-4B7A-A32B-75EDAA85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F8C4EF-3D44-4907-9C70-B50C62EE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A93C9A-B6E7-4CDB-AD3F-89D62655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61E74-28C8-498E-BAC7-C7205E43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DA000D-F6DE-4828-8311-990D255F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EE61A2-A63C-4CC6-A175-07AC886D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9A40-CE98-48E4-AFD3-37828C4C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830672-1385-4B45-B6F2-CADBCBED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1F8D1E-67CF-4C7C-9865-FBE0B338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EC012-1233-49EB-88F2-0FDE3834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CE4BBC-3A21-4A51-BF26-5A992507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DFCE48-C54A-4A8B-ABDA-CCDAF461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3CBCDB-5CEC-4371-8A63-AA3DC31C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3A9025-2975-46C2-B4CF-85E146DDC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F4A4B4-6F42-492B-8541-8E51D316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984B31-CBBC-4EC2-AD1D-904DB94C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21D0B2-A1D7-403E-BA45-AC822D96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73D6-B2AA-4431-88AB-0D9DA6A5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B0C25E-3921-44BE-B0A7-A88A3B7A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A1A2C3-5E88-4F11-B558-3C2DEA81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3BE4D2-D058-49A3-97BD-AF5552C9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525688-533D-4E08-8B39-3703AEB3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1436D-844A-4527-82BF-C77086B0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E02B1A-91B5-4503-9208-4BC33187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A34CB3-FADF-459D-B9AA-292B26CF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AB460B-6C2C-4AEB-8457-DD99DD62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18CA7F-FC64-4776-8865-EC240A7C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75A3AF-81C4-44D3-9881-14F81823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F2AF-9AAA-4E2E-9510-5846EB23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21E24D-B37E-40AA-B677-9F5835C1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C9534D-27B1-43C6-81BE-8C30A124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2E5043-A2C6-473D-A49B-2E5FE046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14C8E7-3C4C-4573-9094-D054DD43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56B5EE-AE42-4C40-8E47-65CFDDD9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8AD514-019B-4487-9FB8-40B9E5CF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491B30-B761-4353-B125-EACEDB89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84220B-A3DC-4197-BEF9-28CA5D52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6F1506-FC60-4EA7-A4A7-2F5E7159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2FECF9-42B1-48B4-8B82-C5AB343D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6F19-3D7B-4CC9-B3F2-A0479641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4566CF-A3F9-428C-8BAE-C0E8C26D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3678BA-2F39-49DF-A39F-C92E8799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7879C8-4FFE-4CD2-AF1F-C6864CBD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379834-F8BF-4D84-9781-8FB3285C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74F82E-AE9F-4047-AC7E-29772BCA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0D9550-CF98-4FD3-ADE5-3B1276B3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AFA533-6B13-4B28-A6E4-33E9C06A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1D2729-F5AE-482F-A3F9-C48AA6D3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4A3B2A-BB32-4332-8DDE-ACB0E36B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176101-6C20-4F83-A5C9-194889F3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0DFF8-9DF3-4556-A820-1D4D9F3E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E3B252-6D69-4C3A-871A-77CAE26C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200497-C547-4504-A51A-47F5F391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B7333B-20C0-42CD-BBEF-891200B0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762D57-1DB4-40C1-A999-0BA35874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470FD5-4690-471F-BF28-C6282C5F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0234FA-63DF-4333-BBB2-71D64890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A67833-67DC-4CE9-8007-4C3C03D1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1E9D3C-6863-41C2-9AB4-BDF948F5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13F0EA-93E3-4346-B526-3EA85F17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0D6480-1E72-49B7-B90F-F81EE604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4C25E-3117-4230-9E98-47D531FD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D6CF08-A73F-4F10-B107-E94DD8B2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CFE048-1C1A-48E4-A0EA-F53AA238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984EB0-0890-4949-ABDE-4A96A219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64BC5B-B716-416B-806F-3214F090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87774A-C137-4055-A9AD-584FC9833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A3F489-65F2-41E0-AD5E-AFADC6B0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DA22A8-3699-40F5-B767-B1E9BD53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FC7645-80EC-4B9C-91A0-87096B63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76634D-F3D6-464B-B385-8C292270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FAB50C-4BCE-49E4-9FED-D21CD38E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C93B-3F9D-4F28-9B06-1C6DBC67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F1DD10-0721-42B7-9F4D-9CA8EBB8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063B33-ED27-4D13-A979-4B9C5A8C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7E2008-CAE7-4D19-91F5-48DEFB41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584C8E-1E27-423D-90A6-4EFF8EBF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9A9DC0-C2DA-4668-A7D2-C276EC2F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220453-6EF2-4706-89E3-4CF2D44A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658446-FFF7-492B-8EF0-BF2EEC20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2F7AEF-C67E-4532-A290-72901F79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4F109F-B446-4960-9549-BEC5B25F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40DA1A-B1FF-44D4-AC99-051AF108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6C10-193C-432D-B878-B6FCBEBE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F301A6-3C6E-4DA1-8D9D-A3E23F17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C5B554-7243-4926-8234-9BACE095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E7D0A0-56B7-4B2A-8206-AC55BE7E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F5FC04-BB4F-44B8-95DA-DBF58B57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FFB065-7AFF-4903-AD92-74ACB797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E897BF-4BF0-49E0-BC12-1F827726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9FE754-4F38-411D-946E-CCDF84D7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FF4682-6E98-46CF-9C90-117D4626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450F9F-7B8B-40AC-9F1D-58CD1AE1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5A7F1-D6C9-45A1-9873-E66934E3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FF7-0661-4930-BD5D-475B36FE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2445D-EB0D-4348-A287-8EAE6A21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38CD0-0AD7-461D-891A-B1EA7CF4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6E6A1-C4AA-42AE-8842-0BD6231B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00915-64FC-478A-A5A0-92167309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273E6-F749-4BDF-B8D3-66C59FFE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7C80-E62A-4F4B-B2CF-8599EF49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D223-68D2-4887-9EB1-7C779045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263D6-4ED6-44A3-9EE4-731BDDB9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28EF3-B9A6-4547-ADF3-2A8B720D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88A71-2EFC-41DA-8701-9FD57342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5466-F5EB-4FFE-87BC-10E1011E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76F95-5B04-41E4-B2FE-D9983091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8BBC1-76FB-4920-869F-55C53ADD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0044C-FAC4-4113-A994-8937911E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9EC41-C320-4AAC-B083-6D9DE978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959CC-2B16-406A-A394-4A5071EB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4F98F-E748-4064-A90D-9F3D9DE4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274B0-E04C-4F37-9E2A-807FA977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D9783-07C2-419A-BF95-2C824A05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AAB2A-D734-4E64-AC6F-68BB55D4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65574-F50B-4ED8-AC6E-83E419E0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A39-D872-4732-BDC4-038BBB50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2F6C8-93B9-480B-B817-FF0F7BCF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0BAAA-913E-4FD2-8BA4-D241A5C8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A7107-219B-47DB-B7F8-09FCC516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8B5F5-8DBF-4574-A74E-DFF05833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DA2E-A66E-4F82-BE16-F50395C8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EB099-24C7-4B93-94C3-2B328B18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C008F-6EAD-4FCE-8B2F-EBD0F2A1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2CF0A-EF03-4CFF-822C-92003045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0EB32-6AC4-4F3F-9CE4-931B8E9C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92CA0-8E62-4B6E-A199-50F26383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FB9-F694-46F3-99C3-52EFBE92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24DC7-D8C1-48BE-A084-6D8ECFC9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1A33F-299C-4EA6-8987-C389241A3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9D9B3-3D6A-402B-99BD-9355D4A2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52A16-F449-45B0-9B06-7954B039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092F1-CBCA-46C7-8BDE-C09880A8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324B0-8EB2-4107-9009-1ACD6805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59EC2-506E-4925-97F6-6B795B8F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538D5-2DA9-46A4-8894-81BD01D4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0DA63-ECFD-4DC8-A3CE-BBC361D6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5C6D9-D870-4F3D-B376-057C9E96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C27-38FB-4D43-A34D-F39DE7F8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C9D96-006D-42AB-9AD6-A99DEFA4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65066-3F7E-4C45-8593-6FD8AF88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4A57E-4FD1-45E4-BBE2-5CAC02F0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052C6-BD09-4ACD-A391-601EA088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85FFF-45CC-45B0-9337-02E56437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1C881-47AB-427C-AD22-3E062631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3A8B7-6D3D-41DC-9189-E21F2F24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E9E6B-C856-4D2C-819A-E2554022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BA5BA-62FB-4D26-9174-BEC9DB6A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CD8BC-4083-480E-A6D1-CED1DF08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B23-A1B6-4296-B201-E84C4D26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7AAA8-897A-4ECF-8E68-F05ADFAB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81DF9-EC70-449C-A166-28DEB823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8D287-8612-4751-9279-4B755176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2E923-DF2A-4527-A9A8-D62A9AD0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3AA29-06EB-4A7E-835A-BFE7B558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FF707-9BB5-4463-B749-1909F919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EC4BE-A2B6-4299-AE90-A7ABA141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D43F7-1C86-4CF8-A15D-B2A43897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B7473-1BF9-45C7-AA1E-FA194888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08F92-6999-4538-9291-D2D2D973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E65-5208-4658-8BE8-F189E386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9AB25-46C0-42AF-94E1-8BDDE265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83E9A-3AD4-4522-BFB8-E7A45957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32BA4-123A-4861-B705-5324CB5D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E9CF6-3D6C-4196-BD45-88F4F70C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218F4-E998-4E5D-989C-11067E14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748CA-6D03-46B0-BF2D-D2FA6C5C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37957-1D95-4B71-B009-FF2DCAB7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B34E8-07F0-4813-84B2-A8472F66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C0F1C-BB1D-448E-B4AC-951677C5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FEF73-90BE-4761-9618-E52885AB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99E1-CC69-4EBB-BB70-D3AD50CE041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05D6-D42F-4A03-A7FE-CE0F8AC3C8D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A078-E897-4454-A64D-77221E2C9B2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7D17-33D6-4B73-86DA-16625E00A97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219E-5494-40B5-9784-487564029B7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147A-3157-4D45-9A1B-34E2B6871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F0E9-F8B1-4830-90E0-BA3304E2B8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1A3C-C5C3-4D19-8478-44C82070B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A361-2BA3-4D3F-9195-8D8879FAB1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471A-CA08-43CB-9EA1-3F32E166FE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43DC-E575-4690-9A0A-98C398B05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1DB4-55B8-4C7B-87DC-84E44E4DB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5ADC-19DE-4FEE-8F94-B50390B39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3F0D-D38F-4116-9C23-1F89EBFEEB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C238-9DAB-4C7A-A04E-7B484B5658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897F-BB66-4C46-8216-3BD93C700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0778-870B-41F3-9421-5B26F80C4B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AFB9-C1C5-436A-93B9-834CBB36C55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6F2E-EAEB-433B-85D2-DCDBCDC389D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406B-CD28-4704-A371-6F97C10C7D8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8206-1425-4F8F-9B1D-ACF65ECDE6A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7ABE-AA9C-4136-B0DF-F7EC173C831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1A23-D806-47DE-8380-D49193E4065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F529-556E-442D-A41F-2104C104386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  <a:ea typeface="Arial"/>
              </a:rPr>
              <a:t>ГЭФ: стратегический подход к наращиванию потенциа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ubtitle 4"/>
          <p:cNvSpPr/>
          <p:nvPr/>
        </p:nvSpPr>
        <p:spPr>
          <a:xfrm>
            <a:off x="990720" y="380988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Семинар ГЭФ для стран-чле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Восточная Евр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–13 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ктября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Group 4"/>
          <p:cNvGrpSpPr/>
          <p:nvPr/>
        </p:nvGrpSpPr>
        <p:grpSpPr>
          <a:xfrm>
            <a:off x="0" y="76320"/>
            <a:ext cx="9144000" cy="1008000"/>
            <a:chOff x="0" y="76320"/>
            <a:chExt cx="9144000" cy="1008000"/>
          </a:xfrm>
        </p:grpSpPr>
        <p:pic>
          <p:nvPicPr>
            <p:cNvPr id="1007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7632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Подзаголовок 2"/>
            <p:cNvSpPr/>
            <p:nvPr/>
          </p:nvSpPr>
          <p:spPr>
            <a:xfrm>
              <a:off x="504720" y="605880"/>
              <a:ext cx="642960" cy="125280"/>
            </a:xfrm>
            <a:prstGeom prst="rect">
              <a:avLst/>
            </a:prstGeom>
            <a:solidFill>
              <a:srgbClr val="3760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alibri"/>
                </a:rPr>
                <a:t>Л Е 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Подзаголовок 2"/>
            <p:cNvSpPr/>
            <p:nvPr/>
          </p:nvSpPr>
          <p:spPr>
            <a:xfrm>
              <a:off x="1332720" y="304920"/>
              <a:ext cx="38494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17375e"/>
                  </a:solidFill>
                  <a:latin typeface="Calibri"/>
                </a:rPr>
                <a:t>ДВАДЦАТЬ ЛЕТ ДЕЯТЕ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Подзаголовок 2"/>
            <p:cNvSpPr/>
            <p:nvPr/>
          </p:nvSpPr>
          <p:spPr>
            <a:xfrm>
              <a:off x="1254960" y="508320"/>
              <a:ext cx="4276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e7a47"/>
                  </a:solidFill>
                  <a:latin typeface="Calibri"/>
                </a:rPr>
                <a:t>ГЛОБАЛЬНЫЙ ЭКОЛОГИЧЕСКИЙ ФОН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2e7a47"/>
                  </a:solidFill>
                  <a:latin typeface="Calibri"/>
                </a:rPr>
                <a:t>ИНВЕСТИЦИИ В НАШУ ПЛАНЕ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4617b"/>
                </a:solidFill>
                <a:latin typeface="Calibri"/>
              </a:rPr>
              <a:t>Четыре подхода к наращиванию потенциала стран для выполнения Конвенций Рио</a:t>
            </a:r>
            <a:r>
              <a:rPr b="1" lang="en-US" sz="3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(</a:t>
            </a:r>
            <a:r>
              <a:rPr b="0" lang="ru-RU" sz="3000" spc="-1" strike="noStrike">
                <a:solidFill>
                  <a:srgbClr val="04617b"/>
                </a:solidFill>
                <a:latin typeface="Calibri"/>
              </a:rPr>
              <a:t>Совет,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 2003 C/22.8)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амооценка потребностей в наращивании потенциал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NCS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2960" indent="-4629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значения элементов, связанных с наращиванием потенциала, в рамках проектов ГЭ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2960" indent="-4629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левые проекты наращивания потенциала (НП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2960" indent="-4629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граммы в конкретных странах, направленные на покрытие важнейших потребностей в наращивании потенциала в неразвитых странах и малых остравов и развиавающихся стран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13" name="Group 6"/>
          <p:cNvGrpSpPr/>
          <p:nvPr/>
        </p:nvGrpSpPr>
        <p:grpSpPr>
          <a:xfrm>
            <a:off x="0" y="5773680"/>
            <a:ext cx="9144000" cy="1008000"/>
            <a:chOff x="0" y="5773680"/>
            <a:chExt cx="9144000" cy="1008000"/>
          </a:xfrm>
        </p:grpSpPr>
        <p:pic>
          <p:nvPicPr>
            <p:cNvPr id="1014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577368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Подзаголовок 2"/>
            <p:cNvSpPr/>
            <p:nvPr/>
          </p:nvSpPr>
          <p:spPr>
            <a:xfrm>
              <a:off x="504720" y="6303240"/>
              <a:ext cx="642960" cy="125280"/>
            </a:xfrm>
            <a:prstGeom prst="rect">
              <a:avLst/>
            </a:prstGeom>
            <a:solidFill>
              <a:srgbClr val="0b5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onstantia"/>
                </a:rPr>
                <a:t>Л Е 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Подзаголовок 2"/>
            <p:cNvSpPr/>
            <p:nvPr/>
          </p:nvSpPr>
          <p:spPr>
            <a:xfrm>
              <a:off x="1332720" y="6002280"/>
              <a:ext cx="38494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3495c"/>
                  </a:solidFill>
                  <a:latin typeface="Constantia"/>
                </a:rPr>
                <a:t>ДВАДЦАТЬ ЛЕТ ДЕЯТЕ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Подзаголовок 2"/>
            <p:cNvSpPr/>
            <p:nvPr/>
          </p:nvSpPr>
          <p:spPr>
            <a:xfrm>
              <a:off x="1254960" y="6205680"/>
              <a:ext cx="4276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e7a47"/>
                  </a:solidFill>
                  <a:latin typeface="Constantia"/>
                </a:rPr>
                <a:t>ГЛОБАЛЬНЫЙ ЭКОЛОГИЧЕСКИЙ ФОН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2e7a47"/>
                  </a:solidFill>
                  <a:latin typeface="Constantia"/>
                </a:rPr>
                <a:t>ИНВЕСТИЦИИ В НАШУ ПЛАНЕ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Стратегические цели наращивания потенциала в различных областях деятельности в рамках ГЭФ-5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ыделено 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44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млн долл. США</a:t>
            </a: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80520" y="15998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1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ширение возможностей заинтересованных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орон для участия в процессе консультац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Генерирование информации и знаний, обеспечение доступа к ним и их использова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крепление потенциала для разработки политики и законотворческой деятельности на благо глобальных резултатов для окружающей среды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Укрепление потенциала для управления деятельностью в соответствии с положениями конвенций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П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 5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ращивание потенциала для наблюдения за оценкой влияния на окружающую среду и последствиям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0" name="Group 9"/>
          <p:cNvGrpSpPr/>
          <p:nvPr/>
        </p:nvGrpSpPr>
        <p:grpSpPr>
          <a:xfrm>
            <a:off x="0" y="5867280"/>
            <a:ext cx="9144000" cy="1008360"/>
            <a:chOff x="0" y="5867280"/>
            <a:chExt cx="9144000" cy="1008360"/>
          </a:xfrm>
        </p:grpSpPr>
        <p:pic>
          <p:nvPicPr>
            <p:cNvPr id="102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5867280"/>
              <a:ext cx="914400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Подзаголовок 2"/>
            <p:cNvSpPr/>
            <p:nvPr/>
          </p:nvSpPr>
          <p:spPr>
            <a:xfrm>
              <a:off x="504720" y="6396840"/>
              <a:ext cx="642960" cy="125280"/>
            </a:xfrm>
            <a:prstGeom prst="rect">
              <a:avLst/>
            </a:prstGeom>
            <a:solidFill>
              <a:srgbClr val="0b5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onstantia"/>
                </a:rPr>
                <a:t>Л Е 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Подзаголовок 2"/>
            <p:cNvSpPr/>
            <p:nvPr/>
          </p:nvSpPr>
          <p:spPr>
            <a:xfrm>
              <a:off x="1332720" y="6095880"/>
              <a:ext cx="38494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3495c"/>
                  </a:solidFill>
                  <a:latin typeface="Constantia"/>
                </a:rPr>
                <a:t>ДВАДЦАТЬ ЛЕТ ДЕЯТЕ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Подзаголовок 2"/>
            <p:cNvSpPr/>
            <p:nvPr/>
          </p:nvSpPr>
          <p:spPr>
            <a:xfrm>
              <a:off x="1254960" y="6299280"/>
              <a:ext cx="42768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e7a47"/>
                  </a:solidFill>
                  <a:latin typeface="Constantia"/>
                </a:rPr>
                <a:t>ГЛОБАЛЬНЫЙ ЭКОЛОГИЧЕСКИЙ ФОН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2e7a47"/>
                  </a:solidFill>
                  <a:latin typeface="Constantia"/>
                </a:rPr>
                <a:t>ИНВЕСТИЦИИ В НАШУ ПЛАНЕ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бщие требования, предъявляемые к проектам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228600" y="17521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лжны согласовываться со стратегическими целями наращивания потенциала в различных областях деятельност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(http://www.thegef.org/gef/GEF5_Capacity_Development_Strategy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лжны преследовать одновременно несколько целей (по крайней мере в трех тематических областях деятельности ГЭФ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оритеты должны определяться в процессе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CS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левое участие в финансировании в пропорции не менее, чем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1:1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огут быть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SP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или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S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7" name="Group 4"/>
          <p:cNvGrpSpPr/>
          <p:nvPr/>
        </p:nvGrpSpPr>
        <p:grpSpPr>
          <a:xfrm>
            <a:off x="0" y="5867280"/>
            <a:ext cx="9144000" cy="1008360"/>
            <a:chOff x="0" y="5867280"/>
            <a:chExt cx="9144000" cy="1008360"/>
          </a:xfrm>
        </p:grpSpPr>
        <p:pic>
          <p:nvPicPr>
            <p:cNvPr id="1028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5867280"/>
              <a:ext cx="914400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Подзаголовок 2"/>
            <p:cNvSpPr/>
            <p:nvPr/>
          </p:nvSpPr>
          <p:spPr>
            <a:xfrm>
              <a:off x="504720" y="6396840"/>
              <a:ext cx="642960" cy="125280"/>
            </a:xfrm>
            <a:prstGeom prst="rect">
              <a:avLst/>
            </a:prstGeom>
            <a:solidFill>
              <a:srgbClr val="0b5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onstantia"/>
                </a:rPr>
                <a:t>Л Е 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Подзаголовок 2"/>
            <p:cNvSpPr/>
            <p:nvPr/>
          </p:nvSpPr>
          <p:spPr>
            <a:xfrm>
              <a:off x="1332720" y="6095880"/>
              <a:ext cx="38494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3495c"/>
                  </a:solidFill>
                  <a:latin typeface="Constantia"/>
                </a:rPr>
                <a:t>ДВАДЦАТЬ ЛЕТ ДЕЯТЕ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Подзаголовок 2"/>
            <p:cNvSpPr/>
            <p:nvPr/>
          </p:nvSpPr>
          <p:spPr>
            <a:xfrm>
              <a:off x="1254960" y="6299280"/>
              <a:ext cx="42768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e7a47"/>
                  </a:solidFill>
                  <a:latin typeface="Constantia"/>
                </a:rPr>
                <a:t>ГЛОБАЛЬНЫЙ ЭКОЛОГИЧЕСКИЙ ФОН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2e7a47"/>
                  </a:solidFill>
                  <a:latin typeface="Constantia"/>
                </a:rPr>
                <a:t>ИНВЕСТИЦИИ В НАШУ ПЛАНЕ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Title 4"/>
          <p:cNvSpPr/>
          <p:nvPr/>
        </p:nvSpPr>
        <p:spPr>
          <a:xfrm>
            <a:off x="685800" y="1882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ибо за внимание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Group 7"/>
          <p:cNvGrpSpPr/>
          <p:nvPr/>
        </p:nvGrpSpPr>
        <p:grpSpPr>
          <a:xfrm>
            <a:off x="0" y="5867280"/>
            <a:ext cx="9144000" cy="1008360"/>
            <a:chOff x="0" y="5867280"/>
            <a:chExt cx="9144000" cy="1008360"/>
          </a:xfrm>
        </p:grpSpPr>
        <p:pic>
          <p:nvPicPr>
            <p:cNvPr id="1034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5867280"/>
              <a:ext cx="9144000" cy="10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5" name="Подзаголовок 2"/>
            <p:cNvSpPr/>
            <p:nvPr/>
          </p:nvSpPr>
          <p:spPr>
            <a:xfrm>
              <a:off x="504720" y="6396840"/>
              <a:ext cx="642960" cy="125280"/>
            </a:xfrm>
            <a:prstGeom prst="rect">
              <a:avLst/>
            </a:prstGeom>
            <a:solidFill>
              <a:srgbClr val="0b5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Constantia"/>
                </a:rPr>
                <a:t>Л Е 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Подзаголовок 2"/>
            <p:cNvSpPr/>
            <p:nvPr/>
          </p:nvSpPr>
          <p:spPr>
            <a:xfrm>
              <a:off x="1332720" y="6095880"/>
              <a:ext cx="38494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3495c"/>
                  </a:solidFill>
                  <a:latin typeface="Constantia"/>
                </a:rPr>
                <a:t>ДВАДЦАТЬ ЛЕТ ДЕЯТЕЛЬНОС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Подзаголовок 2"/>
            <p:cNvSpPr/>
            <p:nvPr/>
          </p:nvSpPr>
          <p:spPr>
            <a:xfrm>
              <a:off x="1254960" y="6299280"/>
              <a:ext cx="427680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2e7a47"/>
                  </a:solidFill>
                  <a:latin typeface="Constantia"/>
                </a:rPr>
                <a:t>ГЛОБАЛЬНЫЙ ЭКОЛОГИЧЕСКИЙ ФОН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2e7a47"/>
                  </a:solidFill>
                  <a:latin typeface="Constantia"/>
                </a:rPr>
                <a:t>ИНВЕСТИЦИИ В НАШУ ПЛАНЕТ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9:23:42Z</dcterms:created>
  <dc:creator/>
  <dc:description/>
  <dc:language>en-US</dc:language>
  <cp:lastModifiedBy/>
  <dcterms:modified xsi:type="dcterms:W3CDTF">2011-11-01T21:00:15Z</dcterms:modified>
  <cp:revision>1</cp:revision>
  <dc:subject/>
  <dc:title/>
</cp:coreProperties>
</file>