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70B-612F-48B3-9211-674E5DE5A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3EF7-DD88-4E48-AB24-F297AA8C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FF9F-CCD4-4479-AB80-3A2ADD38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1D6-002F-4F45-A6EE-1B8BEE73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A2F-F053-493D-BB46-6860DE5B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D50-EBFA-4782-8F79-DA40398C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0FE-93A8-4785-8927-66212C1F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8FF-82F7-4D28-886C-BC31FF1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81679-62B4-485F-9984-127DDD72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5B044-0068-4DA4-9186-92A4DC7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508A-157D-468A-8916-4F021CF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CC4D3-CD0A-4014-8113-DD7C772A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AB6E3-96E5-4CBF-A559-FC77F9B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CD329-C680-473E-8C5F-4C9515B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4628-FDF5-48C6-B6BE-FE376CD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D2B15-CBFF-49D4-ACE2-4A7C25B9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B516D-17E2-4355-B097-20F62E21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5075A-96B6-4031-A1AA-6323B62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695-7D9B-4A77-91A4-71FD51CA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CCCC5-12AF-4D04-86E2-54B6A93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2DE56-2205-4B67-A4D8-93436A32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08B0A-FAB0-4859-A7B1-48D24218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238E-7B30-4F9A-8A5B-77A0005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47FBC-E11C-4B2D-B5D7-DCE5E69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014A6-EA6E-4CD7-A3CA-D2099AFF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57985-A9E6-427A-9B9A-B90D7B3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66A78-9710-4501-A5E4-6300C92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B2961-2219-40DC-940F-AC206097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32A4D-08E7-400C-A44A-DFFDA137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B2E-76A9-4350-83FF-D6F3E6AE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B941B-BC52-46B4-B342-1CFD8A02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1C35F-835A-4849-9250-E18334E9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ABBAC-EE16-4866-B168-5A3ED15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7367-C91D-41BB-940B-5812A8C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4CB56-4704-472D-981D-2A2C43F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84386-73B9-4779-BFEC-5964353D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58DA4-04BC-4BDD-88B1-D4B917E9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F1449-B8E8-487F-9524-1DB3E4B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B5466-9172-446E-9348-9924FBD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A40C0-2913-4F24-8DDE-5AFD903C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8D89-C46C-4022-984C-848F922F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64367-D862-45BD-91DB-8A896C32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5367-F071-4859-8A44-0C8D7603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1A491-DDFB-4411-9C29-A837B06A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56AC8-F12D-4500-9839-B44AACEC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06DE-2062-4963-86AE-6547A3FB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EDFC1-19A1-407E-871D-B7367F3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A3D12-AD5E-4F5F-AAD8-F7EAFD9C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3D85-2408-4D19-8508-AD127B50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A4825-B33F-4D76-BCDE-58CDD8B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3CF39-0C4D-47A7-9234-F20BE9E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DC60-12AD-4C08-9DA6-5B4A766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8D22F-6A04-4FCF-AD0B-5C5E2EF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2754A-1C78-4E3F-AC78-9749D9C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3931C-3907-4C1C-A485-3A58C67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D7D6-33DD-492E-AB42-A421BB9C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3C0FD-1529-476C-82ED-1404AB7D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6BFA0-3ECD-436D-AA16-C2CDB748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1F4F1-DBCC-4094-8F40-9459B740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B5808-8EAD-4877-A06C-62E3FF9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74617-3F83-42B2-A6EF-9DC73F8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30E5A-35BC-415F-B872-0DF3B98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34D5-ACB5-4FDE-8B35-A0CF3BB6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FF184-430E-4469-BBAD-23F58A0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3FDAA-6DF2-4900-8A46-C1E1348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7E8F1-6368-4174-89BC-ACE1B16C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48844-00CC-4BDE-B0C3-9AF3EF4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91858-A6A8-4F2E-8192-1E7C4123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BBF96-13A5-4DCF-A3F9-7EABE0E7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EC9A5-A434-4788-90BA-7B1AB69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5EF16-FABC-4B98-98B6-49ADEC6F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CA554-B361-40A1-BF9A-9A7DDDC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6BF4F-E53E-46A5-B903-86A6630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9B2-CC71-44A7-89D7-F9DBFE0C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3A7AE-DFE5-480C-A0F3-A0ACB19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60D91-4EAD-474C-9B8C-43EBFFE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11E7B-5696-4873-B558-AB46D2AB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06ACE-3518-45AE-A91D-723CE6A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B55BF-AFA0-49EB-911E-8D7E70D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5D4E7-D161-4BD7-8D63-CDB9E25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72768-31CF-437A-9332-E907793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7B3CB-5C9A-40EA-8961-7B5D26C2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E289D-3707-4882-A08E-1C00FA40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9CC26D-44E7-4366-9AE2-114A33D6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0F8-A761-46EF-BE9E-5A3F3E26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EB989-61F7-4D74-A033-DD4A1E7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11561-25A9-435D-BD53-3FBECD3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8E801-D7C6-4415-83B1-62C15B6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ABD6D-5BE7-4458-BE58-9F0ED65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4141E-CE19-421B-9A0E-6B9972E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301D5-E609-4126-9E5B-87D4F5A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8D0C4-1706-4F90-A133-8469411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6B91B-BCBC-41D8-9811-73CFC46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2FCD4-0DA8-4031-8DF6-A87343C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11D57-4B42-4D4A-8AD7-EDA958B9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E1CF-2C17-48C0-8195-A4B0F96B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57D60-320A-48BB-BC02-36794F9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652F0-2FC4-482A-9A3E-57FF1109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A2229-C875-4007-90F9-1349562E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D20E9-7B6C-4DD0-93BC-9B508FB4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FC8D4-BCAE-4B6E-8C17-B0652DA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4889D-6BBC-4FF5-93E0-E7CA50A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282BF-F0A8-4296-9C22-96EA5D3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72D9F-911A-42B0-96AF-37CC763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88265-3AA3-41F2-ACC8-02A01E7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6F3C4-B287-4845-9D14-81C2A88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067-B22B-4F69-A40E-8E1EF631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48100-9238-476C-ADD7-E1C5E48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D0F35-5C7A-4259-848E-E4491E12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1D879-42E5-4AED-9888-DC359B01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9BB4E-1D93-4AC0-A0F9-0E6BE407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BD89-496A-48E1-BF09-A185916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60713-A9A3-4158-A251-53D590DA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73EA9-6279-4593-8680-4C96FA6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3028C-F06B-44CE-8D0D-603F529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63D3D-ED92-45C8-820A-B106E66C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DD921-862B-41B9-BE97-78154A0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E72-9F48-4487-8D8B-58D9B6D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7AF-8EA6-4173-84D9-75450FE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29C2E-DF00-40AB-BCAC-B509B32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62CC6-EB64-4C7F-9915-337AED9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669E9-5F4D-4026-93F5-116594C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A2668-ABDD-4C5C-A332-EDE3679E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510F8-EE29-48BD-BDC1-0743BAB4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E614F-F178-4167-BD00-5457465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24964-82BA-422D-B2FD-FF20ADD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6A477-B58C-47BD-A8B0-EB8970A1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8D9E2-2F70-440C-8A91-0CFB8E4D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54F93-F303-43EB-8929-9A57C0D3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C1F-93C4-4323-A5F9-17CB8E25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76FAA-AA26-4013-8C42-3148CAE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C1545-D894-43E1-9D6A-ABFEAAC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B6B32-A662-46FA-B4E5-711B5D3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699D5-2C52-4A23-9412-AB4191D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2AC2A-D682-463E-B708-CB89C574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3FCA7-F328-4F60-A986-456E4E26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E8176-44BA-435F-AE03-A6CBCC38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DEC932-6122-48AC-BFA9-EAA7A6BF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14A56-10B4-49BB-9670-2D7EC02C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FCB7B-55A7-4830-92E2-CF4F7BE9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9DD-9CAE-4F18-97F0-460EB79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D4852-31E3-4E46-A309-9CE553C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2EAD4-FE0E-4930-977F-3151B658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8AFC0-4962-411F-BAEE-5AF3E15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8F2CA-2393-480E-BDCF-86D7F1B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DF2DB-9821-4E45-B046-5D9F1C0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4482C-89C4-4C9B-A10A-602265A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2CEFC-1F6A-42D1-8EB4-7A5FBD8B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53197-C9FC-4A33-AF42-FD28ADA3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16255-10DF-47DB-BAD7-18AE71BE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17528-DE17-4BB4-AD6A-E63DC2A9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FEE-F61E-4EBC-8C1B-9D2C4CBD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F2942-78D3-4157-B99C-D1D9A2D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20186-84AF-4B2C-A18C-498BCD5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4FF74-9FC6-4119-9F6A-388849D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02D2D-85C8-41A4-9F36-CE7C12E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3C428-894B-470C-B0F5-12A0E1E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F4AD01-2D76-4D93-967A-91A6E29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110BF-888E-40C7-B7C7-FD6ACC0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D99A0-073C-4B4F-BE20-2EAE6E5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B520A-65FC-4137-8AF4-5CF8145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EF259-B016-447A-A5FD-1017DF0B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8A7B-0998-4F5F-B22D-A9E2FFBC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438397-07F2-4727-A0DD-FC483DB2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C9F5C-6641-4998-979A-0957706C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94755-AEE8-45AA-8E41-3B5B18ED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60452-86A8-4544-9598-6796711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DDFC4-4EE2-473D-A955-B2A02FD0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DADAD-6182-44AA-AB55-F1994CA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3432D-B71D-4990-BA02-F68ACE2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A4375-2706-447E-8ED3-21DC6F3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2549C-8737-4EBE-8A5F-30E9F9F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087EF-027D-42EB-9826-58572F0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6EBD-DA99-491F-9655-3A1CBEBE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1FD53-A5D0-45AC-A4C9-57F0F55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76391-5BE5-406F-B5F8-14C9E5AC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BFFAA-FD9F-4973-8523-E780EF2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2B698F-7A6F-480F-8A49-E6B91E2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AFB489-D85F-47DC-AD45-22C63E4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6ADDD-381D-4152-B18D-6353709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CAC03-7219-4559-94E7-91FF4D6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4ABC3-3915-439C-AAA1-6045847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87ABB-FE9A-4B98-A453-577A72A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DBBAB-4A61-43F6-9602-107D1562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32B5-457D-439E-8013-0C16D83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D0110C-5F49-472D-B9A2-FAB2989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35C37-2F5D-4D67-A2D7-C1729C5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20A1D-DB3B-4CD2-884C-8D3DC9A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7E5AA-39BC-4559-AF8A-06CE4870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2A1A37-D426-443B-BBE7-9A572049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99837-209C-49D2-B004-8638F26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EE96EE-CAA0-43A4-8390-4E3D1CF0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B68F15-42EC-4BBA-82E7-515D16CF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CB0DD-3056-4323-896E-59021AA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93CE13-EB6B-4C54-B30F-3EA36B1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ED39-4894-4519-9ECB-C7BB650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606BB-5E8E-4748-8023-ECD408A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DF7A6-4AD1-45DB-84AE-626C423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A157C-C101-4ADB-B816-D88386C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1984F3-517F-42A5-892A-A64C81F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7ABE2-357E-4ED4-BDD4-4C380814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EF642B-834F-4166-80AD-C836B65E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124430-A59D-43A3-A0E2-A6DA1612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93A604-9622-443F-B418-7B38F5E5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ACC7A-B3B2-423D-A501-3CF8D70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D3D6F7-AAD7-4184-B047-5200ECA8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9E39-C9E3-4B3F-8590-4EB62EE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CDB020-31C4-46F3-B3A3-08C538D2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3C14B8-6BB0-489C-A9F2-C9A5C1C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7C8886-0582-4AE9-85AE-74AC6A88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57244D-1DDC-4227-8618-B9C67D6C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CB3F03-092D-4DD2-A883-049F623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B5B941-8F5C-4249-9D8B-75DAB8B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3C1D43-22F4-45DE-A4D8-B61F75A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DC5D8-0176-4C75-8F48-97FC9337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02CC9A-9C76-47D2-9D21-8C542A90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EC4A-3502-44A1-8536-CB1477A5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5B1-F206-437B-B198-80487C9C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D91F-7065-4055-ADF8-1133E78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34F0-DB5E-4C1B-98A9-53F03C2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9273-11E8-4235-8D52-EA6B4F2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17EF-15E3-4FCC-A714-26E987F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211E-E08E-47B6-81EB-45F9818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1246-150F-4212-B421-250F95C9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12A9-E2A7-4A04-9D87-40E15E40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7984-9AAF-4681-B7B3-C8C98E06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AF77-7DAA-4F9F-A5F1-3046468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9C18-5434-4568-9A3C-DC7904E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EC9-A096-48FD-9369-D9B2D7F1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200D-B672-454E-B1A5-6851D4D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7816-C5DB-4D1C-ADA6-2C977B2B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B7195-A096-4370-AD1E-CBFD8751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BAC3-96EE-4E20-A358-60D1C28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3836-7A01-4FE7-9F31-BF3476F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1504-5571-4C9C-9B5A-DAB621B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D47C-05E8-40D5-A351-5BB6895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121F-4D5B-4526-ACC6-CC04AE2C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DCE8-96BC-44FE-B252-D4101141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B44E-2965-4D9B-8A47-CF62B0C8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3C6-7CAE-445B-9499-E68C8EB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66F9-4C25-422D-8C9D-E2ADDF89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04F9-4A69-437B-A91F-852AA984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75D4-8C56-4ADB-B7B0-CC5469E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3F19-99D2-483E-BDFC-177048E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04E5-F460-49F2-AF84-C694BEBB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25595-D0FD-4444-9C63-A1E942B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95E90-2C7E-4578-978D-4B6A766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E71B-DB88-4C26-A8DC-AEEC713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C34A-759F-4DE7-8F7E-C118B42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CCFC-61DB-4ECB-9701-8FA2D623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963-06F9-42EA-8E3C-E6071C6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8265-E602-46DF-8655-B9FA9C6D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58F7-CD5C-4678-8D62-BA39C01D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77DC-1B38-45FA-8C3E-3F22F96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19A1-28C8-4CA1-A27C-684A48D2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58B9-45D1-4504-BC02-B7DF6C8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FC42-7762-4D4E-A8B2-18E656B3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6FE44-E939-441A-B300-CFB4DDB9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F6F11-9297-43CD-8CAE-F43AD3F9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4730-AC4D-4F0C-A295-FCD1069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74A0-AF48-45A2-B66C-F446AE9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FD9-9FF4-43F9-9B36-9CFCB25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4EB3A-35CF-48CF-AB77-3F1A8002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0FAC-FFFD-4B15-8E09-61638558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2311-2E05-4587-9176-FDE7DAE8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22E8-9C6C-4D6D-989F-128AC9CC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172C9-8066-4595-AFFE-99E0851D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CBDA-1AFC-4B0B-9835-A621877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51DC-9BEA-4069-B572-7C53D7C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4E02-60DD-479D-AB65-6E5F0D69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F81D-2061-465A-B882-CB82D61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1B7B-EBDE-4129-8740-6FF1C63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BE7-D2C3-4515-8E4E-AD8DB66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D618-3FB9-4475-B231-FD2A7CC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B887-077D-4024-BB3E-1983EA5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8D59-0CF1-4CD2-BBBF-EEE2DC6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A901-0338-4DFB-8DA7-7E8EA750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C9E3F-8B1F-4BB0-B8B5-3DD76DF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E250-54AE-41DE-8B74-75D11FC2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B2A3-DE0A-461B-B009-8A02F75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39D86-422E-45B6-B478-E61FE76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2F6F-A0AD-4C69-BB5B-76B22FF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B403-FA87-43FE-9F18-2140500F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16A-FDE9-4D6D-81AE-635D828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EF99-557A-4DEB-B4C1-ECC9043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C61EA-66CB-4ADD-ADF6-AD2E1D0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14443-112D-43A6-A061-DE7E266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DDD44-180C-4F20-A1C0-9C23ACF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2231-3723-4839-9D67-98AE011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6A676-0793-468A-B6D1-E67124D4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C19E-FD8E-4164-8058-81611E2C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E5872-B71D-48B0-B96C-520702BF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72C6-8E09-4977-8287-2BEC1CA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AA1B8-E631-4360-B652-2B5626DD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835-6E56-4D5A-8B5B-705D4B64D9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C07E-4DF6-4C86-A1BF-480A82FDB6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1CE8-ECEC-41CA-9202-844BEE1942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A8A8-B0C4-4987-A790-26580D8EEA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2B6-0A0E-41E0-9082-0E56E1793A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DEA-D063-4CA5-8895-0128CA8AA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E78-86C5-426E-ABF2-ADC7E6344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4CFF-DACD-4A63-B5AF-35EDAF0FF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BEF3-B888-4FBD-B8BC-13D9AC70D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D04-4B2C-4DA7-8219-94B9E8B05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78D9-9598-4BAA-90A7-1704C4328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B2AF-E9B1-47CF-8E39-09C13CA9F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8A6E-F85F-4C77-8D33-9B28C23AD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4FB5-C1A4-43DE-8545-56BC8EFFB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D45-D7AB-49DE-B6C4-F3B174F31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6F8-479C-4168-8FF6-2AFBFCB66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3C7-702E-4D0F-A1FF-ACEA51CB9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3BA-4CCA-4F29-A2A2-BDD4590EA02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3B5-DA2B-4EA8-8FF9-340B94D345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D49-B099-45C8-A360-4412DF0BAD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6C7-9A5B-4091-A6BF-A85223E329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2D92-E4CE-4F38-AABB-E33673FC52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428-EC15-4DE2-88D5-A0B9AB9138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10D-83AC-40E2-95FF-EF94018D31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ГЭФ: стратегический подход к наращиванию потенци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ГЭФ для стран-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Восточ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"/>
          <p:cNvGrpSpPr/>
          <p:nvPr/>
        </p:nvGrpSpPr>
        <p:grpSpPr>
          <a:xfrm>
            <a:off x="0" y="76320"/>
            <a:ext cx="9144000" cy="1008000"/>
            <a:chOff x="0" y="76320"/>
            <a:chExt cx="9144000" cy="1008000"/>
          </a:xfrm>
        </p:grpSpPr>
        <p:pic>
          <p:nvPicPr>
            <p:cNvPr id="100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Подзаголовок 2"/>
            <p:cNvSpPr/>
            <p:nvPr/>
          </p:nvSpPr>
          <p:spPr>
            <a:xfrm>
              <a:off x="504720" y="605880"/>
              <a:ext cx="642960" cy="1252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Подзаголовок 2"/>
            <p:cNvSpPr/>
            <p:nvPr/>
          </p:nvSpPr>
          <p:spPr>
            <a:xfrm>
              <a:off x="1332720" y="30492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7375e"/>
                  </a:solidFill>
                  <a:latin typeface="Calibri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Подзаголовок 2"/>
            <p:cNvSpPr/>
            <p:nvPr/>
          </p:nvSpPr>
          <p:spPr>
            <a:xfrm>
              <a:off x="1254960" y="50832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alibri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alibri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alibri"/>
              </a:rPr>
              <a:t>Четыре подхода к наращиванию потенциала стран для выполнения Конвенций Рио</a:t>
            </a: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4617b"/>
                </a:solidFill>
                <a:latin typeface="Calibri"/>
              </a:rPr>
              <a:t>Совет,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оценка потребностей в наращивании потенциал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NC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значения элементов, связанных с наращиванием потенциала, в рамках проектов ГЭ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евые проекты наращивания потенциала (НП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ы в конкретных странах, направленные на покрытие важнейших потребностей в наращивании потенциала в неразвитых странах и малых остравов и развиавающихся стран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3" name="Group 6"/>
          <p:cNvGrpSpPr/>
          <p:nvPr/>
        </p:nvGrpSpPr>
        <p:grpSpPr>
          <a:xfrm>
            <a:off x="0" y="5773680"/>
            <a:ext cx="9144000" cy="1008000"/>
            <a:chOff x="0" y="5773680"/>
            <a:chExt cx="9144000" cy="1008000"/>
          </a:xfrm>
        </p:grpSpPr>
        <p:pic>
          <p:nvPicPr>
            <p:cNvPr id="101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77368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Подзаголовок 2"/>
            <p:cNvSpPr/>
            <p:nvPr/>
          </p:nvSpPr>
          <p:spPr>
            <a:xfrm>
              <a:off x="504720" y="63032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Подзаголовок 2"/>
            <p:cNvSpPr/>
            <p:nvPr/>
          </p:nvSpPr>
          <p:spPr>
            <a:xfrm>
              <a:off x="1332720" y="60022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Подзаголовок 2"/>
            <p:cNvSpPr/>
            <p:nvPr/>
          </p:nvSpPr>
          <p:spPr>
            <a:xfrm>
              <a:off x="1254960" y="620568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атегические цели наращивания потенциала в различных областях деятельности в рамках ГЭФ-5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делено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44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млн долл. США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52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ширение возможностей заинтересованны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орон для участия в процессе консульта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енерирование информации и знаний, обеспечение доступа к ним и их использо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разработки политики и законотворческой деятельности на благо глобальных резултатов для окружающей сред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управления деятельностью в соответствии с положениями конвен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ащивание потенциала для наблюдения за оценкой влияния на окружающую среду и последствия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0" name="Group 9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бщие требования, предъявляемые к проектам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28600" y="1752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согласовываться со стратегическими целями наращивания потенциала в различных областях деятель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http://www.thegef.org/gef/GEF5_Capacity_Development_Strate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преследовать одновременно несколько целей (по крайней мере в трех тематических областях деятельности ГЭФ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оритеты должны определяться в процессе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CS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евое участие в финансировании в пропорции не менее, чем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: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гут быть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SP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S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itle 4"/>
          <p:cNvSpPr/>
          <p:nvPr/>
        </p:nvSpPr>
        <p:spPr>
          <a:xfrm>
            <a:off x="685800" y="1882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7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3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9:23:42Z</dcterms:created>
  <dc:creator/>
  <dc:description/>
  <dc:language>en-US</dc:language>
  <cp:lastModifiedBy/>
  <dcterms:modified xsi:type="dcterms:W3CDTF">2011-11-01T21:00:15Z</dcterms:modified>
  <cp:revision>1</cp:revision>
  <dc:subject/>
  <dc:title/>
</cp:coreProperties>
</file>