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60640" y="693360"/>
            <a:ext cx="4613040" cy="346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2724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A063-BFCA-4805-8545-3A270C431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C850-751F-4DC9-BEDD-C13247F60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Header Placeholder 6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Header Placeholder 3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AB72-D031-46F8-AA95-548A98771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Header Placeholder 3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6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6338-43E5-4667-9C09-546B28118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Header Placeholder 3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DD9F-F07B-4050-B5D8-4D7E01B01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Header Placeholder 3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8551-9F01-4B90-93E4-0C36D7FD5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Header Placeholder 3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BED8-143E-4249-98A2-F49B7E6760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Header Placeholder 3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F8FD-8366-41AF-8109-5C4AF5C86E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Header Placeholder 3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1C64-F053-418C-9A88-65BF8CF79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Header Placeholder 3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6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7E7D-E070-46F9-8F92-B10E53379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Header Placeholder 3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5F83-A1CF-4D6F-B757-C5852521C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9350-9632-4D8F-8F60-AC51A704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48DB-5BA7-40AE-B435-B5310633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947B-750D-49DD-A246-EA4106C5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28C-0202-463E-92E0-7A54B6BC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08AC-ABD5-44F9-8EF1-8E204638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AA75-3843-4EC0-90BF-3437AA38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86A5-E709-4718-AE27-B874538C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8C78-D024-4723-9D1E-B213B1D8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733A-C3F0-4B79-9588-F0699F95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7405-1918-40CF-9268-657744C4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BD34-D9A4-4909-990E-0256014E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759B-F8E2-4B26-9743-954EB0F1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849B-1123-4589-A288-F89861E2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9745-F1F8-409E-B451-8F18D618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8A69-8E64-4B9F-A1A4-AD7DA340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2A5C-CA91-472A-BD03-C2C87783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0E09-5B76-4C4E-A418-416B5709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D98E-F942-4068-9D1F-3A1CF55C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1A4F-91BF-4240-9AB9-59B2F3AB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2E17-C729-4F17-8CB9-F26D4E6E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BB66-FB8E-47E0-8AAC-115A153D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9A74-FAC2-4732-A97A-564A68C7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6A53-EC36-40A2-AE79-4191C876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1B15-CE11-408D-8017-1CD7EA32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C26A-A081-4597-92F2-42C2570CA9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D166-E71D-4B4C-9F01-E928BF650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GEF-20-PPT-BG-blank.png"/>
          <p:cNvPicPr/>
          <p:nvPr/>
        </p:nvPicPr>
        <p:blipFill>
          <a:blip r:embed="rId2"/>
          <a:stretch/>
        </p:blipFill>
        <p:spPr>
          <a:xfrm>
            <a:off x="-19080" y="-6480"/>
            <a:ext cx="9182160" cy="257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GEF-RU-LOGO.gif"/>
          <p:cNvPicPr/>
          <p:nvPr/>
        </p:nvPicPr>
        <p:blipFill>
          <a:blip r:embed="rId3"/>
          <a:stretch/>
        </p:blipFill>
        <p:spPr>
          <a:xfrm>
            <a:off x="609480" y="152280"/>
            <a:ext cx="40975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51ED-2B1C-480F-BF2C-F04081FDFC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5102-200D-44C9-9122-B1938A393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GEF_20Years_Wave_ru2.png"/>
          <p:cNvPicPr/>
          <p:nvPr/>
        </p:nvPicPr>
        <p:blipFill>
          <a:blip r:embed="rId2"/>
          <a:stretch/>
        </p:blipFill>
        <p:spPr>
          <a:xfrm>
            <a:off x="0" y="527364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</a:rPr>
              <a:t>ГЭФ и конвен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ubtitle 4"/>
          <p:cNvSpPr/>
          <p:nvPr/>
        </p:nvSpPr>
        <p:spPr>
          <a:xfrm>
            <a:off x="1295280" y="380988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42d"/>
                </a:solidFill>
                <a:latin typeface="Calibri"/>
              </a:rPr>
              <a:t>Семинар для членов ГЭФ в расширенном состав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11–13</a:t>
            </a:r>
            <a:r>
              <a:rPr b="1" lang="ru-RU" sz="3100" spc="-1" strike="noStrike">
                <a:solidFill>
                  <a:srgbClr val="00642d"/>
                </a:solidFill>
                <a:latin typeface="Calibri"/>
              </a:rPr>
              <a:t> октября</a:t>
            </a: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 2011</a:t>
            </a:r>
            <a:r>
              <a:rPr b="1" lang="ru-RU" sz="3100" spc="-1" strike="noStrike">
                <a:solidFill>
                  <a:srgbClr val="00642d"/>
                </a:solidFill>
                <a:latin typeface="Calibri"/>
              </a:rPr>
              <a:t> год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42d"/>
                </a:solidFill>
                <a:latin typeface="Calibri"/>
              </a:rPr>
              <a:t>Ташкент</a:t>
            </a: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, </a:t>
            </a:r>
            <a:r>
              <a:rPr b="1" lang="ru-RU" sz="3100" spc="-1" strike="noStrike">
                <a:solidFill>
                  <a:srgbClr val="00642d"/>
                </a:solidFill>
                <a:latin typeface="Calibri"/>
              </a:rPr>
              <a:t>Узбекистан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ямой доступ к грантам для составления докладов об осуществлении конвенции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оцесс реализац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114800" cy="44960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1"/>
          <p:cNvSpPr/>
          <p:nvPr/>
        </p:nvSpPr>
        <p:spPr>
          <a:xfrm>
            <a:off x="2468520" y="1295280"/>
            <a:ext cx="4043520" cy="49068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трана-реципиент подготавливает предложения по докладу об осуществлении конвенции и бюджету и представляет их на рассмотрение Секретариату ГЭ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2467080" y="2100240"/>
            <a:ext cx="4043160" cy="49068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екретариат ГЭФ рассматривает предложение, а исполнительный директор ГЭФ его утвержда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2462040" y="2881440"/>
            <a:ext cx="4043520" cy="49032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Между страной-реципиентом и исполнительным директором ГЭФ подписывается соглашение о предоставлении гранта, в котором определяются этапы проекта, выплачиваемые частями суммы и отчетная документаци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2457360" y="3691080"/>
            <a:ext cx="4043520" cy="49032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трана подает в Секретариат ГЭФ заявку на выборку средств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2478240" y="4462560"/>
            <a:ext cx="4043160" cy="49032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трана подготавливает доклад об осуществлении конвенц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2468520" y="5253120"/>
            <a:ext cx="4043520" cy="49032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Завершенный доклад об осуществлении конвенции, поданный  в органы конвенции (копия –Секретариату ГЭФ) + доклад о завершении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ЭФ и конвен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ЭФ обеспечивает финансирование, помогая развивающимся странам решать задачи, предусмотренные международными конвенциями в области охраны окружающей сред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ЭФ служит "финансовым механизмом" в рамках четырех конвенций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венция о биоразнообраз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мочная конвенция ООН об изменении клим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венция ООН по борьбе с опустынивани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кгольмская конвенция о стойких органических загрязнител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тегия в области сохранения биоразнообразия и рекомендации КС КБ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1209600"/>
          <a:ext cx="8153280" cy="4703760"/>
        </p:xfrm>
        <a:graphic>
          <a:graphicData uri="http://schemas.openxmlformats.org/drawingml/2006/table">
            <a:tbl>
              <a:tblPr/>
              <a:tblGrid>
                <a:gridCol w="4240080"/>
                <a:gridCol w="3913200"/>
              </a:tblGrid>
              <a:tr h="4590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ы программы К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д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ЭФ-5: цели страте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 № 1 программы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действовать сохранению биоразнообразия, в том числе обеспечивая устойчивость систем охраняемых терри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 № 2 программы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пособствовать устойчивому использованию биоразнообр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ель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делать системы охраняемых территорий более устойчив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 № 2 программы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пособствовать устойчивому использованию биоразнообр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 № 3 программы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нтегрировать задачи сохранения биоразнообразия в национальные меры политики в отношении различных секторов и в программы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ель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нтегрировать задачи сохранения и устойчивого использования биоразнообразия в работу сектора  производственного/морского ландшаф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892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 № 4 программы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сширить национальные организационно-технические возможности для реализации Конвенции 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ртахенского протокола о биобезопас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и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и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м. выше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ь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ширение возможностей для доступа к генетическим ресурсам и распределению бла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ь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грировать обязательства, принятые участниками КБР, в процесс национального планирования при помощи вспомогательных мероприят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ь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ащивание потенциала для реализации Картахенского протокола о биобезопас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тегия в области сохранения биоразнообразия и рекомендации КС КБ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600200"/>
          <a:ext cx="7848720" cy="4114800"/>
        </p:xfrm>
        <a:graphic>
          <a:graphicData uri="http://schemas.openxmlformats.org/drawingml/2006/table">
            <a:tbl>
              <a:tblPr/>
              <a:tblGrid>
                <a:gridCol w="4272120"/>
                <a:gridCol w="3576600"/>
              </a:tblGrid>
              <a:tr h="2160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ы программы К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д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ЭФ-5: цели страте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99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 № 5 программ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действовать достижению цел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I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Конвенции. Способствовать реализации международного режима доступа к генетическим ресурсам и распределения бл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ширение возможностей для доступа к генетическим ресурсам и распределению бл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884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 № 6 программ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хранить биоразнообраз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ел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нтегрировать задачи сохранения и устойчивого использования биоразнообразия в работу сектора  производственного/морского ландшафт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ел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делать системы охраняемых территорий более устойчивым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 c)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высить эффективность управления существующими охраняемыми территор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ащивание потенциала для реализации Картахенского протокола о биобезопас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тегия в области изменения климата и рекомендации КС РКИК О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оответствии с рекомендациями Конвенции ГЭФ оказал финансовое и техническое содействие более, чем 150 странам, не включенным в Приложени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в подготовке их первых, вторых и в некоторых случаях третьих национальных сообщений в отношении Конвен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а протяжении ГЭФ-3 ГЭФ финансировал глобальную программу содействия подготовке вторых национальных сообщений странами, в наибольшей степени соответствующими установленным критериям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а протяжении ГЭФ-5 ГЭФ будет продолжать финансирование процесса подготовки национальных сообщений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оответствии с решением КС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/CP.12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ериод ГЭФ-4 ГЭФ начал реализацию стратегической программы содействия сокращению выбросов парниковых газов благодаря изменению в землепользовании и лесном хозяйстве (ИЗПЛХ) в рамках тематической области адаптации к изменению клима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 рамках ГЭФ-5 ГЭФ выступил с межотраслевой инициативой в отношении устойчивого лесопользования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SFM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КС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ЭФ было предложено доработать стратегическую программу, предусматривающую увеличение объема инвестиций в передачу технологий с целью оказания развивающимся странам содействия в решении стоящих перед ними задач в области чистых с точки зрения окружающей среды технологий. ГЭФ разработал Познаньскую программу передачи технолог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тегия в отношении адаптации к изменению климата и рекомендации КС РКИК О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520" y="16761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КС-7 РКИК ООН в 2001 году ГЭФ было предложено обеспечить финансирование пилотных и демонстрационных проектов в области адаптации к изменению клима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 сформулировал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тратегические приоритеты в области адаптаци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SPA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стадиях ГЭФ-3/ГЭФ-4 в рамках целевого фонда ГЭФ в соответствии с рекомендациями КС (см. решени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/CP.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С-7 поручила ГЭФ управление двумя добровольными фондами, предназначенными для финансирования деятельности, связанной с адаптацией к изменению климата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Фонда для наименее развитых стран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ФНРС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 Специального фонда для адаптации к изменению климат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ФБИК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 продолжает привлекать средства и пополнять ФНР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СФБИ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оответствии с рекомендациями Конвенции и заключениями вспомогательных органов РКИ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ОН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ример, на 26-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ссии ВО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3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й сесси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О получили  признание шаги, предпринятые ГЭФ для увеличения объема финансирования реализации Национальных программ действий по адаптации к изменению климата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P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тегия в отношении деградации земельных ресурсов и рекомендации КС КООНБ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удучи новым финансовым механизмом КООНБО, ГЭФ в настоящее время пытается определить, каким образом его стратегия в отношении предотвращения деградации земельных ресурсов будет непосредственно способствовать реализации КООНБО, в том числе рассчитанного на десять лет (2008–2018 годы) Стратегического плана и Стратегии, принятых на восьмой К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атывая последний вариант стратегии в отношении предотвращения деградации земельных ресурсов, техническая консультативная групп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TAG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ключала в свой состав представителя КООНБО, который выносил рекомендации, 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G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аралась учесть рекомендации КС для ГЭФ, предусматривающие учет десятилетнего стратегического плана и проведение соответствующей корректировки его операций для обеспечения эффективной реализации Конвен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атегия в отношении СОЗ и рекомендации Стокгольмской конвен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752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тратегия ГЭФ в отношении СОЗ разработана в соответствии с рекомендациями, принятыми на первых четырех конференциях Сторон Стокгольмской конвенци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амая последняя рекомендация, принятая КС на четвертом совещании в мае 2009 года, подтверждает главный принцип, в соответствии с которым ГЭФ обязан </a:t>
            </a:r>
            <a:r>
              <a:rPr b="0" i="1" lang="en-US" sz="1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учитывать приоритетные задачи, обозначенные Сторонами в своих планах реализации стратегии, представленных конференции сторон</a:t>
            </a:r>
            <a:r>
              <a:rPr b="0" i="1" lang="en-US" sz="1900" spc="-1" strike="noStrike">
                <a:solidFill>
                  <a:srgbClr val="000000"/>
                </a:solidFill>
                <a:latin typeface="Calibri"/>
              </a:rPr>
              <a:t>”,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и продолжает уделять внимание подготовке национальных планов реализации (НПР), альтернативам ДДТ в борьбе с переносчиками инфекций и обмену информацие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Будучи наделенным соответствующими полномочиями в качестве финансового механизма Стокгольмской конвенции, ГЭФ должен заниматься новыми включенными химическими веществами, на которые распространяется Конвенци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47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нансирование вариантов докладов об осуществлении Конв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280" y="685800"/>
          <a:ext cx="8839440" cy="5292720"/>
        </p:xfrm>
        <a:graphic>
          <a:graphicData uri="http://schemas.openxmlformats.org/drawingml/2006/table">
            <a:tbl>
              <a:tblPr/>
              <a:tblGrid>
                <a:gridCol w="1473480"/>
                <a:gridCol w="1473120"/>
                <a:gridCol w="1473120"/>
                <a:gridCol w="1473120"/>
                <a:gridCol w="1473120"/>
                <a:gridCol w="1473480"/>
              </a:tblGrid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ласть деятель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мма гран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ариант 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ариант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ариант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ариант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оразнообзрание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Доклад по биобезопас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олл. СШ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й доступ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ец – на веб-сайте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ексные программы ЮНЕП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гиональные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ожение в отношении вспомогательного мероприятия подается через учреждение-исполнителя ГЭ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оразнообзрание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–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лан действий по сохранению биоразнообразия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BSAP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и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й национальный доклад о биоразнообраз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BSAP –220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олл. СШ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ый докла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редполагаемая сумма 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олл. СШ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й доступ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ец – на веб-сайте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ексная программа ЮНЕП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ожение в отношении вспомогательного мероприятия подается через учреждение-исполнителя ГЭ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 среднего размера или полномасштабный проект, если более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олл. СШ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счет ресурсов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ение клима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олл. СШ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й доступ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ец – на веб-сайте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ексная программа ЮНЕП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ожение в отношении вспомогательного мероприятия подается через учреждение-исполнителя ГЭ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 среднего размера или полномасштабный проект, если более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олл. СШ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счет ресурсов  СТА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градация земельных ресурс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олл. СШ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й доступ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ец – на веб-сайте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ексная программа ЮНЕП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ожение в отношении вспомогательного мероприятия подается через учреждение-исполнителя ГЭ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мические вещест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олл. СШ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й доступ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ец – на веб-сайте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ожение в отношении вспомогательного мероприятия подается через учреждение-исполнителя ГЭ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5:18:40Z</dcterms:created>
  <dc:creator/>
  <dc:description/>
  <dc:language>en-US</dc:language>
  <cp:lastModifiedBy/>
  <dcterms:modified xsi:type="dcterms:W3CDTF">2011-11-01T21:00:46Z</dcterms:modified>
  <cp:revision>1</cp:revision>
  <dc:subject/>
  <dc:title/>
</cp:coreProperties>
</file>