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60640" y="693360"/>
            <a:ext cx="4613040" cy="34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2724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248-9B0B-41EE-83B3-DFBBD40BF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4D8E-DF55-48D2-A4C0-EBF820DE8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Header Placeholder 6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C082-62E5-4367-BCBC-DE96A993C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6D13-DD96-4ED4-9297-96861F53E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8CA3-25B8-44AA-9472-71A028A67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65A9-BDA0-4AB1-A1BB-5B9D77A53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3E1A-FAB6-44C2-BDF2-1C49162D3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4CF-A064-40C7-B699-3321F5EF86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2D8D-1F58-4815-8C26-FD649FA39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446C-B073-4CFF-81CD-7156D883C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3720" y="4386240"/>
            <a:ext cx="554688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Header Placeholder 3"/>
          <p:cNvSpPr/>
          <p:nvPr/>
        </p:nvSpPr>
        <p:spPr>
          <a:xfrm>
            <a:off x="0" y="0"/>
            <a:ext cx="3005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ooter Placeholder 5"/>
          <p:cNvSpPr/>
          <p:nvPr/>
        </p:nvSpPr>
        <p:spPr>
          <a:xfrm>
            <a:off x="0" y="8769240"/>
            <a:ext cx="3005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3927600" y="8769240"/>
            <a:ext cx="3004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266-C834-4F3D-BD19-DD965EBBD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C24-1F15-40F8-AC1F-2FF9881B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4205-99F7-4B8F-8708-440DC126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1EBD-FC52-4A14-B58D-1BC817B0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A45-78B8-4871-9544-A7836C7B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0EB5-65D1-4976-B615-7877CEB8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FC87-8B21-4599-8A1F-CA3F7EE1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5B29-10B8-43F5-80F4-4B586D7D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840A-DEFE-4FFE-8BA2-75DF7543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3F452-44D6-40BE-99A4-3680ED27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9A54-5821-4BD0-9060-9A12B31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DF10-F83E-4DF6-8559-4C268E1A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4592-1611-4BE1-9C71-66CAEE97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6DDB-FCF6-4C3D-830E-AF76B90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0C65-5552-448E-B307-202D26C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8B2B-3A30-4FCB-8853-C2BCB75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7C9E-4912-4921-B6E8-793ED0A6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F1BA-F0AA-4692-8561-DD3FD0A3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234-4A6B-4409-BCB0-0CBCD525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B63-B1C5-466B-BD22-4458C70B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E64-5992-4A59-B2DD-92DD85DD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EA9-6CAB-4E7E-A0A7-DC056AF0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238-FC3B-4DC8-AA7D-E085C78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21F-63F2-45B2-B4F2-D6A613B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38B2-9212-4324-AE4C-6BAE32A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1EB9-3443-40AA-AFA2-6D361662FA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EBB-6AAC-4210-8617-04680F7E8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96A5-E9B9-4185-A4B3-EFAE308F5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E82-1EB7-4EEF-B1E7-5CEBE31F7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ГЭФ и конвен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1295280" y="380988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Семинар для членов ГЭФ в расширенном состав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11–13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 октября</a:t>
            </a: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Ташкент</a:t>
            </a: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, </a:t>
            </a:r>
            <a:r>
              <a:rPr b="1" lang="ru-RU" sz="3100" spc="-1" strike="noStrike">
                <a:solidFill>
                  <a:srgbClr val="00642d"/>
                </a:solidFill>
                <a:latin typeface="Calibri"/>
              </a:rPr>
              <a:t>Узбекистан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ямой доступ к грантам для составления докладов об осуществлении конвенции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цесс реализ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14800" cy="4496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1"/>
          <p:cNvSpPr/>
          <p:nvPr/>
        </p:nvSpPr>
        <p:spPr>
          <a:xfrm>
            <a:off x="2468520" y="1295280"/>
            <a:ext cx="4043520" cy="49068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-реципиент подготавливает предложения по докладу об осуществлении конвенции и бюджету и представляет их на рассмотрение Секретариату ГЭФ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2467080" y="2100240"/>
            <a:ext cx="4043160" cy="49068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екретариат ГЭФ рассматривает предложение, а исполнительный директор ГЭФ его утвержда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2462040" y="288144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Между страной-реципиентом и исполнительным директором ГЭФ подписывается соглашение о предоставлении гранта, в котором определяются этапы проекта, выплачиваемые частями суммы и отчетная документац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2457360" y="369108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 подает в Секретариат ГЭФ заявку на выборку средст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2478240" y="4462560"/>
            <a:ext cx="404316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Страна подготавливает доклад об осуществлении конвенци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21"/>
          <p:cNvSpPr/>
          <p:nvPr/>
        </p:nvSpPr>
        <p:spPr>
          <a:xfrm>
            <a:off x="2468520" y="5253120"/>
            <a:ext cx="4043520" cy="49032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Завершенный доклад об осуществлении конвенции, поданный  в органы конвенции (копия –Секретариату ГЭФ) + доклад о завершении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ЭФ и конв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ЭФ обеспечивает финансирование, помогая развивающимся странам решать задачи, предусмотренные международными конвенциями в области охраны окружающей сред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ЭФ служит "финансовым механизмом" в рамках четырех конвенций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я о биоразнообра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мочная конвенция ООН об изменении клим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венция ООН по борьбе с опустыни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окгольмская конвенция о стойких органических загрязнител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сохранения биоразнообразия и рекомендации КС КБ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1209600"/>
          <a:ext cx="8153280" cy="4703760"/>
        </p:xfrm>
        <a:graphic>
          <a:graphicData uri="http://schemas.openxmlformats.org/drawingml/2006/table">
            <a:tbl>
              <a:tblPr/>
              <a:tblGrid>
                <a:gridCol w="4240080"/>
                <a:gridCol w="3913200"/>
              </a:tblGrid>
              <a:tr h="459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ы программы К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-5: цели 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1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йствовать сохранению биоразнообразия, в том числе обеспечивая устойчивость систем охраняемых террито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2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ствовать устойчивому использованию биоразнообр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делать системы охраняемых территорий более устойчивы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2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особствовать устойчивому использованию биоразнообраз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3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биоразнообразия в национальные меры политики в отношении различных секторов и в программы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и устойчивого использования биоразнообразия в работу сектора  производственного/морского ландшаф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892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4 программ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асширить национальные организационно-технические возможности для реализации Конвенции 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ртахенского протокола о био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м. выше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возможностей для доступа к генетическим ресурсам и распределению бла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грировать обязательства, принятые участниками КБР, в процесс национального планирования при помощи вспомогательных мероприят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ащивание потенциала для реализации Картахенского протокола о биобезопас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сохранения биоразнообразия и рекомендации КС КБ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600200"/>
          <a:ext cx="7848720" cy="4114800"/>
        </p:xfrm>
        <a:graphic>
          <a:graphicData uri="http://schemas.openxmlformats.org/drawingml/2006/table">
            <a:tbl>
              <a:tblPr/>
              <a:tblGrid>
                <a:gridCol w="4272120"/>
                <a:gridCol w="3576600"/>
              </a:tblGrid>
              <a:tr h="2160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ы программы К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на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ЭФ-5: цели страте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5 программ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йствовать достижению це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I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Конвенции. Способствовать реализации международного режима доступа к генетическим ресурсам и распределения б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ширение возможностей для доступа к генетическим ресурсам и распределению бла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884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иоритет № 6 программ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хранить биоразнообраз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нтегрировать задачи сохранения и устойчивого использования биоразнообразия в работу сектора  производственного/морского ландшафт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делать системы охраняемых территорий более устойчивы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  c)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ысить эффективность управления существующими охраняемыми территор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ь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ащивание потенциала для реализации Картахенского протокола о био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бласти изменения климата и рекомендации КС РКИК О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рекомендациями Конвенции ГЭФ оказал финансовое и техническое содействие более, чем 150 странам, не включенным в Приложе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в подготовке их первых, вторых и в некоторых случаях третьих национальных сообщений в отношении Конвен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протяжении ГЭФ-3 ГЭФ финансировал глобальную программу содействия подготовке вторых национальных сообщений странами, в наибольшей степени соответствующими установленным критерия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а протяжении ГЭФ-5 ГЭФ будет продолжать финансирование процесса подготовки национальных сообще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оответствии с решением КС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/CP.12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ГЭФ-4 ГЭФ начал реализацию стратегической программы содействия сокращению выбросов парниковых газов благодаря изменению в землепользовании и лесном хозяйстве (ИЗПЛХ) в рамках тематической области адаптации к изменению клим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 рамках ГЭФ-5 ГЭФ выступил с межотраслевой инициативой в отношении устойчивого лесопользования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SFM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С-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ГЭФ было предложено доработать стратегическую программу, предусматривающую увеличение объема инвестиций в передачу технологий с целью оказания развивающимся странам содействия в решении стоящих перед ними задач в области чистых с точки зрения окружающей среды технологий. ГЭФ разработал Познаньскую программу передачи технолог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тношении адаптации к изменению климата и рекомендации КС РКИК О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6761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КС-7 РКИК ООН в 2001 году ГЭФ было предложено обеспечить финансирование пилотных и демонстрационных проектов в области адаптации к изменению клима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сформулировал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ратегические приоритеты в области адаптации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SPA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тадиях ГЭФ-3/ГЭФ-4 в рамках целевого фонда ГЭФ в соответствии с рекомендациями КС (см. решен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/CP.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С-7 поручила ГЭФ управление двумя добровольными фондами, предназначенными для финансирования деятельности, связанной с адаптацией к изменению климат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онда для наименее развитых стран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ФНРС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 Специального фонда для адаптации к изменению климата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ФБИК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продолжает привлекать средства и пополнять ФНР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СФБ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оответствии с рекомендациями Конвенции и заключениями вспомогательных органов РКИ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ОН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имер, на 26-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сии ВО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3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й сесс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О получили  признание шаги, предпринятые ГЭФ для увеличения объема финансирования реализации Национальных программ действий по адаптации к изменению климат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P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тегия в отношении деградации земельных ресурсов и рекомендации КС КООНБ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удучи новым финансовым механизмом КООНБО, ГЭФ в настоящее время пытается определить, каким образом его стратегия в отношении предотвращения деградации земельных ресурсов будет непосредственно способствовать реализации КООНБО, в том числе рассчитанного на десять лет (2008–2018 годы) Стратегического плана и Стратегии, принятых на восьмой К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атывая последний вариант стратегии в отношении предотвращения деградации земельных ресурсов, техническая консультативная групп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AG)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ключала в свой состав представителя КООНБО, который выносил рекомендации, 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лась учесть рекомендации КС для ГЭФ, предусматривающие учет десятилетнего стратегического плана и проведение соответствующей корректировки его операций для обеспечения эффективной реализации Конвен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атегия в отношении СОЗ и рекомендации Стокгольмской конвен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я ГЭФ в отношении СОЗ разработана в соответствии с рекомендациями, принятыми на первых четырех конференциях Сторон Стокгольмской конвенции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амая последняя рекомендация, принятая КС на четвертом совещании в мае 2009 года, подтверждает главный принцип, в соответствии с которым ГЭФ обязан 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учитывать приоритетные задачи, обозначенные Сторонами в своих планах реализации стратегии, представленных конференции сторон</a:t>
            </a:r>
            <a:r>
              <a:rPr b="0" i="1" lang="en-US" sz="1900" spc="-1" strike="noStrike">
                <a:solidFill>
                  <a:srgbClr val="000000"/>
                </a:solidFill>
                <a:latin typeface="Calibri"/>
              </a:rPr>
              <a:t>”,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 продолжает уделять внимание подготовке национальных планов реализации (НПР), альтернативам ДДТ в борьбе с переносчиками инфекций и обмену информаци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удучи наделенным соответствующими полномочиями в качестве финансового механизма Стокгольмской конвенции, ГЭФ должен заниматься новыми включенными химическими веществами, на которые распространяется Конвенция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47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нансирование вариантов докладов об осуществлении Конв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2280" y="685800"/>
          <a:ext cx="8839440" cy="5292720"/>
        </p:xfrm>
        <a:graphic>
          <a:graphicData uri="http://schemas.openxmlformats.org/drawingml/2006/table">
            <a:tbl>
              <a:tblPr/>
              <a:tblGrid>
                <a:gridCol w="1473480"/>
                <a:gridCol w="1473120"/>
                <a:gridCol w="1473120"/>
                <a:gridCol w="1473120"/>
                <a:gridCol w="1473120"/>
                <a:gridCol w="14734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ь деятель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гран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 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ариант</a:t>
                      </a: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разнообзрани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Доклад по биобезопасност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ые программы ЮНЕП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ьны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разнообзрание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–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лан действий по сохранению биоразнообразия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и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й национальный доклад о биоразнообрази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–22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ый доклад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редполагаемая сумма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среднего размера или полномасштабный проект, если боле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ресурсов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ение клим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 среднего размера или полномасштабный проект, если боле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чет ресурсов  СТ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градация земельных ресурс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ая программа ЮНЕП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ческие веще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долл. 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й доступ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ец – на веб-сайте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F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ложение в отношении вспомогательного мероприятия подается через учреждение-исполнителя ГЭ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5:18:40Z</dcterms:created>
  <dc:creator/>
  <dc:description/>
  <dc:language>en-US</dc:language>
  <cp:lastModifiedBy/>
  <dcterms:modified xsi:type="dcterms:W3CDTF">2011-11-01T21:00:46Z</dcterms:modified>
  <cp:revision>1</cp:revision>
  <dc:subject/>
  <dc:title/>
</cp:coreProperties>
</file>