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933600" cy="923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528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927240" y="-360"/>
            <a:ext cx="300492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60640" y="693360"/>
            <a:ext cx="4613040" cy="3460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93720" y="4386240"/>
            <a:ext cx="5546880" cy="4154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0" y="8769240"/>
            <a:ext cx="300528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927240" y="8769240"/>
            <a:ext cx="300492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62343-DAFC-4200-8371-A71340D12E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13040" cy="346068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93720" y="4386240"/>
            <a:ext cx="5546880" cy="41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3927600" y="8769240"/>
            <a:ext cx="300492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1695A-0D69-4D9F-9D9A-FF98A34C31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Footer Placeholder 5"/>
          <p:cNvSpPr/>
          <p:nvPr/>
        </p:nvSpPr>
        <p:spPr>
          <a:xfrm>
            <a:off x="0" y="8769240"/>
            <a:ext cx="300528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Header Placeholder 6"/>
          <p:cNvSpPr/>
          <p:nvPr/>
        </p:nvSpPr>
        <p:spPr>
          <a:xfrm>
            <a:off x="0" y="0"/>
            <a:ext cx="300528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13040" cy="346068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93720" y="4386240"/>
            <a:ext cx="5546880" cy="41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Header Placeholder 3"/>
          <p:cNvSpPr/>
          <p:nvPr/>
        </p:nvSpPr>
        <p:spPr>
          <a:xfrm>
            <a:off x="0" y="0"/>
            <a:ext cx="300528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Footer Placeholder 5"/>
          <p:cNvSpPr/>
          <p:nvPr/>
        </p:nvSpPr>
        <p:spPr>
          <a:xfrm>
            <a:off x="0" y="8769240"/>
            <a:ext cx="300528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Slide Number Placeholder 6"/>
          <p:cNvSpPr/>
          <p:nvPr/>
        </p:nvSpPr>
        <p:spPr>
          <a:xfrm>
            <a:off x="3927600" y="8769240"/>
            <a:ext cx="300492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81A11-29A7-46A5-90BA-13B4347EA5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13040" cy="346068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93720" y="4386240"/>
            <a:ext cx="5546880" cy="41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Header Placeholder 3"/>
          <p:cNvSpPr/>
          <p:nvPr/>
        </p:nvSpPr>
        <p:spPr>
          <a:xfrm>
            <a:off x="0" y="0"/>
            <a:ext cx="300528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Footer Placeholder 5"/>
          <p:cNvSpPr/>
          <p:nvPr/>
        </p:nvSpPr>
        <p:spPr>
          <a:xfrm>
            <a:off x="0" y="8769240"/>
            <a:ext cx="300528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Slide Number Placeholder 6"/>
          <p:cNvSpPr/>
          <p:nvPr/>
        </p:nvSpPr>
        <p:spPr>
          <a:xfrm>
            <a:off x="3927600" y="8769240"/>
            <a:ext cx="300492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80668-42AE-464E-A05E-3BFF77AB56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13040" cy="346068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93720" y="4386240"/>
            <a:ext cx="5546880" cy="41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Header Placeholder 3"/>
          <p:cNvSpPr/>
          <p:nvPr/>
        </p:nvSpPr>
        <p:spPr>
          <a:xfrm>
            <a:off x="0" y="0"/>
            <a:ext cx="300528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Footer Placeholder 5"/>
          <p:cNvSpPr/>
          <p:nvPr/>
        </p:nvSpPr>
        <p:spPr>
          <a:xfrm>
            <a:off x="0" y="8769240"/>
            <a:ext cx="300528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Slide Number Placeholder 6"/>
          <p:cNvSpPr/>
          <p:nvPr/>
        </p:nvSpPr>
        <p:spPr>
          <a:xfrm>
            <a:off x="3927600" y="8769240"/>
            <a:ext cx="300492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3FA93-A12A-4486-BE3B-4916D13E77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13040" cy="346068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93720" y="4386240"/>
            <a:ext cx="5546880" cy="41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Header Placeholder 3"/>
          <p:cNvSpPr/>
          <p:nvPr/>
        </p:nvSpPr>
        <p:spPr>
          <a:xfrm>
            <a:off x="0" y="0"/>
            <a:ext cx="300528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Footer Placeholder 5"/>
          <p:cNvSpPr/>
          <p:nvPr/>
        </p:nvSpPr>
        <p:spPr>
          <a:xfrm>
            <a:off x="0" y="8769240"/>
            <a:ext cx="300528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Slide Number Placeholder 6"/>
          <p:cNvSpPr/>
          <p:nvPr/>
        </p:nvSpPr>
        <p:spPr>
          <a:xfrm>
            <a:off x="3927600" y="8769240"/>
            <a:ext cx="300492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B372E-A23F-4987-B062-ADCB45F48C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13040" cy="346068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93720" y="4386240"/>
            <a:ext cx="5546880" cy="41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Header Placeholder 3"/>
          <p:cNvSpPr/>
          <p:nvPr/>
        </p:nvSpPr>
        <p:spPr>
          <a:xfrm>
            <a:off x="0" y="0"/>
            <a:ext cx="300528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Footer Placeholder 5"/>
          <p:cNvSpPr/>
          <p:nvPr/>
        </p:nvSpPr>
        <p:spPr>
          <a:xfrm>
            <a:off x="0" y="8769240"/>
            <a:ext cx="300528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Slide Number Placeholder 6"/>
          <p:cNvSpPr/>
          <p:nvPr/>
        </p:nvSpPr>
        <p:spPr>
          <a:xfrm>
            <a:off x="3927600" y="8769240"/>
            <a:ext cx="300492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406BB-3F5C-4996-99D7-A98D56F224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13040" cy="346068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93720" y="4386240"/>
            <a:ext cx="5546880" cy="41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Header Placeholder 3"/>
          <p:cNvSpPr/>
          <p:nvPr/>
        </p:nvSpPr>
        <p:spPr>
          <a:xfrm>
            <a:off x="0" y="0"/>
            <a:ext cx="300528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Footer Placeholder 5"/>
          <p:cNvSpPr/>
          <p:nvPr/>
        </p:nvSpPr>
        <p:spPr>
          <a:xfrm>
            <a:off x="0" y="8769240"/>
            <a:ext cx="300528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Slide Number Placeholder 6"/>
          <p:cNvSpPr/>
          <p:nvPr/>
        </p:nvSpPr>
        <p:spPr>
          <a:xfrm>
            <a:off x="3927600" y="8769240"/>
            <a:ext cx="300492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C3B5A-AC18-4EEF-B8C1-2FD699647C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13040" cy="346068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93720" y="4386240"/>
            <a:ext cx="5546880" cy="41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Header Placeholder 3"/>
          <p:cNvSpPr/>
          <p:nvPr/>
        </p:nvSpPr>
        <p:spPr>
          <a:xfrm>
            <a:off x="0" y="0"/>
            <a:ext cx="300528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Footer Placeholder 5"/>
          <p:cNvSpPr/>
          <p:nvPr/>
        </p:nvSpPr>
        <p:spPr>
          <a:xfrm>
            <a:off x="0" y="8769240"/>
            <a:ext cx="300528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Slide Number Placeholder 6"/>
          <p:cNvSpPr/>
          <p:nvPr/>
        </p:nvSpPr>
        <p:spPr>
          <a:xfrm>
            <a:off x="3927600" y="8769240"/>
            <a:ext cx="300492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37A07-AB77-4396-BE28-14BF419D1D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13040" cy="346068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93720" y="4386240"/>
            <a:ext cx="5546880" cy="41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Header Placeholder 3"/>
          <p:cNvSpPr/>
          <p:nvPr/>
        </p:nvSpPr>
        <p:spPr>
          <a:xfrm>
            <a:off x="0" y="0"/>
            <a:ext cx="300528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Footer Placeholder 5"/>
          <p:cNvSpPr/>
          <p:nvPr/>
        </p:nvSpPr>
        <p:spPr>
          <a:xfrm>
            <a:off x="0" y="8769240"/>
            <a:ext cx="300528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lide Number Placeholder 6"/>
          <p:cNvSpPr/>
          <p:nvPr/>
        </p:nvSpPr>
        <p:spPr>
          <a:xfrm>
            <a:off x="3927600" y="8769240"/>
            <a:ext cx="300492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C514A-C49D-44E9-9128-285BA9CCDC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13040" cy="346068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93720" y="4386240"/>
            <a:ext cx="5546880" cy="41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Header Placeholder 3"/>
          <p:cNvSpPr/>
          <p:nvPr/>
        </p:nvSpPr>
        <p:spPr>
          <a:xfrm>
            <a:off x="0" y="0"/>
            <a:ext cx="300528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Footer Placeholder 5"/>
          <p:cNvSpPr/>
          <p:nvPr/>
        </p:nvSpPr>
        <p:spPr>
          <a:xfrm>
            <a:off x="0" y="8769240"/>
            <a:ext cx="300528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Slide Number Placeholder 6"/>
          <p:cNvSpPr/>
          <p:nvPr/>
        </p:nvSpPr>
        <p:spPr>
          <a:xfrm>
            <a:off x="3927600" y="8769240"/>
            <a:ext cx="300492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2F7FA-B165-4A31-8E38-E2CDE5B942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6DADA-6DDC-426D-81CE-67858A484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7C69B-FF6B-46DF-AB24-DA0EF97E2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F185C-7EC2-4957-BE9D-74042E280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54DC7-B989-4EEF-BEA0-F3B7F70E4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47ED5-246B-429D-9A71-BB2C93128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A14FD-AB70-4461-B583-97C420645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784A4-69E3-49C3-B2AC-C920C32D2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AA37A-5632-4F86-9C30-F97447FAF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48491-C7B0-47EE-95B2-4471B7CB8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7C363-466E-42FF-B747-376EBFBFD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BFC37-48F4-457C-914A-E03C146C5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5E062-13A5-4BCB-9EE4-1AA436C4A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D7893-9011-44E8-BF7F-D2A5CA8C2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F5962-2135-47C1-B127-1C8A95426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AC591-F5C1-4EB2-A888-21922A6C1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3A1EB-7876-42E2-A3EC-BC336426F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BD1EA-A92B-4062-84CF-FC66EE997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BF9B0-F7AF-46E6-8BCD-D569BED93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029A7-31E0-4AFC-8DC2-746F52B41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2F0F9-A74F-43C8-9A46-D1B18BF5D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0761C-C931-4598-83D2-DDD091D61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5AC81-D480-45AE-B3E8-DC7221B25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9B785-465F-4516-965F-D58E8BB1B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4C4D5-A90B-4DFB-9890-1183528CD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DAAE9-72BB-4AD8-876F-B5B030C2CB8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D71C5-3D9E-41A1-936D-B21B781F57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" name="Picture 7" descr="GEF-20-PPT-BG-blank.png"/>
          <p:cNvPicPr/>
          <p:nvPr/>
        </p:nvPicPr>
        <p:blipFill>
          <a:blip r:embed="rId2"/>
          <a:stretch/>
        </p:blipFill>
        <p:spPr>
          <a:xfrm>
            <a:off x="-19080" y="-6480"/>
            <a:ext cx="9182160" cy="2573640"/>
          </a:xfrm>
          <a:prstGeom prst="rect">
            <a:avLst/>
          </a:prstGeom>
          <a:ln w="0">
            <a:noFill/>
          </a:ln>
        </p:spPr>
      </p:pic>
      <p:pic>
        <p:nvPicPr>
          <p:cNvPr id="6" name="Picture 8" descr="GEF-RU-LOGO.gif"/>
          <p:cNvPicPr/>
          <p:nvPr/>
        </p:nvPicPr>
        <p:blipFill>
          <a:blip r:embed="rId3"/>
          <a:stretch/>
        </p:blipFill>
        <p:spPr>
          <a:xfrm>
            <a:off x="609480" y="152280"/>
            <a:ext cx="409752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CEF82-B57D-4397-92A8-FE869F62B94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81721-967C-407F-9F87-5B4CAEF8D7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6" descr="GEF_20Years_Wave_ru2.png"/>
          <p:cNvPicPr/>
          <p:nvPr/>
        </p:nvPicPr>
        <p:blipFill>
          <a:blip r:embed="rId2"/>
          <a:stretch/>
        </p:blipFill>
        <p:spPr>
          <a:xfrm>
            <a:off x="0" y="5273640"/>
            <a:ext cx="9144000" cy="1584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42d"/>
                </a:solidFill>
                <a:latin typeface="Calibri"/>
              </a:rPr>
              <a:t>ГЭФ и конвенци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Subtitle 4"/>
          <p:cNvSpPr/>
          <p:nvPr/>
        </p:nvSpPr>
        <p:spPr>
          <a:xfrm>
            <a:off x="1295280" y="3809880"/>
            <a:ext cx="64008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00642d"/>
                </a:solidFill>
                <a:latin typeface="Calibri"/>
              </a:rPr>
              <a:t>Семинар для членов ГЭФ в расширенном составе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642d"/>
                </a:solidFill>
                <a:latin typeface="Calibri"/>
              </a:rPr>
              <a:t>11–13</a:t>
            </a:r>
            <a:r>
              <a:rPr b="1" lang="ru-RU" sz="3100" spc="-1" strike="noStrike">
                <a:solidFill>
                  <a:srgbClr val="00642d"/>
                </a:solidFill>
                <a:latin typeface="Calibri"/>
              </a:rPr>
              <a:t> октября</a:t>
            </a:r>
            <a:r>
              <a:rPr b="1" lang="en-US" sz="3100" spc="-1" strike="noStrike">
                <a:solidFill>
                  <a:srgbClr val="00642d"/>
                </a:solidFill>
                <a:latin typeface="Calibri"/>
              </a:rPr>
              <a:t> 2011</a:t>
            </a:r>
            <a:r>
              <a:rPr b="1" lang="ru-RU" sz="3100" spc="-1" strike="noStrike">
                <a:solidFill>
                  <a:srgbClr val="00642d"/>
                </a:solidFill>
                <a:latin typeface="Calibri"/>
              </a:rPr>
              <a:t> года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00642d"/>
                </a:solidFill>
                <a:latin typeface="Calibri"/>
              </a:rPr>
              <a:t>Ташкент</a:t>
            </a:r>
            <a:r>
              <a:rPr b="1" lang="en-US" sz="3100" spc="-1" strike="noStrike">
                <a:solidFill>
                  <a:srgbClr val="00642d"/>
                </a:solidFill>
                <a:latin typeface="Calibri"/>
              </a:rPr>
              <a:t>, </a:t>
            </a:r>
            <a:r>
              <a:rPr b="1" lang="ru-RU" sz="3100" spc="-1" strike="noStrike">
                <a:solidFill>
                  <a:srgbClr val="00642d"/>
                </a:solidFill>
                <a:latin typeface="Calibri"/>
              </a:rPr>
              <a:t>Узбекистан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6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6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Прямой доступ к грантам для составления докладов об осуществлении конвенции</a:t>
            </a:r>
            <a:r>
              <a:rPr b="1" lang="fr-FR" sz="25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процесс реализации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2" descr=""/>
          <p:cNvPicPr/>
          <p:nvPr/>
        </p:nvPicPr>
        <p:blipFill>
          <a:blip r:embed="rId1"/>
          <a:stretch/>
        </p:blipFill>
        <p:spPr>
          <a:xfrm>
            <a:off x="2438280" y="1295280"/>
            <a:ext cx="4114800" cy="449604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21"/>
          <p:cNvSpPr/>
          <p:nvPr/>
        </p:nvSpPr>
        <p:spPr>
          <a:xfrm>
            <a:off x="2468520" y="1295280"/>
            <a:ext cx="4043520" cy="490680"/>
          </a:xfrm>
          <a:prstGeom prst="rect">
            <a:avLst/>
          </a:prstGeom>
          <a:solidFill>
            <a:srgbClr val="c3d69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  <a:ea typeface="Arial"/>
              </a:rPr>
              <a:t>Страна-реципиент подготавливает предложения по докладу об осуществлении конвенции и бюджету и представляет их на рассмотрение Секретариату ГЭФ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Rectangle 21"/>
          <p:cNvSpPr/>
          <p:nvPr/>
        </p:nvSpPr>
        <p:spPr>
          <a:xfrm>
            <a:off x="2467080" y="2100240"/>
            <a:ext cx="4043160" cy="490680"/>
          </a:xfrm>
          <a:prstGeom prst="rect">
            <a:avLst/>
          </a:prstGeom>
          <a:solidFill>
            <a:srgbClr val="c3d69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  <a:ea typeface="Arial"/>
              </a:rPr>
              <a:t>Секретариат ГЭФ рассматривает предложение, а исполнительный директор ГЭФ его утверждае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Rectangle 21"/>
          <p:cNvSpPr/>
          <p:nvPr/>
        </p:nvSpPr>
        <p:spPr>
          <a:xfrm>
            <a:off x="2462040" y="2881440"/>
            <a:ext cx="4043520" cy="490320"/>
          </a:xfrm>
          <a:prstGeom prst="rect">
            <a:avLst/>
          </a:prstGeom>
          <a:solidFill>
            <a:srgbClr val="c3d69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  <a:ea typeface="Arial"/>
              </a:rPr>
              <a:t>Между страной-реципиентом и исполнительным директором ГЭФ подписывается соглашение о предоставлении гранта, в котором определяются этапы проекта, выплачиваемые частями суммы и отчетная документация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Rectangle 21"/>
          <p:cNvSpPr/>
          <p:nvPr/>
        </p:nvSpPr>
        <p:spPr>
          <a:xfrm>
            <a:off x="2457360" y="3691080"/>
            <a:ext cx="4043520" cy="490320"/>
          </a:xfrm>
          <a:prstGeom prst="rect">
            <a:avLst/>
          </a:prstGeom>
          <a:solidFill>
            <a:srgbClr val="c3d69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  <a:ea typeface="Arial"/>
              </a:rPr>
              <a:t>Страна подает в Секретариат ГЭФ заявку на выборку средств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2478240" y="4462560"/>
            <a:ext cx="4043160" cy="490320"/>
          </a:xfrm>
          <a:prstGeom prst="rect">
            <a:avLst/>
          </a:prstGeom>
          <a:solidFill>
            <a:srgbClr val="c3d69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  <a:ea typeface="Arial"/>
              </a:rPr>
              <a:t>Страна подготавливает доклад об осуществлении конвенции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Rectangle 21"/>
          <p:cNvSpPr/>
          <p:nvPr/>
        </p:nvSpPr>
        <p:spPr>
          <a:xfrm>
            <a:off x="2468520" y="5253120"/>
            <a:ext cx="4043520" cy="490320"/>
          </a:xfrm>
          <a:prstGeom prst="rect">
            <a:avLst/>
          </a:prstGeom>
          <a:solidFill>
            <a:srgbClr val="c3d69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  <a:ea typeface="Arial"/>
              </a:rPr>
              <a:t>Завершенный доклад об осуществлении конвенции, поданный  в органы конвенции (копия –Секретариату ГЭФ) + доклад о завершении деятельности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45720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6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6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Calibri"/>
              </a:rPr>
              <a:t>Спасибо за внимание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ГЭФ и конвенци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ГЭФ обеспечивает финансирование, помогая развивающимся странам решать задачи, предусмотренные международными конвенциями в области охраны окружающей среды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ГЭФ служит "финансовым механизмом" в рамках четырех конвенций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онвенция о биоразнообрази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мочная конвенция ООН об изменении климат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онвенция ООН по борьбе с опустынивание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токгольмская конвенция о стойких органических загрязнителя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тратегия в области сохранения биоразнообразия и рекомендации КС КБ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533520" y="1209600"/>
          <a:ext cx="8153280" cy="4703760"/>
        </p:xfrm>
        <a:graphic>
          <a:graphicData uri="http://schemas.openxmlformats.org/drawingml/2006/table">
            <a:tbl>
              <a:tblPr/>
              <a:tblGrid>
                <a:gridCol w="4240080"/>
                <a:gridCol w="3913200"/>
              </a:tblGrid>
              <a:tr h="459000"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spcBef>
                          <a:spcPts val="726"/>
                        </a:spcBef>
                        <a:spcAft>
                          <a:spcPts val="4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Приоритеты программы КС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на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010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–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014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годы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spcBef>
                          <a:spcPts val="726"/>
                        </a:spcBef>
                        <a:spcAft>
                          <a:spcPts val="4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ГЭФ-5: цели стратег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58920"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Приоритет № 1 программы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: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Содействовать сохранению биоразнообразия, в том числе обеспечивая устойчивость систем охраняемых территор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Приоритет № 2 программы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: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Способствовать устойчивому использованию биоразнообраз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Цель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I: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Сделать системы охраняемых территорий более устойчивы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6920"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Приоритет № 2 программы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: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Способствовать устойчивому использованию биоразнообраз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Приоритет № 3 программы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: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Интегрировать задачи сохранения биоразнообразия в национальные меры политики в отношении различных секторов и в программы развит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Цель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II: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интегрировать задачи сохранения и устойчивого использования биоразнообразия в работу сектора  производственного/морского ландшаф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88920"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Приоритет № 4 программы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: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Расширить национальные организационно-технические возможности для реализации Конвенции </a:t>
                      </a:r>
                      <a:r>
                        <a:rPr b="1" lang="ru-RU" sz="12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  <a:ea typeface="Times New Roman"/>
                        </a:rPr>
                        <a:t>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Картахенского протокола о биобезопасно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Цели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и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I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см. выше.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Цель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V: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сширение возможностей для доступа к генетическим ресурсам и распределению бла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Цель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: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нтегрировать обязательства, принятые участниками КБР, в процесс национального планирования при помощи вспомогательных мероприятий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Цель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II: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ращивание потенциала для реализации Картахенского протокола о биобезопасно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тратегия в области сохранения биоразнообразия и рекомендации КС КБ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685800" y="1600200"/>
          <a:ext cx="7848720" cy="4114800"/>
        </p:xfrm>
        <a:graphic>
          <a:graphicData uri="http://schemas.openxmlformats.org/drawingml/2006/table">
            <a:tbl>
              <a:tblPr/>
              <a:tblGrid>
                <a:gridCol w="4272120"/>
                <a:gridCol w="3576600"/>
              </a:tblGrid>
              <a:tr h="216000"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spcBef>
                          <a:spcPts val="726"/>
                        </a:spcBef>
                        <a:spcAft>
                          <a:spcPts val="4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Приоритеты программы КС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на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010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–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014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годы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spcBef>
                          <a:spcPts val="726"/>
                        </a:spcBef>
                        <a:spcAft>
                          <a:spcPts val="4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ГЭФ-5: цели стратег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9960"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Приоритет № 5 программы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: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	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Содействовать достижению цели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III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Конвенции. Способствовать реализации международного режима доступа к генетическим ресурсам и распределения бла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Цель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V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: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сширение возможностей для доступа к генетическим ресурсам и распределению бла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98840"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Приоритет № 6 программы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: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Сохранить биоразнообраз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Цель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II: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интегрировать задачи сохранения и устойчивого использования биоразнообразия в работу сектора  производственного/морского ландшафта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Цель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I: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Сделать системы охраняемых территорий более устойчивыми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:  c)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повысить эффективность управления существующими охраняемыми территория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Цель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II: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ращивание потенциала для реализации Картахенского протокола о биобезопас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тратегия в области изменения климата и рекомендации КС РКИК ОО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04920" y="11426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соответствии с рекомендациями Конвенции ГЭФ оказал финансовое и техническое содействие более, чем 150 странам, не включенным в Приложение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, в подготовке их первых, вторых и в некоторых случаях третьих национальных сообщений в отношении Конвенци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На протяжении ГЭФ-3 ГЭФ финансировал глобальную программу содействия подготовке вторых национальных сообщений странами, в наибольшей степени соответствующими установленным критериям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На протяжении ГЭФ-5 ГЭФ будет продолжать финансирование процесса подготовки национальных сообщений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соответствии с решением КС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/CP.12,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период ГЭФ-4 ГЭФ начал реализацию стратегической программы содействия сокращению выбросов парниковых газов благодаря изменению в землепользовании и лесном хозяйстве (ИЗПЛХ) в рамках тематической области адаптации к изменению климат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В рамках ГЭФ-5 ГЭФ выступил с межотраслевой инициативой в отношении устойчивого лесопользования 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(SFM).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 КС-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3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ГЭФ было предложено доработать стратегическую программу, предусматривающую увеличение объема инвестиций в передачу технологий с целью оказания развивающимся странам содействия в решении стоящих перед ними задач в области чистых с точки зрения окружающей среды технологий. ГЭФ разработал Познаньскую программу передачи технологи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тратегия в отношении адаптации к изменению климата и рекомендации КС РКИК ОО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380520" y="1676160"/>
            <a:ext cx="84582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 КС-7 РКИК ООН в 2001 году ГЭФ было предложено обеспечить финансирование пилотных и демонстрационных проектов в области адаптации к изменению климат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ГЭФ сформулировал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Стратегические приоритеты в области адаптации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(SPA)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 стадиях ГЭФ-3/ГЭФ-4 в рамках целевого фонда ГЭФ в соответствии с рекомендациями КС (см. решение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5/CP.7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С-7 поручила ГЭФ управление двумя добровольными фондами, предназначенными для финансирования деятельности, связанной с адаптацией к изменению климата,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Фонда для наименее развитых стран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ФНРС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и Специального фонда для адаптации к изменению климата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СФБИК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)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ГЭФ продолжает привлекать средства и пополнять ФНРС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 СФБИК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соответствии с рекомендациями Конвенции и заключениями вспомогательных органов РКИК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ОН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пример, на 26-й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ессии ВОО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31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й сесси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ОО получили  признание шаги, предпринятые ГЭФ для увеличения объема финансирования реализации Национальных программ действий по адаптации к изменению климата (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APA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тратегия в отношении деградации земельных ресурсов и рекомендации КС КООНБ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8088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Будучи новым финансовым механизмом КООНБО, ГЭФ в настоящее время пытается определить, каким образом его стратегия в отношении предотвращения деградации земельных ресурсов будет непосредственно способствовать реализации КООНБО, в том числе рассчитанного на десять лет (2008–2018 годы) Стратегического плана и Стратегии, принятых на восьмой КС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Разрабатывая последний вариант стратегии в отношении предотвращения деградации земельных ресурсов, техническая консультативная группа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(TAG)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ключала в свой состав представителя КООНБО, который выносил рекомендации, а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AG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старалась учесть рекомендации КС для ГЭФ, предусматривающие учет десятилетнего стратегического плана и проведение соответствующей корректировки его операций для обеспечения эффективной реализации Конвенции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Стратегия в отношении СОЗ и рекомендации Стокгольмской конвенци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752120"/>
            <a:ext cx="82296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Стратегия ГЭФ в отношении СОЗ разработана в соответствии с рекомендациями, принятыми на первых четырех конференциях Сторон Стокгольмской конвенции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Самая последняя рекомендация, принятая КС на четвертом совещании в мае 2009 года, подтверждает главный принцип, в соответствии с которым ГЭФ обязан </a:t>
            </a:r>
            <a:r>
              <a:rPr b="0" i="1" lang="en-US" sz="19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i="1" lang="ru-RU" sz="1900" spc="-1" strike="noStrike">
                <a:solidFill>
                  <a:srgbClr val="000000"/>
                </a:solidFill>
                <a:latin typeface="Calibri"/>
              </a:rPr>
              <a:t>учитывать приоритетные задачи, обозначенные Сторонами в своих планах реализации стратегии, представленных конференции сторон</a:t>
            </a:r>
            <a:r>
              <a:rPr b="0" i="1" lang="en-US" sz="1900" spc="-1" strike="noStrike">
                <a:solidFill>
                  <a:srgbClr val="000000"/>
                </a:solidFill>
                <a:latin typeface="Calibri"/>
              </a:rPr>
              <a:t>”, 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и продолжает уделять внимание подготовке национальных планов реализации (НПР), альтернативам ДДТ в борьбе с переносчиками инфекций и обмену информацией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Будучи наделенным соответствующими полномочиями в качестве финансового механизма Стокгольмской конвенции, ГЭФ должен заниматься новыми включенными химическими веществами, на которые распространяется Конвенция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2280" y="-47520"/>
            <a:ext cx="8686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Финансирование вариантов докладов об осуществлении Конвенци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152280" y="685800"/>
          <a:ext cx="8839440" cy="5292720"/>
        </p:xfrm>
        <a:graphic>
          <a:graphicData uri="http://schemas.openxmlformats.org/drawingml/2006/table">
            <a:tbl>
              <a:tblPr/>
              <a:tblGrid>
                <a:gridCol w="1473480"/>
                <a:gridCol w="1473120"/>
                <a:gridCol w="1473120"/>
                <a:gridCol w="1473120"/>
                <a:gridCol w="1473120"/>
                <a:gridCol w="1473480"/>
              </a:tblGrid>
              <a:tr h="50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9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бласть деятельност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умма грант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9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Вариант </a:t>
                      </a: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9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Вариант</a:t>
                      </a: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9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Вариант</a:t>
                      </a: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9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Вариант</a:t>
                      </a: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иоразнообзрание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– Доклад по биобезопасност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00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долл. СШ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ямой доступ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разец – на веб-сайте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F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мплексные программы ЮНЕП 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–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егиональные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едложение в отношении вспомогательного мероприятия подается через учреждение-исполнителя ГЭФ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1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иоразнообзрание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–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План действий по сохранению биоразнообразия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BSAP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 и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й национальный доклад о биоразнообрази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BSAP –220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00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долл. США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циональный доклад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–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предполагаемая сумма </a:t>
                      </a:r>
                      <a:br>
                        <a:rPr sz="800"/>
                      </a:b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00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долл. СШ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ямой доступ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разец – на веб-сайте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F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мплексная программа ЮНЕП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едложение в отношении вспомогательного мероприятия подается через учреждение-исполнителя ГЭФ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ект среднего размера или полномасштабный проект, если более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0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долл. США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–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 счет ресурсов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A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менение климат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0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00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долл. СШ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ямой доступ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разец – на веб-сайте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F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мплексная программа ЮНЕП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едложение в отношении вспомогательного мероприятия подается через учреждение-исполнителя ГЭФ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ект среднего размера или полномасштабный проект, если более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0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долл. США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–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 счет ресурсов  СТАР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еградация земельных ресурсов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0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00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долл. СШ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ямой доступ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разец – на веб-сайте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F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мплексная программа ЮНЕП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едложение в отношении вспомогательного мероприятия подается через учреждение-исполнителя ГЭФ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Химические веществ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0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00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долл. СШ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ямой доступ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разец – на веб-сайте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F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едложение в отношении вспомогательного мероприятия подается через учреждение-исполнителя ГЭФ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5T15:18:40Z</dcterms:created>
  <dc:creator/>
  <dc:description/>
  <dc:language>en-US</dc:language>
  <cp:lastModifiedBy/>
  <dcterms:modified xsi:type="dcterms:W3CDTF">2011-11-01T21:00:46Z</dcterms:modified>
  <cp:revision>1</cp:revision>
  <dc:subject/>
  <dc:title/>
</cp:coreProperties>
</file>