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84B6-FF8F-467A-BE6B-F7B757E64DA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C6AE-DC3E-4BA4-A043-53486DF0100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85E4C-1925-4CD5-8B89-C5CA76C6A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7563B-8A2D-49CC-9A32-83D5966F4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995D0-CB1E-4C28-8F09-322C542CB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CE8D2-4077-457B-918A-2FAAB6E89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E2938-B732-423D-9081-1C45AC7A6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33CF-CB75-4E67-9782-D230F4148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0CC19-DA74-410C-B017-2E16F0A78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63123-6A4B-41C2-B416-CD4780A93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651BD-266E-4370-BE26-9BAC2E2EF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98C8-6913-4F18-A396-33D1DDF16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D0F9-49A9-4624-A7A2-27F51B570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9F772-32F2-415C-91F0-60239EE87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5DA3-1347-49EE-991D-220970091F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295280" y="37339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01T20:42:16Z</dcterms:modified>
  <cp:revision>85</cp:revision>
  <dc:subject/>
  <dc:title>GEF and the conventions</dc:title>
</cp:coreProperties>
</file>