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1D16-9014-482E-8CDA-1EF65AFE7A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06640" y="698400"/>
            <a:ext cx="4644720" cy="3484800"/>
          </a:xfrm>
          <a:prstGeom prst="rect">
            <a:avLst/>
          </a:prstGeom>
          <a:ln w="0">
            <a:noFill/>
          </a:ln>
        </p:spPr>
      </p:sp>
      <p:sp>
        <p:nvSpPr>
          <p:cNvPr id="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327D-44D7-46BE-9EAD-32B37BBA5D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3" name="Date Placeholder 4"/>
          <p:cNvSpPr/>
          <p:nvPr/>
        </p:nvSpPr>
        <p:spPr>
          <a:xfrm>
            <a:off x="3884760" y="0"/>
            <a:ext cx="2971800" cy="4651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8829720"/>
            <a:ext cx="29718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2971800" cy="465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7D6AE-142B-47CA-93DC-629889EBA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27D74-E673-4FF4-99F0-C370203B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9AF31-DDB1-4B4E-86D9-01B6BCCB6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7185C-063C-4553-AF94-2FFED7800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03CBC-EB36-4E89-B01F-2D102F9E6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CE659-E425-4BFC-AFDD-25131BDEB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A8F6-3D7A-4B82-8D90-E015575AA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ED75F-6747-4D64-A2D7-C7B2F7D5B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5EB2B-77BC-43C8-BA80-6D72A766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E61F-8B78-4D41-83E3-DA4BB69A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7E44-087E-4F7A-916A-7FE173A2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C03D-0A3C-4C54-AA38-F67260FE9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22BA-8D67-4F40-9F16-E1DF1733D8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49" name="Subtitle 4"/>
          <p:cNvSpPr/>
          <p:nvPr/>
        </p:nvSpPr>
        <p:spPr>
          <a:xfrm>
            <a:off x="129528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18:21:45Z</dcterms:modified>
  <cp:revision>86</cp:revision>
  <dc:subject/>
  <dc:title>GEF and the conventions</dc:title>
</cp:coreProperties>
</file>