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D3AB-8033-4664-AF09-9870FFAC7C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6640" y="698400"/>
            <a:ext cx="4644720" cy="348480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FF74-2879-4FA1-904D-19726B961F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3" name="Date Placeholder 4"/>
          <p:cNvSpPr/>
          <p:nvPr/>
        </p:nvSpPr>
        <p:spPr>
          <a:xfrm>
            <a:off x="3884760" y="0"/>
            <a:ext cx="2971800" cy="4651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8829720"/>
            <a:ext cx="29718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297180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4AF03-86D7-478D-A7CA-B602AD07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C1B3-FFBA-4B4B-92E8-6014D898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1E5E2-4496-4E7E-A5B5-C1BE35EE8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96875-8FA1-4ECE-9994-8C08FE534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DC89-E3D2-4F64-824C-05535D20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7F73-F1CD-4758-80BA-D5603AB0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1DE25-1317-43D1-8771-181769B4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AE40-0EE1-47B4-A0A4-FDBBF5907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72BCF-9236-4BBA-93E3-AE52BD3F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4AC4-53FC-45D3-8DFB-28C23A34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DC4C-CEEB-4F41-AA80-3DA3A739B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9747-8D13-406E-89AC-4B23105DD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3F5E-85CF-469A-BAC4-96DC37A171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18:21:45Z</dcterms:modified>
  <cp:revision>86</cp:revision>
  <dc:subject/>
  <dc:title>GEF and the conventions</dc:title>
</cp:coreProperties>
</file>