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7255-2FC8-438F-8DF0-27E716CB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79A0-CC00-4AB1-BDA8-776CBCED1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8D21-5F3D-46EE-BA8E-C59F8F68F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097B69-C008-4AA3-ABC4-114B38FD94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3E6-BE97-4238-A4A7-35DDFE4B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275-7B3E-4D07-81D8-57C9B04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D4A-006E-4BFD-A670-2A3221AA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C0A-F4CD-487D-AB70-99B9F26F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065A-848A-4F44-9074-6EA8D51C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742A-9751-406F-90D7-E4C156C7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4320-1FBD-45DE-9A1B-35DDF41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D0DC-4CFE-4DF5-AFEC-6AF4E7F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210E-D7C0-4043-AABB-CAF5B6C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24C4-B7B6-4420-ADAC-333A955E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2A6A-847D-49A4-AD06-575E8B0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FC7-78BC-4759-B8C4-8E0A61D8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7BC-E63D-4019-9976-4192CBE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3D32-B3B1-4D0D-A9D5-F6B4612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0A32-24DC-45CA-9B6C-15CFA27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4121-A44B-4CBF-B876-83598A67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C0CD-4FDE-4C93-A2AE-9B3C7CCC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FB7B-36F1-432C-B90D-9E1A27AD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A0E3-7965-49F1-BF69-0520E1D4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DACB-1EE5-4725-9CF3-8E69A9E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9BB0-2879-4282-B968-0AB92619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723C-326E-41B9-8FEF-8611E497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84F-7A0D-4666-A934-FD5F464F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2041-815F-4247-AEAF-F896FEF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6888-CC3C-41BD-84F5-5CCEC0A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974C-3076-4CD8-9888-66941A7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A0FB-7D8E-4BC3-A6AD-5FDE152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5480-A291-4A77-9F62-2C0F7908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2593-F027-4DC3-A2A5-67174581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00AF-E72D-4A9B-AAAA-E5F0867C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51A1-39A8-4FFD-92FE-34636E59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72A9-3788-41A1-A053-B24A14FA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12C0-7487-47CB-BB52-799065E0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E7F-54E4-4455-99AF-12849FA5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C333-0905-44DD-B5EE-7AFB45CB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DDBC-34A7-4999-9CF9-3EB39575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3D46-C356-4825-BFE0-AA101BA9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2B1E-6E84-4A65-AA73-F52557F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7B9F-89EB-48BE-8CBE-2010B0F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F6A7-28BF-4599-9630-C4BC6D4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A565-235A-487E-A588-75906278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8AEC-8D30-4C5F-99DF-41738FDE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20D6-6611-49EE-8C86-D9BD70DC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0F3A-A8FD-4F04-AADA-A4521AEF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2C1-7FC9-47F7-9035-60D4A2CE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4F23-2A47-4462-94E3-AD227717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B862A-F676-4F46-A073-A40BCFA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268C-5C4C-42A4-88F6-029710B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7649-06C5-4B99-A881-F286C2A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04BD-16FD-4CEB-836A-AA546BF7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03D84-7C4E-4B6F-873A-BC37B27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B5C13-664C-4838-BBA3-1B01119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D0C6-F57E-4785-A2AD-E1DACCD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027C-C97B-421B-ABA9-4AD36316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E05D-622F-467B-B158-8A5B1E0E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013-9F37-45D4-BB7D-7F187C8F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CFC9A-33EC-45F3-A85B-8D1948CB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77367-B290-447A-84C6-723D7B72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E61AB-0A8A-41D6-9734-9E808DA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07572-876F-4FB0-8A09-E226EA75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575C0-BAF9-404C-9F65-3396F2F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3089-C594-4C16-983D-68EC0FF8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4B69-C477-4E5D-8428-C39120B7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FC193-6323-4EF2-A993-317B1DA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93C1-73AF-4D67-B831-4DAAEE60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0474-A346-49B6-9D2F-02A9D73B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A97-5066-4DF1-89D6-874B937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626A-443D-4A23-97C6-DA8A6AB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F2D2-1D0F-4CE0-B5B1-9CC273BB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711FE-C7BF-4DD8-B738-79126818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4002E-E688-4B97-9828-B9CDB29B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2378-DAB2-46B3-A785-DC3FE20F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9E49B-DF29-4E23-AF57-16AE082E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EFF25-92A0-4DB3-B69B-3DFB932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D493E-59AF-424C-9707-CE7C9C99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6135E-5AE3-46A7-A75D-ECFAA85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01FF0-0E8A-407D-8EA4-73F4A3D3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E32-90A3-4785-B922-6CF38E5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E547-96A5-482A-AD48-6A7D14F5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69D5D-EEB2-45C5-B3D5-BA1A129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A7CA-B75C-44CF-AC52-2CA97808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E1FB8-760A-43D7-91FE-3F4809BA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3EC1C-F971-47CA-94F8-786A788E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1C90-F59F-44C2-B287-FFF98B2F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30CA-60D9-49E6-A7C1-90A26050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58AF-6BE9-402F-A0F6-CC2A366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3C215-5EB2-42E6-AC88-BB5C8DEB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7D90-CEC2-41DA-98B9-82A784A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B47-EC23-493C-BB20-DE6C901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4CE94-A616-49D1-AD3B-6A5E3558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21042-6E3A-42CD-A0E7-44BBA4E3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DBEF8-5E58-4D04-BC7E-B4DAB539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0682-E21E-4324-AC30-BD7B15B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5799-9E4F-4C39-8E17-FA68492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34AF2-508A-422F-8FC4-5C424AF5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98413-D0AF-4BD3-B1F1-4A836C2C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EE7F-A873-4596-A182-5AF75A810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FD92-3B9D-44D4-AE54-1588C393F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6E1-5685-452F-848D-AB533B53E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D194-479D-4512-B758-BAB753F04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C42F-F7FC-4C09-8C51-97BDEFE53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FEA3-0C5B-45AA-BE5E-50DC2F03F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394-1188-4290-83FE-27E1D8B60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E691-7E9E-40F9-A532-66E21E138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2:48Z</dcterms:modified>
  <cp:revision>792</cp:revision>
  <dc:subject/>
  <dc:title>Slide 1</dc:title>
</cp:coreProperties>
</file>