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EB2-7166-45F8-8E87-14A4AB91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D479-C478-4FA6-906A-00DE3B6EF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64D4-1C9F-4A34-8E88-E0521EDCC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510141-11C1-4BDC-AA22-87E9B189AC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97B-F8FF-4A8B-AB9B-7DD69A21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933-DC50-482D-9062-EC100E9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D26-803D-46D4-83D5-2787B1C2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B1E-5598-47A6-9C23-A4C6BBD9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CD6A-916E-4769-82D8-1A12B061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C391-6412-4BBA-B11D-FEC8B425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E9C-3646-45BB-A782-07DAE69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F9F-5B77-491F-8C1B-254EBF01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3182-8F9F-4396-BA15-31260B0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E04-3A4B-465C-A299-4E166B8D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F2A8-2EFE-4075-BE95-7590F16D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E2-BCF2-4F49-A473-D391F30A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70C-A033-4F81-A3BF-E461C84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B73A-7FF1-4F33-94AF-9AC968E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459-D9F1-4D85-96A4-6F7F7C0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A25-4D36-4806-847B-F060A2C8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B8D-47A9-4A72-9232-DCFC0971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D2B4-8C36-4D25-B270-C46D9AD3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5B0D-07FF-4628-8354-60F8EE61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4642-4EBE-445E-BA4D-80859786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10EE-82DB-4418-AEB6-FF5FBEB9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4D6E-F489-49AF-938A-FF2F732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F32-8A50-48DB-A7A9-514F508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99AC-5ED1-4495-8CF6-45E55984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4C8B-91A4-4A4C-904B-23C56A2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EC7A-8ED2-416A-B137-58F11DB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2D3F-CCA1-40CA-A1CC-37512D84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BAB8-6C66-415B-840B-58E4FA13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3B11-CA2D-4125-AD15-473AB2A8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7A9C-1E24-456C-83A7-FF5F304E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F9EB-AFD1-4CD2-869B-FB06E38A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B767-C4A2-4122-8BA3-30900DAA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4A9D-ED00-4A60-A908-B8E64E06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CC9-863E-4B2A-9B4F-DECDF79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3168-F69D-44A7-82D8-BE701C8B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04C3-6AB4-4659-AF6E-E5781B66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C784-E999-49AB-AD92-4E8ACCBB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F95F-E64E-42A1-87D4-4878C53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5E55-8D9F-4725-BD65-ECF67F4A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CFE2-BEDF-4C45-A106-9806D34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D1A4-609B-4FD1-BF79-CC09BA0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540E-2679-42EF-BD68-EFDFEA06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6814-0677-4AC0-B87C-89B1185D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EA41-BB2E-4A6E-810C-E7A4292F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81D-CB28-4D0D-9B74-BC255A7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7B4C-2119-46F0-AFE2-E649EA9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6919-C1A9-4FB8-8E98-39CFAEF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C66E6-8311-4788-A408-1693AF6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6E59-8F00-437A-BB16-B788655F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8F8F-412C-4EF4-A67D-7F500674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E39D-5D44-4F03-BB50-2E1320D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2152-8A13-4A95-956E-C080E5A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1485-12A8-47EB-A392-217A64B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A29C-2D80-42AC-901A-A923DA7F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153D-BB6B-45A6-9A3D-AF81D86A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38A-880A-42D4-AC34-D7C00D2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6B1A-FBA8-4842-9161-06D21D91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9CAD-325D-495F-9F19-2E2EA776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382B-C24F-4388-9B6E-2933FED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B92B-BD51-40B8-922E-D78725F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80E1-3BB2-4E6D-A985-E4556FF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8668-EC8B-4DBA-B6B9-17B78C1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B8E4-DF3A-4971-9393-E1C64C85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9509-8A0D-48B0-87A7-015A18E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7537-1DE4-4F92-A0A0-51F7DC0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29D2-267D-4DB2-96AE-A7F79197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2AD-EC88-4826-A2AB-98E3E04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648A-CB5F-48F3-9A69-45792719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1F377-1B9A-431D-B9C8-5A879036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D815-71FD-44D4-B45C-32B4738F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3A46-3AB4-464B-BC7E-52827CC0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9849-C24F-4B26-8871-587B72A1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B8CE4-040A-4EA9-8C79-10B784C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E520-3063-4A0E-A1A6-23A2699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9CF2-B3C4-4F87-BE61-C075805A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7081-590B-478E-BDB8-9745539A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F590-AB2E-41CD-9516-3F67394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3F4-AAC2-49D4-8EE1-BB81139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4BBB0-FFC2-493A-B424-03F6540B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FCEF-B85E-442A-BD5F-D8521B7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FABD-5C61-4163-9D02-C62E5C04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BBCA-72D3-4514-BFCF-13821F63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A2D0-7580-4750-B2BB-9559372A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82B97-79F8-4003-8040-FA2E0CB8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4F2C-E584-4AD3-8838-16A97D9F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BDBA-4FF9-4F54-9FF8-D82DE223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FC5E9-C6C7-40AA-B240-511BE561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89A1B-55C1-4E26-9E71-50FD6CE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788-55ED-435D-A818-A7B69541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C7F2-6343-4577-99FD-2E8AD2F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10256-84A0-4B6F-9063-65B03BF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D4C5-99CA-4D5E-AB6B-8A22A10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D42D1-8942-484F-A3C6-4EA23BD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BD9C-1190-49FA-8EBF-30005CB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30A9-0817-4322-A7CF-67CE860B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9FBBF-5972-42DC-8E07-DF0BC7C1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0C96-61A3-40AA-B339-36E196103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1D0-C5CF-466F-AADB-160E36FE5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3A3-E302-46BE-AF77-B41046E9B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0D6-4A9E-4FD0-9F32-532748CA3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283D-FF8C-4D95-8B77-4E940169B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9E5-65DF-49D8-8DC5-ECD0F83CF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F4DC-16D9-481A-B58A-33DD0AB51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B76-59AB-447F-90CE-FCFDEA7A9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2:48Z</dcterms:modified>
  <cp:revision>792</cp:revision>
  <dc:subject/>
  <dc:title>Slide 1</dc:title>
</cp:coreProperties>
</file>