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98B5-443B-441C-B24E-BE6BBF3B8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563B-D1C6-414F-BB1F-797C901F4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AF3B-C905-45E9-B4D7-160BEEBEDF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458B957-FBD4-40AD-989A-554C6412874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Date Placeholder 5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6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Header Placeholder 7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8BD-0FA6-47A2-B29A-AF025ACB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84A-23CB-4E19-A7F5-34F06C3A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2E61-2CB9-4000-81FA-E825EDD9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104-2A43-4D7F-92C5-9C81EF7A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E9BB-549F-48EA-AF59-167ED10D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8A14-7396-4EDE-906C-8E30B607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74D7-C384-47C3-AA99-61476267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340F-9DEE-4589-B1F6-263AAAF1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76D7-D720-4671-9E0A-E710CCE4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0814-1383-4432-853D-175C24D3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FE14-5DED-40A0-9150-782CB2F0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94C-741E-48B5-8C93-827FD67A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A4FA-3A6E-42C9-8A8A-ACE7E30E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DD73-6DFE-4509-84BC-2BE16E07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D4DD-FC45-462C-8BE6-87506389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455F-93C6-4F45-8495-451BC7FB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5CF7-5194-4966-B668-943A2DBC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01438-BD28-4089-9231-40487D97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A1782-679E-450B-9B18-3F83741C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DA0FB-8725-4B04-A81A-38731098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E0526-8A35-4475-A83C-8AD266C4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3A25F-C0A1-44E3-B825-3E6CBD6D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3B0-1A0F-4804-9258-AB6260FE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14561-00AC-484C-B17A-685DCACC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6DE63-026C-43AB-AB21-6479A92D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841D4-E75D-4B33-90F6-36682245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37BC-F716-47F2-964D-CC4366A3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D1C40-96D3-4934-983C-35301F16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62E8C-1D7A-41E0-8382-6485477E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74C15-F3C4-4C4D-B202-A6756D86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D577-9831-41EC-8FEE-120C77FC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DA870-4FFB-4B5D-8BBB-48C6CEE4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F7283-A1A5-4BB6-88B4-BE16158C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93B3-C741-49C0-A54D-05497CCC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B2950-4226-4B1F-8AFF-33C8365C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08F5D-B733-44E5-95AB-FA1DE30F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94622-4926-4E89-8359-29058EA0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C3962-0F9D-4C11-89E9-7EED61CE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609E6-0465-4138-B3B7-28B8A0E4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F4148-6FF0-4583-BD90-BD5682CD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DB62D-F351-4364-9854-54CC9A68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80018-D207-4C59-9288-8ACD4334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BC5ED-F8C0-4207-863E-7A4E39B4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85192-713A-4FAE-B675-2ABB70D5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271-211B-49E2-8812-EF9BE175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A4848-2312-46DF-B418-B458A40C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9C270-46BC-4A93-ADCF-8DFC23E6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F58E0-0594-4924-A1D5-F640DE0B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B2D64-BFA6-4088-82CA-856297AC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30A80-8D33-452A-ADDA-D1CCD9DE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4C2E8-04F4-4496-BE0A-F17AF7A5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198D8-A39F-4090-B0D4-230DF75D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D15E8-C19B-4F79-8EA7-9FA894E3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13366-54AB-44AC-8F74-109C2D59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25433-B2B2-4EB1-9961-E4609E25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BA2-0F52-4444-BE5B-B630BF3C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96F75-5E79-4D92-9E79-AFDC271D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AF8D8-500B-468F-B20A-156C1BCA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54460-C526-4ED9-9B26-1C3BC55F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EA2A2-C1D0-4F7A-80C1-EF879B9F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F62BA-E3DF-46DD-A032-FFAAD17F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0F2F8-3885-4443-88E1-1B2EC315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E340E-4D7B-4D2A-BDB1-7D3A7328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40FF1-8EE9-411B-B0F7-B298742C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98650-FB5B-4125-8850-F7F51ADF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E1A9C-D2D1-4DE1-A205-2811E1E9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B48-53AA-4D9D-92E5-5CD393CD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F9B52-6336-480A-9876-F20E2C81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89301-E4A9-4D1D-962D-247294B2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CF816-9681-4389-975E-86473DBA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41CFC-D563-4EB2-8F64-62D44D4E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61C74-6426-4CF4-B12B-4886A05B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CEA18-7330-4714-9AB4-6EFD3145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DFFD7-EB0F-42EB-B3E8-EAFC3782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C8BEC-FB12-4E9E-82DA-DBE22C83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927C2-1A83-4945-9729-938731A4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E130B-886A-4B6E-AD81-49E3BCAD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7F2-A35E-4193-9AEE-92D13A81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A878A-0A41-4300-8191-589F1F82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30C14-140F-4DA5-8AEC-58CD84C7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4C242-DA29-4E2F-BAF1-8681BB0A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C3274-7599-4538-9BD4-F7818E1A0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17752-A704-4EA7-BE5A-FE6884AD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CE029-901C-4417-BB1C-9B751CC5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130BC-5328-40D1-90A9-6D7F1648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4A80E-24EF-486A-BCD0-B6CA4190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832D8-025A-4D8D-9B50-29BCAB70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C5591-417B-4C0B-AA31-3527B179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975F-43A7-4DD7-801C-D03E09E2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EFEAB-3143-4B77-9CDF-CDFFD2E7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CCD02-6C3A-4042-8468-CB8FBA3F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F9E88-6EB8-486C-AA5D-5229B257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66A76-DBC5-4AFD-A074-AB9D8F7E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6C2CE-D855-4977-9403-28FD91CE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1DD03-B4AE-4E00-B124-501076AA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64C4A-DD1F-4FF7-A4A9-200681F8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6F83-C0F9-4F43-8859-5F5D6B1E48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581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68F5-8DD0-4BBF-9CCD-ECB0B6E1B1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2183-6292-4C7D-ACFF-7DEA37E698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AD3D-3725-459F-A857-E34DDEB077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D3B9-5D03-4764-AD36-0FD2DAA794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E02A-355D-4865-9E31-19DAE7DEB3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A83B-EF6A-4966-9536-65B1832A6D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991B-2DF6-46AC-99E8-CA435999DE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caoki@thegef.org" TargetMode="External"/><Relationship Id="rId3" Type="http://schemas.openxmlformats.org/officeDocument/2006/relationships/hyperlink" Target="mailto:bbiagini@thegef.org" TargetMode="External"/><Relationship Id="rId4" Type="http://schemas.openxmlformats.org/officeDocument/2006/relationships/hyperlink" Target="mailto:isow@thegef.org" TargetMode="External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GEF and Technology Transfer: </a:t>
            </a:r>
            <a:br>
              <a:rPr sz="4100"/>
            </a:b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An Overview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ubtitle 4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380" name="Picture 3" descr="C:\Users\wb368377\AppData\Local\Microsoft\Windows\Temporary Internet Files\Content.IE5\3I5325V1\MC910216337[1].png"/>
            <p:cNvPicPr/>
            <p:nvPr/>
          </p:nvPicPr>
          <p:blipFill>
            <a:blip r:embed="rId2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Oval 6"/>
            <p:cNvSpPr/>
            <p:nvPr/>
          </p:nvSpPr>
          <p:spPr>
            <a:xfrm>
              <a:off x="3173040" y="3564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>
              <a:off x="2773080" y="39333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Oval 9"/>
            <p:cNvSpPr/>
            <p:nvPr/>
          </p:nvSpPr>
          <p:spPr>
            <a:xfrm>
              <a:off x="2970000" y="29044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249660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1752480" y="3857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40968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3967200" y="31528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4932000" y="2831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79664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879160" y="19519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6555600" y="2538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820480" y="31658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60822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6014520" y="3344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5-Point Star 26"/>
            <p:cNvSpPr/>
            <p:nvPr/>
          </p:nvSpPr>
          <p:spPr>
            <a:xfrm>
              <a:off x="2902320" y="4003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5-Point Star 27"/>
            <p:cNvSpPr/>
            <p:nvPr/>
          </p:nvSpPr>
          <p:spPr>
            <a:xfrm>
              <a:off x="2808360" y="34812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5-Point Star 28"/>
            <p:cNvSpPr/>
            <p:nvPr/>
          </p:nvSpPr>
          <p:spPr>
            <a:xfrm>
              <a:off x="2699280" y="29044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5-Point Star 29"/>
            <p:cNvSpPr/>
            <p:nvPr/>
          </p:nvSpPr>
          <p:spPr>
            <a:xfrm>
              <a:off x="2766960" y="30510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5-Point Star 31"/>
            <p:cNvSpPr/>
            <p:nvPr/>
          </p:nvSpPr>
          <p:spPr>
            <a:xfrm>
              <a:off x="4796640" y="3490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5-Point Star 32"/>
            <p:cNvSpPr/>
            <p:nvPr/>
          </p:nvSpPr>
          <p:spPr>
            <a:xfrm>
              <a:off x="4120200" y="2757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5-Point Star 33"/>
            <p:cNvSpPr/>
            <p:nvPr/>
          </p:nvSpPr>
          <p:spPr>
            <a:xfrm>
              <a:off x="412020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5-Point Star 34"/>
            <p:cNvSpPr/>
            <p:nvPr/>
          </p:nvSpPr>
          <p:spPr>
            <a:xfrm>
              <a:off x="391716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5-Point Star 35"/>
            <p:cNvSpPr/>
            <p:nvPr/>
          </p:nvSpPr>
          <p:spPr>
            <a:xfrm>
              <a:off x="405252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5-Point Star 36"/>
            <p:cNvSpPr/>
            <p:nvPr/>
          </p:nvSpPr>
          <p:spPr>
            <a:xfrm>
              <a:off x="4999680" y="26114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5-Point Star 37"/>
            <p:cNvSpPr/>
            <p:nvPr/>
          </p:nvSpPr>
          <p:spPr>
            <a:xfrm>
              <a:off x="6082200" y="38570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5-Point Star 38"/>
            <p:cNvSpPr/>
            <p:nvPr/>
          </p:nvSpPr>
          <p:spPr>
            <a:xfrm>
              <a:off x="594684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5-Point Star 39"/>
            <p:cNvSpPr/>
            <p:nvPr/>
          </p:nvSpPr>
          <p:spPr>
            <a:xfrm>
              <a:off x="614988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5-Point Star 40"/>
            <p:cNvSpPr/>
            <p:nvPr/>
          </p:nvSpPr>
          <p:spPr>
            <a:xfrm>
              <a:off x="608220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5-Point Star 42"/>
            <p:cNvSpPr/>
            <p:nvPr/>
          </p:nvSpPr>
          <p:spPr>
            <a:xfrm>
              <a:off x="6014520" y="2977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Poznan Program country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5-Point Star 46"/>
          <p:cNvSpPr/>
          <p:nvPr/>
        </p:nvSpPr>
        <p:spPr>
          <a:xfrm>
            <a:off x="3809880" y="57913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47"/>
          <p:cNvSpPr/>
          <p:nvPr/>
        </p:nvSpPr>
        <p:spPr>
          <a:xfrm>
            <a:off x="3809880" y="556272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8"/>
          <p:cNvSpPr/>
          <p:nvPr/>
        </p:nvSpPr>
        <p:spPr>
          <a:xfrm>
            <a:off x="3962520" y="54864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lot Proje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NA Project – First Round Countries (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9"/>
          <p:cNvSpPr/>
          <p:nvPr/>
        </p:nvSpPr>
        <p:spPr>
          <a:xfrm>
            <a:off x="0" y="658800"/>
            <a:ext cx="1752480" cy="11595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key &amp; Cook Islands: Hydrogen energy installations for small islands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51"/>
          <p:cNvSpPr/>
          <p:nvPr/>
        </p:nvSpPr>
        <p:spPr>
          <a:xfrm>
            <a:off x="0" y="251460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xico: Local wind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52"/>
          <p:cNvSpPr/>
          <p:nvPr/>
        </p:nvSpPr>
        <p:spPr>
          <a:xfrm>
            <a:off x="0" y="3124080"/>
            <a:ext cx="16765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le: Local solar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53"/>
          <p:cNvSpPr/>
          <p:nvPr/>
        </p:nvSpPr>
        <p:spPr>
          <a:xfrm>
            <a:off x="0" y="4572000"/>
            <a:ext cx="1752480" cy="9756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azil: Renewabl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capture &amp; storage from sugar industry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54"/>
          <p:cNvSpPr/>
          <p:nvPr/>
        </p:nvSpPr>
        <p:spPr>
          <a:xfrm>
            <a:off x="0" y="3733920"/>
            <a:ext cx="175248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e d’Ivoire: Solid waste composting (Af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5"/>
          <p:cNvSpPr/>
          <p:nvPr/>
        </p:nvSpPr>
        <p:spPr>
          <a:xfrm>
            <a:off x="7086600" y="506556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egal: Typha-based thermal insulation produc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56"/>
          <p:cNvSpPr/>
          <p:nvPr/>
        </p:nvSpPr>
        <p:spPr>
          <a:xfrm>
            <a:off x="7086600" y="5698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ssian Federation: HCFC phase-out, HFC-free, energy efficient AC &amp; Refrigera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57"/>
          <p:cNvSpPr/>
          <p:nvPr/>
        </p:nvSpPr>
        <p:spPr>
          <a:xfrm>
            <a:off x="7086600" y="21430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iland: South-South technology transfer: ethanol from cassava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086600" y="314784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mbodia: Agricultural residue biomass to energy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59"/>
          <p:cNvSpPr/>
          <p:nvPr/>
        </p:nvSpPr>
        <p:spPr>
          <a:xfrm>
            <a:off x="7086600" y="394164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ri Lanka: Bamboo processing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60"/>
          <p:cNvSpPr/>
          <p:nvPr/>
        </p:nvSpPr>
        <p:spPr>
          <a:xfrm>
            <a:off x="7086600" y="449568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rdan: Irrigation technology (IF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61"/>
          <p:cNvSpPr/>
          <p:nvPr/>
        </p:nvSpPr>
        <p:spPr>
          <a:xfrm>
            <a:off x="7086600" y="156996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na: Green truck demonstration (W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62"/>
          <p:cNvSpPr/>
          <p:nvPr/>
        </p:nvSpPr>
        <p:spPr>
          <a:xfrm>
            <a:off x="0" y="190512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maica: Small scale wave power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64"/>
          <p:cNvSpPr/>
          <p:nvPr/>
        </p:nvSpPr>
        <p:spPr>
          <a:xfrm>
            <a:off x="1752480" y="1244520"/>
            <a:ext cx="3078360" cy="1440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traight Connector 66"/>
          <p:cNvSpPr/>
          <p:nvPr/>
        </p:nvSpPr>
        <p:spPr>
          <a:xfrm>
            <a:off x="1752480" y="2166840"/>
            <a:ext cx="1285920" cy="7747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69"/>
          <p:cNvSpPr/>
          <p:nvPr/>
        </p:nvSpPr>
        <p:spPr>
          <a:xfrm flipV="1">
            <a:off x="1752480" y="2720880"/>
            <a:ext cx="744480" cy="604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78"/>
          <p:cNvSpPr/>
          <p:nvPr/>
        </p:nvSpPr>
        <p:spPr>
          <a:xfrm>
            <a:off x="1676520" y="3390840"/>
            <a:ext cx="1106280" cy="604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81"/>
          <p:cNvSpPr/>
          <p:nvPr/>
        </p:nvSpPr>
        <p:spPr>
          <a:xfrm flipV="1">
            <a:off x="1752480" y="3333600"/>
            <a:ext cx="2401920" cy="781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traight Connector 84"/>
          <p:cNvSpPr/>
          <p:nvPr/>
        </p:nvSpPr>
        <p:spPr>
          <a:xfrm flipV="1">
            <a:off x="1752480" y="3625560"/>
            <a:ext cx="1478160" cy="1423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87"/>
          <p:cNvSpPr/>
          <p:nvPr/>
        </p:nvSpPr>
        <p:spPr>
          <a:xfrm flipH="1">
            <a:off x="5913000" y="1045440"/>
            <a:ext cx="1173240" cy="9795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90"/>
          <p:cNvSpPr/>
          <p:nvPr/>
        </p:nvSpPr>
        <p:spPr>
          <a:xfrm flipH="1">
            <a:off x="6622920" y="1832040"/>
            <a:ext cx="463680" cy="7430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93"/>
          <p:cNvSpPr/>
          <p:nvPr/>
        </p:nvSpPr>
        <p:spPr>
          <a:xfrm flipH="1">
            <a:off x="6072120" y="2620080"/>
            <a:ext cx="1014480" cy="785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traight Connector 96"/>
          <p:cNvSpPr/>
          <p:nvPr/>
        </p:nvSpPr>
        <p:spPr>
          <a:xfrm flipH="1" flipV="1">
            <a:off x="6116760" y="3342960"/>
            <a:ext cx="969840" cy="173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traight Connector 99"/>
          <p:cNvSpPr/>
          <p:nvPr/>
        </p:nvSpPr>
        <p:spPr>
          <a:xfrm flipH="1" flipV="1">
            <a:off x="5830920" y="3227400"/>
            <a:ext cx="1255680" cy="9763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traight Connector 102"/>
          <p:cNvSpPr/>
          <p:nvPr/>
        </p:nvSpPr>
        <p:spPr>
          <a:xfrm flipH="1" flipV="1">
            <a:off x="4941720" y="2841120"/>
            <a:ext cx="2144880" cy="19162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105"/>
          <p:cNvSpPr/>
          <p:nvPr/>
        </p:nvSpPr>
        <p:spPr>
          <a:xfrm flipH="1" flipV="1">
            <a:off x="4025880" y="3214800"/>
            <a:ext cx="3060720" cy="2232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110"/>
          <p:cNvSpPr/>
          <p:nvPr/>
        </p:nvSpPr>
        <p:spPr>
          <a:xfrm>
            <a:off x="1752480" y="1244520"/>
            <a:ext cx="57240" cy="2675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oro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te d’Ivo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Indone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ok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ama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Russian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or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Viet 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Long-Term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Climate Technology Centres and a Climate Technology Network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global, regional, national lev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y involve technical assistance, training, information sharing, knowledge management, reflecting UNFCCC discu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Conduct Pilot Technology Projects to Foster Innovation and Invest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demonstrate innovative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upport deployment and diffusion to catalyze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Develop a Public-Private Partnership for Technology Transf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facilitate private sector engagement to support innovative financial instruments or business models for technology deploy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Technology Needs Assessments (TNAs)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: 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target low- &amp; medium-income countries to conduct and/or update T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GEF as a Catalytic Supporting Institution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Key Features of Long-Term Progr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1430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is consistent with and support the Technology Mechanism agreed in Cancun at COP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was approved by the 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5 elements may be funded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TAR (elements 1, 2,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and Regional Set-Aside (elements 1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PP fund (element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dditional voluntary contributions (element 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"/>
          <p:cNvSpPr/>
          <p:nvPr/>
        </p:nvSpPr>
        <p:spPr>
          <a:xfrm>
            <a:off x="6019920" y="48006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EST Transfer (GEF 2010) downloadable from: 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 How do I know my country’s needs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for technology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952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alibri"/>
                <a:ea typeface="Arial"/>
              </a:rPr>
              <a:t>Key entry points for climate chang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s your country carried out a TNA recent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Communications (NC) and National Adaptation Programs of Action (NAPAs) identify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policies and strategies identify specific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 your Common Country Assessment-UN Development Assistance Framework (CCA-UNDAF) identify any technology needs?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y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your starting point could be to review the document to prioritize action for projec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n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especially for the TNA), your starting point could be to assess the merit of conducting a TNA, or addressing technology needs more explicitly in your next N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2"/>
          <p:cNvSpPr/>
          <p:nvPr/>
        </p:nvSpPr>
        <p:spPr>
          <a:xfrm>
            <a:off x="7772400" y="5943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DP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 Where to go from here for climate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Larg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propose a single country TNA utilizing STAR allocati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mall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apply to be included multi-country TNA project from Global and Regional Set-aside, subject to competitive selection (contact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echnology transfer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ig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in one of the six objective areas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apt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to SCCF/LD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establish and/or take part in climate technology centre &amp; network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tional level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bmit a proposal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lobal and regional lev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contact the GEF about your interest, as regional pilot may be starting in 2011 in line with Cancun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9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837720" y="457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8000"/>
                </a:solidFill>
                <a:latin typeface="Calibri"/>
              </a:rPr>
              <a:t>Thank you very muc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further information, please contac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 Transfer and Mitigation: Chizuru Ao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nior Technology Transfer Offic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aok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mate Change Adaptation, SCCF/LDCF:  Bonizella Biagi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ad, Climate Change Adaptation Strategy and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biagin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:  Ibrahima So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 Cluster Coordina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sow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F Tech Transfer Website (under development)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Overview of thi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040" y="14475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he GEF doing to facilitate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How do I know my country’s needs for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ere do I go from he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066320"/>
            <a:ext cx="55623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Technology: at the core of global environmental challe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source of environmental degradation and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means to address negative impacts, reduce emissions, manage natural resources, and monitor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foundation for economic development, value creation, and 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Developing, demonstrating, deploying and diffusing environmentally sound technologies (ESTs) are activities in the critical path toward an effective responsible to global environmental challenges (Agenda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7626960" y="59436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IDO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4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914400"/>
            <a:ext cx="826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Various Multilateral Environmental Agreements (MEAs) include provisions related to technology and facilitating access and transf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ounded Rectangle 6"/>
          <p:cNvSpPr/>
          <p:nvPr/>
        </p:nvSpPr>
        <p:spPr>
          <a:xfrm>
            <a:off x="838080" y="1752480"/>
            <a:ext cx="8153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UN Framework Convention for Climate Change (UNFCCC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reed on the Technology Mechanism in December 2010 to support action on technology development and transfer for mitigation and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ounded Rectangle 7"/>
          <p:cNvSpPr/>
          <p:nvPr/>
        </p:nvSpPr>
        <p:spPr>
          <a:xfrm>
            <a:off x="852480" y="487692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Convention on Biological Diversity (CBD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gnizes that access to and transfer of technologies among Parties is essential to achieving CBD objecti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ounded Rectangle 8"/>
          <p:cNvSpPr/>
          <p:nvPr/>
        </p:nvSpPr>
        <p:spPr>
          <a:xfrm>
            <a:off x="852480" y="381780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Montreal Protocol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opted decision on environmentally sound destruction of ozone depleting substances (ODS) banks.  The Multilateral Fund is requested to continue its efforts on further cost-effective projects for the destruction of ODS banks, using appropriate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ounded Rectangle 9"/>
          <p:cNvSpPr/>
          <p:nvPr/>
        </p:nvSpPr>
        <p:spPr>
          <a:xfrm>
            <a:off x="838080" y="2743200"/>
            <a:ext cx="815364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tockholm Convention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alls for promoting use of Best Available Techniques and Best Environmental Practices (BAT/BEP) to reduce persistent organic pollutant (POPs) releases from unintentional production (waste incinerators, aluminum production, open waste burning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560" y="12193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Many definitions and interpretations of technology transfer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For climate change, GEF has adopted the technology transfer definition by International Panel on Climate Change (IPCC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a broad set of processes covering the flows of know-how, experience and equipment for mitigating and adapting to climate change amongst different stakeholders…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It goes beyond hardware, and encompasses capacity, know-how, policies and institution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 to facilitate tech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066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has financed demonstration, deployment, and diffusion of ESTs and enabling activi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focal area addresses technology transfer within its GEF-5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ming depends on convention guidance and national prior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ticulation of a GEF-wide technology strategy under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Technology transfer is a priority for GEF climate change focal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ference of the Parties (COP) of UNFCCC has given a mandate on technology transfer to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the only multilateral institution that has financed technology transfer under COP gu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largest public sector financing mechanism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climate change and tech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8240" y="11430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 has invested approx. $3 billion in climate change, leveraging more than $15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-5 funding (2010-14) for mitigation is approx. $1.4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Special Climate Change Fund/Least Developed Countries Fund (CCF/LDCF) funding for adaptation and LDC support is approx. $530 million cumul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3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2.  What is GEF doing: GEF-5 Mitigation Strategy &amp; Tech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686800" cy="4701960"/>
          </a:xfrm>
          <a:prstGeom prst="rect">
            <a:avLst/>
          </a:prstGeom>
          <a:ln w="0">
            <a:noFill/>
          </a:ln>
        </p:spPr>
      </p:pic>
      <p:sp>
        <p:nvSpPr>
          <p:cNvPr id="372" name="テキスト ボックス 3"/>
          <p:cNvSpPr/>
          <p:nvPr/>
        </p:nvSpPr>
        <p:spPr>
          <a:xfrm>
            <a:off x="228600" y="91440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6 GEF-5 Climate Change Mitigation Strategy objectives address different aspects of technology transfer, from R&amp;D to diffusion of technologies + 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ectors: energy efficiency, renewable energy, transport, urban systems, LULUC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Poznan Strategic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1760" y="11430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Funding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35 million from GEF Trust Fund in GEF-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15 million from SCC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echnology Transfer Pilot Pro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 projects were selected for support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ir implementation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roject was approved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5 first round countries were selected in 2010,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ond round country selection is being finaliz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ntry-level assessment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Long-Term Program on Technology Transf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lan with 5 elements submitted to UNFCCC CO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see slides 11 and 1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6248520" y="518148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Poznan Program (GEF 2010) downloadable from: http://www.thegef.org/gef/node/38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11-01T20:42:48Z</dcterms:modified>
  <cp:revision>792</cp:revision>
  <dc:subject/>
  <dc:title>Slide 1</dc:title>
</cp:coreProperties>
</file>