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7C7A-4393-4E48-8F6A-456DD4C9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1EB-8A47-4C6D-AF53-0F0977F97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E05-108F-44A8-B9F1-832F27AD5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BB71EEE-FE63-4459-9E29-21D581E034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887-019F-44CF-92C8-EF31B6ED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43D-DA15-4C71-AB02-4CB9718E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81D-4377-4327-B5F4-F117DB6C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A44-761D-4AAA-947A-303F98BB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8672-BC42-4684-9399-B79E1F8E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BEFC-8501-4D2C-A665-A98E6897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E7F-F14C-4669-90C2-A6CA7AB7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9CBF-727E-4602-B36F-AA1A0BAC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9754-F73F-42C2-8F67-B89690BE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9930-7874-493A-978A-242CBD6E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352-781D-4271-ADF1-41849E9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89E-1274-4316-BE5C-F094F07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5B67-5B85-49CB-B06F-D8A7C38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2E10-CAFE-41EE-B280-0F86F29F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F3C6-814A-485E-AA4C-3C36E50B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33C3-B91C-41DA-AE7F-D1B17BD1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EFBA-725B-40B9-84D2-86CD67B5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11F4-DFF8-4532-A3F3-B87864DA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FC9A-CBE9-4041-9003-442684E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877A-692E-4F41-B75D-C09054D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E1D8-32B5-4B3C-BCFE-FB3C8556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4041-45B3-40F7-A1AF-AE5B89C3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080-9193-429A-94A8-594DF48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80B1-81B4-49E8-A9C7-6B4A7AA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786A-9346-42E3-8002-9AF88F2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89A9-AE20-4C7F-9313-5638B43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D910-C3B3-479B-9824-3269D4B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EF83-367C-47AF-AD4D-F8FF24B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C9E9-D4C2-49C3-BB13-A5BD2B40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FB62-E1A0-46EE-AAEB-093AE8F3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B51C-1A7A-46E0-8DBD-8F5C938D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5679-26E7-42B0-9FDF-EE967EFA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FB04-31CE-47AF-8F07-EAA6FD50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091-A597-42CB-B618-A69D67A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9BBC1-C640-4F12-8A63-710B3659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48AFE-FBA8-4874-B662-23C95E8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619F-27E2-4680-96E3-9319AEE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F06B-26D8-42F4-A5F0-90ADD52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E3DE-8772-46EA-87F7-CC3763F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1E14-5402-40A3-915B-261EF36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C813-75BA-4228-B6AA-5A22951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2164-F8FD-4AE0-87A8-DD309A3C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3727-756E-4FE3-9107-1A139956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E899-2261-4D24-A54E-B1C523E2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0FF-3168-459C-95A0-07403C6F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7AFFF-43F8-49D0-A9EA-E60FC1DD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F300-C6D8-4400-B3FF-791549ED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0E27-F0B5-42F5-9057-672AA51F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F18F-BCF9-4480-9AB7-8E7442C0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5280-4599-4E78-91FA-9AF25C48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AA01-2CAB-446A-98FB-07B2AEE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A0B11-7B3E-4EE1-A202-1BE8B9F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4250-F95B-4ACC-A5C8-4D17617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91E3-57C8-434F-87BB-4C4CD8B0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A1477-A64F-494C-AE56-EECAA96E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8B4-F2DC-45C5-AD8C-D46455A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4803-ECD2-4C54-B87D-00C44393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C495-3D98-4B1A-BEAD-FB22FBC2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B66E-46D5-4C27-A24A-974E3C1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065C-244C-48B1-953C-76F6A5A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C7DC-084E-41AD-819C-87B03418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1D37-E2BF-4C61-9357-F30DAC8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C54B-F683-4112-AFDE-3D7C7AE7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ED9D-459E-47DA-A92A-9D7E43B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30A3D-06EB-4FDB-BC01-38AFDEAB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BEB2-C093-4A72-8AF7-A82CF8B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A44-A453-4ACB-8ED2-50D3D39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2FD3-3564-43D4-A82B-DF56E500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214BB-0023-4B90-8BDE-8F7F194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6845-388E-427D-959D-99AE9C3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1DC5-4A70-4716-A186-EBA03565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FBBEE-F875-437C-9480-7E0F535F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D6A22-C71A-4B17-9574-6E221F81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2562-8777-4C7E-AE20-569C09B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A8D0-4B9A-4CCA-A8B4-C8C7241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EACA-DC74-445B-B7F5-D3E31316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02D90-7D0A-439C-8368-A82C20C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AC2-EDEF-4578-8022-8E8EC95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946C-D672-430A-82FC-321C97C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687F5-06A0-4883-A9AA-3EE1371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CE52-DC40-4E6A-9498-854CC33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43724-5E6B-4DC9-9DF2-C3B315D6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F0D8-AB09-4DB4-8A6F-172AD808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AC2E8-4597-4972-BF49-A08C75D8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A52A-9389-428A-B929-B400465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762C-C3CD-41D3-BEA2-E06A0668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0B3BE-8CD8-408A-BC80-03F7540A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D57B-C139-4DC5-AEC3-E51CD2CE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AE7-5652-441B-A1F8-BCC2C047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0F4B2-CCEA-479D-B9B4-8BB2C3AB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3516-8BD0-4584-9F8A-6F60F2F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5DA2-7FEF-4375-84CC-7C4FB1B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AFEA0-11AE-4FAA-9551-46212C0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BE4FE-F59E-4840-AEE6-BFF672C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E426-31B1-4DEA-AE1F-A51B1EC6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8272E-F268-4A19-BD59-E5C4F2E4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695F-2CE1-49F2-838C-99C7EA8C5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8F51-BFB3-499B-AC69-90B6001AC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0DA-4EAE-4342-A5D6-09651254B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C696-1ADA-4BAF-A0BF-9B2E2FC5F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6437-DB86-4392-8A8D-5B431DB45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6EA-D40B-4B45-BE1E-98BC441D5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585-23D3-46D8-9A22-64B314544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8C98-163F-4ECF-A2EE-A6900A9B9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18:24:05Z</dcterms:modified>
  <cp:revision>794</cp:revision>
  <dc:subject/>
  <dc:title>Slide 1</dc:title>
</cp:coreProperties>
</file>