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2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2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F5B3-5F63-48F7-8BC0-932B48C36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25DA-D64E-4205-A735-E761A288E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37BC-8F58-4E4C-92A1-2D6B2CD69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7A3392E-633E-4D94-8433-1AB94E02B70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Date Placeholder 5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ooter Placeholder 6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Header Placeholder 7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580-91A3-4856-B827-96E411D0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D10D-C315-434A-8B08-2BACDA47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1147-4351-4320-9245-58BD4778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B699-EFB3-412B-8F00-39AD76F4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81E2-4874-40F0-8848-C20E0355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0BDD-C698-4FAB-A71A-E03F8559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77BB-9B2F-4ACE-B875-1DAB7725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676E-A337-44E2-821D-339633E0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4496-0CEF-4939-A2FA-EF3BBDB1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1979-9426-4480-B829-0D158827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FF93-F69D-4ED0-B86E-F0EE27E1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DA7D-7E46-4B99-B8F5-676AFEBC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07BE-58A8-424E-A0E6-04101D62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9C99-72C0-4786-9AAB-35D2AD14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F785-0860-4109-A394-2E47DEEC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96C2-405B-4A2D-A622-8F0A36A9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F544-B317-451D-8743-87A3CC4A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AF6A4-EA66-4A4D-A3F2-AE015880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5F69A-C2DC-4E44-B133-368EC2BA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2E745-A977-41AA-8CFB-4DBBB02F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6DB2B-5EB3-4E58-BEB7-BB32009E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01FCF-2192-4B02-B88D-0945531E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4497-DE8F-4881-B4C6-9AC6DE1E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7FAA0-4FC5-4CFC-BB39-8E005CE4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F10BF-2018-476D-94E8-5F8E9533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79C61-2149-4015-86FA-12792308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BF8A4-0E9A-492E-A8F2-1D427DB9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2E5CE-2A57-49A7-AFF5-956DE824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CF745-849F-4FB8-B4DE-85FF4279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70DC7-E526-4688-9DB0-B77E2478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22E07-46BD-4F2C-8872-063EA438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35441-01C7-4CAB-9BA0-99E0B05B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AD8EB-8BF4-4D0E-8867-C8AE473B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082D-7ED4-44CD-9551-C4B0F50E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A8DEC-BDE3-4EC1-97B5-FDB003B6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C6D03-3D1D-4607-966C-56DD2F3F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6AB05-4A0C-4B83-BEDE-E5FE57CF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C7F97-09D8-42D3-B2AC-667D72A9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80F8C-BC13-42A8-8BBA-6402A043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EB41C-0EC5-434A-9957-05AD0EF6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DBA12-260C-4FEC-8C67-20165446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BAEA9-9D9B-4DC0-BD58-508EE651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AA2B1-839A-4D4D-BFD4-D4D70965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895D7-8EAC-4924-957C-87DFDDFF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2104-3AD7-4326-87D9-8229FE0B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F6EF7-0271-4634-8356-4B99C57C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061DD-785E-4F0C-AAA4-3DABFA83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EA649-8483-44DE-8130-F8CBF98D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0C2B2-EEEE-48DA-9491-A13EA99A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50F79-97B7-493D-9A8F-71FA86BC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E0409-564A-4368-85C4-D43B56A8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CE01C-B660-4800-A7C5-23A721D3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A3A95-53DC-4C07-97BF-7D6DF47A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A8A4A-47FE-4E6F-B9DF-C7BDACB7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CE7C5-D20A-49DD-93EE-01AE6308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E40D-F45B-4D38-ACB9-532537C6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030E5-F76D-429B-ABFE-133AE940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D9A0C-3015-4858-BE50-D1B52B2C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E1F8B-AAB4-4A3E-A633-3BCCDBBA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FC470-C50D-4461-A521-7FAF46F2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5A958-0143-4349-9F45-8F0D0F84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FB878-4F03-46CB-A6B5-9F49417C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BD0B2-9FE1-4CB7-B1B7-9CFE0966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92854-3EFD-4E7E-A2C7-25EE579C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9E0CE-5352-4280-959C-EDD19C3B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F7DF4-6963-4F55-9BAE-2143B096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34E4-3083-4B70-A62E-21972BCA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F7B68-37EF-4D35-B067-C69072EA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02C2C-33A7-4831-9287-AD3E02460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463F4-CD68-4DB9-BCBF-11BE18FF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53950-BF39-4E0D-BDEA-EDB9042D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49ECA-30EB-435D-8016-27851C7F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26C71-642A-4CD3-88DE-A7CBA1D8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8D822-92ED-463D-9B02-E467F0F0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DF2A5-27C2-4235-BD30-2C00A915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4D41C-F6B6-426F-968A-836BA1B9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D6743-4458-4AE6-B323-CCE35D17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2AF6-FE0E-467F-ABBB-56AB6E8D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019F2-BBFE-4704-9494-7F08B558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F7492-3BB4-44DD-809A-5CC693D7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BE47D-A248-41D0-B910-8CA7B142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C55CF-C27D-413C-AA04-173BFFA6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021AC-0908-41EC-9888-0FAB4F29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37DF1-1E0E-4654-B0D3-C628622F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89750-FA9B-401E-A4B8-573B77FE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42B13-7B51-45FD-A893-593798AE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61157-4492-4DBE-B002-939F589D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66D13-E6DC-4D30-8F2D-54A3C716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C3D1-38C8-49A5-ABE9-8384E562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9BC9C-3600-4DB5-AE81-A2037AAC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EC9E5-EE7F-4660-A282-CA30F82A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DCCA2-FA68-4A43-827F-E82C508B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052D6-F209-4BFB-A658-DB9796CA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EB2EC-440F-4246-BCF7-48AF229E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2878B-A0AC-464E-B601-423A4D57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15EFD-2EF9-4B85-9C20-B8BACFE4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0E83-EF78-4F8E-B223-42985F1C05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581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6E47-DFEF-41F7-9A6A-85FB5C6C84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4D29-9C0A-473A-B693-65961FA3FB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7FFD-2BB6-48FE-932F-15B27D2073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1E70-A094-4B14-AB31-2F8A3A06C3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917F-25E0-43AB-BE6B-24162FFF0B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61EB-6E1D-4913-8DFB-1DA53A4CB3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2D5B-A783-48EF-B008-4008D4DB1E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caoki@thegef.org" TargetMode="External"/><Relationship Id="rId3" Type="http://schemas.openxmlformats.org/officeDocument/2006/relationships/hyperlink" Target="mailto:bbiagini@thegef.org" TargetMode="External"/><Relationship Id="rId4" Type="http://schemas.openxmlformats.org/officeDocument/2006/relationships/hyperlink" Target="mailto:isow@thegef.org" TargetMode="External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GEF and Technology Transfer: </a:t>
            </a:r>
            <a:br>
              <a:rPr sz="4100"/>
            </a:b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An Overview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ubtitle 4"/>
          <p:cNvSpPr/>
          <p:nvPr/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7 - 29 Septem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Honiara, Solomon Is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44"/>
          <p:cNvGrpSpPr/>
          <p:nvPr/>
        </p:nvGrpSpPr>
        <p:grpSpPr>
          <a:xfrm>
            <a:off x="1752480" y="1219320"/>
            <a:ext cx="6267600" cy="3809880"/>
            <a:chOff x="1752480" y="1219320"/>
            <a:chExt cx="6267600" cy="3809880"/>
          </a:xfrm>
        </p:grpSpPr>
        <p:pic>
          <p:nvPicPr>
            <p:cNvPr id="380" name="Picture 3" descr="C:\Users\wb368377\AppData\Local\Microsoft\Windows\Temporary Internet Files\Content.IE5\3I5325V1\MC910216337[1].png"/>
            <p:cNvPicPr/>
            <p:nvPr/>
          </p:nvPicPr>
          <p:blipFill>
            <a:blip r:embed="rId2"/>
            <a:stretch/>
          </p:blipFill>
          <p:spPr>
            <a:xfrm>
              <a:off x="1752480" y="1219320"/>
              <a:ext cx="626760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Oval 6"/>
            <p:cNvSpPr/>
            <p:nvPr/>
          </p:nvSpPr>
          <p:spPr>
            <a:xfrm>
              <a:off x="3173040" y="3564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>
              <a:off x="2773080" y="39333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Oval 9"/>
            <p:cNvSpPr/>
            <p:nvPr/>
          </p:nvSpPr>
          <p:spPr>
            <a:xfrm>
              <a:off x="2970000" y="29044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Oval 10"/>
            <p:cNvSpPr/>
            <p:nvPr/>
          </p:nvSpPr>
          <p:spPr>
            <a:xfrm>
              <a:off x="249660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Oval 11"/>
            <p:cNvSpPr/>
            <p:nvPr/>
          </p:nvSpPr>
          <p:spPr>
            <a:xfrm>
              <a:off x="1752480" y="3857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40968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3967200" y="31528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4932000" y="2831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79664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879160" y="19519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6555600" y="2538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820480" y="31658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60822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6014520" y="3344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5-Point Star 26"/>
            <p:cNvSpPr/>
            <p:nvPr/>
          </p:nvSpPr>
          <p:spPr>
            <a:xfrm>
              <a:off x="2902320" y="4003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5-Point Star 27"/>
            <p:cNvSpPr/>
            <p:nvPr/>
          </p:nvSpPr>
          <p:spPr>
            <a:xfrm>
              <a:off x="2808360" y="348120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5-Point Star 28"/>
            <p:cNvSpPr/>
            <p:nvPr/>
          </p:nvSpPr>
          <p:spPr>
            <a:xfrm>
              <a:off x="2699280" y="29044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5-Point Star 29"/>
            <p:cNvSpPr/>
            <p:nvPr/>
          </p:nvSpPr>
          <p:spPr>
            <a:xfrm>
              <a:off x="2766960" y="305100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5-Point Star 31"/>
            <p:cNvSpPr/>
            <p:nvPr/>
          </p:nvSpPr>
          <p:spPr>
            <a:xfrm>
              <a:off x="4796640" y="3490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5-Point Star 32"/>
            <p:cNvSpPr/>
            <p:nvPr/>
          </p:nvSpPr>
          <p:spPr>
            <a:xfrm>
              <a:off x="4120200" y="2757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5-Point Star 33"/>
            <p:cNvSpPr/>
            <p:nvPr/>
          </p:nvSpPr>
          <p:spPr>
            <a:xfrm>
              <a:off x="4120200" y="31240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5-Point Star 34"/>
            <p:cNvSpPr/>
            <p:nvPr/>
          </p:nvSpPr>
          <p:spPr>
            <a:xfrm>
              <a:off x="3917160" y="31240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5-Point Star 35"/>
            <p:cNvSpPr/>
            <p:nvPr/>
          </p:nvSpPr>
          <p:spPr>
            <a:xfrm>
              <a:off x="4052520" y="3270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5-Point Star 36"/>
            <p:cNvSpPr/>
            <p:nvPr/>
          </p:nvSpPr>
          <p:spPr>
            <a:xfrm>
              <a:off x="4999680" y="261144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5-Point Star 37"/>
            <p:cNvSpPr/>
            <p:nvPr/>
          </p:nvSpPr>
          <p:spPr>
            <a:xfrm>
              <a:off x="6082200" y="385704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5-Point Star 38"/>
            <p:cNvSpPr/>
            <p:nvPr/>
          </p:nvSpPr>
          <p:spPr>
            <a:xfrm>
              <a:off x="5946840" y="3270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5-Point Star 39"/>
            <p:cNvSpPr/>
            <p:nvPr/>
          </p:nvSpPr>
          <p:spPr>
            <a:xfrm>
              <a:off x="6149880" y="319752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5-Point Star 40"/>
            <p:cNvSpPr/>
            <p:nvPr/>
          </p:nvSpPr>
          <p:spPr>
            <a:xfrm>
              <a:off x="6082200" y="319752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5-Point Star 42"/>
            <p:cNvSpPr/>
            <p:nvPr/>
          </p:nvSpPr>
          <p:spPr>
            <a:xfrm>
              <a:off x="6014520" y="2977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-305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Poznan Program country cove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5-Point Star 46"/>
          <p:cNvSpPr/>
          <p:nvPr/>
        </p:nvSpPr>
        <p:spPr>
          <a:xfrm>
            <a:off x="3809880" y="5791320"/>
            <a:ext cx="76320" cy="75960"/>
          </a:xfrm>
          <a:custGeom>
            <a:avLst/>
            <a:gdLst>
              <a:gd name="textAreaLeft" fmla="*/ 23400 w 76320"/>
              <a:gd name="textAreaRight" fmla="*/ 52920 w 76320"/>
              <a:gd name="textAreaTop" fmla="*/ 28800 h 75960"/>
              <a:gd name="textAreaBottom" fmla="*/ 57960 h 7596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47"/>
          <p:cNvSpPr/>
          <p:nvPr/>
        </p:nvSpPr>
        <p:spPr>
          <a:xfrm>
            <a:off x="3809880" y="5562720"/>
            <a:ext cx="76320" cy="75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48"/>
          <p:cNvSpPr/>
          <p:nvPr/>
        </p:nvSpPr>
        <p:spPr>
          <a:xfrm>
            <a:off x="3962520" y="54864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lot Proje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NA Project – First Round Countries (1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49"/>
          <p:cNvSpPr/>
          <p:nvPr/>
        </p:nvSpPr>
        <p:spPr>
          <a:xfrm>
            <a:off x="0" y="658800"/>
            <a:ext cx="1752480" cy="115956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urkey &amp; Cook Islands: Hydrogen energy installations for small islands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51"/>
          <p:cNvSpPr/>
          <p:nvPr/>
        </p:nvSpPr>
        <p:spPr>
          <a:xfrm>
            <a:off x="0" y="251460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xico: Local wind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52"/>
          <p:cNvSpPr/>
          <p:nvPr/>
        </p:nvSpPr>
        <p:spPr>
          <a:xfrm>
            <a:off x="0" y="3124080"/>
            <a:ext cx="167652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le: Local solar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53"/>
          <p:cNvSpPr/>
          <p:nvPr/>
        </p:nvSpPr>
        <p:spPr>
          <a:xfrm>
            <a:off x="0" y="4572000"/>
            <a:ext cx="1752480" cy="9756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razil: Renewable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capture &amp; storage from sugar industry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54"/>
          <p:cNvSpPr/>
          <p:nvPr/>
        </p:nvSpPr>
        <p:spPr>
          <a:xfrm>
            <a:off x="0" y="3733920"/>
            <a:ext cx="175248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te d’Ivoire: Solid waste composting (Af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55"/>
          <p:cNvSpPr/>
          <p:nvPr/>
        </p:nvSpPr>
        <p:spPr>
          <a:xfrm>
            <a:off x="7086600" y="506556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egal: Typha-based thermal insulation produc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56"/>
          <p:cNvSpPr/>
          <p:nvPr/>
        </p:nvSpPr>
        <p:spPr>
          <a:xfrm>
            <a:off x="7086600" y="5698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ussian Federation: HCFC phase-out, HFC-free, energy efficient AC &amp; Refrigera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57"/>
          <p:cNvSpPr/>
          <p:nvPr/>
        </p:nvSpPr>
        <p:spPr>
          <a:xfrm>
            <a:off x="7086600" y="21430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iland: South-South technology transfer: ethanol from cassava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58"/>
          <p:cNvSpPr/>
          <p:nvPr/>
        </p:nvSpPr>
        <p:spPr>
          <a:xfrm>
            <a:off x="7086600" y="314784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mbodia: Agricultural residue biomass to energy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59"/>
          <p:cNvSpPr/>
          <p:nvPr/>
        </p:nvSpPr>
        <p:spPr>
          <a:xfrm>
            <a:off x="7086600" y="394164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ri Lanka: Bamboo processing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60"/>
          <p:cNvSpPr/>
          <p:nvPr/>
        </p:nvSpPr>
        <p:spPr>
          <a:xfrm>
            <a:off x="7086600" y="449568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rdan: Irrigation technology (IFA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61"/>
          <p:cNvSpPr/>
          <p:nvPr/>
        </p:nvSpPr>
        <p:spPr>
          <a:xfrm>
            <a:off x="7086600" y="156996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na: Green truck demonstration (W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62"/>
          <p:cNvSpPr/>
          <p:nvPr/>
        </p:nvSpPr>
        <p:spPr>
          <a:xfrm>
            <a:off x="0" y="190512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amaica: Small scale wave power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traight Connector 64"/>
          <p:cNvSpPr/>
          <p:nvPr/>
        </p:nvSpPr>
        <p:spPr>
          <a:xfrm>
            <a:off x="1752480" y="1244520"/>
            <a:ext cx="3078360" cy="1440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traight Connector 66"/>
          <p:cNvSpPr/>
          <p:nvPr/>
        </p:nvSpPr>
        <p:spPr>
          <a:xfrm>
            <a:off x="1752480" y="2166840"/>
            <a:ext cx="1285920" cy="7747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traight Connector 69"/>
          <p:cNvSpPr/>
          <p:nvPr/>
        </p:nvSpPr>
        <p:spPr>
          <a:xfrm flipV="1">
            <a:off x="1752480" y="2720880"/>
            <a:ext cx="744480" cy="604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traight Connector 78"/>
          <p:cNvSpPr/>
          <p:nvPr/>
        </p:nvSpPr>
        <p:spPr>
          <a:xfrm>
            <a:off x="1676520" y="3390840"/>
            <a:ext cx="1106280" cy="604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traight Connector 81"/>
          <p:cNvSpPr/>
          <p:nvPr/>
        </p:nvSpPr>
        <p:spPr>
          <a:xfrm flipV="1">
            <a:off x="1752480" y="3333600"/>
            <a:ext cx="2401920" cy="7812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traight Connector 84"/>
          <p:cNvSpPr/>
          <p:nvPr/>
        </p:nvSpPr>
        <p:spPr>
          <a:xfrm flipV="1">
            <a:off x="1752480" y="3625560"/>
            <a:ext cx="1478160" cy="1423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traight Connector 87"/>
          <p:cNvSpPr/>
          <p:nvPr/>
        </p:nvSpPr>
        <p:spPr>
          <a:xfrm flipH="1">
            <a:off x="5913000" y="1045440"/>
            <a:ext cx="1173240" cy="9795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traight Connector 90"/>
          <p:cNvSpPr/>
          <p:nvPr/>
        </p:nvSpPr>
        <p:spPr>
          <a:xfrm flipH="1">
            <a:off x="6622920" y="1832040"/>
            <a:ext cx="463680" cy="74304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traight Connector 93"/>
          <p:cNvSpPr/>
          <p:nvPr/>
        </p:nvSpPr>
        <p:spPr>
          <a:xfrm flipH="1">
            <a:off x="6072120" y="2620080"/>
            <a:ext cx="1014480" cy="7858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traight Connector 96"/>
          <p:cNvSpPr/>
          <p:nvPr/>
        </p:nvSpPr>
        <p:spPr>
          <a:xfrm flipH="1" flipV="1">
            <a:off x="6116760" y="3342960"/>
            <a:ext cx="969840" cy="173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traight Connector 99"/>
          <p:cNvSpPr/>
          <p:nvPr/>
        </p:nvSpPr>
        <p:spPr>
          <a:xfrm flipH="1" flipV="1">
            <a:off x="5830920" y="3227400"/>
            <a:ext cx="1255680" cy="9763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traight Connector 102"/>
          <p:cNvSpPr/>
          <p:nvPr/>
        </p:nvSpPr>
        <p:spPr>
          <a:xfrm flipH="1" flipV="1">
            <a:off x="4941720" y="2841120"/>
            <a:ext cx="2144880" cy="19162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traight Connector 105"/>
          <p:cNvSpPr/>
          <p:nvPr/>
        </p:nvSpPr>
        <p:spPr>
          <a:xfrm flipH="1" flipV="1">
            <a:off x="4025880" y="3214800"/>
            <a:ext cx="3060720" cy="2232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traight Connector 110"/>
          <p:cNvSpPr/>
          <p:nvPr/>
        </p:nvSpPr>
        <p:spPr>
          <a:xfrm>
            <a:off x="1752480" y="1244520"/>
            <a:ext cx="57240" cy="2675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121"/>
          <p:cNvSpPr/>
          <p:nvPr/>
        </p:nvSpPr>
        <p:spPr>
          <a:xfrm>
            <a:off x="502920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122"/>
          <p:cNvSpPr/>
          <p:nvPr/>
        </p:nvSpPr>
        <p:spPr>
          <a:xfrm>
            <a:off x="1828800" y="28195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124"/>
          <p:cNvSpPr/>
          <p:nvPr/>
        </p:nvSpPr>
        <p:spPr>
          <a:xfrm>
            <a:off x="2895480" y="4264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125"/>
          <p:cNvSpPr/>
          <p:nvPr/>
        </p:nvSpPr>
        <p:spPr>
          <a:xfrm>
            <a:off x="3505320" y="2738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oro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126"/>
          <p:cNvSpPr/>
          <p:nvPr/>
        </p:nvSpPr>
        <p:spPr>
          <a:xfrm>
            <a:off x="3581280" y="304812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te d’Ivo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127"/>
          <p:cNvSpPr/>
          <p:nvPr/>
        </p:nvSpPr>
        <p:spPr>
          <a:xfrm>
            <a:off x="4572000" y="3268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Ke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128"/>
          <p:cNvSpPr/>
          <p:nvPr/>
        </p:nvSpPr>
        <p:spPr>
          <a:xfrm>
            <a:off x="5638680" y="2743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angl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129"/>
          <p:cNvSpPr/>
          <p:nvPr/>
        </p:nvSpPr>
        <p:spPr>
          <a:xfrm>
            <a:off x="5867280" y="38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Indone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130"/>
          <p:cNvSpPr/>
          <p:nvPr/>
        </p:nvSpPr>
        <p:spPr>
          <a:xfrm>
            <a:off x="5211720" y="3097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ri Lan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hai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77"/>
          <p:cNvSpPr/>
          <p:nvPr/>
        </p:nvSpPr>
        <p:spPr>
          <a:xfrm>
            <a:off x="1828800" y="3581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ok Is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79"/>
          <p:cNvSpPr/>
          <p:nvPr/>
        </p:nvSpPr>
        <p:spPr>
          <a:xfrm>
            <a:off x="2362320" y="24908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e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ama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80"/>
          <p:cNvSpPr/>
          <p:nvPr/>
        </p:nvSpPr>
        <p:spPr>
          <a:xfrm>
            <a:off x="5181480" y="19810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Russian Fed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82"/>
          <p:cNvSpPr/>
          <p:nvPr/>
        </p:nvSpPr>
        <p:spPr>
          <a:xfrm>
            <a:off x="6172200" y="2286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83"/>
          <p:cNvSpPr/>
          <p:nvPr/>
        </p:nvSpPr>
        <p:spPr>
          <a:xfrm>
            <a:off x="2971800" y="3352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85"/>
          <p:cNvSpPr/>
          <p:nvPr/>
        </p:nvSpPr>
        <p:spPr>
          <a:xfrm>
            <a:off x="243828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88"/>
          <p:cNvSpPr/>
          <p:nvPr/>
        </p:nvSpPr>
        <p:spPr>
          <a:xfrm>
            <a:off x="4572000" y="2819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ord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89"/>
          <p:cNvSpPr/>
          <p:nvPr/>
        </p:nvSpPr>
        <p:spPr>
          <a:xfrm>
            <a:off x="4419720" y="246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ur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94"/>
          <p:cNvSpPr/>
          <p:nvPr/>
        </p:nvSpPr>
        <p:spPr>
          <a:xfrm>
            <a:off x="6172200" y="3119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ambo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Viet 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Long-Term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68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Climate Technology Centres and a Climate Technology Network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t global, regional, national leve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y involve technical assistance, training, information sharing, knowledge management, reflecting UNFCCC discu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Conduct Pilot Technology Projects to Foster Innovation and Investme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demonstrate innovative techn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support deployment and diffusion to catalyze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Develop a Public-Private Partnership for Technology Transf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facilitate private sector engagement to support innovative financial instruments or business models for technology deploy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Technology Needs Assessments (TNAs)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:  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target low- &amp; medium-income countries to conduct and/or update T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GEF as a Catalytic Supporting Institution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Key Features of Long-Term Progra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143000"/>
            <a:ext cx="6019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11080" indent="-34272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is consistent with and support the Technology Mechanism agreed in Cancun at COP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was approved by the GEF Cou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5 elements may be funded 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TAR (elements 1, 2,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Global and Regional Set-Aside (elements 1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PP fund (element 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dditional voluntary contributions (element 2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Picture 3" descr=""/>
          <p:cNvPicPr/>
          <p:nvPr/>
        </p:nvPicPr>
        <p:blipFill>
          <a:blip r:embed="rId1"/>
          <a:stretch/>
        </p:blipFill>
        <p:spPr>
          <a:xfrm>
            <a:off x="6689880" y="1676520"/>
            <a:ext cx="2149200" cy="281916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5"/>
          <p:cNvSpPr/>
          <p:nvPr/>
        </p:nvSpPr>
        <p:spPr>
          <a:xfrm>
            <a:off x="6019920" y="48006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EST Transfer (GEF 2010) downloadable from: http://www.thegef.org/gef/pubs/tech-transfer-case-studies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3.  How do I know my country’s needs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for technology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2952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Calibri"/>
                <a:ea typeface="Arial"/>
              </a:rPr>
              <a:t>Key entry points for climate chang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as your country carried out a TNA recent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Communications (NC) and National Adaptation Programs of Action (NAPAs) identify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policies and strategies identify specific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es your Common Country Assessment-UN Development Assistance Framework (CCA-UNDAF) identify any technology needs?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ye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your starting point could be to review the document to prioritize action for project develop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n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especially for the TNA), your starting point could be to assess the merit of conducting a TNA, or addressing technology needs more explicitly in your next N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7238880" y="3778200"/>
            <a:ext cx="1657440" cy="2147760"/>
          </a:xfrm>
          <a:prstGeom prst="rect">
            <a:avLst/>
          </a:prstGeom>
          <a:ln w="0">
            <a:noFill/>
          </a:ln>
        </p:spPr>
      </p:pic>
      <p:sp>
        <p:nvSpPr>
          <p:cNvPr id="471" name="TextBox 22"/>
          <p:cNvSpPr/>
          <p:nvPr/>
        </p:nvSpPr>
        <p:spPr>
          <a:xfrm>
            <a:off x="7772400" y="5943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DP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2" descr=""/>
          <p:cNvPicPr/>
          <p:nvPr/>
        </p:nvPicPr>
        <p:blipFill>
          <a:blip r:embed="rId3"/>
          <a:stretch/>
        </p:blipFill>
        <p:spPr>
          <a:xfrm>
            <a:off x="7086600" y="914400"/>
            <a:ext cx="1743120" cy="228924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7"/>
          <p:cNvSpPr/>
          <p:nvPr/>
        </p:nvSpPr>
        <p:spPr>
          <a:xfrm>
            <a:off x="6693840" y="3276720"/>
            <a:ext cx="245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09) downloadable f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hegef.org/gef/node/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4.  Where to go from here for climate chan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569520" y="1228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Larg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propose a single country TNA utilizing STAR allocation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mall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apply to be included multi-country TNA project from Global and Regional Set-aside, subject to competitive selection (contact GE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echnology transfer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tig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in one of the six objective areas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apt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to SCCF/LDC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establish and/or take part in climate technology centre &amp; network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National level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bmit a proposal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Global and regional lev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contact the GEF about your interest, as regional pilot may be starting in 2011 in line with Cancun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9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837720" y="457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4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8000"/>
                </a:solidFill>
                <a:latin typeface="Calibri"/>
              </a:rPr>
              <a:t>Thank you very much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r further information, please contact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ech Transfer and Mitigation: Chizuru Aok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nior Technology Transfer Offic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aok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mate Change Adaptation, SCCF/LDCF:  Bonizella Biagin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ead, Climate Change Adaptation Strategy and Oper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bbiagin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:  Ibrahima Sow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 Cluster Coordinat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isow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F Tech Transfer Website (under development):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</a:rPr>
              <a:t>http://www.thegef.org/gef/T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Overview of this 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14040" y="14475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at is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at is the GEF doing to facilitate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How do I know my country’s needs for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ere do I go from he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1"/>
          <a:stretch/>
        </p:blipFill>
        <p:spPr>
          <a:xfrm>
            <a:off x="6705720" y="2286000"/>
            <a:ext cx="2209680" cy="23479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066320"/>
            <a:ext cx="55623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Technology: at the core of global environmental challe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source of environmental degradation and emi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means to address negative impacts, reduce emissions, manage natural resources, and monitor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foundation for economic development, value creation, and employ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Developing, demonstrating, deploying and diffusing environmentally sound technologies (ESTs) are activities in the critical path toward an effective responsible to global environmental challenges (Agenda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6248520" y="838080"/>
            <a:ext cx="2361960" cy="1576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2361960" cy="17748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6"/>
          <p:cNvSpPr/>
          <p:nvPr/>
        </p:nvSpPr>
        <p:spPr>
          <a:xfrm>
            <a:off x="7626960" y="594360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IDO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7702200" y="419112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"/>
          <p:cNvPicPr/>
          <p:nvPr/>
        </p:nvPicPr>
        <p:blipFill>
          <a:blip r:embed="rId4"/>
          <a:stretch/>
        </p:blipFill>
        <p:spPr>
          <a:xfrm>
            <a:off x="6248520" y="4433760"/>
            <a:ext cx="23619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120" y="914400"/>
            <a:ext cx="8269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Various Multilateral Environmental Agreements (MEAs) include provisions related to technology and facilitating access and transf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ounded Rectangle 6"/>
          <p:cNvSpPr/>
          <p:nvPr/>
        </p:nvSpPr>
        <p:spPr>
          <a:xfrm>
            <a:off x="838080" y="1752480"/>
            <a:ext cx="81536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UN Framework Convention for Climate Change (UNFCCC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greed on the Technology Mechanism in December 2010 to support action on technology development and transfer for mitigation and adap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ounded Rectangle 7"/>
          <p:cNvSpPr/>
          <p:nvPr/>
        </p:nvSpPr>
        <p:spPr>
          <a:xfrm>
            <a:off x="852480" y="4876920"/>
            <a:ext cx="81532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Convention on Biological Diversity (CBD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cognizes that access to and transfer of technologies among Parties is essential to achieving CBD objectiv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ounded Rectangle 8"/>
          <p:cNvSpPr/>
          <p:nvPr/>
        </p:nvSpPr>
        <p:spPr>
          <a:xfrm>
            <a:off x="852480" y="3817800"/>
            <a:ext cx="8153280" cy="941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Montreal Protocol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opted decision on environmentally sound destruction of ozone depleting substances (ODS) banks.  The Multilateral Fund is requested to continue its efforts on further cost-effective projects for the destruction of ODS banks, using appropriate technolog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ounded Rectangle 9"/>
          <p:cNvSpPr/>
          <p:nvPr/>
        </p:nvSpPr>
        <p:spPr>
          <a:xfrm>
            <a:off x="838080" y="2743200"/>
            <a:ext cx="8153640" cy="99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tockholm Convention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alls for promoting use of Best Available Techniques and Best Environmental Practices (BAT/BEP) to reduce persistent organic pollutant (POPs) releases from unintentional production (waste incinerators, aluminum production, open waste burning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560" y="12193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Many definitions and interpretations of technology transfer ex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For climate change, GEF has adopted the technology transfer definition by International Panel on Climate Change (IPCC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.a broad set of processes covering the flows of know-how, experience and equipment for mitigating and adapting to climate change amongst different stakeholders…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It goes beyond hardware, and encompasses capacity, know-how, policies and institution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 to facilitate tech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066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has financed demonstration, deployment, and diffusion of ESTs and enabling activit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ach focal area addresses technology transfer within its GEF-5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ogramming depends on convention guidance and national prior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ticulation of a GEF-wide technology strategy under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Technology transfer is a priority for GEF climate change focal ar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ference of the Parties (COP) of UNFCCC has given a mandate on technology transfer to G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the only multilateral institution that has financed technology transfer under COP gui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largest public sector financing mechanism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climate change and tech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28240" y="11430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GEF has invested approx. $3 billion in climate change, leveraging more than $15 b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GEF-5 funding (2010-14) for mitigation is approx. $1.4 b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Special Climate Change Fund/Least Developed Countries Fund (CCF/LDCF) funding for adaptation and LDC support is approx. $530 million cumul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9" descr=""/>
          <p:cNvPicPr/>
          <p:nvPr/>
        </p:nvPicPr>
        <p:blipFill>
          <a:blip r:embed="rId1"/>
          <a:srcRect l="0" t="0" r="0" b="15786"/>
          <a:stretch/>
        </p:blipFill>
        <p:spPr>
          <a:xfrm>
            <a:off x="7143840" y="15238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"/>
          <p:cNvPicPr/>
          <p:nvPr/>
        </p:nvPicPr>
        <p:blipFill>
          <a:blip r:embed="rId3"/>
          <a:stretch/>
        </p:blipFill>
        <p:spPr>
          <a:xfrm>
            <a:off x="7148520" y="39625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2.  What is GEF doing: GEF-5 Mitigation Strategy &amp; Tech Transf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686800" cy="4701960"/>
          </a:xfrm>
          <a:prstGeom prst="rect">
            <a:avLst/>
          </a:prstGeom>
          <a:ln w="0">
            <a:noFill/>
          </a:ln>
        </p:spPr>
      </p:pic>
      <p:sp>
        <p:nvSpPr>
          <p:cNvPr id="372" name="テキスト ボックス 3"/>
          <p:cNvSpPr/>
          <p:nvPr/>
        </p:nvSpPr>
        <p:spPr>
          <a:xfrm>
            <a:off x="228600" y="91440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6 GEF-5 Climate Change Mitigation Strategy objectives address different aspects of technology transfer, from R&amp;D to diffusion of technologies + enabl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ectors: energy efficiency, renewable energy, transport, urban systems, LULUC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Poznan Strategic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61760" y="11430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Funding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35 million from GEF Trust Fund in GEF-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15 million from SCC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echnology Transfer Pilot Proje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4 projects were selected for support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ir implementation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N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roject was approved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5 first round countries were selected in 2010,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econd round country selection is being finaliz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ountry-level assessment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Long-Term Program on Technology Transf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lan with 5 elements submitted to UNFCCC CO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see slides 11 and 1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6272280" y="1600200"/>
            <a:ext cx="2643120" cy="34797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6"/>
          <p:cNvSpPr/>
          <p:nvPr/>
        </p:nvSpPr>
        <p:spPr>
          <a:xfrm>
            <a:off x="6248520" y="5181480"/>
            <a:ext cx="28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Poznan Program (GEF 2010) downloadable from: http://www.thegef.org/gef/node/38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dcterms:modified xsi:type="dcterms:W3CDTF">2011-11-01T18:24:05Z</dcterms:modified>
  <cp:revision>794</cp:revision>
  <dc:subject/>
  <dc:title>Slide 1</dc:title>
</cp:coreProperties>
</file>