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2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2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CB82-D0C6-46DD-962A-044802DEF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4617-8CDF-4CF9-A3F4-E8EBDFF82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A3FE-883E-4486-859A-C667436785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4720" cy="34848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69C244E-7DE8-469C-9979-A0CCE2E3D55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Date Placeholder 5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ooter Placeholder 6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Header Placeholder 7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09520" y="70020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Date Placeholder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0BBB-0376-4701-9993-82BCF940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6521-A433-410B-8FCB-13CB5CB0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55C9-B9DA-4269-AC15-08AF1BD8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46EE-8E46-4588-ABC7-F8763813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2FDF-61E1-4C55-8166-6F62D9C8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7824-1BD4-4BAB-9DF2-6E4698D6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0025-19A5-4DF6-BDA1-FD918B7B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B666-871C-4254-A43A-D55A5C5E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6E25-B57E-4B72-9940-030F1734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5839-A882-4127-A7CD-559D5B11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1FAD-BD34-45F7-B04D-0F83769C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5C0E-E35D-4E1D-BA84-A2CBF4AA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9AFC-5E33-4EBD-95F9-5B00EE1A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921E-FFC9-487A-B749-37F8E339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51E9-FF8A-4976-8A05-740B72D4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213E-82E9-44D9-92B7-BEA3C54D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6C58-8FDC-44B4-B231-A05CCF23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419E1-BFA9-4856-AF4E-F49A67E7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298AF-0346-4C56-BE1C-AD30A83C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33D60-462B-47DF-8340-51E0A713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8028E-A299-4661-84D5-92F71CE3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11B72-20A5-455D-AA7F-50D0CB0C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D862-E53D-4E7D-A77F-580B7FD3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93447-6134-491D-8D12-5A053475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82F76-4EB1-479E-BA1C-2FB1429D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2BB68-A80F-477F-8B01-62798D29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96721-E45F-4257-BB96-5B24F113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3104F-F3E4-49BF-87E7-C4A16315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49C66-E1DA-42B3-97A0-598CDAD5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01F46-04B8-47A9-BC1A-725927CA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232C9-CA4B-468C-B319-AA2C9712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0574E-645C-4598-B78B-E5F33679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B4C03-EDAB-4D06-B5B6-34879D1A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7DF9-D500-4278-8331-D7FA04C7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B8D58-4239-4E4E-8EB1-7F54D7EA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287A0-D46C-4DA1-9788-85FC12DF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2C978-742F-4C94-AF48-6A1C942F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C61F4-3AF5-42C9-8C31-6FA66F3D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EBF30-E3EE-4F0E-858F-4F73F32D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47F8E-90C2-47DA-ACE0-10D352BD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92E2C-306A-4DA7-A7BC-55755DA6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48818-BA8C-4E6C-A189-1DA9C241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13628-1FC8-4091-8C78-42FF77C8E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473C5-01A5-4CC8-8B22-77E7D769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C2F5-D475-423D-9C9E-AD76ABD7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F7790-D5C2-49AF-BF48-984D35F5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4DED4-04CE-4328-AA91-11342A97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26670-A12F-42D7-B6C2-86227FD1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F67C8-BC95-44D5-BCD8-0A7A7277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EEA65-A0DA-4FF5-8084-02E1D9BA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AA35A-BE82-4F3F-B896-A3D7F938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8D17D-2D47-4890-A464-0361A4F4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A63E4-C6FD-46C7-8DA8-87068D37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DA881-CA63-4A7B-8ABF-B4F61745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E3F95-E287-4AF2-AC8F-FB8381CE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67CD-5819-45AB-89FE-8A21AB11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5E7EB-D782-49FA-BDEE-40260B5C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84F9D-B620-4F69-8980-3B34F75D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5478E-1723-4F38-8198-252505E0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4485B-2AD2-41C5-A669-235186FB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F95D0-EA21-4CB7-A450-57E0F786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B1721-F886-4F8D-ACFC-24C9EC94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C90C1-4014-4EA7-B244-CF5BE301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63F3C-33AF-48DC-944E-EEAA66FF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86A07-AEF2-47B4-8326-4A8FA703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EC497-B5A0-43C7-8BA4-87004F0A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4266-486B-4F95-8A84-E16E9417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E3B6E-7EA2-4734-94EE-F25190D3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E95BA-6C05-47CB-87C9-25C7FC08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FC1BE-1990-489B-B88A-11A07FA1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FFAE0-8908-40E8-B2C4-33B8CC1D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CFFED-5EBF-4D41-88E4-E1581A08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44461-F2F6-4C6D-A312-6C1C286C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71905-64D1-4706-A763-2D08E728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A3055-E833-492D-8F0C-AC9CBBB8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A87AB-9753-4FD3-B349-8504B1BC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E2456-A4FB-4235-8853-730862A1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0D3E-8829-4BD9-8AB8-E486AFAF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3F64E-CC92-44F9-99BF-D8A535E1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CFDA7-08AF-46DE-A832-0A6E3D03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1E178-E152-4693-ADD0-E25684E5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46664-C8E8-4B24-AD73-2766B495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66CA2-7155-4B47-A477-E034783D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41FD4-AF68-4921-904C-58837DBB3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B8150-B4B9-4F15-AE56-84BFBBF2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5CCEA-968A-490F-BF3C-492D140C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C30AC-C94B-4213-A001-78E8CF59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79C7E-111F-40D4-9CC4-125D50A3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2C0D-567A-4763-8CC5-77FC9AE8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838080" y="27432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69E6E-75FB-48CC-86F5-A8DF0113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3C3E5-49B5-4DF6-BCA5-2ECD8220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38F80-6A35-405B-A28B-6B66B9A5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77BF2-D04A-47DE-B61F-221C48B2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142640" y="3908520"/>
            <a:ext cx="7543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1CF18-4360-4948-B4ED-74F64E4B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08320" y="159984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4264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008320" y="3908520"/>
            <a:ext cx="3681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5FCCD-30DD-4E71-846D-B69E94615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69324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44200" y="159984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1426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69324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244200" y="3908520"/>
            <a:ext cx="2428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2D6A8-01B7-4777-A150-3FDFA406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AC38-0B28-4959-9026-AA143FD9EF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581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0" y="5611680"/>
            <a:ext cx="9144000" cy="124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322A-80B9-4B23-90EC-78AD65B497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3634-7DFE-447A-8B20-E48FEE3F77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EDB1-3A02-4BA2-9D20-D6CFAF6D86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7EEB-9366-4C81-BB06-D8FC08BDE8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F56C-A115-41FD-9B23-266E782751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B429-FEA0-486F-97F4-0308A886BF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6FBA-FDCC-43E9-A850-5A18E1FE50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mailto:caoki@thegef.org" TargetMode="External"/><Relationship Id="rId3" Type="http://schemas.openxmlformats.org/officeDocument/2006/relationships/hyperlink" Target="mailto:bbiagini@thegef.org" TargetMode="External"/><Relationship Id="rId4" Type="http://schemas.openxmlformats.org/officeDocument/2006/relationships/hyperlink" Target="mailto:isow@thegef.org" TargetMode="External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GEF and Technology Transfer: </a:t>
            </a:r>
            <a:br>
              <a:rPr sz="4100"/>
            </a:br>
            <a:r>
              <a:rPr b="1" lang="en-US" sz="4100" spc="-1" strike="noStrike">
                <a:solidFill>
                  <a:srgbClr val="00642d"/>
                </a:solidFill>
                <a:latin typeface="Calibri"/>
              </a:rPr>
              <a:t>An Overview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ubtitle 4"/>
          <p:cNvSpPr/>
          <p:nvPr/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27 - 29 Septem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</a:rPr>
              <a:t>Honiara, Solomon Is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44"/>
          <p:cNvGrpSpPr/>
          <p:nvPr/>
        </p:nvGrpSpPr>
        <p:grpSpPr>
          <a:xfrm>
            <a:off x="1752480" y="1219320"/>
            <a:ext cx="6267600" cy="3809880"/>
            <a:chOff x="1752480" y="1219320"/>
            <a:chExt cx="6267600" cy="3809880"/>
          </a:xfrm>
        </p:grpSpPr>
        <p:pic>
          <p:nvPicPr>
            <p:cNvPr id="380" name="Picture 3" descr="C:\Users\wb368377\AppData\Local\Microsoft\Windows\Temporary Internet Files\Content.IE5\3I5325V1\MC910216337[1].png"/>
            <p:cNvPicPr/>
            <p:nvPr/>
          </p:nvPicPr>
          <p:blipFill>
            <a:blip r:embed="rId2"/>
            <a:stretch/>
          </p:blipFill>
          <p:spPr>
            <a:xfrm>
              <a:off x="1752480" y="1219320"/>
              <a:ext cx="626760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Oval 6"/>
            <p:cNvSpPr/>
            <p:nvPr/>
          </p:nvSpPr>
          <p:spPr>
            <a:xfrm>
              <a:off x="3173040" y="356400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>
              <a:off x="2773080" y="39333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Oval 9"/>
            <p:cNvSpPr/>
            <p:nvPr/>
          </p:nvSpPr>
          <p:spPr>
            <a:xfrm>
              <a:off x="2970000" y="290448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Oval 10"/>
            <p:cNvSpPr/>
            <p:nvPr/>
          </p:nvSpPr>
          <p:spPr>
            <a:xfrm>
              <a:off x="2496600" y="26845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Oval 11"/>
            <p:cNvSpPr/>
            <p:nvPr/>
          </p:nvSpPr>
          <p:spPr>
            <a:xfrm>
              <a:off x="1752480" y="3857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4096800" y="32709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3967200" y="315288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4932000" y="2831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796640" y="26845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879160" y="195192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6555600" y="253800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820480" y="31658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6082200" y="327096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6014520" y="3344040"/>
              <a:ext cx="67320" cy="730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5-Point Star 26"/>
            <p:cNvSpPr/>
            <p:nvPr/>
          </p:nvSpPr>
          <p:spPr>
            <a:xfrm>
              <a:off x="2902320" y="4003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5-Point Star 27"/>
            <p:cNvSpPr/>
            <p:nvPr/>
          </p:nvSpPr>
          <p:spPr>
            <a:xfrm>
              <a:off x="2808360" y="348120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5-Point Star 28"/>
            <p:cNvSpPr/>
            <p:nvPr/>
          </p:nvSpPr>
          <p:spPr>
            <a:xfrm>
              <a:off x="2699280" y="29044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5-Point Star 29"/>
            <p:cNvSpPr/>
            <p:nvPr/>
          </p:nvSpPr>
          <p:spPr>
            <a:xfrm>
              <a:off x="2766960" y="305100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5-Point Star 31"/>
            <p:cNvSpPr/>
            <p:nvPr/>
          </p:nvSpPr>
          <p:spPr>
            <a:xfrm>
              <a:off x="4796640" y="3490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5-Point Star 32"/>
            <p:cNvSpPr/>
            <p:nvPr/>
          </p:nvSpPr>
          <p:spPr>
            <a:xfrm>
              <a:off x="4120200" y="2757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5-Point Star 33"/>
            <p:cNvSpPr/>
            <p:nvPr/>
          </p:nvSpPr>
          <p:spPr>
            <a:xfrm>
              <a:off x="4120200" y="31240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5-Point Star 34"/>
            <p:cNvSpPr/>
            <p:nvPr/>
          </p:nvSpPr>
          <p:spPr>
            <a:xfrm>
              <a:off x="3917160" y="312408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5-Point Star 35"/>
            <p:cNvSpPr/>
            <p:nvPr/>
          </p:nvSpPr>
          <p:spPr>
            <a:xfrm>
              <a:off x="4052520" y="3270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5-Point Star 36"/>
            <p:cNvSpPr/>
            <p:nvPr/>
          </p:nvSpPr>
          <p:spPr>
            <a:xfrm>
              <a:off x="4999680" y="261144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5-Point Star 37"/>
            <p:cNvSpPr/>
            <p:nvPr/>
          </p:nvSpPr>
          <p:spPr>
            <a:xfrm>
              <a:off x="6082200" y="385704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5-Point Star 38"/>
            <p:cNvSpPr/>
            <p:nvPr/>
          </p:nvSpPr>
          <p:spPr>
            <a:xfrm>
              <a:off x="5946840" y="32709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5-Point Star 39"/>
            <p:cNvSpPr/>
            <p:nvPr/>
          </p:nvSpPr>
          <p:spPr>
            <a:xfrm>
              <a:off x="6149880" y="319752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5-Point Star 40"/>
            <p:cNvSpPr/>
            <p:nvPr/>
          </p:nvSpPr>
          <p:spPr>
            <a:xfrm>
              <a:off x="6082200" y="319752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5-Point Star 42"/>
            <p:cNvSpPr/>
            <p:nvPr/>
          </p:nvSpPr>
          <p:spPr>
            <a:xfrm>
              <a:off x="6014520" y="2977560"/>
              <a:ext cx="67320" cy="73080"/>
            </a:xfrm>
            <a:custGeom>
              <a:avLst/>
              <a:gdLst>
                <a:gd name="textAreaLeft" fmla="*/ 20880 w 67320"/>
                <a:gd name="textAreaRight" fmla="*/ 46440 w 67320"/>
                <a:gd name="textAreaTop" fmla="*/ 27720 h 73080"/>
                <a:gd name="textAreaBottom" fmla="*/ 55800 h 73080"/>
              </a:gdLst>
              <a:ahLst/>
              <a:rect l="textAreaLeft" t="textAreaTop" r="textAreaRight" b="textAreaBottom"/>
              <a:pathLst>
                <a:path w="76200" h="76200">
                  <a:moveTo>
                    <a:pt x="0" y="29106"/>
                  </a:moveTo>
                  <a:lnTo>
                    <a:pt x="29106" y="29106"/>
                  </a:lnTo>
                  <a:lnTo>
                    <a:pt x="38100" y="0"/>
                  </a:lnTo>
                  <a:lnTo>
                    <a:pt x="47094" y="29106"/>
                  </a:lnTo>
                  <a:lnTo>
                    <a:pt x="76200" y="29106"/>
                  </a:lnTo>
                  <a:lnTo>
                    <a:pt x="52653" y="47094"/>
                  </a:lnTo>
                  <a:lnTo>
                    <a:pt x="61647" y="76200"/>
                  </a:lnTo>
                  <a:lnTo>
                    <a:pt x="38100" y="58211"/>
                  </a:lnTo>
                  <a:lnTo>
                    <a:pt x="14553" y="76200"/>
                  </a:lnTo>
                  <a:lnTo>
                    <a:pt x="23547" y="47094"/>
                  </a:lnTo>
                  <a:close/>
                </a:path>
              </a:pathLst>
            </a:custGeom>
            <a:solidFill>
              <a:srgbClr val="008000"/>
            </a:solidFill>
            <a:ln w="255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-305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Poznan Program country cover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5-Point Star 46"/>
          <p:cNvSpPr/>
          <p:nvPr/>
        </p:nvSpPr>
        <p:spPr>
          <a:xfrm>
            <a:off x="3809880" y="5791320"/>
            <a:ext cx="76320" cy="75960"/>
          </a:xfrm>
          <a:custGeom>
            <a:avLst/>
            <a:gdLst>
              <a:gd name="textAreaLeft" fmla="*/ 23400 w 76320"/>
              <a:gd name="textAreaRight" fmla="*/ 52920 w 76320"/>
              <a:gd name="textAreaTop" fmla="*/ 28800 h 75960"/>
              <a:gd name="textAreaBottom" fmla="*/ 57960 h 75960"/>
            </a:gdLst>
            <a:ahLst/>
            <a:rect l="textAreaLeft" t="textAreaTop" r="textAreaRight" b="textAreaBottom"/>
            <a:pathLst>
              <a:path w="76200" h="76200">
                <a:moveTo>
                  <a:pt x="0" y="29106"/>
                </a:moveTo>
                <a:lnTo>
                  <a:pt x="29106" y="29106"/>
                </a:lnTo>
                <a:lnTo>
                  <a:pt x="38100" y="0"/>
                </a:lnTo>
                <a:lnTo>
                  <a:pt x="47094" y="29106"/>
                </a:lnTo>
                <a:lnTo>
                  <a:pt x="76200" y="29106"/>
                </a:lnTo>
                <a:lnTo>
                  <a:pt x="52653" y="47094"/>
                </a:lnTo>
                <a:lnTo>
                  <a:pt x="61647" y="76200"/>
                </a:lnTo>
                <a:lnTo>
                  <a:pt x="38100" y="58211"/>
                </a:lnTo>
                <a:lnTo>
                  <a:pt x="14553" y="76200"/>
                </a:lnTo>
                <a:lnTo>
                  <a:pt x="23547" y="47094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Oval 47"/>
          <p:cNvSpPr/>
          <p:nvPr/>
        </p:nvSpPr>
        <p:spPr>
          <a:xfrm>
            <a:off x="3809880" y="5562720"/>
            <a:ext cx="76320" cy="759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48"/>
          <p:cNvSpPr/>
          <p:nvPr/>
        </p:nvSpPr>
        <p:spPr>
          <a:xfrm>
            <a:off x="3962520" y="5486400"/>
            <a:ext cx="358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ilot Projec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NA Project – First Round Countries (1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49"/>
          <p:cNvSpPr/>
          <p:nvPr/>
        </p:nvSpPr>
        <p:spPr>
          <a:xfrm>
            <a:off x="0" y="658800"/>
            <a:ext cx="1752480" cy="115956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urkey &amp; Cook Islands: Hydrogen energy installations for small islands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51"/>
          <p:cNvSpPr/>
          <p:nvPr/>
        </p:nvSpPr>
        <p:spPr>
          <a:xfrm>
            <a:off x="0" y="2514600"/>
            <a:ext cx="17524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xico: Local wind technologies (I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52"/>
          <p:cNvSpPr/>
          <p:nvPr/>
        </p:nvSpPr>
        <p:spPr>
          <a:xfrm>
            <a:off x="0" y="3124080"/>
            <a:ext cx="167652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le: Local solar technologies (I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53"/>
          <p:cNvSpPr/>
          <p:nvPr/>
        </p:nvSpPr>
        <p:spPr>
          <a:xfrm>
            <a:off x="0" y="4572000"/>
            <a:ext cx="1752480" cy="9756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razil: Renewable C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capture &amp; storage from sugar industry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54"/>
          <p:cNvSpPr/>
          <p:nvPr/>
        </p:nvSpPr>
        <p:spPr>
          <a:xfrm>
            <a:off x="0" y="3733920"/>
            <a:ext cx="175248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te d’Ivoire: Solid waste composting (AfD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55"/>
          <p:cNvSpPr/>
          <p:nvPr/>
        </p:nvSpPr>
        <p:spPr>
          <a:xfrm>
            <a:off x="7086600" y="5065560"/>
            <a:ext cx="205740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negal: Typha-based thermal insulation production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56"/>
          <p:cNvSpPr/>
          <p:nvPr/>
        </p:nvSpPr>
        <p:spPr>
          <a:xfrm>
            <a:off x="7086600" y="569880"/>
            <a:ext cx="20574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ussian Federation: HCFC phase-out, HFC-free, energy efficient AC &amp; Refrigeration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57"/>
          <p:cNvSpPr/>
          <p:nvPr/>
        </p:nvSpPr>
        <p:spPr>
          <a:xfrm>
            <a:off x="7086600" y="2143080"/>
            <a:ext cx="2057400" cy="94644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iland: South-South technology transfer: ethanol from cassava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58"/>
          <p:cNvSpPr/>
          <p:nvPr/>
        </p:nvSpPr>
        <p:spPr>
          <a:xfrm>
            <a:off x="7086600" y="3147840"/>
            <a:ext cx="2057400" cy="73332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mbodia: Agricultural residue biomass to energy (UNIDO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59"/>
          <p:cNvSpPr/>
          <p:nvPr/>
        </p:nvSpPr>
        <p:spPr>
          <a:xfrm>
            <a:off x="7086600" y="394164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ri Lanka: Bamboo processing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60"/>
          <p:cNvSpPr/>
          <p:nvPr/>
        </p:nvSpPr>
        <p:spPr>
          <a:xfrm>
            <a:off x="7086600" y="449568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ordan: Irrigation technology (IFA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61"/>
          <p:cNvSpPr/>
          <p:nvPr/>
        </p:nvSpPr>
        <p:spPr>
          <a:xfrm>
            <a:off x="7086600" y="1569960"/>
            <a:ext cx="205740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na: Green truck demonstration (WB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62"/>
          <p:cNvSpPr/>
          <p:nvPr/>
        </p:nvSpPr>
        <p:spPr>
          <a:xfrm>
            <a:off x="0" y="1905120"/>
            <a:ext cx="175248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amaica: Small scale wave power (UND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traight Connector 64"/>
          <p:cNvSpPr/>
          <p:nvPr/>
        </p:nvSpPr>
        <p:spPr>
          <a:xfrm>
            <a:off x="1752480" y="1244520"/>
            <a:ext cx="3078360" cy="1440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traight Connector 66"/>
          <p:cNvSpPr/>
          <p:nvPr/>
        </p:nvSpPr>
        <p:spPr>
          <a:xfrm>
            <a:off x="1752480" y="2166840"/>
            <a:ext cx="1285920" cy="7747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traight Connector 69"/>
          <p:cNvSpPr/>
          <p:nvPr/>
        </p:nvSpPr>
        <p:spPr>
          <a:xfrm flipV="1">
            <a:off x="1752480" y="2720880"/>
            <a:ext cx="744480" cy="604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traight Connector 78"/>
          <p:cNvSpPr/>
          <p:nvPr/>
        </p:nvSpPr>
        <p:spPr>
          <a:xfrm>
            <a:off x="1676520" y="3390840"/>
            <a:ext cx="1106280" cy="6048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traight Connector 81"/>
          <p:cNvSpPr/>
          <p:nvPr/>
        </p:nvSpPr>
        <p:spPr>
          <a:xfrm flipV="1">
            <a:off x="1752480" y="3333600"/>
            <a:ext cx="2401920" cy="7812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traight Connector 84"/>
          <p:cNvSpPr/>
          <p:nvPr/>
        </p:nvSpPr>
        <p:spPr>
          <a:xfrm flipV="1">
            <a:off x="1752480" y="3625560"/>
            <a:ext cx="1478160" cy="14238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traight Connector 87"/>
          <p:cNvSpPr/>
          <p:nvPr/>
        </p:nvSpPr>
        <p:spPr>
          <a:xfrm flipH="1">
            <a:off x="5913000" y="1045440"/>
            <a:ext cx="1173240" cy="9795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traight Connector 90"/>
          <p:cNvSpPr/>
          <p:nvPr/>
        </p:nvSpPr>
        <p:spPr>
          <a:xfrm flipH="1">
            <a:off x="6622920" y="1832040"/>
            <a:ext cx="463680" cy="74304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traight Connector 93"/>
          <p:cNvSpPr/>
          <p:nvPr/>
        </p:nvSpPr>
        <p:spPr>
          <a:xfrm flipH="1">
            <a:off x="6072120" y="2620080"/>
            <a:ext cx="1014480" cy="7858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traight Connector 96"/>
          <p:cNvSpPr/>
          <p:nvPr/>
        </p:nvSpPr>
        <p:spPr>
          <a:xfrm flipH="1" flipV="1">
            <a:off x="6116760" y="3342960"/>
            <a:ext cx="969840" cy="1731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traight Connector 99"/>
          <p:cNvSpPr/>
          <p:nvPr/>
        </p:nvSpPr>
        <p:spPr>
          <a:xfrm flipH="1" flipV="1">
            <a:off x="5830920" y="3227400"/>
            <a:ext cx="1255680" cy="97632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traight Connector 102"/>
          <p:cNvSpPr/>
          <p:nvPr/>
        </p:nvSpPr>
        <p:spPr>
          <a:xfrm flipH="1" flipV="1">
            <a:off x="4941720" y="2841120"/>
            <a:ext cx="2144880" cy="191628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traight Connector 105"/>
          <p:cNvSpPr/>
          <p:nvPr/>
        </p:nvSpPr>
        <p:spPr>
          <a:xfrm flipH="1" flipV="1">
            <a:off x="4025880" y="3214800"/>
            <a:ext cx="3060720" cy="223200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traight Connector 110"/>
          <p:cNvSpPr/>
          <p:nvPr/>
        </p:nvSpPr>
        <p:spPr>
          <a:xfrm>
            <a:off x="1752480" y="1244520"/>
            <a:ext cx="57240" cy="2675160"/>
          </a:xfrm>
          <a:prstGeom prst="line">
            <a:avLst/>
          </a:prstGeom>
          <a:ln w="19080">
            <a:solidFill>
              <a:srgbClr val="d9d9d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121"/>
          <p:cNvSpPr/>
          <p:nvPr/>
        </p:nvSpPr>
        <p:spPr>
          <a:xfrm>
            <a:off x="5029200" y="2362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Box 122"/>
          <p:cNvSpPr/>
          <p:nvPr/>
        </p:nvSpPr>
        <p:spPr>
          <a:xfrm>
            <a:off x="1828800" y="28195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124"/>
          <p:cNvSpPr/>
          <p:nvPr/>
        </p:nvSpPr>
        <p:spPr>
          <a:xfrm>
            <a:off x="2895480" y="4264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Argen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125"/>
          <p:cNvSpPr/>
          <p:nvPr/>
        </p:nvSpPr>
        <p:spPr>
          <a:xfrm>
            <a:off x="3505320" y="27385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oroc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Seneg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extBox 126"/>
          <p:cNvSpPr/>
          <p:nvPr/>
        </p:nvSpPr>
        <p:spPr>
          <a:xfrm>
            <a:off x="3581280" y="3048120"/>
            <a:ext cx="106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a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te d’Ivo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Box 127"/>
          <p:cNvSpPr/>
          <p:nvPr/>
        </p:nvSpPr>
        <p:spPr>
          <a:xfrm>
            <a:off x="4572000" y="32688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Ke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128"/>
          <p:cNvSpPr/>
          <p:nvPr/>
        </p:nvSpPr>
        <p:spPr>
          <a:xfrm>
            <a:off x="5638680" y="2743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Banglade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129"/>
          <p:cNvSpPr/>
          <p:nvPr/>
        </p:nvSpPr>
        <p:spPr>
          <a:xfrm>
            <a:off x="5867280" y="3838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Indone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130"/>
          <p:cNvSpPr/>
          <p:nvPr/>
        </p:nvSpPr>
        <p:spPr>
          <a:xfrm>
            <a:off x="5211720" y="30970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Sri Lan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Thai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77"/>
          <p:cNvSpPr/>
          <p:nvPr/>
        </p:nvSpPr>
        <p:spPr>
          <a:xfrm>
            <a:off x="1828800" y="3581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ook Is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79"/>
          <p:cNvSpPr/>
          <p:nvPr/>
        </p:nvSpPr>
        <p:spPr>
          <a:xfrm>
            <a:off x="2362320" y="249084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Mexic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Jama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Box 80"/>
          <p:cNvSpPr/>
          <p:nvPr/>
        </p:nvSpPr>
        <p:spPr>
          <a:xfrm>
            <a:off x="5181480" y="19810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Russian Fed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82"/>
          <p:cNvSpPr/>
          <p:nvPr/>
        </p:nvSpPr>
        <p:spPr>
          <a:xfrm>
            <a:off x="6172200" y="2286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83"/>
          <p:cNvSpPr/>
          <p:nvPr/>
        </p:nvSpPr>
        <p:spPr>
          <a:xfrm>
            <a:off x="2971800" y="3352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85"/>
          <p:cNvSpPr/>
          <p:nvPr/>
        </p:nvSpPr>
        <p:spPr>
          <a:xfrm>
            <a:off x="2438280" y="37339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h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88"/>
          <p:cNvSpPr/>
          <p:nvPr/>
        </p:nvSpPr>
        <p:spPr>
          <a:xfrm>
            <a:off x="4572000" y="2819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Jord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Box 89"/>
          <p:cNvSpPr/>
          <p:nvPr/>
        </p:nvSpPr>
        <p:spPr>
          <a:xfrm>
            <a:off x="4419720" y="246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Tur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Box 94"/>
          <p:cNvSpPr/>
          <p:nvPr/>
        </p:nvSpPr>
        <p:spPr>
          <a:xfrm>
            <a:off x="6172200" y="3119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Cambo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Calibri"/>
              </a:rPr>
              <a:t>Viet N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Long-Term Program on Technology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68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Climate Technology Centres and a Climate Technology Network</a:t>
            </a:r>
            <a:r>
              <a:rPr b="0" lang="en-US" sz="1600" spc="-1" strike="noStrike">
                <a:solidFill>
                  <a:srgbClr val="0000ff"/>
                </a:solidFill>
                <a:latin typeface="Calibri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t global, regional, national leve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may involve technical assistance, training, information sharing, knowledge management, reflecting UNFCCC discu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Conduct Pilot Technology Projects to Foster Innovation and Investme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demonstrate innovative techn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support deployment and diffusion to catalyze invest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Develop a Public-Private Partnership for Technology Transf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facilitate private sector engagement to support innovative financial instruments or business models for technology deploy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Technology Needs Assessments (TNAs)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:  </a:t>
            </a: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target low- &amp; medium-income countries to conduct and/or update TN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GEF as a Catalytic Supporting Institution for Technology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Key Features of Long-Term Progra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143000"/>
            <a:ext cx="6019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11080" indent="-34272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Program is consistent with and support the Technology Mechanism agreed in Cancun at COP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Program was approved by the GEF Counc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1080" indent="-342720">
              <a:lnSpc>
                <a:spcPct val="90000"/>
              </a:lnSpc>
              <a:spcBef>
                <a:spcPts val="876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The 5 elements may be funded b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TAR (elements 1, 2, and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Global and Regional Set-Aside (elements 1 and 4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PP fund (element 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1140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dditional voluntary contributions (element 2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Picture 3" descr=""/>
          <p:cNvPicPr/>
          <p:nvPr/>
        </p:nvPicPr>
        <p:blipFill>
          <a:blip r:embed="rId1"/>
          <a:stretch/>
        </p:blipFill>
        <p:spPr>
          <a:xfrm>
            <a:off x="6689880" y="1676520"/>
            <a:ext cx="2149200" cy="281916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5"/>
          <p:cNvSpPr/>
          <p:nvPr/>
        </p:nvSpPr>
        <p:spPr>
          <a:xfrm>
            <a:off x="6019920" y="48006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on EST Transfer (GEF 2010) downloadable from: http://www.thegef.org/gef/pubs/tech-transfer-case-studies-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3.  How do I know my country’s needs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for technology transf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295280"/>
            <a:ext cx="632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Calibri"/>
                <a:ea typeface="Arial"/>
              </a:rPr>
              <a:t>Key entry points for climate chang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as your country carried out a TNA recently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 your National Communications (NC) and National Adaptation Programs of Action (NAPAs) identify technology nee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 your national policies and strategies identify specific technology nee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oes your Common Country Assessment-UN Development Assistance Framework (CCA-UNDAF) identify any technology needs?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</a:rPr>
              <a:t>yes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your starting point could be to review the document to prioritize action for project develop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57312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</a:rPr>
              <a:t>n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(especially for the TNA), your starting point could be to assess the merit of conducting a TNA, or addressing technology needs more explicitly in your next NC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7238880" y="3778200"/>
            <a:ext cx="1657440" cy="2147760"/>
          </a:xfrm>
          <a:prstGeom prst="rect">
            <a:avLst/>
          </a:prstGeom>
          <a:ln w="0">
            <a:noFill/>
          </a:ln>
        </p:spPr>
      </p:pic>
      <p:sp>
        <p:nvSpPr>
          <p:cNvPr id="471" name="TextBox 22"/>
          <p:cNvSpPr/>
          <p:nvPr/>
        </p:nvSpPr>
        <p:spPr>
          <a:xfrm>
            <a:off x="7772400" y="5943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NDP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Picture 2" descr=""/>
          <p:cNvPicPr/>
          <p:nvPr/>
        </p:nvPicPr>
        <p:blipFill>
          <a:blip r:embed="rId3"/>
          <a:stretch/>
        </p:blipFill>
        <p:spPr>
          <a:xfrm>
            <a:off x="7086600" y="914400"/>
            <a:ext cx="1743120" cy="228924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7"/>
          <p:cNvSpPr/>
          <p:nvPr/>
        </p:nvSpPr>
        <p:spPr>
          <a:xfrm>
            <a:off x="6693840" y="3276720"/>
            <a:ext cx="245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09) downloadable fr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thegef.org/gef/node/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4.  Where to go from here for climate chang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569520" y="1228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carry out a T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Larger econom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propose a single country TNA utilizing STAR allocation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Smaller econom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apply to be included multi-country TNA project from Global and Regional Set-aside, subject to competitive selection (contact GE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carry out a technology transfer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tiga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submit a proposal for a project in one of the six objective areas, utilizing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apta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submit a proposal for a project to SCCF/LDC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To establish and/or take part in climate technology centre &amp; network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National level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ubmit a proposal, utilizing S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Global and regional leve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: contact the GEF about your interest, as regional pilot may be starting in 2011 in line with Cancun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12760" indent="-21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9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837720" y="4572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4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8000"/>
                </a:solidFill>
                <a:latin typeface="Calibri"/>
              </a:rPr>
              <a:t>Thank you very much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2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r further information, please contact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ech Transfer and Mitigation: Chizuru Aok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nior Technology Transfer Office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aoki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mate Change Adaptation, SCCF/LDCF:  Bonizella Biagin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ead, Climate Change Adaptation Strategy and Oper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bbiagini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icals:  Ibrahima Sow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icals Cluster Coordinat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-mail:  </a:t>
            </a:r>
            <a:r>
              <a:rPr b="0" lang="en-US" sz="17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isow@thegef.or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F Tech Transfer Website (under development): </a:t>
            </a:r>
            <a:r>
              <a:rPr b="0" lang="en-US" sz="1500" spc="-1" strike="noStrike" u="sng">
                <a:solidFill>
                  <a:srgbClr val="0000ff"/>
                </a:solidFill>
                <a:uFillTx/>
                <a:latin typeface="Calibri"/>
              </a:rPr>
              <a:t>http://www.thegef.org/gef/T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Overview of this pres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914040" y="144756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at is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at is the GEF doing to facilitate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How do I know my country’s needs for technology transf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Where do I go from her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1"/>
          <a:stretch/>
        </p:blipFill>
        <p:spPr>
          <a:xfrm>
            <a:off x="6705720" y="2286000"/>
            <a:ext cx="2209680" cy="23479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066320"/>
            <a:ext cx="55623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Arial"/>
              </a:rPr>
              <a:t>Technology: at the core of global environmental challe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source of environmental degradation and emis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means to address negative impacts, reduce emissions, manage natural resources, and monitor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s a foundation for economic development, value creation, and employ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Developing, demonstrating, deploying and diffusing environmentally sound technologies (ESTs) are activities in the critical path toward an effective responsible to global environmental challenges (Agenda 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108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6248520" y="838080"/>
            <a:ext cx="2361960" cy="15764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2361960" cy="17748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6"/>
          <p:cNvSpPr/>
          <p:nvPr/>
        </p:nvSpPr>
        <p:spPr>
          <a:xfrm>
            <a:off x="7626960" y="594360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UNIDO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7702200" y="419112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F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"/>
          <p:cNvPicPr/>
          <p:nvPr/>
        </p:nvPicPr>
        <p:blipFill>
          <a:blip r:embed="rId4"/>
          <a:stretch/>
        </p:blipFill>
        <p:spPr>
          <a:xfrm>
            <a:off x="6248520" y="4433760"/>
            <a:ext cx="23619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 (contin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9120" y="914400"/>
            <a:ext cx="8269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Various Multilateral Environmental Agreements (MEAs) include provisions related to technology and facilitating access and transfer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ounded Rectangle 6"/>
          <p:cNvSpPr/>
          <p:nvPr/>
        </p:nvSpPr>
        <p:spPr>
          <a:xfrm>
            <a:off x="838080" y="1752480"/>
            <a:ext cx="81536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UN Framework Convention for Climate Change (UNFCCC)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greed on the Technology Mechanism in December 2010 to support action on technology development and transfer for mitigation and adap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ounded Rectangle 7"/>
          <p:cNvSpPr/>
          <p:nvPr/>
        </p:nvSpPr>
        <p:spPr>
          <a:xfrm>
            <a:off x="852480" y="4876920"/>
            <a:ext cx="815328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Convention on Biological Diversity (CBD)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cognizes that access to and transfer of technologies among Parties is essential to achieving CBD objectiv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ounded Rectangle 8"/>
          <p:cNvSpPr/>
          <p:nvPr/>
        </p:nvSpPr>
        <p:spPr>
          <a:xfrm>
            <a:off x="852480" y="3817800"/>
            <a:ext cx="8153280" cy="941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Montreal Protocol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opted decision on environmentally sound destruction of ozone depleting substances (ODS) banks.  The Multilateral Fund is requested to continue its efforts on further cost-effective projects for the destruction of ODS banks, using appropriate technolog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ounded Rectangle 9"/>
          <p:cNvSpPr/>
          <p:nvPr/>
        </p:nvSpPr>
        <p:spPr>
          <a:xfrm>
            <a:off x="838080" y="2743200"/>
            <a:ext cx="8153640" cy="99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Stockholm Convention: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alls for promoting use of Best Available Techniques and Best Environmental Practices (BAT/BEP) to reduce persistent organic pollutant (POPs) releases from unintentional production (waste incinerators, aluminum production, open waste burning, etc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1.  What is technology transfer? (continu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560" y="121932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Many definitions and interpretations of technology transfer ex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For climate change, GEF has adopted the technology transfer definition by International Panel on Climate Change (IPCC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.a broad set of processes covering the flows of know-how, experience and equipment for mitigating and adapting to climate change amongst different stakeholders…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Arial"/>
              </a:rPr>
              <a:t>It goes beyond hardware, and encompasses capacity, know-how, policies and institutions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58720" indent="-278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 to facilitate tech transfer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0666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has financed demonstration, deployment, and diffusion of ESTs and enabling activit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ach focal area addresses technology transfer within its GEF-5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ogramming depends on convention guidance and national prior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rticulation of a GEF-wide technology strategy under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</a:rPr>
              <a:t>Technology transfer is a priority for GEF climate change focal are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ference of the Parties (COP) of UNFCCC has given a mandate on technology transfer to G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is the only multilateral institution that has financed technology transfer under COP guid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EF is largest public sector financing mechanism for technology transf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0200" indent="-201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01120" indent="-249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climate change and tech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228240" y="1143000"/>
            <a:ext cx="7010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GEF has invested approx. $3 billion in climate change, leveraging more than $15 b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GEF-5 funding (2010-14) for mitigation is approx. $1.4 bill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70c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Special Climate Change Fund/Least Developed Countries Fund (CCF/LDCF) funding for adaptation and LDC support is approx. $530 million cumul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9" descr=""/>
          <p:cNvPicPr/>
          <p:nvPr/>
        </p:nvPicPr>
        <p:blipFill>
          <a:blip r:embed="rId1"/>
          <a:srcRect l="0" t="0" r="0" b="15786"/>
          <a:stretch/>
        </p:blipFill>
        <p:spPr>
          <a:xfrm>
            <a:off x="7143840" y="1523880"/>
            <a:ext cx="1904760" cy="2133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0" y="5818320"/>
            <a:ext cx="9156600" cy="1066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"/>
          <p:cNvPicPr/>
          <p:nvPr/>
        </p:nvPicPr>
        <p:blipFill>
          <a:blip r:embed="rId3"/>
          <a:stretch/>
        </p:blipFill>
        <p:spPr>
          <a:xfrm>
            <a:off x="7148520" y="3962520"/>
            <a:ext cx="1905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2.  What is GEF doing: GEF-5 Mitigation Strategy &amp; Tech Transf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686800" cy="4701960"/>
          </a:xfrm>
          <a:prstGeom prst="rect">
            <a:avLst/>
          </a:prstGeom>
          <a:ln w="0">
            <a:noFill/>
          </a:ln>
        </p:spPr>
      </p:pic>
      <p:sp>
        <p:nvSpPr>
          <p:cNvPr id="372" name="テキスト ボックス 3"/>
          <p:cNvSpPr/>
          <p:nvPr/>
        </p:nvSpPr>
        <p:spPr>
          <a:xfrm>
            <a:off x="228600" y="91440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6 GEF-5 Climate Change Mitigation Strategy objectives address different aspects of technology transfer, from R&amp;D to diffusion of technologies + enabl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ectors: energy efficiency, renewable energy, transport, urban systems, LULUC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2.  What is GEF doing: 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alibri"/>
              </a:rPr>
              <a:t>Poznan Strategic Program on Technology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61760" y="11430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Funding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$35 million from GEF Trust Fund in GEF-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$15 million from SCC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for Technology Transfer Pilot Proje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4 projects were selected for support in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heir implementation is ongo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Support for TN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roject was approved in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5 first round countries were selected in 2010,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econd round country selection is being finaliz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ountry-level assessment is ongo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Long-Term Program on Technology Transf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lan with 5 elements submitted to UNFCCC COP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see slides 11 and 1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6272280" y="1600200"/>
            <a:ext cx="2643120" cy="3479760"/>
          </a:xfrm>
          <a:prstGeom prst="rect">
            <a:avLst/>
          </a:prstGeom>
          <a:ln w="0">
            <a:noFill/>
          </a:ln>
        </p:spPr>
      </p:pic>
      <p:sp>
        <p:nvSpPr>
          <p:cNvPr id="376" name="TextBox 6"/>
          <p:cNvSpPr/>
          <p:nvPr/>
        </p:nvSpPr>
        <p:spPr>
          <a:xfrm>
            <a:off x="6248520" y="5181480"/>
            <a:ext cx="28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ation on Poznan Program (GEF 2010) downloadable from: http://www.thegef.org/gef/node/38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0:03:18Z</dcterms:created>
  <dc:creator>wb284794</dc:creator>
  <dc:description/>
  <dc:language>en-US</dc:language>
  <cp:lastModifiedBy>wb350798</cp:lastModifiedBy>
  <dcterms:modified xsi:type="dcterms:W3CDTF">2011-11-01T18:24:05Z</dcterms:modified>
  <cp:revision>794</cp:revision>
  <dc:subject/>
  <dc:title>Slide 1</dc:title>
</cp:coreProperties>
</file>